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9CF-09BE-4D0C-B86B-5F4E4086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AD5-6A49-4CA0-BBA5-C5F3E4DF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7CF-F1F7-4B65-945D-CE39B6C5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BF1-9E96-4EEA-84C4-258757C5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C235-82C5-4BDD-B5CB-22130F60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137E-29C7-4150-A675-A33A7DAD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9DF5-6E4C-4707-B9B2-AA167CBC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DA8E-F5C3-400B-A032-A8AAC813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0B2C-15B2-4396-8F84-184E59B9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EA31-6577-49B7-A2BA-AC333B87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39A6-321A-4CFA-A378-3E65D726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340-16E6-49C7-BCE6-040CFE01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297F-89CB-4B8F-9583-4DF16FFF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0BC7-2E06-4605-B4D5-DCCB04A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9601-B3DA-4F6B-9707-1FBD18E3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5BF9-CB74-4EB6-85E6-1FC9AEE0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5F95-E65F-4111-B13C-DAAD0EE0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D81-9A96-44CA-8B8B-959E0175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AD1-4D50-41C0-8E46-40687E0B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34A-35DA-4BEB-ABF1-EBCE2866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8AD-A21F-44A2-BA03-16C30F12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026-218E-46C4-B7ED-DC5FC38E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ADC-8F58-43B0-A50D-37935E92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BA7-9E39-42EB-9414-A121337C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22AD-74B6-493C-921A-87BC398440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FCE8-B382-40CD-A715-B82544E407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461880"/>
            <a:ext cx="7772400" cy="32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«Формирование толерантного отношения к детям с ограниченными возможностями здоровья»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286160" y="4429080"/>
            <a:ext cx="4427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03640" y="58435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</a:rPr>
              <a:t>Этюды и упражнени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Picture 2" descr="C:\Users\zz\Desktop\гмо ира 1\WP_20160909_006.jpg"/>
          <p:cNvPicPr/>
          <p:nvPr/>
        </p:nvPicPr>
        <p:blipFill>
          <a:blip r:embed="rId1"/>
          <a:stretch/>
        </p:blipFill>
        <p:spPr>
          <a:xfrm>
            <a:off x="914400" y="1682640"/>
            <a:ext cx="7772400" cy="436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775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*использование художественного слов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2" descr="C:\Users\zz\Desktop\гмо ира 1\IMG_20180129_121021.jpg"/>
          <p:cNvPicPr/>
          <p:nvPr/>
        </p:nvPicPr>
        <p:blipFill>
          <a:blip r:embed="rId1"/>
          <a:stretch/>
        </p:blipFill>
        <p:spPr>
          <a:xfrm>
            <a:off x="928800" y="1643040"/>
            <a:ext cx="7554960" cy="4249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33"/>
                </a:solidFill>
                <a:latin typeface="Times New Roman"/>
              </a:rPr>
              <a:t>*Использование наглядных пособи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Picture 2" descr="C:\Users\zz\Desktop\гмо ира 1\IMG_20180129_120657.jpg"/>
          <p:cNvPicPr/>
          <p:nvPr/>
        </p:nvPicPr>
        <p:blipFill>
          <a:blip r:embed="rId1"/>
          <a:stretch/>
        </p:blipFill>
        <p:spPr>
          <a:xfrm>
            <a:off x="1000080" y="1928880"/>
            <a:ext cx="7150320" cy="400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33"/>
                </a:solidFill>
                <a:latin typeface="Times New Roman"/>
              </a:rPr>
              <a:t>*Продуктивный вид деятельности - рисовани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3" descr="C:\Users\zz\Desktop\с телефона Иры\Pictures\Camera Roll\WP_20171102_003.jpg"/>
          <p:cNvPicPr/>
          <p:nvPr/>
        </p:nvPicPr>
        <p:blipFill>
          <a:blip r:embed="rId1"/>
          <a:stretch/>
        </p:blipFill>
        <p:spPr>
          <a:xfrm>
            <a:off x="914400" y="1682640"/>
            <a:ext cx="7772400" cy="436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277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Сотрудничество педагогов с родителя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4" descr="C:\Users\zz\Desktop\гмо ира 1\WP_20161006_001.jpg"/>
          <p:cNvPicPr/>
          <p:nvPr/>
        </p:nvPicPr>
        <p:blipFill>
          <a:blip r:embed="rId1"/>
          <a:stretch/>
        </p:blipFill>
        <p:spPr>
          <a:xfrm>
            <a:off x="571680" y="1500120"/>
            <a:ext cx="5732280" cy="3500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1" name="Picture 5" descr="C:\Users\zz\Desktop\с телефона Иры\Pictures\Camera Roll\WP_20170323_001.jpg"/>
          <p:cNvPicPr/>
          <p:nvPr/>
        </p:nvPicPr>
        <p:blipFill>
          <a:blip r:embed="rId2"/>
          <a:stretch/>
        </p:blipFill>
        <p:spPr>
          <a:xfrm>
            <a:off x="4214880" y="3316320"/>
            <a:ext cx="4929120" cy="3541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i="1" lang="ru-RU" sz="5400" spc="-1" strike="noStrike">
                <a:solidFill>
                  <a:srgbClr val="610061"/>
                </a:solidFill>
                <a:latin typeface="Times New Roman"/>
              </a:rPr>
              <a:t>п</a:t>
            </a:r>
            <a:r>
              <a:rPr b="1" i="1" lang="ru-RU" sz="5400" spc="-1" strike="noStrike">
                <a:solidFill>
                  <a:srgbClr val="f6f600"/>
                </a:solidFill>
                <a:latin typeface="Times New Roman"/>
              </a:rPr>
              <a:t>а</a:t>
            </a:r>
            <a:r>
              <a:rPr b="1" i="1" lang="ru-RU" sz="5400" spc="-1" strike="noStrike">
                <a:solidFill>
                  <a:srgbClr val="00b050"/>
                </a:solidFill>
                <a:latin typeface="Times New Roman"/>
              </a:rPr>
              <a:t>с</a:t>
            </a:r>
            <a:r>
              <a:rPr b="1" i="1" lang="ru-RU" sz="5400" spc="-1" strike="noStrike">
                <a:solidFill>
                  <a:srgbClr val="330033"/>
                </a:solidFill>
                <a:latin typeface="Times New Roman"/>
              </a:rPr>
              <a:t>и</a:t>
            </a:r>
            <a:r>
              <a:rPr b="1" i="1" lang="ru-RU" sz="5400" spc="-1" strike="noStrike">
                <a:solidFill>
                  <a:srgbClr val="c00000"/>
                </a:solidFill>
                <a:latin typeface="Times New Roman"/>
              </a:rPr>
              <a:t>б</a:t>
            </a:r>
            <a:r>
              <a:rPr b="1" i="1" lang="ru-RU" sz="5400" spc="-1" strike="noStrike">
                <a:solidFill>
                  <a:srgbClr val="330033"/>
                </a:solidFill>
                <a:latin typeface="Times New Roman"/>
              </a:rPr>
              <a:t>о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з</a:t>
            </a:r>
            <a:r>
              <a:rPr b="1" i="1" lang="ru-RU" sz="5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i="1" lang="ru-RU" sz="5400" spc="-1" strike="noStrike">
                <a:solidFill>
                  <a:srgbClr val="330033"/>
                </a:solidFill>
                <a:latin typeface="Times New Roman"/>
              </a:rPr>
              <a:t> в</a:t>
            </a:r>
            <a:r>
              <a:rPr b="1" i="1" lang="ru-RU" sz="5400" spc="-1" strike="noStrike">
                <a:solidFill>
                  <a:srgbClr val="00b050"/>
                </a:solidFill>
                <a:latin typeface="Times New Roman"/>
              </a:rPr>
              <a:t>н</a:t>
            </a:r>
            <a:r>
              <a:rPr b="1" i="1" lang="ru-RU" sz="5400" spc="-1" strike="noStrike">
                <a:solidFill>
                  <a:srgbClr val="00b0f0"/>
                </a:solidFill>
                <a:latin typeface="Times New Roman"/>
              </a:rPr>
              <a:t>и</a:t>
            </a: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м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</a:rPr>
              <a:t>а</a:t>
            </a:r>
            <a:r>
              <a:rPr b="1" i="1" lang="ru-RU" sz="5400" spc="-1" strike="noStrike">
                <a:solidFill>
                  <a:srgbClr val="330033"/>
                </a:solidFill>
                <a:latin typeface="Times New Roman"/>
              </a:rPr>
              <a:t>н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i="1" lang="ru-RU" sz="5400" spc="-1" strike="noStrike">
                <a:solidFill>
                  <a:srgbClr val="00b050"/>
                </a:solidFill>
                <a:latin typeface="Times New Roman"/>
              </a:rPr>
              <a:t>е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Picture 4" descr="http://vol-s.ucoz.ru/_si/1/39610749.jpg"/>
          <p:cNvPicPr/>
          <p:nvPr/>
        </p:nvPicPr>
        <p:blipFill>
          <a:blip r:embed="rId1"/>
          <a:stretch/>
        </p:blipFill>
        <p:spPr>
          <a:xfrm>
            <a:off x="1000080" y="1600200"/>
            <a:ext cx="7358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ttp://vol-s.ucoz.ru/_si/1/39610749.jpg"/>
          <p:cNvPicPr/>
          <p:nvPr/>
        </p:nvPicPr>
        <p:blipFill>
          <a:blip r:embed="rId1"/>
          <a:stretch/>
        </p:blipFill>
        <p:spPr>
          <a:xfrm>
            <a:off x="6500880" y="3500280"/>
            <a:ext cx="2643120" cy="2643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85480" y="1143000"/>
            <a:ext cx="7605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Толерантность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– терпимость к чужим мнениям, верованиям, поведению.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(Большой энциклопедический словар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Толерантность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– это то, что делает возможным достижение мира и ведет от культуры войны к культур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Из «Декларации принципов толерантности», принята Генеральной конференцией 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</a:rPr>
              <a:t>ЮНЕС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16 ноября 199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vol-s.ucoz.ru/_si/1/39610749.jpg"/>
          <p:cNvPicPr/>
          <p:nvPr/>
        </p:nvPicPr>
        <p:blipFill>
          <a:blip r:embed="rId2"/>
          <a:stretch/>
        </p:blipFill>
        <p:spPr>
          <a:xfrm>
            <a:off x="5357880" y="5205240"/>
            <a:ext cx="1652400" cy="1652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vol-s.ucoz.ru/_si/1/39610749.jpg"/>
          <p:cNvPicPr/>
          <p:nvPr/>
        </p:nvPicPr>
        <p:blipFill>
          <a:blip r:embed="rId3"/>
          <a:stretch/>
        </p:blipFill>
        <p:spPr>
          <a:xfrm>
            <a:off x="8062920" y="242892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vprazdniki.com/wp-content/uploads/2017/10/38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0000"/>
                </a:solidFill>
                <a:latin typeface="Times New Roman"/>
              </a:rPr>
              <a:t>Направления</a:t>
            </a:r>
            <a:r>
              <a:rPr b="0" lang="ru-RU" sz="2800" spc="-1" strike="noStrike">
                <a:solidFill>
                  <a:srgbClr val="e7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e70000"/>
                </a:solidFill>
                <a:latin typeface="Times New Roman"/>
              </a:rPr>
              <a:t>формирования толерантности в детском саду</a:t>
            </a:r>
            <a:r>
              <a:rPr b="0" lang="ru-RU" sz="2800" spc="-1" strike="noStrike">
                <a:solidFill>
                  <a:srgbClr val="e70000"/>
                </a:solidFill>
                <a:latin typeface="Times New Roman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1856880"/>
            <a:ext cx="77724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позитивное отношение к людям с ограниченными возможностями здоровья, разной национальности и вероиспове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обучение детей общению со сверстниками и взрослыми, способам разрешения конфли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изучение национальных особенностей и традиций других народов на примере фолькл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рмы работы по формированию толерантности у дошкольников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680" y="14997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гровая образовательная ситуация, направленная на побуждение детей к толерантному по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Users\zz\Desktop\гмо ира 1\IMG_20180129_105425.jpg"/>
          <p:cNvPicPr/>
          <p:nvPr/>
        </p:nvPicPr>
        <p:blipFill>
          <a:blip r:embed="rId1"/>
          <a:stretch/>
        </p:blipFill>
        <p:spPr>
          <a:xfrm>
            <a:off x="1857240" y="2643120"/>
            <a:ext cx="5268960" cy="389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</a:rPr>
              <a:t>Чтение художественной литературы.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4" descr="C:\Users\zz\Desktop\с телефона Иры\Pictures\Camera Roll\WP_20170614_001.jpg"/>
          <p:cNvPicPr/>
          <p:nvPr/>
        </p:nvPicPr>
        <p:blipFill>
          <a:blip r:embed="rId1"/>
          <a:stretch/>
        </p:blipFill>
        <p:spPr>
          <a:xfrm>
            <a:off x="914400" y="1703520"/>
            <a:ext cx="7772400" cy="4367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Users\zz\Desktop\гмо ира 1\WP_20170113_002.jpg"/>
          <p:cNvPicPr/>
          <p:nvPr/>
        </p:nvPicPr>
        <p:blipFill>
          <a:blip r:embed="rId1"/>
          <a:stretch/>
        </p:blipFill>
        <p:spPr>
          <a:xfrm>
            <a:off x="1000080" y="1785960"/>
            <a:ext cx="7624800" cy="4282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3" name="Прямоугольник 2"/>
          <p:cNvSpPr/>
          <p:nvPr/>
        </p:nvSpPr>
        <p:spPr>
          <a:xfrm>
            <a:off x="571680" y="357120"/>
            <a:ext cx="8215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Проведение тематических праз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C:\Users\zz\Desktop\гмо ира 1\WP_20161114_005.jpg"/>
          <p:cNvPicPr/>
          <p:nvPr/>
        </p:nvPicPr>
        <p:blipFill>
          <a:blip r:embed="rId1"/>
          <a:stretch/>
        </p:blipFill>
        <p:spPr>
          <a:xfrm>
            <a:off x="5989680" y="1928880"/>
            <a:ext cx="2940120" cy="4929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Times New Roman"/>
              </a:rPr>
              <a:t>Методические приемы:</a:t>
            </a:r>
            <a:br>
              <a:rPr sz="4200"/>
            </a:br>
            <a:r>
              <a:rPr b="0" lang="ru-RU" sz="4200" spc="-1" strike="noStrike">
                <a:solidFill>
                  <a:srgbClr val="002060"/>
                </a:solidFill>
                <a:latin typeface="Times New Roman"/>
              </a:rPr>
              <a:t>* 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</a:rPr>
              <a:t>игры и игровые упражнени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2" descr="C:\Users\zz\Desktop\с телефона Иры\Pictures\Camera Roll\WP_20170620_007.jpg"/>
          <p:cNvPicPr/>
          <p:nvPr/>
        </p:nvPicPr>
        <p:blipFill>
          <a:blip r:embed="rId2"/>
          <a:stretch/>
        </p:blipFill>
        <p:spPr>
          <a:xfrm>
            <a:off x="857160" y="1500120"/>
            <a:ext cx="559620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7" name="Picture 4" descr="C:\Users\zz\Desktop\гмо ира 1\IMG_20180129_115633.jpg"/>
          <p:cNvPicPr/>
          <p:nvPr/>
        </p:nvPicPr>
        <p:blipFill>
          <a:blip r:embed="rId3"/>
          <a:stretch/>
        </p:blipFill>
        <p:spPr>
          <a:xfrm>
            <a:off x="214200" y="4000680"/>
            <a:ext cx="5081760" cy="2857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zz\Desktop\с телефона Иры\Pictures\Camera Roll\WP_20170613_006.jpg"/>
          <p:cNvPicPr/>
          <p:nvPr/>
        </p:nvPicPr>
        <p:blipFill>
          <a:blip r:embed="rId1"/>
          <a:stretch/>
        </p:blipFill>
        <p:spPr>
          <a:xfrm>
            <a:off x="3929040" y="3327480"/>
            <a:ext cx="5214960" cy="329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9" name="Picture 3" descr="C:\Users\zz\Desktop\гмо ира 1\IMG_20180129_115852.jpg"/>
          <p:cNvPicPr/>
          <p:nvPr/>
        </p:nvPicPr>
        <p:blipFill>
          <a:blip r:embed="rId2"/>
          <a:stretch/>
        </p:blipFill>
        <p:spPr>
          <a:xfrm>
            <a:off x="785880" y="1571760"/>
            <a:ext cx="4357800" cy="2886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Times New Roman"/>
              </a:rPr>
              <a:t>*Обсуждение и проигрывание проблемных ситуаций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9:39:27Z</dcterms:created>
  <dc:creator>валя</dc:creator>
  <dc:description/>
  <dc:language>en-US</dc:language>
  <cp:lastModifiedBy>1</cp:lastModifiedBy>
  <dcterms:modified xsi:type="dcterms:W3CDTF">2018-08-12T23:19:03Z</dcterms:modified>
  <cp:revision>43</cp:revision>
  <dc:subject/>
  <dc:title>«Формирование толерантного отношения к детям с ограниченными возможностями здоровья в детском коллективе»</dc:title>
</cp:coreProperties>
</file>