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44B-9753-47F1-956E-465787C7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091-4AED-4BD5-BB45-E741668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213-986C-4086-9B39-22DDC322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E50-4F84-479E-9FB7-4DA85BDB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5E0D-D966-4B86-84E8-9B7FA3ED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900-213E-40B7-B1F2-F9B287D2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691-B133-4F33-9FC9-6991C37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E24-6236-4F82-B6FA-4662872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EFDB-5305-4F27-9987-B040C95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0ACB-1C81-4D94-9670-900AC832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76E2-FB8C-4CE9-B842-161D6F71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B3E-007E-4D9B-8E21-70A3C67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5770-45FB-41DC-8A0A-046BD85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263-950D-420C-ADA1-77DA8215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B76-3CF6-40F7-B4F8-C39A8A40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ADCD-CB25-42BD-881C-82E2FDE5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98A1-475B-4971-BCB4-04E2963A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370-7351-4087-B212-91458B7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BEE-CD98-49BE-B63D-94EA686E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CAF-E27B-4FFD-9A04-DEB911C3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996-4CCC-4F2D-B5C1-98DF36A0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99-58A8-435E-8C7E-88D5521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EFF-9E46-4E34-9707-37B2E97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6C9-A388-44C9-B824-E5123C30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F12-4B76-4C4C-86A6-95A5F72289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A28-847A-40D6-AD66-8D385D17A6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6188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Формирование толерантного отношения к детям с ограниченными возможностями здоровья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286160" y="4429080"/>
            <a:ext cx="442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03640" y="5843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Этюды и упражн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C:\Users\zz\Desktop\гмо ира 1\WP_20160909_006.jpg"/>
          <p:cNvPicPr/>
          <p:nvPr/>
        </p:nvPicPr>
        <p:blipFill>
          <a:blip r:embed="rId1"/>
          <a:stretch/>
        </p:blipFill>
        <p:spPr>
          <a:xfrm>
            <a:off x="914400" y="1682640"/>
            <a:ext cx="7772400" cy="436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*использование художественного слов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C:\Users\zz\Desktop\гмо ира 1\IMG_20180129_121021.jpg"/>
          <p:cNvPicPr/>
          <p:nvPr/>
        </p:nvPicPr>
        <p:blipFill>
          <a:blip r:embed="rId1"/>
          <a:stretch/>
        </p:blipFill>
        <p:spPr>
          <a:xfrm>
            <a:off x="928800" y="1643040"/>
            <a:ext cx="7554960" cy="4249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*Использование наглядных пособи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C:\Users\zz\Desktop\гмо ира 1\IMG_20180129_120657.jpg"/>
          <p:cNvPicPr/>
          <p:nvPr/>
        </p:nvPicPr>
        <p:blipFill>
          <a:blip r:embed="rId1"/>
          <a:stretch/>
        </p:blipFill>
        <p:spPr>
          <a:xfrm>
            <a:off x="1000080" y="1928880"/>
            <a:ext cx="715032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*Продуктивный вид деятельности - рисов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C:\Users\zz\Desktop\с телефона Иры\Pictures\Camera Roll\WP_20171102_003.jpg"/>
          <p:cNvPicPr/>
          <p:nvPr/>
        </p:nvPicPr>
        <p:blipFill>
          <a:blip r:embed="rId1"/>
          <a:stretch/>
        </p:blipFill>
        <p:spPr>
          <a:xfrm>
            <a:off x="914400" y="1682640"/>
            <a:ext cx="7772400" cy="436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Сотрудничество педагогов с род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4" descr="C:\Users\zz\Desktop\гмо ира 1\WP_20161006_001.jpg"/>
          <p:cNvPicPr/>
          <p:nvPr/>
        </p:nvPicPr>
        <p:blipFill>
          <a:blip r:embed="rId1"/>
          <a:stretch/>
        </p:blipFill>
        <p:spPr>
          <a:xfrm>
            <a:off x="571680" y="1500120"/>
            <a:ext cx="5732280" cy="3500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1" name="Picture 5" descr="C:\Users\zz\Desktop\с телефона Иры\Pictures\Camera Roll\WP_20170323_001.jpg"/>
          <p:cNvPicPr/>
          <p:nvPr/>
        </p:nvPicPr>
        <p:blipFill>
          <a:blip r:embed="rId2"/>
          <a:stretch/>
        </p:blipFill>
        <p:spPr>
          <a:xfrm>
            <a:off x="4214880" y="3316320"/>
            <a:ext cx="4929120" cy="3541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i="1" lang="ru-RU" sz="5400" spc="-1" strike="noStrike">
                <a:solidFill>
                  <a:srgbClr val="610061"/>
                </a:solidFill>
                <a:latin typeface="Times New Roman"/>
              </a:rPr>
              <a:t>п</a:t>
            </a:r>
            <a:r>
              <a:rPr b="1" i="1" lang="ru-RU" sz="5400" spc="-1" strike="noStrike">
                <a:solidFill>
                  <a:srgbClr val="f6f6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с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б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о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i="1" lang="ru-RU" sz="5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 в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i="1" lang="ru-RU" sz="5400" spc="-1" strike="noStrike">
                <a:solidFill>
                  <a:srgbClr val="00b0f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м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е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4" descr="http://vol-s.ucoz.ru/_si/1/39610749.jpg"/>
          <p:cNvPicPr/>
          <p:nvPr/>
        </p:nvPicPr>
        <p:blipFill>
          <a:blip r:embed="rId1"/>
          <a:stretch/>
        </p:blipFill>
        <p:spPr>
          <a:xfrm>
            <a:off x="1000080" y="1600200"/>
            <a:ext cx="7358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vol-s.ucoz.ru/_si/1/39610749.jpg"/>
          <p:cNvPicPr/>
          <p:nvPr/>
        </p:nvPicPr>
        <p:blipFill>
          <a:blip r:embed="rId1"/>
          <a:stretch/>
        </p:blipFill>
        <p:spPr>
          <a:xfrm>
            <a:off x="6500880" y="3500280"/>
            <a:ext cx="2643120" cy="2643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85480" y="1143000"/>
            <a:ext cx="7605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Толерантност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– терпимость к чужим мнениям, верованиям, поведению.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Большой энциклопедический словар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Толерантност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– это то, что делает возможным достижение мира и ведет от культуры войны к культур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Из «Декларации принципов толерантности», принята Генеральной конференцией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ЮНЕС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16 ноября 199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vol-s.ucoz.ru/_si/1/39610749.jpg"/>
          <p:cNvPicPr/>
          <p:nvPr/>
        </p:nvPicPr>
        <p:blipFill>
          <a:blip r:embed="rId2"/>
          <a:stretch/>
        </p:blipFill>
        <p:spPr>
          <a:xfrm>
            <a:off x="5357880" y="5205240"/>
            <a:ext cx="1652400" cy="165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vol-s.ucoz.ru/_si/1/39610749.jpg"/>
          <p:cNvPicPr/>
          <p:nvPr/>
        </p:nvPicPr>
        <p:blipFill>
          <a:blip r:embed="rId3"/>
          <a:stretch/>
        </p:blipFill>
        <p:spPr>
          <a:xfrm>
            <a:off x="8062920" y="24289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vprazdniki.com/wp-content/uploads/2017/10/38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000"/>
                </a:solidFill>
                <a:latin typeface="Times New Roman"/>
              </a:rPr>
              <a:t>Направления</a:t>
            </a:r>
            <a:r>
              <a:rPr b="0" lang="ru-RU" sz="2800" spc="-1" strike="noStrike">
                <a:solidFill>
                  <a:srgbClr val="e7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e70000"/>
                </a:solidFill>
                <a:latin typeface="Times New Roman"/>
              </a:rPr>
              <a:t>формирования толерантности в детском саду</a:t>
            </a:r>
            <a:r>
              <a:rPr b="0" lang="ru-RU" sz="2800" spc="-1" strike="noStrike">
                <a:solidFill>
                  <a:srgbClr val="e70000"/>
                </a:solidFill>
                <a:latin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856880"/>
            <a:ext cx="77724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позитивное отношение к людям с ограниченными возможностями здоровья, разной национальности и вероиспове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обучение детей общению со сверстниками и взрослыми, способам разрешения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изучение национальных особенностей и традиций других народов на примере фольк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рмы работы по формированию толерантности у дошкольников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14997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гровая образовательная ситуация, направленная на побуждение детей к толерантному по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zz\Desktop\гмо ира 1\IMG_20180129_105425.jpg"/>
          <p:cNvPicPr/>
          <p:nvPr/>
        </p:nvPicPr>
        <p:blipFill>
          <a:blip r:embed="rId1"/>
          <a:stretch/>
        </p:blipFill>
        <p:spPr>
          <a:xfrm>
            <a:off x="1857240" y="2643120"/>
            <a:ext cx="5268960" cy="389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Чтение художественной литературы.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C:\Users\zz\Desktop\с телефона Иры\Pictures\Camera Roll\WP_20170614_001.jpg"/>
          <p:cNvPicPr/>
          <p:nvPr/>
        </p:nvPicPr>
        <p:blipFill>
          <a:blip r:embed="rId1"/>
          <a:stretch/>
        </p:blipFill>
        <p:spPr>
          <a:xfrm>
            <a:off x="914400" y="1703520"/>
            <a:ext cx="7772400" cy="4367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zz\Desktop\гмо ира 1\WP_20170113_002.jpg"/>
          <p:cNvPicPr/>
          <p:nvPr/>
        </p:nvPicPr>
        <p:blipFill>
          <a:blip r:embed="rId1"/>
          <a:stretch/>
        </p:blipFill>
        <p:spPr>
          <a:xfrm>
            <a:off x="1000080" y="1785960"/>
            <a:ext cx="7624800" cy="4282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Прямоугольник 2"/>
          <p:cNvSpPr/>
          <p:nvPr/>
        </p:nvSpPr>
        <p:spPr>
          <a:xfrm>
            <a:off x="571680" y="357120"/>
            <a:ext cx="8215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Проведение тематических праз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:\Users\zz\Desktop\гмо ира 1\WP_20161114_005.jpg"/>
          <p:cNvPicPr/>
          <p:nvPr/>
        </p:nvPicPr>
        <p:blipFill>
          <a:blip r:embed="rId1"/>
          <a:stretch/>
        </p:blipFill>
        <p:spPr>
          <a:xfrm>
            <a:off x="5989680" y="1928880"/>
            <a:ext cx="2940120" cy="4929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Методические приемы:</a:t>
            </a:r>
            <a:br>
              <a:rPr sz="4200"/>
            </a:br>
            <a:r>
              <a:rPr b="0" lang="ru-RU" sz="4200" spc="-1" strike="noStrike">
                <a:solidFill>
                  <a:srgbClr val="002060"/>
                </a:solidFill>
                <a:latin typeface="Times New Roman"/>
              </a:rPr>
              <a:t>*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игры и игровые упражн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2" descr="C:\Users\zz\Desktop\с телефона Иры\Pictures\Camera Roll\WP_20170620_007.jpg"/>
          <p:cNvPicPr/>
          <p:nvPr/>
        </p:nvPicPr>
        <p:blipFill>
          <a:blip r:embed="rId2"/>
          <a:stretch/>
        </p:blipFill>
        <p:spPr>
          <a:xfrm>
            <a:off x="857160" y="1500120"/>
            <a:ext cx="559620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4" descr="C:\Users\zz\Desktop\гмо ира 1\IMG_20180129_115633.jpg"/>
          <p:cNvPicPr/>
          <p:nvPr/>
        </p:nvPicPr>
        <p:blipFill>
          <a:blip r:embed="rId3"/>
          <a:stretch/>
        </p:blipFill>
        <p:spPr>
          <a:xfrm>
            <a:off x="214200" y="4000680"/>
            <a:ext cx="508176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zz\Desktop\с телефона Иры\Pictures\Camera Roll\WP_20170613_006.jpg"/>
          <p:cNvPicPr/>
          <p:nvPr/>
        </p:nvPicPr>
        <p:blipFill>
          <a:blip r:embed="rId1"/>
          <a:stretch/>
        </p:blipFill>
        <p:spPr>
          <a:xfrm>
            <a:off x="3929040" y="3327480"/>
            <a:ext cx="5214960" cy="329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9" name="Picture 3" descr="C:\Users\zz\Desktop\гмо ира 1\IMG_20180129_115852.jpg"/>
          <p:cNvPicPr/>
          <p:nvPr/>
        </p:nvPicPr>
        <p:blipFill>
          <a:blip r:embed="rId2"/>
          <a:stretch/>
        </p:blipFill>
        <p:spPr>
          <a:xfrm>
            <a:off x="785880" y="1571760"/>
            <a:ext cx="4357800" cy="28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*Обсуждение и проигрывание проблемных ситуац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9:27Z</dcterms:created>
  <dc:creator>валя</dc:creator>
  <dc:description/>
  <dc:language>en-US</dc:language>
  <cp:lastModifiedBy>1</cp:lastModifiedBy>
  <dcterms:modified xsi:type="dcterms:W3CDTF">2018-08-12T23:19:03Z</dcterms:modified>
  <cp:revision>43</cp:revision>
  <dc:subject/>
  <dc:title>«Формирование толерантного отношения к детям с ограниченными возможностями здоровья в детском коллективе»</dc:title>
</cp:coreProperties>
</file>