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BB7E-1AE3-4E12-BE53-16C077CE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12A3-6367-4143-95AE-C0DA90B6A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5A1-63B7-415E-BACD-9E453259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B0C6-A710-4144-9909-0AB3620E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A809-48E7-45ED-B054-4B51350B2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360-D43E-4937-873F-8544A169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516-1170-4AD8-8889-28239123C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03A5-E82F-4F7C-9470-243BD12E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303A-9480-456C-87A8-24DF20F6E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F8BE-44A3-41D5-B51A-C7ADD0BD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1CF-93C1-42E0-ACC1-33C7D7DE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869-AABB-441D-BFB9-79B1AD3B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35AD5-8330-4882-86C5-5B1BF01C8B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Готовность учащихся 4 …класса к переходу в среднее звен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4-….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ризнаки успешной адапта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довлетворенность межличностными отношениями – с одноклассниками и учителе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ризнаки дезадапта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нтеллектуальные способности учащихся 4…класса, влияющие на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85880" y="1571760"/>
          <a:ext cx="7758000" cy="3678120"/>
        </p:xfrm>
        <a:graphic>
          <a:graphicData uri="http://schemas.openxmlformats.org/drawingml/2006/table">
            <a:tbl>
              <a:tblPr/>
              <a:tblGrid>
                <a:gridCol w="2400120"/>
                <a:gridCol w="1528920"/>
                <a:gridCol w="1214280"/>
                <a:gridCol w="1285920"/>
                <a:gridCol w="1328760"/>
              </a:tblGrid>
              <a:tr h="371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едомлё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йное мышле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уити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зация (об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трактное  мыш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спешно адаптируются те ребята, которые ко времени поступления в среднее звен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меют достаточный уровень интеллекту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работать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планировать свои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контролировать свои действия и оценивать результат свое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Золотые правила воспитан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юбите своего ребенка, и пусть он никогда не усомнится в э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нимайте ребенка таким, какой он есть, — со всеми достоинствами и недоста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ирайтесь на лучшее в ребенке, верьте в его возмо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емитесь понять своего ребенка, загляните в его мысли и чувства; почаще ставьте себя на его мес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йте условия для успеха ребенка; дайте ему возможность почувствовать себя сильным, умелым, удачлив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ытайтесь реализовывать в ребенке свои несбывшиеся мечты и жел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ните, что воспитывают не слова, а личный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равнивайте своего ребенка с другими детьми, особенно не ставьте их в прим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комендации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словие школьного успеха будущего пятиклассника —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безусловное принятие ребенка, несмотря на те неудачи, с которыми он может столкну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прашивайте Вашего ребенка о его школьных дел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улярно беседуйте с учителями вашего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вязывайте оценки за успеваемость ребенка со своей системой наказаний и поощ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йте ребенку выполнять домашн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ите ребенку почувствовать интерес к тому, что преподают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учайте его к самостоятельности постеп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енные усилия прилагайте для того, чтобы поддерживать спокойную и стабильную атмосферу в до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바탕"/>
                <a:ea typeface="바탕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12:06:02Z</dcterms:created>
  <dc:creator>Марина</dc:creator>
  <dc:description/>
  <dc:language>en-US</dc:language>
  <cp:lastModifiedBy>Марина</cp:lastModifiedBy>
  <dcterms:modified xsi:type="dcterms:W3CDTF">2018-08-13T10:51:57Z</dcterms:modified>
  <cp:revision>11</cp:revision>
  <dc:subject/>
  <dc:title>Слайд 1</dc:title>
</cp:coreProperties>
</file>