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E5479-ACD3-4A26-BC30-1833518CA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577B8-D6D4-426C-8632-42D5E45B3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7517F-D2E9-4724-8D6B-4C3AC5CB7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10A50-F82A-4D88-B455-F227CDE95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62F26-8F04-48C1-A545-552017954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B4C20-3F49-412D-8191-8E1CB9633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55BD5-9111-42CA-891F-8C2974185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C07D9-CA0D-441C-849B-80A787325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A8FFA-8E02-4999-AF53-B31199B1F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C99B6-13D2-4E8F-8D38-B09AAA760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DBB7A-3624-4983-9B5D-DC497BC5C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FEC36-F4E9-4C82-AEF1-01B109E5E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431D0-877A-4518-BD64-D3D75BBF1EE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Calibri"/>
              </a:rPr>
              <a:t>Готовность учащихся 4 …класса к переходу в среднее звено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4-…. клас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Calibri"/>
              </a:rPr>
              <a:t>Признаки успешной адаптации: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удовлетворенность ребенка процессом обучения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ребенок легко справляется с программой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степень самостоятельности ребенка при выполнении им учебных заданий, готовность прибегнуть к помощи взрослого лишь после попыток выполнить задание самому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удовлетворенность межличностными отношениями – с одноклассниками и учителем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Calibri"/>
              </a:rPr>
              <a:t>Признаки дезадаптации: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999720"/>
            <a:ext cx="822960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Усталый, утомлённый внешний вид ребёнк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Нежелание ребёнка делиться своими впечатлениями о проведённом дн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Стремление отвлечь взрослого от школьных событий, переключить внимание на другие тем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Нежелания выполнять домашние зада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Негативные характеристики в адрес школы, учителей, одноклассник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Жалобы на те или иные события, связанные со школо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Беспокойный сон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Трудности утреннего пробуждения, вялост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Постоянные жалобы на плохое самочувстви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Calibri"/>
              </a:rPr>
              <a:t>Интеллектуальные способности учащихся 4…класса, влияющие на обучени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785880" y="1571760"/>
          <a:ext cx="7758000" cy="3678120"/>
        </p:xfrm>
        <a:graphic>
          <a:graphicData uri="http://schemas.openxmlformats.org/drawingml/2006/table">
            <a:tbl>
              <a:tblPr/>
              <a:tblGrid>
                <a:gridCol w="2400120"/>
                <a:gridCol w="1528920"/>
                <a:gridCol w="1214280"/>
                <a:gridCol w="1285920"/>
                <a:gridCol w="1328760"/>
              </a:tblGrid>
              <a:tr h="371160"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казател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1224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12240">
                      <a:solidFill>
                        <a:srgbClr val="4f81bd"/>
                      </a:solidFill>
                    </a:lnB>
                    <a:noFill/>
                  </a:tcPr>
                </a:tc>
                <a:tc gridSpan="4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                  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ровень (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12240">
                      <a:solidFill>
                        <a:srgbClr val="4f81bd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9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ысок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1224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Хороший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1224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редний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1224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лабы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1224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</a:tr>
              <a:tr h="371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сведомлённ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1224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914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нятийное мышление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нтуитивн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</a:tr>
              <a:tr h="371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огическо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атегоризация (обобщение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4f81bd">
                        <a:alpha val="20000"/>
                      </a:srgbClr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бстрактное  мышл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Calibri"/>
              </a:rPr>
              <a:t>Успешно адаптируются те ребята, которые ко времени поступления в среднее звено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-</a:t>
            </a: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Имеют достаточный уровень интеллектуального развит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-Умеют работать самостоятельн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-Умеют планировать свои действ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-Умеют контролировать свои действия и оценивать результат своей работ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84807"/>
                </a:solidFill>
                <a:latin typeface="Calibri"/>
              </a:rPr>
              <a:t>Золотые правила воспитания для родителе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Любите своего ребенка, и пусть он никогда не усомнится в этом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ринимайте ребенка таким, какой он есть, — со всеми достоинствами и недостаткам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Опирайтесь на лучшее в ребенке, верьте в его возможност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тремитесь понять своего ребенка, загляните в его мысли и чувства; почаще ставьте себя на его место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оздайте условия для успеха ребенка; дайте ему возможность почувствовать себя сильным, умелым, удачливым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Не пытайтесь реализовывать в ребенке свои несбывшиеся мечты и желани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омните, что воспитывают не слова, а личный пример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Не сравнивайте своего ребенка с другими детьми, особенно не ставьте их в пример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Рекомендации родителя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071720"/>
            <a:ext cx="822960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ервое условие школьного успеха будущего пятиклассника —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 безусловное принятие ребенка, несмотря на те неудачи, с которыми он может столкнутьс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асспрашивайте Вашего ребенка о его школьных делах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егулярно беседуйте с учителями вашего ребен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е связывайте оценки за успеваемость ребенка со своей системой наказаний и поощрени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могайте ребенку выполнять домашние зада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могите ребенку почувствовать интерес к тому, что преподают в школ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е следует сразу ослаблять контроль за учебной деятельностью ребенка, если в период начальной школы он привык к вашему контролю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иучайте его к самостоятельности постепенно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собенные усилия прилагайте для того, чтобы поддерживать спокойную и стабильную атмосферу в доме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바탕"/>
                <a:ea typeface="바탕"/>
              </a:rPr>
              <a:t>СПАСИБО ЗА ВНИМАНИЕ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4-16T12:06:02Z</dcterms:created>
  <dc:creator>Марина</dc:creator>
  <dc:description/>
  <dc:language>en-US</dc:language>
  <cp:lastModifiedBy>Марина</cp:lastModifiedBy>
  <dcterms:modified xsi:type="dcterms:W3CDTF">2018-08-13T10:51:57Z</dcterms:modified>
  <cp:revision>11</cp:revision>
  <dc:subject/>
  <dc:title>Слайд 1</dc:title>
</cp:coreProperties>
</file>