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5.png" ContentType="image/png"/>
  <Override PartName="/ppt/media/image22.gif" ContentType="image/gif"/>
  <Override PartName="/ppt/media/image15.png" ContentType="image/png"/>
  <Override PartName="/ppt/media/image17.png" ContentType="image/png"/>
  <Override PartName="/ppt/media/image32.jpeg" ContentType="image/jpeg"/>
  <Override PartName="/ppt/media/image21.png" ContentType="image/png"/>
  <Override PartName="/ppt/media/image19.png" ContentType="image/png"/>
  <Override PartName="/ppt/media/image29.gif" ContentType="image/gif"/>
  <Override PartName="/ppt/media/image9.png" ContentType="image/png"/>
  <Override PartName="/ppt/media/image13.png" ContentType="image/png"/>
  <Override PartName="/ppt/media/image18.png" ContentType="image/png"/>
  <Override PartName="/ppt/media/image31.jpeg" ContentType="image/jpeg"/>
  <Override PartName="/ppt/media/image33.png" ContentType="image/png"/>
  <Override PartName="/ppt/media/image12.png" ContentType="image/png"/>
  <Override PartName="/ppt/media/23.wav" ContentType="audio/x-wav"/>
  <Override PartName="/ppt/media/image16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image37.gif" ContentType="image/gif"/>
  <Override PartName="/ppt/media/image20.png" ContentType="image/png"/>
  <Override PartName="/ppt/media/image2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5.gif" ContentType="image/gif"/>
  <Override PartName="/ppt/media/image28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0B3-FD43-479B-9236-A7FF393E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AF7-EFAF-4EB3-8F9F-E1431582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ECC-BC3D-46D7-BD92-011BEAB3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6CC-4266-49D6-B8E9-02D0BF08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107-C746-4084-AB5B-4EAD067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862-BB7B-4742-AFAD-FC79269A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6D5-87CD-4EC6-BD16-F5741B11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6C1-9D8F-4D22-8C70-D6306BD7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007-25EE-4CAC-B656-C481BDB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786-1101-45A6-BF83-D6E8C8F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BFE-4581-4BAB-9763-7E314D43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A26-32EE-4D3A-A337-CDF5FFE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5FD-307B-4609-8E6F-29F6EE7B7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23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7176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ИНТЕЛЛЕКТУАЛЬНЫХ  СПОСОБНОСТЕЙ С ПОМОЩЬЮ 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3920" y="388620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МБДОУ ЦРР-д/с №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едагог-психолог: Конотопченко С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7667640" y="515772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Admin\Мои документы\мама\Мои рисунки\анимации-животные\4.gif"/>
          <p:cNvPicPr/>
          <p:nvPr/>
        </p:nvPicPr>
        <p:blipFill>
          <a:blip r:embed="rId1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ама\Мои рисунки\анимации-животные\4.gif"/>
          <p:cNvPicPr/>
          <p:nvPr/>
        </p:nvPicPr>
        <p:blipFill>
          <a:blip r:embed="rId2"/>
          <a:stretch/>
        </p:blipFill>
        <p:spPr>
          <a:xfrm>
            <a:off x="5357880" y="3071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>
            <a:off x="4357800" y="471492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>
            <a:off x="3571920" y="1785960"/>
            <a:ext cx="17859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858000" y="4786200"/>
            <a:ext cx="17859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e5016a11eb85dc683b9201753804a6f2.gif"/>
          <p:cNvPicPr/>
          <p:nvPr/>
        </p:nvPicPr>
        <p:blipFill>
          <a:blip r:embed="rId1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7" descr="1664.gif"/>
          <p:cNvPicPr/>
          <p:nvPr/>
        </p:nvPicPr>
        <p:blipFill>
          <a:blip r:embed="rId2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8" descr="1661.gif"/>
          <p:cNvPicPr/>
          <p:nvPr/>
        </p:nvPicPr>
        <p:blipFill>
          <a:blip r:embed="rId3"/>
          <a:stretch/>
        </p:blipFill>
        <p:spPr>
          <a:xfrm>
            <a:off x="714240" y="414324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9" descr="1688.gif"/>
          <p:cNvPicPr/>
          <p:nvPr/>
        </p:nvPicPr>
        <p:blipFill>
          <a:blip r:embed="rId4">
            <a:lum contrast="30000"/>
          </a:blip>
          <a:stretch/>
        </p:blipFill>
        <p:spPr>
          <a:xfrm rot="19692600">
            <a:off x="3587760" y="3911400"/>
            <a:ext cx="1843200" cy="1942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c0c534fda4e3487c1e3b6d102302b621.gif"/>
          <p:cNvPicPr/>
          <p:nvPr/>
        </p:nvPicPr>
        <p:blipFill>
          <a:blip r:embed="rId5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6" descr="c0c534fda4e3487c1e3b6d102302b621.gif"/>
          <p:cNvPicPr/>
          <p:nvPr/>
        </p:nvPicPr>
        <p:blipFill>
          <a:blip r:embed="rId6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0004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0253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. - 4б. </a:t>
            </a: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10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9"/>
          <p:cNvSpPr/>
          <p:nvPr/>
        </p:nvSpPr>
        <p:spPr>
          <a:xfrm>
            <a:off x="5357880" y="535788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4"/>
          <p:cNvSpPr/>
          <p:nvPr/>
        </p:nvSpPr>
        <p:spPr>
          <a:xfrm>
            <a:off x="4192560" y="2090880"/>
            <a:ext cx="1843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pt10p[1]"/>
          <p:cNvPicPr/>
          <p:nvPr/>
        </p:nvPicPr>
        <p:blipFill>
          <a:blip r:embed="rId1"/>
          <a:stretch/>
        </p:blipFill>
        <p:spPr>
          <a:xfrm>
            <a:off x="5219640" y="260280"/>
            <a:ext cx="13683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5C8D-A34C-4568-8801-01F552925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500040" y="0"/>
            <a:ext cx="792972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 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б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песня, которую поют, чтобы усыпить малыш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.) Рок                Б.) Шан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) Джаз             Г.) Колыб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85840" y="214200"/>
            <a:ext cx="742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все гласные в                      слове – "сумка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)С                      Б.)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)У                      Г.) У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42960" y="1571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 - 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85840" y="285840"/>
            <a:ext cx="88581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б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ют художника, который рисует портрет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.) Экслюзианист Б.) Пиан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.) Портретист      Г.) Гит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517760"/>
            <a:ext cx="79074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214200" y="107172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714240" y="0"/>
            <a:ext cx="85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 – 8б. 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00"/>
                            </p:stCondLst>
                            <p:childTnLst>
                              <p:par>
                                <p:cTn id="1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90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"/>
          <p:cNvSpPr/>
          <p:nvPr/>
        </p:nvSpPr>
        <p:spPr>
          <a:xfrm>
            <a:off x="2571840" y="1857240"/>
            <a:ext cx="4643280" cy="4214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24000" y="260280"/>
            <a:ext cx="8496000" cy="96840"/>
          </a:xfrm>
          <a:prstGeom prst="foldedCorner">
            <a:avLst>
              <a:gd name="adj" fmla="val 16703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ext Box 3" descr=""/>
          <p:cNvPicPr/>
          <p:nvPr/>
        </p:nvPicPr>
        <p:blipFill>
          <a:blip r:embed="rId2"/>
          <a:stretch/>
        </p:blipFill>
        <p:spPr>
          <a:xfrm>
            <a:off x="-341280" y="158760"/>
            <a:ext cx="9491760" cy="182232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826920" y="1197000"/>
            <a:ext cx="1979640" cy="19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932360" y="1268280"/>
            <a:ext cx="180036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 rot="16200000">
            <a:off x="6084000" y="3284640"/>
            <a:ext cx="2160360" cy="21592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771640" y="3429000"/>
            <a:ext cx="1800360" cy="2376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954000" y="30891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3640" y="58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92720" y="30686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215040" y="5516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14A2-7AC0-436B-A5D2-9A21C2CE2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71432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ть логические  задания на компьютере дл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развитию у детей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е составлять и решать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интерес к интеллектуальным и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2700360" y="4724280"/>
            <a:ext cx="360036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9"/>
          <p:cNvSpPr/>
          <p:nvPr/>
        </p:nvSpPr>
        <p:spPr>
          <a:xfrm rot="16200000">
            <a:off x="2685240" y="-42120"/>
            <a:ext cx="4087800" cy="67438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5705640"/>
            <a:ext cx="58024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757728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-133200" y="255600"/>
            <a:ext cx="8886600" cy="395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img1.liveinternet.ru/images/attach/b/4/102/974/102974369_magic3.gif"/>
          <p:cNvPicPr/>
          <p:nvPr/>
        </p:nvPicPr>
        <p:blipFill>
          <a:blip r:embed="rId2"/>
          <a:stretch/>
        </p:blipFill>
        <p:spPr>
          <a:xfrm>
            <a:off x="3276720" y="3141720"/>
            <a:ext cx="5867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по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ИКТ помогает развить у детей интеллектуальные способ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прогнозированию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 находить рациональные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редств ИКТ делает процесс обучения простым и эффектив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буждает живой интерес к процессу поз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384200"/>
            <a:ext cx="86313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tvmillioner.ru/content/images/foto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Света\Desktop\iUBIT4V10.jpg"/>
          <p:cNvPicPr/>
          <p:nvPr/>
        </p:nvPicPr>
        <p:blipFill>
          <a:blip r:embed="rId1"/>
          <a:stretch/>
        </p:blipFill>
        <p:spPr>
          <a:xfrm>
            <a:off x="-23760" y="1981080"/>
            <a:ext cx="2529000" cy="564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Света\Desktop\1277345-e16417969113223e.gif"/>
          <p:cNvPicPr/>
          <p:nvPr/>
        </p:nvPicPr>
        <p:blipFill>
          <a:blip r:embed="rId2"/>
          <a:stretch/>
        </p:blipFill>
        <p:spPr>
          <a:xfrm>
            <a:off x="6012000" y="2852640"/>
            <a:ext cx="313200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3"/>
          <a:stretch/>
        </p:blipFill>
        <p:spPr>
          <a:xfrm>
            <a:off x="2225520" y="2968560"/>
            <a:ext cx="349272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б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72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гадайте загадку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Если сели на карниз, то растут все время вниз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) Птички            Б.)Цве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.) Сосулька         Г.) Ве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://foto-toto.ru/_ph/55/1/446035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85840" y="1000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6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714240" y="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. «Выбери правильный отв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воробей"/>
          <p:cNvPicPr/>
          <p:nvPr/>
        </p:nvPicPr>
        <p:blipFill>
          <a:blip r:embed="rId1"/>
          <a:stretch/>
        </p:blipFill>
        <p:spPr>
          <a:xfrm>
            <a:off x="3000240" y="392904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воробей"/>
          <p:cNvPicPr/>
          <p:nvPr/>
        </p:nvPicPr>
        <p:blipFill>
          <a:blip r:embed="rId2"/>
          <a:stretch/>
        </p:blipFill>
        <p:spPr>
          <a:xfrm>
            <a:off x="5072040" y="371484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воробей"/>
          <p:cNvPicPr/>
          <p:nvPr/>
        </p:nvPicPr>
        <p:blipFill>
          <a:blip r:embed="rId3"/>
          <a:stretch/>
        </p:blipFill>
        <p:spPr>
          <a:xfrm>
            <a:off x="7000920" y="4000680"/>
            <a:ext cx="1071360" cy="9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воробей"/>
          <p:cNvPicPr/>
          <p:nvPr/>
        </p:nvPicPr>
        <p:blipFill>
          <a:blip r:embed="rId4"/>
          <a:stretch/>
        </p:blipFill>
        <p:spPr>
          <a:xfrm>
            <a:off x="3143160" y="178596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воробей"/>
          <p:cNvPicPr/>
          <p:nvPr/>
        </p:nvPicPr>
        <p:blipFill>
          <a:blip r:embed="rId5"/>
          <a:stretch/>
        </p:blipFill>
        <p:spPr>
          <a:xfrm>
            <a:off x="5214960" y="171468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оробей"/>
          <p:cNvPicPr/>
          <p:nvPr/>
        </p:nvPicPr>
        <p:blipFill>
          <a:blip r:embed="rId6"/>
          <a:stretch/>
        </p:blipFill>
        <p:spPr>
          <a:xfrm>
            <a:off x="7286760" y="1714680"/>
            <a:ext cx="107136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-249120" y="-23760"/>
            <a:ext cx="9399600" cy="14446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5092560" y="1258920"/>
            <a:ext cx="1744920" cy="1434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929280" y="1928880"/>
            <a:ext cx="19288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лексей</cp:lastModifiedBy>
  <dcterms:modified xsi:type="dcterms:W3CDTF">2018-08-13T19:57:13Z</dcterms:modified>
  <cp:revision>104</cp:revision>
  <dc:subject/>
  <dc:title>Слайд 1</dc:title>
</cp:coreProperties>
</file>