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5.png" ContentType="image/png"/>
  <Override PartName="/ppt/media/image22.gif" ContentType="image/gif"/>
  <Override PartName="/ppt/media/image15.png" ContentType="image/png"/>
  <Override PartName="/ppt/media/image17.png" ContentType="image/png"/>
  <Override PartName="/ppt/media/image32.jpeg" ContentType="image/jpeg"/>
  <Override PartName="/ppt/media/image21.png" ContentType="image/png"/>
  <Override PartName="/ppt/media/image19.png" ContentType="image/png"/>
  <Override PartName="/ppt/media/image29.gif" ContentType="image/gif"/>
  <Override PartName="/ppt/media/image9.png" ContentType="image/png"/>
  <Override PartName="/ppt/media/image13.png" ContentType="image/png"/>
  <Override PartName="/ppt/media/image18.png" ContentType="image/png"/>
  <Override PartName="/ppt/media/image31.jpeg" ContentType="image/jpeg"/>
  <Override PartName="/ppt/media/image33.png" ContentType="image/png"/>
  <Override PartName="/ppt/media/image12.png" ContentType="image/png"/>
  <Override PartName="/ppt/media/23.wav" ContentType="audio/x-wav"/>
  <Override PartName="/ppt/media/image16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image37.gif" ContentType="image/gif"/>
  <Override PartName="/ppt/media/image20.png" ContentType="image/png"/>
  <Override PartName="/ppt/media/image2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5.gif" ContentType="image/gif"/>
  <Override PartName="/ppt/media/image28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028-08A6-4404-99A4-EEA93A12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6CB-CDB4-47D7-ACAB-86FA9CC0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30C-98C9-438B-8E89-BA5F2533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F0A-094B-4B14-9DDE-BA38003E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D9F-7908-43E6-9A53-1CDD319B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AF2-8FA9-4686-9617-28E4FFB1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80B-D24C-4E8E-92D7-874ABB4A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6FFB-6A79-4712-9024-0F6935DF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CC8-152D-4AC6-97C1-3694E882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BDA-2617-4610-A3CC-D9CB02E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3AB-2E2D-490C-8BA0-2D617E1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204-2E4E-410C-897C-35AB357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D7AB-EF11-4BF9-BBBD-8F5B2099D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23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7176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У ДЕТЕЙ СТАРШЕГО ДОШКОЛЬНОГО ВОЗРАСТА ИНТЕЛЛЕКТУАЛЬНЫХ  СПОСОБНОСТЕЙ С ПОМОЩЬЮ 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3920" y="388620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МБДОУ ЦРР-д/с №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едагог-психолог: Конотопченко С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7667640" y="5157720"/>
            <a:ext cx="14763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Admin\Мои документы\мама\Мои рисунки\анимации-животные\4.gif"/>
          <p:cNvPicPr/>
          <p:nvPr/>
        </p:nvPicPr>
        <p:blipFill>
          <a:blip r:embed="rId1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ама\Мои рисунки\анимации-животные\4.gif"/>
          <p:cNvPicPr/>
          <p:nvPr/>
        </p:nvPicPr>
        <p:blipFill>
          <a:blip r:embed="rId2"/>
          <a:stretch/>
        </p:blipFill>
        <p:spPr>
          <a:xfrm>
            <a:off x="5357880" y="3071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>
            <a:off x="4357800" y="471492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>
            <a:off x="3571920" y="1785960"/>
            <a:ext cx="17859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858000" y="4786200"/>
            <a:ext cx="17859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e5016a11eb85dc683b9201753804a6f2.gif"/>
          <p:cNvPicPr/>
          <p:nvPr/>
        </p:nvPicPr>
        <p:blipFill>
          <a:blip r:embed="rId1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7" descr="1664.gif"/>
          <p:cNvPicPr/>
          <p:nvPr/>
        </p:nvPicPr>
        <p:blipFill>
          <a:blip r:embed="rId2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8" descr="1661.gif"/>
          <p:cNvPicPr/>
          <p:nvPr/>
        </p:nvPicPr>
        <p:blipFill>
          <a:blip r:embed="rId3"/>
          <a:stretch/>
        </p:blipFill>
        <p:spPr>
          <a:xfrm>
            <a:off x="714240" y="414324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9" descr="1688.gif"/>
          <p:cNvPicPr/>
          <p:nvPr/>
        </p:nvPicPr>
        <p:blipFill>
          <a:blip r:embed="rId4">
            <a:lum contrast="30000"/>
          </a:blip>
          <a:stretch/>
        </p:blipFill>
        <p:spPr>
          <a:xfrm rot="19692600">
            <a:off x="3587760" y="3911400"/>
            <a:ext cx="1843200" cy="1942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c0c534fda4e3487c1e3b6d102302b621.gif"/>
          <p:cNvPicPr/>
          <p:nvPr/>
        </p:nvPicPr>
        <p:blipFill>
          <a:blip r:embed="rId5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6" descr="c0c534fda4e3487c1e3b6d102302b621.gif"/>
          <p:cNvPicPr/>
          <p:nvPr/>
        </p:nvPicPr>
        <p:blipFill>
          <a:blip r:embed="rId6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500040" y="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0253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. - 4б. </a:t>
            </a: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10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9"/>
          <p:cNvSpPr/>
          <p:nvPr/>
        </p:nvSpPr>
        <p:spPr>
          <a:xfrm>
            <a:off x="5357880" y="535788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4"/>
          <p:cNvSpPr/>
          <p:nvPr/>
        </p:nvSpPr>
        <p:spPr>
          <a:xfrm>
            <a:off x="4192560" y="2090880"/>
            <a:ext cx="1843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2" descr="pt10p[1]"/>
          <p:cNvPicPr/>
          <p:nvPr/>
        </p:nvPicPr>
        <p:blipFill>
          <a:blip r:embed="rId1"/>
          <a:stretch/>
        </p:blipFill>
        <p:spPr>
          <a:xfrm>
            <a:off x="5219640" y="260280"/>
            <a:ext cx="13683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E1C1-8A19-4B0D-A97E-AD899AFCC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500040" y="0"/>
            <a:ext cx="792972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 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б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песня, которую поют, чтобы усыпить малыш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.) Рок                Б.) Шан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) Джаз             Г.) Колыб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85840" y="214200"/>
            <a:ext cx="742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все гласные в                      слове – "сумка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)С                      Б.)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.)У                      Г.) У –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42960" y="1571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У - 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85840" y="285840"/>
            <a:ext cx="88581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б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зывают художника, который рисует портрет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.) Экслюзианист Б.) Пиан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.) Портретист      Г.) Гит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1517760"/>
            <a:ext cx="790740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214200" y="107172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714240" y="0"/>
            <a:ext cx="85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 – 8б. 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700"/>
                            </p:stCondLst>
                            <p:childTnLst>
                              <p:par>
                                <p:cTn id="1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90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"/>
          <p:cNvSpPr/>
          <p:nvPr/>
        </p:nvSpPr>
        <p:spPr>
          <a:xfrm>
            <a:off x="2571840" y="1857240"/>
            <a:ext cx="4643280" cy="4214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24000" y="260280"/>
            <a:ext cx="8496000" cy="96840"/>
          </a:xfrm>
          <a:prstGeom prst="foldedCorner">
            <a:avLst>
              <a:gd name="adj" fmla="val 16703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ext Box 3" descr=""/>
          <p:cNvPicPr/>
          <p:nvPr/>
        </p:nvPicPr>
        <p:blipFill>
          <a:blip r:embed="rId2"/>
          <a:stretch/>
        </p:blipFill>
        <p:spPr>
          <a:xfrm>
            <a:off x="-341280" y="158760"/>
            <a:ext cx="9491760" cy="182232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826920" y="1197000"/>
            <a:ext cx="1979640" cy="19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932360" y="1268280"/>
            <a:ext cx="180036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 rot="16200000">
            <a:off x="6084000" y="3284640"/>
            <a:ext cx="2160360" cy="21592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771640" y="3429000"/>
            <a:ext cx="1800360" cy="2376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954000" y="30891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03640" y="58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92720" y="30686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215040" y="5516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546-9CA4-421C-AC97-0BD1207DB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714320"/>
            <a:ext cx="8183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ть логические  задания на компьютере дл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развитию у детей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е составлять и решать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интерес к интеллектуальным и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2700360" y="4724280"/>
            <a:ext cx="360036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9"/>
          <p:cNvSpPr/>
          <p:nvPr/>
        </p:nvSpPr>
        <p:spPr>
          <a:xfrm rot="16200000">
            <a:off x="2685240" y="-42120"/>
            <a:ext cx="4087800" cy="67438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5705640"/>
            <a:ext cx="58024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757728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-133200" y="255600"/>
            <a:ext cx="8886600" cy="395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img1.liveinternet.ru/images/attach/b/4/102/974/102974369_magic3.gif"/>
          <p:cNvPicPr/>
          <p:nvPr/>
        </p:nvPicPr>
        <p:blipFill>
          <a:blip r:embed="rId2"/>
          <a:stretch/>
        </p:blipFill>
        <p:spPr>
          <a:xfrm>
            <a:off x="3276720" y="3141720"/>
            <a:ext cx="5867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по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ИКТ помогает развить у детей интеллектуальные способ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прогнозированию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 находить рациональные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редств ИКТ делает процесс обучения простым и эффектив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буждает живой интерес к процессу поз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384200"/>
            <a:ext cx="86313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tvmillioner.ru/content/images/foto/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Света\Desktop\iUBIT4V10.jpg"/>
          <p:cNvPicPr/>
          <p:nvPr/>
        </p:nvPicPr>
        <p:blipFill>
          <a:blip r:embed="rId1"/>
          <a:stretch/>
        </p:blipFill>
        <p:spPr>
          <a:xfrm>
            <a:off x="-23760" y="1981080"/>
            <a:ext cx="2529000" cy="564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Света\Desktop\1277345-e16417969113223e.gif"/>
          <p:cNvPicPr/>
          <p:nvPr/>
        </p:nvPicPr>
        <p:blipFill>
          <a:blip r:embed="rId2"/>
          <a:stretch/>
        </p:blipFill>
        <p:spPr>
          <a:xfrm>
            <a:off x="6012000" y="2852640"/>
            <a:ext cx="313200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4" descr=""/>
          <p:cNvPicPr/>
          <p:nvPr/>
        </p:nvPicPr>
        <p:blipFill>
          <a:blip r:embed="rId3"/>
          <a:stretch/>
        </p:blipFill>
        <p:spPr>
          <a:xfrm>
            <a:off x="2225520" y="2968560"/>
            <a:ext cx="349272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б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72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гадайте загадку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Если сели на карниз, то растут все время вниз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.) Птички            Б.)Цве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.) Сосулька         Г.) Ве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ttp://foto-toto.ru/_ph/55/1/446035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85840" y="1000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6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714240" y="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2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. «Выбери правильный отв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воробей"/>
          <p:cNvPicPr/>
          <p:nvPr/>
        </p:nvPicPr>
        <p:blipFill>
          <a:blip r:embed="rId1"/>
          <a:stretch/>
        </p:blipFill>
        <p:spPr>
          <a:xfrm>
            <a:off x="3000240" y="392904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воробей"/>
          <p:cNvPicPr/>
          <p:nvPr/>
        </p:nvPicPr>
        <p:blipFill>
          <a:blip r:embed="rId2"/>
          <a:stretch/>
        </p:blipFill>
        <p:spPr>
          <a:xfrm>
            <a:off x="5072040" y="371484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воробей"/>
          <p:cNvPicPr/>
          <p:nvPr/>
        </p:nvPicPr>
        <p:blipFill>
          <a:blip r:embed="rId3"/>
          <a:stretch/>
        </p:blipFill>
        <p:spPr>
          <a:xfrm>
            <a:off x="7000920" y="4000680"/>
            <a:ext cx="1071360" cy="9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воробей"/>
          <p:cNvPicPr/>
          <p:nvPr/>
        </p:nvPicPr>
        <p:blipFill>
          <a:blip r:embed="rId4"/>
          <a:stretch/>
        </p:blipFill>
        <p:spPr>
          <a:xfrm>
            <a:off x="3143160" y="178596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воробей"/>
          <p:cNvPicPr/>
          <p:nvPr/>
        </p:nvPicPr>
        <p:blipFill>
          <a:blip r:embed="rId5"/>
          <a:stretch/>
        </p:blipFill>
        <p:spPr>
          <a:xfrm>
            <a:off x="5214960" y="171468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воробей"/>
          <p:cNvPicPr/>
          <p:nvPr/>
        </p:nvPicPr>
        <p:blipFill>
          <a:blip r:embed="rId6"/>
          <a:stretch/>
        </p:blipFill>
        <p:spPr>
          <a:xfrm>
            <a:off x="7286760" y="1714680"/>
            <a:ext cx="107136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-249120" y="-23760"/>
            <a:ext cx="9399600" cy="1444680"/>
          </a:xfrm>
          <a:prstGeom prst="rect">
            <a:avLst/>
          </a:prstGeom>
          <a:ln w="0">
            <a:noFill/>
          </a:ln>
        </p:spPr>
      </p:pic>
      <p:sp>
        <p:nvSpPr>
          <p:cNvPr id="8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5092560" y="1258920"/>
            <a:ext cx="1744920" cy="1434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929280" y="1928880"/>
            <a:ext cx="19288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лексей</cp:lastModifiedBy>
  <dcterms:modified xsi:type="dcterms:W3CDTF">2018-08-13T19:57:13Z</dcterms:modified>
  <cp:revision>104</cp:revision>
  <dc:subject/>
  <dc:title>Слайд 1</dc:title>
</cp:coreProperties>
</file>