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5.png" ContentType="image/png"/>
  <Override PartName="/ppt/media/image22.gif" ContentType="image/gif"/>
  <Override PartName="/ppt/media/image15.png" ContentType="image/png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9.gif" ContentType="image/gif"/>
  <Override PartName="/ppt/media/image9.png" ContentType="image/png"/>
  <Override PartName="/ppt/media/image13.png" ContentType="image/png"/>
  <Override PartName="/ppt/media/image18.png" ContentType="image/png"/>
  <Override PartName="/ppt/media/image31.jpeg" ContentType="image/jpeg"/>
  <Override PartName="/ppt/media/image33.png" ContentType="image/png"/>
  <Override PartName="/ppt/media/image12.png" ContentType="image/png"/>
  <Override PartName="/ppt/media/23.wav" ContentType="audio/x-wav"/>
  <Override PartName="/ppt/media/image16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5.gif" ContentType="image/gif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2B9-FFBA-47B6-8896-7785EA24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6CD-F3BE-499A-8D33-64DDB31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A7F-761B-4D06-8787-C1E84ECD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394-F796-4ACF-B73C-E97CCC63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3F0-46D3-47B0-AC6D-14939BE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1FC-1388-4766-A6BA-A5853C0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A87-BBEF-4C63-AAE9-973638D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0A0-2BCE-45E1-9DD4-FA7A708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C8D-CB47-4C95-9420-CAF69CA3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909-3366-4146-9AD2-7FD937C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067-5BD7-4DC4-8355-DFB1E57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BEF-2803-467C-8D01-C25317C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F8F-640D-452B-9821-BC62CCD48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2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7176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ИНТЕЛЛЕКТУАЛЬНЫХ  СПОСОБНОСТЕЙ С ПОМОЩЬЮ 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3920" y="388620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МБДОУ ЦРР-д/с №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едагог-психолог: Конотопченко С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7667640" y="515772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Admin\Мои документы\мама\Мои рисунки\анимации-животные\4.gif"/>
          <p:cNvPicPr/>
          <p:nvPr/>
        </p:nvPicPr>
        <p:blipFill>
          <a:blip r:embed="rId1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ама\Мои рисунки\анимации-животные\4.gif"/>
          <p:cNvPicPr/>
          <p:nvPr/>
        </p:nvPicPr>
        <p:blipFill>
          <a:blip r:embed="rId2"/>
          <a:stretch/>
        </p:blipFill>
        <p:spPr>
          <a:xfrm>
            <a:off x="5357880" y="3071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>
            <a:off x="4357800" y="471492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>
            <a:off x="3571920" y="1785960"/>
            <a:ext cx="17859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858000" y="4786200"/>
            <a:ext cx="17859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8" descr="1661.gif"/>
          <p:cNvPicPr/>
          <p:nvPr/>
        </p:nvPicPr>
        <p:blipFill>
          <a:blip r:embed="rId3"/>
          <a:stretch/>
        </p:blipFill>
        <p:spPr>
          <a:xfrm>
            <a:off x="714240" y="414324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587760" y="3911400"/>
            <a:ext cx="1843200" cy="1942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004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253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 - 4б. </a:t>
            </a: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10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4"/>
          <p:cNvSpPr/>
          <p:nvPr/>
        </p:nvSpPr>
        <p:spPr>
          <a:xfrm>
            <a:off x="4192560" y="2090880"/>
            <a:ext cx="1843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pt10p[1]"/>
          <p:cNvPicPr/>
          <p:nvPr/>
        </p:nvPicPr>
        <p:blipFill>
          <a:blip r:embed="rId1"/>
          <a:stretch/>
        </p:blipFill>
        <p:spPr>
          <a:xfrm>
            <a:off x="5219640" y="260280"/>
            <a:ext cx="13683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6BD-ABFD-43FF-B445-9F26E5A91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0040" y="0"/>
            <a:ext cx="79297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б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песня, которую поют, чтобы усыпить малыш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) Рок                Б.) Шан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) Джаз             Г.) Колыб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85840" y="21420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все гласные в                      слове – "сумка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)С                      Б.)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)У                      Г.) У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42960" y="1571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- 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85840" y="285840"/>
            <a:ext cx="88581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б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ют художника, который рисует портрет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.) Экслюзианист Б.) Пиан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) Портретист      Г.) Гит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517760"/>
            <a:ext cx="79074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14200" y="107172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714240" y="0"/>
            <a:ext cx="85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 – 8б. 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0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90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2571840" y="1857240"/>
            <a:ext cx="4643280" cy="4214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24000" y="260280"/>
            <a:ext cx="8496000" cy="96840"/>
          </a:xfrm>
          <a:prstGeom prst="foldedCorner">
            <a:avLst>
              <a:gd name="adj" fmla="val 1670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 Box 3" descr=""/>
          <p:cNvPicPr/>
          <p:nvPr/>
        </p:nvPicPr>
        <p:blipFill>
          <a:blip r:embed="rId2"/>
          <a:stretch/>
        </p:blipFill>
        <p:spPr>
          <a:xfrm>
            <a:off x="-341280" y="158760"/>
            <a:ext cx="9491760" cy="182232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826920" y="1197000"/>
            <a:ext cx="1979640" cy="19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932360" y="1268280"/>
            <a:ext cx="180036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rot="16200000">
            <a:off x="6084000" y="3284640"/>
            <a:ext cx="2160360" cy="2159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71640" y="3429000"/>
            <a:ext cx="1800360" cy="2376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954000" y="30891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3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92720" y="3068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215040" y="5516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E25-3FE7-4054-B83D-CD93CCACF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71432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логические  задания на компьютере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развитию у детей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е составлять и решат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интерес к интеллектуаль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2700360" y="4724280"/>
            <a:ext cx="360036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9"/>
          <p:cNvSpPr/>
          <p:nvPr/>
        </p:nvSpPr>
        <p:spPr>
          <a:xfrm rot="16200000">
            <a:off x="2685240" y="-42120"/>
            <a:ext cx="4087800" cy="67438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5705640"/>
            <a:ext cx="58024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757728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-133200" y="255600"/>
            <a:ext cx="8886600" cy="395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img1.liveinternet.ru/images/attach/b/4/102/974/102974369_magic3.gif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по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ИКТ помогает развить у детей интеллектуальные способ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прогнозированию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 находить рациональные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редств ИКТ делает процесс обучения простым и эффектив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буждает живой интерес к процессу 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384200"/>
            <a:ext cx="8631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tvmillioner.ru/content/images/foto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вета\Desktop\iUBIT4V10.jpg"/>
          <p:cNvPicPr/>
          <p:nvPr/>
        </p:nvPicPr>
        <p:blipFill>
          <a:blip r:embed="rId1"/>
          <a:stretch/>
        </p:blipFill>
        <p:spPr>
          <a:xfrm>
            <a:off x="-23760" y="1981080"/>
            <a:ext cx="2529000" cy="564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Света\Desktop\1277345-e16417969113223e.gif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3"/>
          <a:stretch/>
        </p:blipFill>
        <p:spPr>
          <a:xfrm>
            <a:off x="2225520" y="2968560"/>
            <a:ext cx="349272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б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72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у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Если сели на карниз, то растут все время вниз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) Птички            Б.)Цве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.) Сосулька         Г.) В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://foto-toto.ru/_ph/55/1/446035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85840" y="1000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714240" y="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. «Выбери правильный от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воробей"/>
          <p:cNvPicPr/>
          <p:nvPr/>
        </p:nvPicPr>
        <p:blipFill>
          <a:blip r:embed="rId1"/>
          <a:stretch/>
        </p:blipFill>
        <p:spPr>
          <a:xfrm>
            <a:off x="3000240" y="392904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воробей"/>
          <p:cNvPicPr/>
          <p:nvPr/>
        </p:nvPicPr>
        <p:blipFill>
          <a:blip r:embed="rId2"/>
          <a:stretch/>
        </p:blipFill>
        <p:spPr>
          <a:xfrm>
            <a:off x="5072040" y="371484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воробей"/>
          <p:cNvPicPr/>
          <p:nvPr/>
        </p:nvPicPr>
        <p:blipFill>
          <a:blip r:embed="rId3"/>
          <a:stretch/>
        </p:blipFill>
        <p:spPr>
          <a:xfrm>
            <a:off x="7000920" y="4000680"/>
            <a:ext cx="1071360" cy="9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воробей"/>
          <p:cNvPicPr/>
          <p:nvPr/>
        </p:nvPicPr>
        <p:blipFill>
          <a:blip r:embed="rId4"/>
          <a:stretch/>
        </p:blipFill>
        <p:spPr>
          <a:xfrm>
            <a:off x="3143160" y="178596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воробей"/>
          <p:cNvPicPr/>
          <p:nvPr/>
        </p:nvPicPr>
        <p:blipFill>
          <a:blip r:embed="rId5"/>
          <a:stretch/>
        </p:blipFill>
        <p:spPr>
          <a:xfrm>
            <a:off x="5214960" y="171468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оробей"/>
          <p:cNvPicPr/>
          <p:nvPr/>
        </p:nvPicPr>
        <p:blipFill>
          <a:blip r:embed="rId6"/>
          <a:stretch/>
        </p:blipFill>
        <p:spPr>
          <a:xfrm>
            <a:off x="7286760" y="1714680"/>
            <a:ext cx="10713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-249120" y="-23760"/>
            <a:ext cx="9399600" cy="14446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5092560" y="1258920"/>
            <a:ext cx="174492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929280" y="1928880"/>
            <a:ext cx="19288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лексей</cp:lastModifiedBy>
  <dcterms:modified xsi:type="dcterms:W3CDTF">2018-08-13T19:57:13Z</dcterms:modified>
  <cp:revision>104</cp:revision>
  <dc:subject/>
  <dc:title>Слайд 1</dc:title>
</cp:coreProperties>
</file>