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png" ContentType="image/png"/>
  <Override PartName="/ppt/media/image10.jpeg" ContentType="image/jpeg"/>
  <Override PartName="/ppt/media/image1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5.gif" ContentType="image/gif"/>
  <Override PartName="/ppt/media/image7.jpeg" ContentType="image/jpeg"/>
  <Override PartName="/ppt/media/image5.gif" ContentType="image/gif"/>
  <Override PartName="/ppt/media/image14.jpeg" ContentType="image/jpeg"/>
  <Override PartName="/ppt/media/image8.png" ContentType="image/png"/>
  <Override PartName="/ppt/media/image11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96DD-0E00-419F-A368-6ED9A9D890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2C6E-4B02-4422-8733-72E02F2A25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F8E-DF19-43A7-BB10-4269FC1E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BF2-ACF4-4BE7-B2C9-B4B84643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DBA-AB5D-4EC6-A55E-4FC6395B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D4D-FB35-46B6-88FE-875FDD8D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F42-9178-4CB1-97C9-780742B2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4AD-DF52-4B4E-B33E-E221CE4E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566-C55D-4EB7-8B1C-72991C67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EEC-38CA-499A-B869-884E22F0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2C2-7193-4704-AA4F-7D019A13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AD0-1E80-47A7-8E23-F6D80A31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4AE-ABBD-46A7-B459-95191FE6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F56-CCD0-4563-BE2B-CA6F43BA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A226-E9AE-422F-A22C-7E78BEDAA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26"/>
          <p:cNvGrpSpPr/>
          <p:nvPr/>
        </p:nvGrpSpPr>
        <p:grpSpPr>
          <a:xfrm>
            <a:off x="214200" y="3143160"/>
            <a:ext cx="8572680" cy="2129040"/>
            <a:chOff x="214200" y="3143160"/>
            <a:chExt cx="8572680" cy="2129040"/>
          </a:xfrm>
        </p:grpSpPr>
        <p:pic>
          <p:nvPicPr>
            <p:cNvPr id="49" name="Picture 16" descr="C:\Documents and Settings\Admin\Мои документы\Мои рисунки\степь\3524737.jpg"/>
            <p:cNvPicPr/>
            <p:nvPr/>
          </p:nvPicPr>
          <p:blipFill>
            <a:blip r:embed="rId1"/>
            <a:stretch/>
          </p:blipFill>
          <p:spPr>
            <a:xfrm>
              <a:off x="214200" y="3143160"/>
              <a:ext cx="2714760" cy="21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7" descr="C:\Documents and Settings\Admin\Мои документы\Мои рисунки\степь\10410_polevka1.jpg"/>
            <p:cNvPicPr/>
            <p:nvPr/>
          </p:nvPicPr>
          <p:blipFill>
            <a:blip r:embed="rId2"/>
            <a:stretch/>
          </p:blipFill>
          <p:spPr>
            <a:xfrm>
              <a:off x="3143160" y="3143160"/>
              <a:ext cx="2571840" cy="20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8" descr="C:\Documents and Settings\Admin\Мои документы\Мои рисунки\степь\1312268490_16-3.jpg"/>
            <p:cNvPicPr/>
            <p:nvPr/>
          </p:nvPicPr>
          <p:blipFill>
            <a:blip r:embed="rId3"/>
            <a:stretch/>
          </p:blipFill>
          <p:spPr>
            <a:xfrm>
              <a:off x="5929200" y="3162960"/>
              <a:ext cx="2857680" cy="205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Прямоугольник 42" descr=""/>
          <p:cNvPicPr/>
          <p:nvPr/>
        </p:nvPicPr>
        <p:blipFill>
          <a:blip r:embed="rId4"/>
          <a:stretch/>
        </p:blipFill>
        <p:spPr>
          <a:xfrm>
            <a:off x="0" y="333360"/>
            <a:ext cx="9290160" cy="187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51480" y="5897520"/>
            <a:ext cx="46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 ученик 4 класса Ивашков Вл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6" descr="C:\Documents and Settings\Admin\Мои документы\Мои рисунки\степь\3524737.jpg"/>
          <p:cNvPicPr/>
          <p:nvPr/>
        </p:nvPicPr>
        <p:blipFill>
          <a:blip r:embed="rId1"/>
          <a:stretch/>
        </p:blipFill>
        <p:spPr>
          <a:xfrm rot="21258600">
            <a:off x="162000" y="1641240"/>
            <a:ext cx="4452840" cy="349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Documents and Settings\Admin\Мои документы\Мои рисунки\степь\13A5.GIF"/>
          <p:cNvPicPr/>
          <p:nvPr/>
        </p:nvPicPr>
        <p:blipFill>
          <a:blip r:embed="rId2"/>
          <a:stretch/>
        </p:blipFill>
        <p:spPr>
          <a:xfrm>
            <a:off x="1076400" y="6232680"/>
            <a:ext cx="704880" cy="3808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2" descr=""/>
          <p:cNvPicPr/>
          <p:nvPr/>
        </p:nvPicPr>
        <p:blipFill>
          <a:blip r:embed="rId3"/>
          <a:stretch/>
        </p:blipFill>
        <p:spPr>
          <a:xfrm>
            <a:off x="1133640" y="244440"/>
            <a:ext cx="7072200" cy="1955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85840" y="1357200"/>
            <a:ext cx="4357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- русак считается очень чистоплотным, любит причёсывать шерсть лапами и языком. Живет в степных районах Европы и Малой Азии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йца очень сильно развит слух . Не зря же у него такие большие уши. На кормежку заяц выходит в основном ночью или ранним утром. С наступлением рассвета возвращается к себе в норку или другое укрыти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8" descr="C:\Documents and Settings\Admin\Мои документы\Мои рисунки\степь\1312268490_16-3.jpg"/>
          <p:cNvPicPr/>
          <p:nvPr/>
        </p:nvPicPr>
        <p:blipFill>
          <a:blip r:embed="rId2"/>
          <a:stretch/>
        </p:blipFill>
        <p:spPr>
          <a:xfrm rot="21058800">
            <a:off x="236160" y="1346040"/>
            <a:ext cx="4678560" cy="33800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4" descr=""/>
          <p:cNvPicPr/>
          <p:nvPr/>
        </p:nvPicPr>
        <p:blipFill>
          <a:blip r:embed="rId3"/>
          <a:stretch/>
        </p:blipFill>
        <p:spPr>
          <a:xfrm>
            <a:off x="1712880" y="-182520"/>
            <a:ext cx="2968560" cy="120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Admin\Рабочий стол\учусь\HAMSTER1.GIF"/>
          <p:cNvPicPr/>
          <p:nvPr/>
        </p:nvPicPr>
        <p:blipFill>
          <a:blip r:embed="rId4"/>
          <a:stretch/>
        </p:blipFill>
        <p:spPr>
          <a:xfrm>
            <a:off x="1071720" y="5929200"/>
            <a:ext cx="571320" cy="666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143320" y="642600"/>
            <a:ext cx="3771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красивый зверек. Его шерстка окрашена в яркие цвета: спинка и бока рыжие, брюшко черное, лапки и нос белые, на груди и боках головы белые пятна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яки вырывают норы, глубиной 2м50 см. В них они устраивают гнездовые камеры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лета животные начинают делать запасы на зиму, заполняя свои кладовые зерном, картофелем, морковью, кукурузой и другими продукт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Картинка 174 из 113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C:\Documents and Settings\Admin\Мои документы\Мои рисунки\степь\s3(1).jpg"/>
          <p:cNvPicPr/>
          <p:nvPr/>
        </p:nvPicPr>
        <p:blipFill>
          <a:blip r:embed="rId2"/>
          <a:stretch/>
        </p:blipFill>
        <p:spPr>
          <a:xfrm>
            <a:off x="4286160" y="2928960"/>
            <a:ext cx="4762440" cy="37148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4" descr=""/>
          <p:cNvPicPr/>
          <p:nvPr/>
        </p:nvPicPr>
        <p:blipFill>
          <a:blip r:embed="rId3"/>
          <a:stretch/>
        </p:blipFill>
        <p:spPr>
          <a:xfrm>
            <a:off x="1652760" y="-208080"/>
            <a:ext cx="5937120" cy="1231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Анимашки Животные"/>
          <p:cNvPicPr/>
          <p:nvPr/>
        </p:nvPicPr>
        <p:blipFill>
          <a:blip r:embed="rId4"/>
          <a:stretch/>
        </p:blipFill>
        <p:spPr>
          <a:xfrm>
            <a:off x="0" y="5667480"/>
            <a:ext cx="1647720" cy="11905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250920" y="1052640"/>
            <a:ext cx="3929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т, что волка «ноги кормят». Может пройти до 60–80 км за ночь, пройти с овцой на спине, подолгу голодать. Самый голодный волк может съесть 10 кг мяса за раз, обычно же съедается 2 к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e1e8f5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6" descr="C:\Documents and Settings\Admin\Мои документы\Мои рисунки\степь\сурок.jpg"/>
          <p:cNvPicPr/>
          <p:nvPr/>
        </p:nvPicPr>
        <p:blipFill>
          <a:blip r:embed="rId1"/>
          <a:stretch/>
        </p:blipFill>
        <p:spPr>
          <a:xfrm rot="21121800">
            <a:off x="216000" y="1528920"/>
            <a:ext cx="4786200" cy="3444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Анимашки Животные"/>
          <p:cNvPicPr/>
          <p:nvPr/>
        </p:nvPicPr>
        <p:blipFill>
          <a:blip r:embed="rId2"/>
          <a:stretch/>
        </p:blipFill>
        <p:spPr>
          <a:xfrm>
            <a:off x="8001000" y="5905440"/>
            <a:ext cx="981000" cy="9525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3"/>
          <a:stretch/>
        </p:blipFill>
        <p:spPr>
          <a:xfrm>
            <a:off x="1200240" y="30240"/>
            <a:ext cx="2798640" cy="1208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003280" y="404280"/>
            <a:ext cx="40006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крупным представителем сурков является степной суро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рки строят несколько видов нор - временные, которые необходимы для укрытия от опасностности . Во время кормления сурки несут дозор. Это происходит по очереди. При возникновении малейшей опасности сурок, который находится "на посту", издает громкий свист. После этого он скрывается в ближайшей норе, и его примеру следуют все остальные 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8036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</cp:lastModifiedBy>
  <dcterms:modified xsi:type="dcterms:W3CDTF">2018-02-11T04:44:00Z</dcterms:modified>
  <cp:revision>7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240000000000010243100207f6000400038000</vt:lpwstr>
  </property>
</Properties>
</file>