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10.jpeg" ContentType="image/jpeg"/>
  <Override PartName="/ppt/media/image1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5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8.png" ContentType="image/png"/>
  <Override PartName="/ppt/media/image11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89EF-5A17-41B1-9F0A-0581A79F10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62A-33B7-49EF-8C76-82A25A887D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CAD-C192-47AB-A1C6-434699E9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871-282B-45EA-A6C3-C9A43A80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EEB-B6DB-4334-AB1C-3BE797D5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ECC-EEA2-47C3-9CDC-00ABB651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904-2CF1-4AA0-A968-21BEA8F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5E1-F272-4DAE-8ED0-2298D0E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421-B9F6-40DD-B4F8-FFEFA48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675-74ED-42ED-887A-B84D6354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AEA-54E1-4C9D-9F88-5372AD7E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77C-4338-4F41-B680-1A331D8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967-2D9E-44BD-BEA4-07E8AA94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C4C-1E8C-43A7-84E3-0302530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484E-0733-408C-B89F-F7F48D0CE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6"/>
          <p:cNvGrpSpPr/>
          <p:nvPr/>
        </p:nvGrpSpPr>
        <p:grpSpPr>
          <a:xfrm>
            <a:off x="214200" y="3143160"/>
            <a:ext cx="8572680" cy="2129040"/>
            <a:chOff x="214200" y="3143160"/>
            <a:chExt cx="8572680" cy="2129040"/>
          </a:xfrm>
        </p:grpSpPr>
        <p:pic>
          <p:nvPicPr>
            <p:cNvPr id="49" name="Picture 16" descr="C:\Documents and Settings\Admin\Мои документы\Мои рисунки\степь\3524737.jpg"/>
            <p:cNvPicPr/>
            <p:nvPr/>
          </p:nvPicPr>
          <p:blipFill>
            <a:blip r:embed="rId1"/>
            <a:stretch/>
          </p:blipFill>
          <p:spPr>
            <a:xfrm>
              <a:off x="214200" y="3143160"/>
              <a:ext cx="2714760" cy="21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7" descr="C:\Documents and Settings\Admin\Мои документы\Мои рисунки\степь\10410_polevka1.jpg"/>
            <p:cNvPicPr/>
            <p:nvPr/>
          </p:nvPicPr>
          <p:blipFill>
            <a:blip r:embed="rId2"/>
            <a:stretch/>
          </p:blipFill>
          <p:spPr>
            <a:xfrm>
              <a:off x="3143160" y="3143160"/>
              <a:ext cx="2571840" cy="20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8" descr="C:\Documents and Settings\Admin\Мои документы\Мои рисунки\степь\1312268490_16-3.jpg"/>
            <p:cNvPicPr/>
            <p:nvPr/>
          </p:nvPicPr>
          <p:blipFill>
            <a:blip r:embed="rId3"/>
            <a:stretch/>
          </p:blipFill>
          <p:spPr>
            <a:xfrm>
              <a:off x="5929200" y="3162960"/>
              <a:ext cx="2857680" cy="205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Прямоугольник 42" descr=""/>
          <p:cNvPicPr/>
          <p:nvPr/>
        </p:nvPicPr>
        <p:blipFill>
          <a:blip r:embed="rId4"/>
          <a:stretch/>
        </p:blipFill>
        <p:spPr>
          <a:xfrm>
            <a:off x="0" y="333360"/>
            <a:ext cx="9290160" cy="18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1480" y="5897520"/>
            <a:ext cx="46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ученик 4 класса Ивашков Вл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6" descr="C:\Documents and Settings\Admin\Мои документы\Мои рисунки\степь\3524737.jpg"/>
          <p:cNvPicPr/>
          <p:nvPr/>
        </p:nvPicPr>
        <p:blipFill>
          <a:blip r:embed="rId1"/>
          <a:stretch/>
        </p:blipFill>
        <p:spPr>
          <a:xfrm rot="21258600">
            <a:off x="162000" y="1641240"/>
            <a:ext cx="4452840" cy="34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Admin\Мои документы\Мои рисунки\степь\13A5.GIF"/>
          <p:cNvPicPr/>
          <p:nvPr/>
        </p:nvPicPr>
        <p:blipFill>
          <a:blip r:embed="rId2"/>
          <a:stretch/>
        </p:blipFill>
        <p:spPr>
          <a:xfrm>
            <a:off x="1076400" y="6232680"/>
            <a:ext cx="70488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2" descr=""/>
          <p:cNvPicPr/>
          <p:nvPr/>
        </p:nvPicPr>
        <p:blipFill>
          <a:blip r:embed="rId3"/>
          <a:stretch/>
        </p:blipFill>
        <p:spPr>
          <a:xfrm>
            <a:off x="1133640" y="244440"/>
            <a:ext cx="7072200" cy="1955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5840" y="1357200"/>
            <a:ext cx="4357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- русак считается очень чистоплотным, любит причёсывать шерсть лапами и языком. Живет в степных районах Европы и Малой Азии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йца очень сильно развит слух . Не зря же у него такие большие уши. На кормежку заяц выходит в основном ночью или ранним утром. С наступлением рассвета возвращается к себе в норку или другое укрыт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C:\Documents and Settings\Admin\Мои документы\Мои рисунки\степь\1312268490_16-3.jpg"/>
          <p:cNvPicPr/>
          <p:nvPr/>
        </p:nvPicPr>
        <p:blipFill>
          <a:blip r:embed="rId2"/>
          <a:stretch/>
        </p:blipFill>
        <p:spPr>
          <a:xfrm rot="21058800">
            <a:off x="236160" y="1346040"/>
            <a:ext cx="4678560" cy="3380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1712880" y="-182520"/>
            <a:ext cx="2968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Admin\Рабочий стол\учусь\HAMSTER1.GIF"/>
          <p:cNvPicPr/>
          <p:nvPr/>
        </p:nvPicPr>
        <p:blipFill>
          <a:blip r:embed="rId4"/>
          <a:stretch/>
        </p:blipFill>
        <p:spPr>
          <a:xfrm>
            <a:off x="1071720" y="5929200"/>
            <a:ext cx="571320" cy="66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43320" y="642600"/>
            <a:ext cx="3771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красивый зверек. Его шерстка окрашена в яркие цвета: спинка и бока рыжие, брюшко черное, лапки и нос белые, на груди и боках головы белые пятн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яки вырывают норы, глубиной 2м50 см. В них они устраивают гнездовые камер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лета животные начинают делать запасы на зиму, заполняя свои кладовые зерном, картофелем, морковью, кукурузой и другими продукт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Картинка 174 из 11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C:\Documents and Settings\Admin\Мои документы\Мои рисунки\степь\s3(1).jpg"/>
          <p:cNvPicPr/>
          <p:nvPr/>
        </p:nvPicPr>
        <p:blipFill>
          <a:blip r:embed="rId2"/>
          <a:stretch/>
        </p:blipFill>
        <p:spPr>
          <a:xfrm>
            <a:off x="4286160" y="2928960"/>
            <a:ext cx="476244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" descr=""/>
          <p:cNvPicPr/>
          <p:nvPr/>
        </p:nvPicPr>
        <p:blipFill>
          <a:blip r:embed="rId3"/>
          <a:stretch/>
        </p:blipFill>
        <p:spPr>
          <a:xfrm>
            <a:off x="1652760" y="-208080"/>
            <a:ext cx="5937120" cy="123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Анимашки Животные"/>
          <p:cNvPicPr/>
          <p:nvPr/>
        </p:nvPicPr>
        <p:blipFill>
          <a:blip r:embed="rId4"/>
          <a:stretch/>
        </p:blipFill>
        <p:spPr>
          <a:xfrm>
            <a:off x="0" y="5667480"/>
            <a:ext cx="1647720" cy="11905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250920" y="10526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что волка «ноги кормят». Может пройти до 60–80 км за ночь, пройти с овцой на спине, подолгу голодать. Самый голодный волк может съесть 10 кг мяса за раз, обычно же съедается 2 к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6" descr="C:\Documents and Settings\Admin\Мои документы\Мои рисунки\степь\сурок.jpg"/>
          <p:cNvPicPr/>
          <p:nvPr/>
        </p:nvPicPr>
        <p:blipFill>
          <a:blip r:embed="rId1"/>
          <a:stretch/>
        </p:blipFill>
        <p:spPr>
          <a:xfrm rot="21121800">
            <a:off x="216000" y="1528920"/>
            <a:ext cx="4786200" cy="344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Анимашки Животные"/>
          <p:cNvPicPr/>
          <p:nvPr/>
        </p:nvPicPr>
        <p:blipFill>
          <a:blip r:embed="rId2"/>
          <a:stretch/>
        </p:blipFill>
        <p:spPr>
          <a:xfrm>
            <a:off x="8001000" y="590544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3"/>
          <a:stretch/>
        </p:blipFill>
        <p:spPr>
          <a:xfrm>
            <a:off x="1200240" y="30240"/>
            <a:ext cx="2798640" cy="1208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3280" y="404280"/>
            <a:ext cx="40006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крупным представителем сурков является степной сур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ки строят несколько видов нор - временные, которые необходимы для укрытия от опасностности . Во время кормления сурки несут дозор. Это происходит по очереди. При возникновении малейшей опасности сурок, который находится "на посту", издает громкий свист. После этого он скрывается в ближайшей норе, и его примеру следуют все остальные 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8-02-11T04:44:00Z</dcterms:modified>
  <cp:revision>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240000000000010243100207f6000400038000</vt:lpwstr>
  </property>
</Properties>
</file>