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D3D-D886-4D3C-BC38-DE861D04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8049-63C2-43BE-BA77-48F53C69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C698-C84E-4712-B80F-3FD5A9353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7304-F852-40CA-BD23-CF71FBE43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1BC3-C798-4441-A734-EFA05681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6FE-969A-4E47-8742-DA9F856F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B7D-1370-4ED6-8CE7-C53A2209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C56-4EEB-4C14-A3B0-545188E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D9C-2EF7-4368-905A-E23DBC8C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1465-044E-492B-A574-9DE8634D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6763-35C4-4AFF-9670-5B5D54A6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2D86-0890-4371-9F20-FD2CB4EEC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DFE9-2857-466A-95B4-DBFB45A198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99"/>
                </a:solidFill>
                <a:latin typeface="Calibri"/>
              </a:rPr>
              <a:t>Угадай, чья тен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ий сад № 3 компенсирующего вида г. Можай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одержимое 2"/>
          <p:cNvSpPr/>
          <p:nvPr/>
        </p:nvSpPr>
        <p:spPr>
          <a:xfrm>
            <a:off x="457200" y="43578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Педагог-психо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Полина Юлия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тие внимания, мыш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071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: Посмотри на героев и найди им подходящую т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://4.bp.blogspot.com/-EaQ4tN0wBFI/UR2DaNRFl-I/AAAAAAAAA9g/y1h_pjxn1Qc/s1600/04naidi-ten.png"/>
          <p:cNvPicPr/>
          <p:nvPr/>
        </p:nvPicPr>
        <p:blipFill>
          <a:blip r:embed="rId1"/>
          <a:srcRect l="6632" t="5780" r="7773" b="6101"/>
          <a:stretch/>
        </p:blipFill>
        <p:spPr>
          <a:xfrm>
            <a:off x="2428920" y="571680"/>
            <a:ext cx="4500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http://img1.liveinternet.ru/images/attach/c/7/94/875/94875043_large_19naiditen.png"/>
          <p:cNvPicPr/>
          <p:nvPr/>
        </p:nvPicPr>
        <p:blipFill>
          <a:blip r:embed="rId1"/>
          <a:srcRect l="7177" t="6326" r="7422" b="7181"/>
          <a:stretch/>
        </p:blipFill>
        <p:spPr>
          <a:xfrm>
            <a:off x="2428920" y="500040"/>
            <a:ext cx="43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http://2.bp.blogspot.com/-MOOlHaoIHQE/UR2DdA9jLjI/AAAAAAAAA-w/74W70QSPUOg/s1600/16naidi-ten.png"/>
          <p:cNvPicPr/>
          <p:nvPr/>
        </p:nvPicPr>
        <p:blipFill>
          <a:blip r:embed="rId1"/>
          <a:srcRect l="8504" t="4898" r="6128" b="6706"/>
          <a:stretch/>
        </p:blipFill>
        <p:spPr>
          <a:xfrm>
            <a:off x="2286000" y="428760"/>
            <a:ext cx="46432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img1.liveinternet.ru/images/attach/c/7/94/875/94875041_large_17naiditen.png"/>
          <p:cNvPicPr/>
          <p:nvPr/>
        </p:nvPicPr>
        <p:blipFill>
          <a:blip r:embed="rId1"/>
          <a:srcRect l="6894" t="5229" r="6350" b="6375"/>
          <a:stretch/>
        </p:blipFill>
        <p:spPr>
          <a:xfrm>
            <a:off x="2357280" y="357120"/>
            <a:ext cx="4357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http://cdn5.imgbb.ru/user/135/1359601/201405/0dd481e43ff61eb700a5eb44a65b4d9c.jpg"/>
          <p:cNvPicPr/>
          <p:nvPr/>
        </p:nvPicPr>
        <p:blipFill>
          <a:blip r:embed="rId1"/>
          <a:srcRect l="2400" t="1589" r="2400" b="3453"/>
          <a:stretch/>
        </p:blipFill>
        <p:spPr>
          <a:xfrm>
            <a:off x="1143000" y="1000080"/>
            <a:ext cx="7000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4:58:00Z</dcterms:created>
  <dc:creator>Юлия</dc:creator>
  <dc:description/>
  <dc:language>en-US</dc:language>
  <cp:lastModifiedBy>Юлия</cp:lastModifiedBy>
  <dcterms:modified xsi:type="dcterms:W3CDTF">2018-08-13T15:20:34Z</dcterms:modified>
  <cp:revision>1</cp:revision>
  <dc:subject/>
  <dc:title>Муниципальное дошкольное образовательное учреждение  детский сад № 3 компенсирующего вида г. Можайска</dc:title>
</cp:coreProperties>
</file>