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175-0473-4AFF-A94D-D0E206333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5F0A-A2EF-4E4F-B7AA-723E63A46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6A24-EEFB-4D03-88C3-F196B8CF6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1E7B-7BF9-41E9-A5AA-1C9964CBB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3AC0-1AD1-481F-91AF-8A72A439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4FBA-2BDF-47BF-820B-259166154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B9C3-C6C9-43BD-96B0-8476F49D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D92-F1C3-4AFF-975C-6737C8B3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F566-6E93-4ABC-ABFB-B027F6797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B3CD-3EB0-4D56-999C-5EE6B04E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704D-B973-4BC8-81E4-B9B17C878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920-B044-41F2-BC03-6BDE09E9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>
            <a:alpha val="3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4A62-031C-4084-8096-7834378B3B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1928520"/>
            <a:ext cx="6400800" cy="22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990099"/>
                </a:solidFill>
                <a:latin typeface="Calibri"/>
              </a:rPr>
              <a:t>Угадай, чья тень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685800" y="3567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Муниципальное дошкольное образовательное учреждени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тский сад № 3 компенсирующего вида г. Можайс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одержимое 2"/>
          <p:cNvSpPr/>
          <p:nvPr/>
        </p:nvSpPr>
        <p:spPr>
          <a:xfrm>
            <a:off x="457200" y="4357800"/>
            <a:ext cx="822960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Calibri"/>
              </a:rPr>
              <a:t>Педагог-психолог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Calibri"/>
              </a:rPr>
              <a:t>высшей квалификационной категор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ff00"/>
                </a:solidFill>
                <a:latin typeface="Calibri"/>
              </a:rPr>
              <a:t>Полина Юлия Сергеев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витие внимания, мышления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30715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нструкция: Посмотри на героев и найди им подходящую тен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Содержимое 3" descr="http://4.bp.blogspot.com/-EaQ4tN0wBFI/UR2DaNRFl-I/AAAAAAAAA9g/y1h_pjxn1Qc/s1600/04naidi-ten.png"/>
          <p:cNvPicPr/>
          <p:nvPr/>
        </p:nvPicPr>
        <p:blipFill>
          <a:blip r:embed="rId1"/>
          <a:srcRect l="6632" t="5780" r="7773" b="6101"/>
          <a:stretch/>
        </p:blipFill>
        <p:spPr>
          <a:xfrm>
            <a:off x="2428920" y="571680"/>
            <a:ext cx="450036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Содержимое 3" descr="http://img1.liveinternet.ru/images/attach/c/7/94/875/94875043_large_19naiditen.png"/>
          <p:cNvPicPr/>
          <p:nvPr/>
        </p:nvPicPr>
        <p:blipFill>
          <a:blip r:embed="rId1"/>
          <a:srcRect l="7177" t="6326" r="7422" b="7181"/>
          <a:stretch/>
        </p:blipFill>
        <p:spPr>
          <a:xfrm>
            <a:off x="2428920" y="500040"/>
            <a:ext cx="43578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3" descr="http://2.bp.blogspot.com/-MOOlHaoIHQE/UR2DdA9jLjI/AAAAAAAAA-w/74W70QSPUOg/s1600/16naidi-ten.png"/>
          <p:cNvPicPr/>
          <p:nvPr/>
        </p:nvPicPr>
        <p:blipFill>
          <a:blip r:embed="rId1"/>
          <a:srcRect l="8504" t="4898" r="6128" b="6706"/>
          <a:stretch/>
        </p:blipFill>
        <p:spPr>
          <a:xfrm>
            <a:off x="2286000" y="428760"/>
            <a:ext cx="4643280" cy="61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3" descr="http://img1.liveinternet.ru/images/attach/c/7/94/875/94875041_large_17naiditen.png"/>
          <p:cNvPicPr/>
          <p:nvPr/>
        </p:nvPicPr>
        <p:blipFill>
          <a:blip r:embed="rId1"/>
          <a:srcRect l="6894" t="5229" r="6350" b="6375"/>
          <a:stretch/>
        </p:blipFill>
        <p:spPr>
          <a:xfrm>
            <a:off x="2357280" y="357120"/>
            <a:ext cx="43578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3" descr="http://cdn5.imgbb.ru/user/135/1359601/201405/0dd481e43ff61eb700a5eb44a65b4d9c.jpg"/>
          <p:cNvPicPr/>
          <p:nvPr/>
        </p:nvPicPr>
        <p:blipFill>
          <a:blip r:embed="rId1"/>
          <a:srcRect l="2400" t="1589" r="2400" b="3453"/>
          <a:stretch/>
        </p:blipFill>
        <p:spPr>
          <a:xfrm>
            <a:off x="1143000" y="1000080"/>
            <a:ext cx="70009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64304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Calibri"/>
              </a:rPr>
              <a:t>Молодец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3T14:58:00Z</dcterms:created>
  <dc:creator>Юлия</dc:creator>
  <dc:description/>
  <dc:language>en-US</dc:language>
  <cp:lastModifiedBy>Юлия</cp:lastModifiedBy>
  <dcterms:modified xsi:type="dcterms:W3CDTF">2018-08-13T15:20:34Z</dcterms:modified>
  <cp:revision>1</cp:revision>
  <dc:subject/>
  <dc:title>Муниципальное дошкольное образовательное учреждение  детский сад № 3 компенсирующего вида г. Можайска</dc:title>
</cp:coreProperties>
</file>