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28B4-2144-410E-A1F2-010C03EB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3A5F-A0CE-4065-BA20-E832E36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401F-621E-4197-91F9-9EB06699F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F5E4-2B09-4A9F-9456-8446A78D1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A1F-ED9A-4FE9-93FD-CA895ECD3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3191-D23A-41E4-8230-7E18B7D09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A8EE-CBDB-4987-B2DA-534D4F93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7B3D-5D46-4C18-BEBB-8880205A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B0BF-257F-41E5-81A4-FE8984B04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28F2-57E4-4347-8762-A871DFE5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2367-6901-48F6-BFB7-40978DA7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D060-8164-4556-922B-A14BF197C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6DB4-CB0A-4F1C-B5AD-BA00E53F68D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57200" y="691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«Встреч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музыкальными жанрами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емя китами</a:t>
            </a: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для детей старших груп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http://cosmicthings.ru/uploads/images/t/r/i/tri_kita.jpg"/>
          <p:cNvPicPr/>
          <p:nvPr/>
        </p:nvPicPr>
        <p:blipFill>
          <a:blip r:embed="rId1"/>
          <a:stretch/>
        </p:blipFill>
        <p:spPr>
          <a:xfrm>
            <a:off x="826920" y="907920"/>
            <a:ext cx="743616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57200" y="47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 музыкальном океа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реди звуков музыкаль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и больших кита живу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х по разному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Admin\Desktop\3 кита\киты\кит марш.jpg"/>
          <p:cNvPicPr/>
          <p:nvPr/>
        </p:nvPicPr>
        <p:blipFill>
          <a:blip r:embed="rId1"/>
          <a:stretch/>
        </p:blipFill>
        <p:spPr>
          <a:xfrm>
            <a:off x="1849320" y="1844640"/>
            <a:ext cx="1584360" cy="2570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\Desktop\3 кита\киты\кит танец (2).jpg"/>
          <p:cNvPicPr/>
          <p:nvPr/>
        </p:nvPicPr>
        <p:blipFill>
          <a:blip r:embed="rId2"/>
          <a:stretch/>
        </p:blipFill>
        <p:spPr>
          <a:xfrm>
            <a:off x="3537000" y="3622680"/>
            <a:ext cx="1584360" cy="2347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\Desktop\3 кита\киты\кит песня.jpg"/>
          <p:cNvPicPr/>
          <p:nvPr/>
        </p:nvPicPr>
        <p:blipFill>
          <a:blip r:embed="rId3"/>
          <a:stretch/>
        </p:blipFill>
        <p:spPr>
          <a:xfrm>
            <a:off x="250920" y="189000"/>
            <a:ext cx="15224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КИТ 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95280" y="1599840"/>
            <a:ext cx="469116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рвый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зове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МАРШ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огда его ты повстречаеш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ним весело ты зашага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а месте ноги не сто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Маршировать они хотя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Admin\Desktop\3 кита\киты\кит марш.jpg"/>
          <p:cNvPicPr/>
          <p:nvPr/>
        </p:nvPicPr>
        <p:blipFill>
          <a:blip r:embed="rId1"/>
          <a:stretch/>
        </p:blipFill>
        <p:spPr>
          <a:xfrm>
            <a:off x="457200" y="1268280"/>
            <a:ext cx="30243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3 богатыря А.С.Пушкин Римский-Корсаков.mp4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4072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72748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f0"/>
                </a:solidFill>
                <a:latin typeface="Arial"/>
              </a:rPr>
              <a:t>КИТ 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\Desktop\3 кита\киты\кит песня.jpg"/>
          <p:cNvPicPr/>
          <p:nvPr/>
        </p:nvPicPr>
        <p:blipFill>
          <a:blip r:embed="rId1"/>
          <a:stretch/>
        </p:blipFill>
        <p:spPr>
          <a:xfrm>
            <a:off x="250920" y="1197000"/>
            <a:ext cx="2592360" cy="43815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3419640" y="1382760"/>
            <a:ext cx="4759200" cy="355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 второй зове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ЕС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песни ты поешь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начит, весело живе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ит  нам песни сочиня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учить их помога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Arial"/>
              </a:rPr>
              <a:t>КИТ ТАНЕ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850920" y="1197000"/>
            <a:ext cx="4465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Третий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Кит </a:t>
            </a: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овётся </a:t>
            </a: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ТАНЕЦ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любишь танце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го надо повстре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од музыку в танце закружиш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 китом этим сразу подруж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C:\Users\Admin\Desktop\3 кита\киты\кит танец (2).jpg"/>
          <p:cNvPicPr/>
          <p:nvPr/>
        </p:nvPicPr>
        <p:blipFill>
          <a:blip r:embed="rId1"/>
          <a:stretch/>
        </p:blipFill>
        <p:spPr>
          <a:xfrm>
            <a:off x="480960" y="1303200"/>
            <a:ext cx="29797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Ваьс цветов П.И.Чайковского.mp4" descr=""/>
          <p:cNvPicPr/>
          <p:nvPr/>
        </p:nvPicPr>
        <p:blipFill>
          <a:blip r:embed="rId1"/>
          <a:stretch/>
        </p:blipFill>
        <p:spPr>
          <a:xfrm>
            <a:off x="696960" y="620640"/>
            <a:ext cx="7835760" cy="45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2" dur="3297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7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Если будешь с Китами дружить –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можешь музыку ты полюбить!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Будешь музыку ты понимать –</a:t>
            </a: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еть красиво, шагать, танцевать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http://cosmicthings.ru/uploads/images/t/r/i/tri_kita.jpg"/>
          <p:cNvPicPr/>
          <p:nvPr/>
        </p:nvPicPr>
        <p:blipFill>
          <a:blip r:embed="rId1"/>
          <a:stretch/>
        </p:blipFill>
        <p:spPr>
          <a:xfrm>
            <a:off x="1457280" y="2595600"/>
            <a:ext cx="6229440" cy="28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HP</cp:lastModifiedBy>
  <dcterms:modified xsi:type="dcterms:W3CDTF">2017-09-23T14:32:26Z</dcterms:modified>
  <cp:revision>456</cp:revision>
  <dc:subject/>
  <dc:title>Diapositiva 1</dc:title>
</cp:coreProperties>
</file>