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633-70A0-473F-838C-5F97272A4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5C72-4BCA-42E0-AF81-BC584B1C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0E45-552C-483C-966C-63D4D9D4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9E34-EB42-4C30-A013-722008482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75FB-F3A0-4110-B7B4-F48FF82E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5757-70EB-4FAB-BA83-6E863CD3E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73F-CEFB-4208-B1C2-166747F09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54F8-8D50-4FC7-9640-4FD5023C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0F15-7B43-4D0A-8659-348DF988B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FF6-D642-4F22-A1B0-BFBC018E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7FA9-B1E6-403D-94AE-D49BE464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7BE3-CE72-404D-9F78-51432E8A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B5891-F122-45ED-BCDD-D71A4BB9A4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691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Встреч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 музыкальными жанрами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ремя китами</a:t>
            </a: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ля детей старших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ttp://cosmicthings.ru/uploads/images/t/r/i/tri_kita.jpg"/>
          <p:cNvPicPr/>
          <p:nvPr/>
        </p:nvPicPr>
        <p:blipFill>
          <a:blip r:embed="rId1"/>
          <a:stretch/>
        </p:blipFill>
        <p:spPr>
          <a:xfrm>
            <a:off x="826920" y="907920"/>
            <a:ext cx="74361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7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музыкальном оке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реди звуков музыка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ри больших кита живу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х по разному зов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Admin\Desktop\3 кита\киты\кит марш.jpg"/>
          <p:cNvPicPr/>
          <p:nvPr/>
        </p:nvPicPr>
        <p:blipFill>
          <a:blip r:embed="rId1"/>
          <a:stretch/>
        </p:blipFill>
        <p:spPr>
          <a:xfrm>
            <a:off x="1849320" y="1844640"/>
            <a:ext cx="1584360" cy="257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Admin\Desktop\3 кита\киты\кит танец (2).jpg"/>
          <p:cNvPicPr/>
          <p:nvPr/>
        </p:nvPicPr>
        <p:blipFill>
          <a:blip r:embed="rId2"/>
          <a:stretch/>
        </p:blipFill>
        <p:spPr>
          <a:xfrm>
            <a:off x="3537000" y="3622680"/>
            <a:ext cx="1584360" cy="23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Admin\Desktop\3 кита\киты\кит песня.jpg"/>
          <p:cNvPicPr/>
          <p:nvPr/>
        </p:nvPicPr>
        <p:blipFill>
          <a:blip r:embed="rId3"/>
          <a:stretch/>
        </p:blipFill>
        <p:spPr>
          <a:xfrm>
            <a:off x="250920" y="189000"/>
            <a:ext cx="15224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"/>
              </a:rPr>
              <a:t>КИТ МАР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95280" y="1599840"/>
            <a:ext cx="46911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ервый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ит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зовется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АР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огда его ты повстречае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 ним весело ты зашаг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 месте ноги не сто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аршировать они хот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Admin\Desktop\3 кита\киты\кит марш.jpg"/>
          <p:cNvPicPr/>
          <p:nvPr/>
        </p:nvPicPr>
        <p:blipFill>
          <a:blip r:embed="rId1"/>
          <a:stretch/>
        </p:blipFill>
        <p:spPr>
          <a:xfrm>
            <a:off x="457200" y="1268280"/>
            <a:ext cx="3024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3 богатыря А.С.Пушкин Римский-Корсаков.mp4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4072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7274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КИТ ПЕС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Admin\Desktop\3 кита\киты\кит песня.jpg"/>
          <p:cNvPicPr/>
          <p:nvPr/>
        </p:nvPicPr>
        <p:blipFill>
          <a:blip r:embed="rId1"/>
          <a:stretch/>
        </p:blipFill>
        <p:spPr>
          <a:xfrm>
            <a:off x="250920" y="1197000"/>
            <a:ext cx="2592360" cy="438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419640" y="1382760"/>
            <a:ext cx="4759200" cy="35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ит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второй зовется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ЕС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сли песни ты поеш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начит, весело жив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ит  нам песни сочин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 учить их помог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"/>
              </a:rPr>
              <a:t>КИТ ТА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50920" y="1197000"/>
            <a:ext cx="4465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ретий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ит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овётся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АН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сли любишь танце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го надо повстре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д музыку в танце закружиш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 китом этим сразу подружиш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Admin\Desktop\3 кита\киты\кит танец (2).jpg"/>
          <p:cNvPicPr/>
          <p:nvPr/>
        </p:nvPicPr>
        <p:blipFill>
          <a:blip r:embed="rId1"/>
          <a:stretch/>
        </p:blipFill>
        <p:spPr>
          <a:xfrm>
            <a:off x="480960" y="1303200"/>
            <a:ext cx="297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Ваьс цветов П.И.Чайковского.mp4" descr=""/>
          <p:cNvPicPr/>
          <p:nvPr/>
        </p:nvPicPr>
        <p:blipFill>
          <a:blip r:embed="rId1"/>
          <a:stretch/>
        </p:blipFill>
        <p:spPr>
          <a:xfrm>
            <a:off x="696960" y="620640"/>
            <a:ext cx="78357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3297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7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сли будешь с Китами дружить –</a:t>
            </a:r>
            <a:br>
              <a:rPr sz="3200"/>
            </a:b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можешь музыку ты полюбить!</a:t>
            </a:r>
            <a:br>
              <a:rPr sz="3200"/>
            </a:b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удешь музыку ты понимать –</a:t>
            </a:r>
            <a:br>
              <a:rPr sz="3200"/>
            </a:b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еть красиво, шагать, танцевать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cosmicthings.ru/uploads/images/t/r/i/tri_kita.jpg"/>
          <p:cNvPicPr/>
          <p:nvPr/>
        </p:nvPicPr>
        <p:blipFill>
          <a:blip r:embed="rId1"/>
          <a:stretch/>
        </p:blipFill>
        <p:spPr>
          <a:xfrm>
            <a:off x="1457280" y="2595600"/>
            <a:ext cx="62294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P</cp:lastModifiedBy>
  <dcterms:modified xsi:type="dcterms:W3CDTF">2017-09-23T14:32:26Z</dcterms:modified>
  <cp:revision>456</cp:revision>
  <dc:subject/>
  <dc:title>Diapositiva 1</dc:title>
</cp:coreProperties>
</file>