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8.gif" ContentType="image/gif"/>
  <Override PartName="/ppt/media/image5.jpeg" ContentType="image/jpeg"/>
  <Override PartName="/ppt/media/image7.wmf" ContentType="image/x-wmf"/>
  <Override PartName="/ppt/media/image19.gif" ContentType="image/gif"/>
  <Override PartName="/ppt/media/image17.jpeg" ContentType="image/jpeg"/>
  <Override PartName="/ppt/media/image16.png" ContentType="image/png"/>
  <Override PartName="/ppt/media/image14.jpeg" ContentType="image/jpeg"/>
  <Override PartName="/ppt/media/image2.wmf" ContentType="image/x-wmf"/>
  <Override PartName="/ppt/media/image3.wmf" ContentType="image/x-wmf"/>
  <Override PartName="/ppt/media/image18.gif" ContentType="image/gif"/>
  <Override PartName="/ppt/media/image13.jpeg" ContentType="image/jpeg"/>
  <Override PartName="/ppt/media/image1.jpeg" ContentType="image/jpeg"/>
  <Override PartName="/ppt/media/image15.wmf" ContentType="image/x-wmf"/>
  <Override PartName="/ppt/media/image4.gif" ContentType="image/gif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3E6C-1AE6-44EF-941A-273F4FD7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497C-9E54-4DF2-84DF-41558E86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3253-FD88-4596-B575-E374DA4E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C432-CE3F-46D1-8539-E166E9F9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04E2-45B9-4009-B817-6846E9DE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5DD2-6F90-43E5-B4E0-526E63A3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D9B6-D9DB-4CC3-8141-A0F72B35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CDAA-60A9-46AF-844D-47C8FA6D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DAB1-09C3-4181-9836-B87E5DAB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CB64-FD23-4E14-854E-09A147BA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D053-EFEC-432E-B728-575ED17F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AF38-8C4C-492E-8B86-DF45C2E3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5461-1BE5-4A2F-95B0-00D27D5E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E3D8-7DF3-4179-A2AD-50A1F9E4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79F2-C2A1-419A-91C0-D26D758D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6B38-585B-4543-8295-D510D291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3EA7-7C7E-4228-8124-48824B26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AA4F-F6E3-4A67-AD56-A6CF3FF2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C1E3-E878-46BE-BCD3-1A461C5E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BCE4-C6BA-4500-B3D6-17002355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116E-F9EB-4C61-B602-5BA5B451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2953-47B8-4B18-BC05-1C6D640E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D68B-F51A-42CC-80C7-82944E68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8FC0-AF3B-420B-B7F4-2801E372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7ec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fa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dfa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faf">
                    <a:alpha val="0"/>
                  </a:srgbClr>
                </a:gs>
                <a:gs pos="100000">
                  <a:srgbClr val="d1b78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3b9"/>
                </a:gs>
                <a:gs pos="100000">
                  <a:srgbClr val="ffdf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e3b9"/>
                </a:gs>
                <a:gs pos="100000">
                  <a:srgbClr val="ffdfa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faf">
                    <a:alpha val="0"/>
                  </a:srgbClr>
                </a:gs>
                <a:gs pos="100000">
                  <a:srgbClr val="d1b78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3b9"/>
                </a:gs>
                <a:gs pos="100000">
                  <a:srgbClr val="ffdfaf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9EDD-C672-4A1C-A292-EE43B98CFB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7ec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dfa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fa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faf">
                    <a:alpha val="0"/>
                  </a:srgbClr>
                </a:gs>
                <a:gs pos="100000">
                  <a:srgbClr val="d1b78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faf">
                    <a:alpha val="0"/>
                  </a:srgbClr>
                </a:gs>
                <a:gs pos="100000">
                  <a:srgbClr val="d1b78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3b9"/>
                </a:gs>
                <a:gs pos="100000">
                  <a:srgbClr val="ffdfa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3b9"/>
                </a:gs>
                <a:gs pos="100000">
                  <a:srgbClr val="ffdfa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949F-12F6-4ABB-B151-D0C747FBE97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125000"/>
            <a:ext cx="8007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Чтобы сильным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Крепким быть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Надо овощи любить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Все ,без исключения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В этом нет сомнения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769080" cy="48387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        </a:t>
            </a: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Готовим вместе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38" name="Picture 2" descr="C:\Documents and Settings\Салтыкова Л А\Рабочий стол\на СЕГОДНЯ\классный час\Food_Bread_rolls_croissants_White_bread_and_French_pastries_012829_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C:\Documents and Settings\Салтыкова Л А\Рабочий стол\на СЕГОДНЯ\классный час\0b0f9733b04ba96b42d75eb95ca111b5.jpg"/>
          <p:cNvPicPr/>
          <p:nvPr/>
        </p:nvPicPr>
        <p:blipFill>
          <a:blip r:embed="rId1"/>
          <a:stretch/>
        </p:blipFill>
        <p:spPr>
          <a:xfrm>
            <a:off x="285840" y="142920"/>
            <a:ext cx="864396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       </a:t>
            </a: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О напитках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На 70% человек состоит из воды. Без воды мы можем прожить 2-3 дня.      Самый распространённый напиток в России -чай. Чаю более 5 тысяч лет, но    у    нас    он    стал    популярен сравнительно недавно. Наши предки пили морсы, рассолы, квас, сбитень (медовый напиток), кис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45" name="Picture 2" descr="C:\Documents and Settings\Салтыкова Л А\Рабочий стол\на СЕГОДНЯ\классный час\img825189_6_Optovyiy_postavschik_fruktov.jpg"/>
          <p:cNvPicPr/>
          <p:nvPr/>
        </p:nvPicPr>
        <p:blipFill>
          <a:blip r:embed="rId1"/>
          <a:srcRect l="0" t="0" r="0" b="9656"/>
          <a:stretch/>
        </p:blipFill>
        <p:spPr>
          <a:xfrm>
            <a:off x="214200" y="142920"/>
            <a:ext cx="5272200" cy="3929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Documents and Settings\Салтыкова Л А\Рабочий стол\на СЕГОДНЯ\классный час\8105389.jpg"/>
          <p:cNvPicPr/>
          <p:nvPr/>
        </p:nvPicPr>
        <p:blipFill>
          <a:blip r:embed="rId2"/>
          <a:stretch/>
        </p:blipFill>
        <p:spPr>
          <a:xfrm>
            <a:off x="3929040" y="2857680"/>
            <a:ext cx="5056200" cy="37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С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Ф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Я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Й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Ц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Ы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Р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Х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С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К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И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Ю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У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Н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О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В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О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М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К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Т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Ы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Ю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Щ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З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В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О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П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П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И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М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О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Л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О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К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О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          </a:t>
            </a:r>
            <a:r>
              <a:rPr b="1" lang="ru-RU" sz="4800" spc="-1" strike="noStrike">
                <a:solidFill>
                  <a:srgbClr val="cc6600"/>
                </a:solidFill>
                <a:latin typeface="Arial Black"/>
              </a:rPr>
              <a:t>Ужин</a:t>
            </a:r>
            <a:endParaRPr b="1" lang="en-US" sz="48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59280" y="1699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Сы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Молоко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Овощ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Яйц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Фрук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Object 5"/>
          <p:cNvGraphicFramePr/>
          <p:nvPr/>
        </p:nvGraphicFramePr>
        <p:xfrm>
          <a:off x="1258920" y="1700280"/>
          <a:ext cx="2841480" cy="38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00280"/>
                    <a:ext cx="284148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53" name="Большой детский хор - На зарядку становись  (audiopoisk.com).mp3" descr=""/>
          <p:cNvPicPr/>
          <p:nvPr/>
        </p:nvPicPr>
        <p:blipFill>
          <a:blip r:embed="rId1"/>
          <a:stretch/>
        </p:blipFill>
        <p:spPr>
          <a:xfrm>
            <a:off x="7786800" y="1000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503280" y="333360"/>
            <a:ext cx="802944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98005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195640" y="2205000"/>
            <a:ext cx="664992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Здоровья вам отменного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Поведения примерного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Учения отличного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Везения приличного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1solnihko"/>
          <p:cNvPicPr/>
          <p:nvPr/>
        </p:nvPicPr>
        <p:blipFill>
          <a:blip r:embed="rId1"/>
          <a:stretch/>
        </p:blipFill>
        <p:spPr>
          <a:xfrm>
            <a:off x="4572000" y="0"/>
            <a:ext cx="2448000" cy="2060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80"/>
          <p:cNvPicPr/>
          <p:nvPr/>
        </p:nvPicPr>
        <p:blipFill>
          <a:blip r:embed="rId2"/>
          <a:stretch/>
        </p:blipFill>
        <p:spPr>
          <a:xfrm flipH="1">
            <a:off x="0" y="2565360"/>
            <a:ext cx="2448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6600"/>
                </a:solidFill>
                <a:latin typeface="Arial Black"/>
              </a:rPr>
              <a:t>Здоровое питание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44a06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744a06"/>
                </a:solidFill>
                <a:latin typeface="Arial"/>
              </a:rPr>
              <a:t>Выполнила: Салтыкова Л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44a06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744a06"/>
                </a:solidFill>
                <a:latin typeface="Arial"/>
              </a:rPr>
              <a:t>МБОУ «Партизанская СОШ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              </a:t>
            </a:r>
            <a:r>
              <a:rPr b="1" lang="ru-RU" sz="4800" spc="-1" strike="noStrike">
                <a:solidFill>
                  <a:srgbClr val="cc6600"/>
                </a:solidFill>
                <a:latin typeface="Arial Black"/>
              </a:rPr>
              <a:t>Завтрак</a:t>
            </a:r>
            <a:endParaRPr b="1" lang="en-US" sz="4800" spc="-1" strike="noStrike">
              <a:solidFill>
                <a:srgbClr val="cc6600"/>
              </a:solidFill>
              <a:latin typeface="Arial Black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2771640" y="1773360"/>
          <a:ext cx="3024360" cy="41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773360"/>
                    <a:ext cx="302436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7"/>
          <p:cNvGraphicFramePr/>
          <p:nvPr/>
        </p:nvGraphicFramePr>
        <p:xfrm>
          <a:off x="2987640" y="1557360"/>
          <a:ext cx="1438200" cy="15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1557360"/>
                    <a:ext cx="143820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9" descr="AG00040_"/>
          <p:cNvPicPr/>
          <p:nvPr/>
        </p:nvPicPr>
        <p:blipFill>
          <a:blip r:embed="rId5"/>
          <a:stretch/>
        </p:blipFill>
        <p:spPr>
          <a:xfrm>
            <a:off x="1116000" y="476280"/>
            <a:ext cx="12193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2" descr="C:\Documents and Settings\Салтыкова Л А\Рабочий стол\на СЕГОДНЯ\классный час\kasha_s_yagodami[1].jpg"/>
          <p:cNvPicPr/>
          <p:nvPr/>
        </p:nvPicPr>
        <p:blipFill>
          <a:blip r:embed="rId1"/>
          <a:stretch/>
        </p:blipFill>
        <p:spPr>
          <a:xfrm>
            <a:off x="1571760" y="142920"/>
            <a:ext cx="585792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64000" y="1915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ЗЕРНО, КР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Пшен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манная круп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пшеничная круп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овсяные хлопь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гре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3348000" y="1989000"/>
            <a:ext cx="1343160" cy="4257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60" y="2707920"/>
            <a:ext cx="2448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РАСТ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прос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пшен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овё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гречих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4284720" y="2781360"/>
            <a:ext cx="1150920" cy="360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 flipV="1">
            <a:off x="4067280" y="3645000"/>
            <a:ext cx="1368360" cy="288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 flipV="1">
            <a:off x="4500720" y="5373360"/>
            <a:ext cx="792000" cy="431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1908000" y="5084640"/>
            <a:ext cx="158436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20"/>
          <p:cNvSpPr/>
          <p:nvPr/>
        </p:nvSpPr>
        <p:spPr>
          <a:xfrm>
            <a:off x="4067280" y="3933720"/>
            <a:ext cx="1368360" cy="4320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>
            <a:off x="4284720" y="4653000"/>
            <a:ext cx="1222200" cy="73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22"/>
          <p:cNvSpPr/>
          <p:nvPr/>
        </p:nvSpPr>
        <p:spPr>
          <a:xfrm>
            <a:off x="2124000" y="4005360"/>
            <a:ext cx="1368360" cy="144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 flipV="1">
            <a:off x="1547640" y="2852280"/>
            <a:ext cx="1944720" cy="647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4"/>
          <p:cNvSpPr/>
          <p:nvPr/>
        </p:nvSpPr>
        <p:spPr>
          <a:xfrm>
            <a:off x="1403280" y="4581360"/>
            <a:ext cx="1944720" cy="360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   </a:t>
            </a:r>
            <a:r>
              <a:rPr b="1" lang="ru-RU" sz="5400" spc="-1" strike="noStrike">
                <a:solidFill>
                  <a:srgbClr val="cc6600"/>
                </a:solidFill>
                <a:latin typeface="Arial Black"/>
              </a:rPr>
              <a:t>Мы любим каши!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71680" y="1785960"/>
          <a:ext cx="8007120" cy="2494080"/>
        </p:xfrm>
        <a:graphic>
          <a:graphicData uri="http://schemas.openxmlformats.org/drawingml/2006/table">
            <a:tbl>
              <a:tblPr/>
              <a:tblGrid>
                <a:gridCol w="1601640"/>
                <a:gridCol w="1601640"/>
                <a:gridCol w="1600200"/>
                <a:gridCol w="1602000"/>
                <a:gridCol w="16016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 мест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 ме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3 ме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Всего голо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a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Рисов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Гречнев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f2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Ман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Овсян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f2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Пшён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-387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  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00712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Каша- исконно русское блюдо. Самые древние каши- пшеничная, манная, овсяная. Каши очень полезное блюдо, недаром про слабых людей говорят «Мало каши ел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В старину у русских князей существовал обычай – в знак примирения варить кашу. С тех пор про несговорчивых людей говорят: «С ним каши не сваришь». Крестьяне варили кашу из тык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               </a:t>
            </a:r>
            <a:r>
              <a:rPr b="1" lang="ru-RU" sz="6000" spc="-1" strike="noStrike">
                <a:solidFill>
                  <a:srgbClr val="cc6600"/>
                </a:solidFill>
                <a:latin typeface="Arial Black"/>
              </a:rPr>
              <a:t>Обед </a:t>
            </a:r>
            <a:endParaRPr b="1" lang="en-US" sz="6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29" name="Picture 4" descr="HH01923_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619280" y="1773360"/>
            <a:ext cx="5473800" cy="4103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AG00174_"/>
          <p:cNvPicPr/>
          <p:nvPr/>
        </p:nvPicPr>
        <p:blipFill>
          <a:blip r:embed="rId2"/>
          <a:stretch/>
        </p:blipFill>
        <p:spPr>
          <a:xfrm>
            <a:off x="1332000" y="404640"/>
            <a:ext cx="12906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xit" presetID="5" presetSubtype="10">
                                  <p:stCondLst>
                                    <p:cond delay="5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4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32" name="Picture 4" descr="C:\Documents and Settings\Салтыкова Л А\Рабочий стол\на СЕГОДНЯ\классный час\1274807593_supermarket-13.jpg"/>
          <p:cNvPicPr/>
          <p:nvPr/>
        </p:nvPicPr>
        <p:blipFill>
          <a:blip r:embed="rId1"/>
          <a:stretch/>
        </p:blipFill>
        <p:spPr>
          <a:xfrm>
            <a:off x="357120" y="285840"/>
            <a:ext cx="829476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1:58:30Z</dcterms:created>
  <dc:creator>Vlad</dc:creator>
  <dc:description/>
  <dc:language>en-US</dc:language>
  <cp:lastModifiedBy>Антон Салтыков</cp:lastModifiedBy>
  <dcterms:modified xsi:type="dcterms:W3CDTF">2018-08-13T16:28:05Z</dcterms:modified>
  <cp:revision>29</cp:revision>
  <dc:subject/>
  <dc:title>Здоровое питание</dc:title>
</cp:coreProperties>
</file>