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5.jpeg" ContentType="image/jpeg"/>
  <Override PartName="/ppt/media/image7.wmf" ContentType="image/x-wmf"/>
  <Override PartName="/ppt/media/image19.gif" ContentType="image/gif"/>
  <Override PartName="/ppt/media/image17.jpeg" ContentType="image/jpeg"/>
  <Override PartName="/ppt/media/image16.png" ContentType="image/png"/>
  <Override PartName="/ppt/media/image14.jpeg" ContentType="image/jpeg"/>
  <Override PartName="/ppt/media/image2.wmf" ContentType="image/x-wmf"/>
  <Override PartName="/ppt/media/image3.wmf" ContentType="image/x-wmf"/>
  <Override PartName="/ppt/media/image18.gif" ContentType="image/gif"/>
  <Override PartName="/ppt/media/image13.jpeg" ContentType="image/jpeg"/>
  <Override PartName="/ppt/media/image1.jpeg" ContentType="image/jpeg"/>
  <Override PartName="/ppt/media/image15.wmf" ContentType="image/x-wmf"/>
  <Override PartName="/ppt/media/image4.gif" ContentType="image/gif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E42-5F8C-41CE-A7E4-CEC7B3B4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ECC-4B86-403C-AE59-22985C0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D27-6C56-4C0D-9C72-308A3847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C14-7176-4452-B19D-2E42C963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8136-C800-4B03-B206-B5481ECC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7EBF-E86A-4D66-AE48-9679B962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A70F-37BE-4D08-AE0C-7F89ECB5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1C20-156A-4589-9123-97D1D329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2BDA-7FB6-45A5-BF4D-4929AEFB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9407-453C-4CA3-ACC2-0DD5CB6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06E7-2B97-46AC-A556-99ED90E9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A9B-1100-457B-A939-44BB4157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A430-3C40-4F5E-A307-5A02227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37E3-C52D-47BF-B75F-D05C6B3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E332-F65A-4B6E-B77D-DC510465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1AB4-3E5A-4DFD-AF43-3B54FA4B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ECC8-5636-4981-BE8C-B02C0520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AF2-0598-40E3-A102-03EE416F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D5F-2E03-478C-9113-CB95BBF9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7B5-1072-43DF-9B55-110D784C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160-ADA7-4017-8024-FA4229E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C69-9850-4D11-ADFB-624CB380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AEF-380C-4086-B40F-740B2104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499-02A0-41E4-A08E-2D7E03ED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7ec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df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faf">
                    <a:alpha val="0"/>
                  </a:srgbClr>
                </a:gs>
                <a:gs pos="100000">
                  <a:srgbClr val="d1b78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faf">
                    <a:alpha val="0"/>
                  </a:srgbClr>
                </a:gs>
                <a:gs pos="100000">
                  <a:srgbClr val="d1b78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3D72-5AA6-435D-9721-DCFA9E896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7ec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df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a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faf">
                    <a:alpha val="0"/>
                  </a:srgbClr>
                </a:gs>
                <a:gs pos="100000">
                  <a:srgbClr val="d1b78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faf">
                    <a:alpha val="0"/>
                  </a:srgbClr>
                </a:gs>
                <a:gs pos="100000">
                  <a:srgbClr val="d1b78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3b9"/>
                </a:gs>
                <a:gs pos="100000">
                  <a:srgbClr val="ffdfa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3E7B-AD8D-4927-8A08-9AF708AE9A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Чтобы сильны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Крепким бы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Надо овощи люби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Все ,без исключени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В этом нет сомнени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769080" cy="4838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Готовим вместе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8" name="Picture 2" descr="C:\Documents and Settings\Салтыкова Л А\Рабочий стол\на СЕГОДНЯ\классный час\Food_Bread_rolls_croissants_White_bread_and_French_pastries_012829_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C:\Documents and Settings\Салтыкова Л А\Рабочий стол\на СЕГОДНЯ\классный час\0b0f9733b04ba96b42d75eb95ca111b5.jpg"/>
          <p:cNvPicPr/>
          <p:nvPr/>
        </p:nvPicPr>
        <p:blipFill>
          <a:blip r:embed="rId1"/>
          <a:stretch/>
        </p:blipFill>
        <p:spPr>
          <a:xfrm>
            <a:off x="285840" y="142920"/>
            <a:ext cx="86439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 напитках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На 70% человек состоит из воды. Без воды мы можем прожить 2-3 дня.      Самый распространённый напиток в России -чай. Чаю более 5 тысяч лет, но    у    нас    он    стал    популярен сравнительно недавно. Наши предки пили морсы, рассолы, квас, сбитень (медовый напиток), кис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45" name="Picture 2" descr="C:\Documents and Settings\Салтыкова Л А\Рабочий стол\на СЕГОДНЯ\классный час\img825189_6_Optovyiy_postavschik_fruktov.jpg"/>
          <p:cNvPicPr/>
          <p:nvPr/>
        </p:nvPicPr>
        <p:blipFill>
          <a:blip r:embed="rId1"/>
          <a:srcRect l="0" t="0" r="0" b="9656"/>
          <a:stretch/>
        </p:blipFill>
        <p:spPr>
          <a:xfrm>
            <a:off x="214200" y="142920"/>
            <a:ext cx="5272200" cy="392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Салтыкова Л А\Рабочий стол\на СЕГОДНЯ\классный час\8105389.jpg"/>
          <p:cNvPicPr/>
          <p:nvPr/>
        </p:nvPicPr>
        <p:blipFill>
          <a:blip r:embed="rId2"/>
          <a:stretch/>
        </p:blipFill>
        <p:spPr>
          <a:xfrm>
            <a:off x="3929040" y="2857680"/>
            <a:ext cx="5056200" cy="37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С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Ф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Я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Й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Ц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А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Ы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Р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Х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С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И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Ю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У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Н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М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Т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Ы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Ю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Щ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З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П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П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И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М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Л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Ужин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Сы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Молоко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Овощ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Яй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Фрук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1258920" y="1700280"/>
          <a:ext cx="284148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28414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3" name="Большой детский хор - На зарядку становись  (audiopoisk.com).mp3" descr=""/>
          <p:cNvPicPr/>
          <p:nvPr/>
        </p:nvPicPr>
        <p:blipFill>
          <a:blip r:embed="rId1"/>
          <a:stretch/>
        </p:blipFill>
        <p:spPr>
          <a:xfrm>
            <a:off x="7786800" y="100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03280" y="333360"/>
            <a:ext cx="80294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9800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95640" y="2205000"/>
            <a:ext cx="66499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Здоровья вам отмен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Поведения пример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Учения отлич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Везения приличног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1solnihko"/>
          <p:cNvPicPr/>
          <p:nvPr/>
        </p:nvPicPr>
        <p:blipFill>
          <a:blip r:embed="rId1"/>
          <a:stretch/>
        </p:blipFill>
        <p:spPr>
          <a:xfrm>
            <a:off x="4572000" y="0"/>
            <a:ext cx="2448000" cy="2060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80"/>
          <p:cNvPicPr/>
          <p:nvPr/>
        </p:nvPicPr>
        <p:blipFill>
          <a:blip r:embed="rId2"/>
          <a:stretch/>
        </p:blipFill>
        <p:spPr>
          <a:xfrm flipH="1">
            <a:off x="0" y="2565360"/>
            <a:ext cx="2448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Здоровое питание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44a06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744a06"/>
                </a:solidFill>
                <a:latin typeface="Arial"/>
              </a:rPr>
              <a:t>Выполнила: Салтыкова Л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44a06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744a06"/>
                </a:solidFill>
                <a:latin typeface="Arial"/>
              </a:rPr>
              <a:t>МБОУ «Партизан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Завтрак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771640" y="1773360"/>
          <a:ext cx="302436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773360"/>
                    <a:ext cx="302436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7"/>
          <p:cNvGraphicFramePr/>
          <p:nvPr/>
        </p:nvGraphicFramePr>
        <p:xfrm>
          <a:off x="2987640" y="1557360"/>
          <a:ext cx="1438200" cy="15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1557360"/>
                    <a:ext cx="14382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9" descr="AG00040_"/>
          <p:cNvPicPr/>
          <p:nvPr/>
        </p:nvPicPr>
        <p:blipFill>
          <a:blip r:embed="rId5"/>
          <a:stretch/>
        </p:blipFill>
        <p:spPr>
          <a:xfrm>
            <a:off x="1116000" y="476280"/>
            <a:ext cx="12193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C:\Documents and Settings\Салтыкова Л А\Рабочий стол\на СЕГОДНЯ\классный час\kasha_s_yagodami[1].jpg"/>
          <p:cNvPicPr/>
          <p:nvPr/>
        </p:nvPicPr>
        <p:blipFill>
          <a:blip r:embed="rId1"/>
          <a:stretch/>
        </p:blipFill>
        <p:spPr>
          <a:xfrm>
            <a:off x="1571760" y="142920"/>
            <a:ext cx="585792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6400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ЕРНО, К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шен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манная круп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шеничная круп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овсяные хлоп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гре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1343160" cy="4257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60" y="2707920"/>
            <a:ext cx="2448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рос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ше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овё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гречи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284720" y="2781360"/>
            <a:ext cx="1150920" cy="360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V="1">
            <a:off x="4067280" y="3645000"/>
            <a:ext cx="1368360" cy="288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 flipV="1">
            <a:off x="4500720" y="5373360"/>
            <a:ext cx="792000" cy="431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908000" y="5084640"/>
            <a:ext cx="1584360" cy="576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4067280" y="3933720"/>
            <a:ext cx="1368360" cy="432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4284720" y="4653000"/>
            <a:ext cx="1222200" cy="730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2124000" y="4005360"/>
            <a:ext cx="1368360" cy="144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 flipV="1">
            <a:off x="1547640" y="2852280"/>
            <a:ext cx="1944720" cy="647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1403280" y="4581360"/>
            <a:ext cx="1944720" cy="360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</a:t>
            </a:r>
            <a:r>
              <a:rPr b="1" lang="ru-RU" sz="5400" spc="-1" strike="noStrike">
                <a:solidFill>
                  <a:srgbClr val="cc6600"/>
                </a:solidFill>
                <a:latin typeface="Arial Black"/>
              </a:rPr>
              <a:t>Мы любим каши!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71680" y="1785960"/>
          <a:ext cx="8007120" cy="2494080"/>
        </p:xfrm>
        <a:graphic>
          <a:graphicData uri="http://schemas.openxmlformats.org/drawingml/2006/table">
            <a:tbl>
              <a:tblPr/>
              <a:tblGrid>
                <a:gridCol w="1601640"/>
                <a:gridCol w="1601640"/>
                <a:gridCol w="1600200"/>
                <a:gridCol w="1602000"/>
                <a:gridCol w="16016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 мест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3 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Всего гол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fa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исов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Гречнев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Манн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Овсян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f2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шён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-387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0071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Каша- исконно русское блюдо. Самые древние каши- пшеничная, манная, овсяная. Каши очень полезное блюдо, недаром про слабых людей говорят «Мало каши ел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В старину у русских князей существовал обычай – в знак примирения варить кашу. С тех пор про несговорчивых людей говорят: «С ним каши не сваришь». Крестьяне варили кашу из тык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         </a:t>
            </a:r>
            <a:r>
              <a:rPr b="1" lang="ru-RU" sz="6000" spc="-1" strike="noStrike">
                <a:solidFill>
                  <a:srgbClr val="cc6600"/>
                </a:solidFill>
                <a:latin typeface="Arial Black"/>
              </a:rPr>
              <a:t>Обед 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29" name="Picture 4" descr="HH01923_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619280" y="1773360"/>
            <a:ext cx="5473800" cy="410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AG00174_"/>
          <p:cNvPicPr/>
          <p:nvPr/>
        </p:nvPicPr>
        <p:blipFill>
          <a:blip r:embed="rId2"/>
          <a:stretch/>
        </p:blipFill>
        <p:spPr>
          <a:xfrm>
            <a:off x="1332000" y="404640"/>
            <a:ext cx="1290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4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32" name="Picture 4" descr="C:\Documents and Settings\Салтыкова Л А\Рабочий стол\на СЕГОДНЯ\классный час\1274807593_supermarket-13.jpg"/>
          <p:cNvPicPr/>
          <p:nvPr/>
        </p:nvPicPr>
        <p:blipFill>
          <a:blip r:embed="rId1"/>
          <a:stretch/>
        </p:blipFill>
        <p:spPr>
          <a:xfrm>
            <a:off x="357120" y="285840"/>
            <a:ext cx="829476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1:58:30Z</dcterms:created>
  <dc:creator>Vlad</dc:creator>
  <dc:description/>
  <dc:language>en-US</dc:language>
  <cp:lastModifiedBy>Антон Салтыков</cp:lastModifiedBy>
  <dcterms:modified xsi:type="dcterms:W3CDTF">2018-08-13T16:28:05Z</dcterms:modified>
  <cp:revision>29</cp:revision>
  <dc:subject/>
  <dc:title>Здоровое питание</dc:title>
</cp:coreProperties>
</file>