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9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CA11-140D-4A96-BE39-924146DCCD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4100-74B7-4F30-A5FD-5F425FAA18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889-89DE-4739-A0D3-748FB938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8E5-375F-4016-909A-39EE96E9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73CC-CD0F-4E4C-9C46-2AFA67FA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196-A78B-42F0-9505-682B09B5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7B47-8A95-4F87-B590-304C9445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B614-A33E-4ED5-A3AB-EFAF74AB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963F-50D4-4644-9600-717F99A8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1B90-E04A-4255-A9EE-C711ACFA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0645-5970-450A-B5F3-E8876D75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3817-F9C8-4B65-B27D-29033C56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2CD8-C0F8-4457-8C8D-958D64EA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F686-0FCC-4CC8-BEFF-AB56E83E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16B4-8EF9-4B90-851F-8B494567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992E-D37D-4905-A1F1-6333F1A0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CEE6-D981-40AA-9936-D71F4FB5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E822-4D10-4C3B-B140-BBCFC14E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FAD2-E6E5-40C4-8CE7-192996F7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C2B3-0F0E-42A4-82E9-8919044F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04B79-425B-4516-B37B-C870FA7E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77801-3351-443C-91BF-5B984C07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D267E-DFF4-4B57-AA59-A7C87C1D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0ABC-31B5-4A99-95E5-5984A9B6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8E4-AF45-46DA-9095-FC952A0B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3CAE2-C438-432A-8419-EE9112F4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D1254-6EE7-41D0-8AB3-8D0336B3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A1A7F-4A85-4D1D-8F46-06B42C0B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67AA3-3DB1-4753-AF62-CA8FFAA8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DC8D2-3601-499D-829F-C606B2BF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870F7-2AF9-4FC3-9C49-29434BC0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6CD3C-CA98-4B21-9A67-285947D1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B5202-4578-41F3-B398-C6B4B416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0E477-2677-4A0C-90C5-8B09A3DD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5DACC-0FA4-44D2-8140-839EB5F5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4C3-B665-4F1B-BD50-1BA08ED8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B8139-E21D-4F8A-A818-A2EA77B2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EEEA6-5C49-4F5B-BEEA-4EC7ED55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1406A-926A-438E-BC50-0135324F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33C04-3AF7-4D20-A23A-DB29D43D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A8125-F355-4FD6-99B4-40AD1ADA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7ACFF-B475-46F8-A45D-0B47A582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2E9DA-66AB-40C6-BC63-EDF68293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6C61D-8229-4C83-B201-D8A2625D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07A60-F99B-4F87-8A8A-F2AA6876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1FF26-75CB-4625-9D39-9C458CA1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06F-B23E-4DA2-9CFA-2B4FA671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46D16-D039-4525-B788-F78829F2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682B4-5729-44D2-80D9-175D7DF2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1D386-163C-4149-A9A5-B7D637B7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81E01-E76A-4C1A-9391-98383DDD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69B11-00B3-41F2-8CA3-0364600C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A1305-0A3A-41C7-AFEC-112376C7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EF73C-31F5-4B06-A887-D7CC061F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68E33-E667-46CD-B035-2F87E062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31FFB-58AD-4A34-BB40-F79BE934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A2332-A63E-4F22-BF45-4D3DF155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913-179D-41FD-8CA4-6B91FAEE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858EA-16F3-4565-92BD-6CCE3177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E6B35-9543-4F35-B254-01A58088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333EF-7105-4EC7-9F26-65F99BBF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9ADFB-1F6B-4B67-BF48-0E305408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95B54-CBF0-49C1-A932-71D30BBE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700DF-63D8-43A6-B989-CED11FE1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1F514-6AC0-4C30-ACA8-5289B369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2CCB1-67C7-4B33-9BBB-ADEA4E48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02E00-60DF-4745-B35D-5C2AE11B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87798-57DF-48A2-BE80-B0187EED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4FD-2A1D-4C92-81C3-0F4D078D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F4DAD-4FB6-4FCF-B87F-3858BDA4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C8019-ECB3-4869-B3AF-DD78E5A2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50C0B-EE64-490F-98EC-5889CA7A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EC53A-6457-4431-8854-8113C059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5341E-AA2D-41B1-8AC5-7724136F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3F736-9B9B-4360-BCDC-384169C8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5388C-26A2-48EA-98F8-12BFA87A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B8D15-B8DA-4DAA-9889-EA18B70E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2D485-3396-43A9-BEEE-8501D8B5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73F2C-B227-45C4-AD65-E5F99FCD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F1D-F779-4428-940E-227523D5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B95AE-0AD4-4F8E-88A4-345914F3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E43DF-CD2A-440A-996D-D852DC4E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B9B37-45C7-41BF-A3DB-21E3E075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D275F-9B5B-4FC0-A66F-A158A386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70A4C-12C9-4862-9C90-F259C821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A55-F29E-45BF-8C85-EA2014A0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2548-C9B8-4F63-B18C-02BBBA6DEB4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26EB-267D-46C7-8CDE-E19A3CDDABA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D7AA-B60F-4A57-8521-FDF14F738A3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1930-7F29-4174-92C1-8477D8D135D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942A-85F9-4E18-A0FC-20D1A946B22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1C42-0C33-41B0-9B98-67005B31F46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F3D4-43E4-40B4-94C3-ED8E8D174CE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 Black"/>
              </a:rPr>
              <a:t>“</a:t>
            </a:r>
            <a:r>
              <a:rPr b="0" lang="en-US" sz="4300" spc="-1" strike="noStrike">
                <a:solidFill>
                  <a:srgbClr val="572314"/>
                </a:solidFill>
                <a:latin typeface="Arial Black"/>
              </a:rPr>
              <a:t>The World I Can See</a:t>
            </a:r>
            <a:r>
              <a:rPr b="0" lang="ru-RU" sz="4300" spc="-1" strike="noStrike">
                <a:solidFill>
                  <a:srgbClr val="572314"/>
                </a:solidFill>
                <a:latin typeface="Arial Black"/>
              </a:rPr>
              <a:t>“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1428840" y="1857240"/>
            <a:ext cx="692928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309840" y="846000"/>
            <a:ext cx="3749760" cy="38088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WHAT CAN YOU SEE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Прямоугольник 7"/>
          <p:cNvSpPr/>
          <p:nvPr/>
        </p:nvSpPr>
        <p:spPr>
          <a:xfrm>
            <a:off x="1500120" y="1571760"/>
            <a:ext cx="7286760" cy="4857480"/>
          </a:xfrm>
          <a:prstGeom prst="rect">
            <a:avLst/>
          </a:prstGeom>
          <a:solidFill>
            <a:srgbClr val="84aa3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F:\Месяц иностранного языка\ГРУЗОВИК ЧАСТЬ.png"/>
          <p:cNvPicPr/>
          <p:nvPr/>
        </p:nvPicPr>
        <p:blipFill>
          <a:blip r:embed="rId1"/>
          <a:stretch/>
        </p:blipFill>
        <p:spPr>
          <a:xfrm>
            <a:off x="3857760" y="2214720"/>
            <a:ext cx="438624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I CAN SEE A LORRY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Picture 2" descr="F:\Месяц иностранного языка\68f6e96790[1].png"/>
          <p:cNvPicPr/>
          <p:nvPr/>
        </p:nvPicPr>
        <p:blipFill>
          <a:blip r:embed="rId1"/>
          <a:stretch/>
        </p:blipFill>
        <p:spPr>
          <a:xfrm>
            <a:off x="1857240" y="1636560"/>
            <a:ext cx="63946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309840" y="846000"/>
            <a:ext cx="3749760" cy="38088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WHAT CAN YOU SEE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Прямоугольник 7"/>
          <p:cNvSpPr/>
          <p:nvPr/>
        </p:nvSpPr>
        <p:spPr>
          <a:xfrm>
            <a:off x="1500120" y="1571760"/>
            <a:ext cx="7286760" cy="4857480"/>
          </a:xfrm>
          <a:prstGeom prst="rect">
            <a:avLst/>
          </a:prstGeom>
          <a:solidFill>
            <a:srgbClr val="84aa3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F:\Месяц иностранного языка\ОБЕЗЬЯНКА ЧАСТЬ.jpg"/>
          <p:cNvPicPr/>
          <p:nvPr/>
        </p:nvPicPr>
        <p:blipFill>
          <a:blip r:embed="rId1"/>
          <a:stretch/>
        </p:blipFill>
        <p:spPr>
          <a:xfrm>
            <a:off x="4214880" y="2071800"/>
            <a:ext cx="380520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I CAN SEE A CHIMP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6" name="Picture 2" descr="F:\Месяц иностранного языка\253665874.jpg"/>
          <p:cNvPicPr/>
          <p:nvPr/>
        </p:nvPicPr>
        <p:blipFill>
          <a:blip r:embed="rId1"/>
          <a:stretch/>
        </p:blipFill>
        <p:spPr>
          <a:xfrm>
            <a:off x="2754360" y="1447920"/>
            <a:ext cx="486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309840" y="846000"/>
            <a:ext cx="3749760" cy="38088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WHAT CAN YOU SEE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Прямоугольник 7"/>
          <p:cNvSpPr/>
          <p:nvPr/>
        </p:nvSpPr>
        <p:spPr>
          <a:xfrm>
            <a:off x="1500120" y="1571760"/>
            <a:ext cx="7286760" cy="4857480"/>
          </a:xfrm>
          <a:prstGeom prst="rect">
            <a:avLst/>
          </a:prstGeom>
          <a:solidFill>
            <a:srgbClr val="84aa3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F:\Месяц иностранного языка\ЧАСТЬ СВИНКИ.jpg"/>
          <p:cNvPicPr/>
          <p:nvPr/>
        </p:nvPicPr>
        <p:blipFill>
          <a:blip r:embed="rId1"/>
          <a:stretch/>
        </p:blipFill>
        <p:spPr>
          <a:xfrm>
            <a:off x="3143160" y="2143080"/>
            <a:ext cx="50673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I CAN SEE A PIG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1" name="Picture 2" descr="F:\Месяц иностранного языка\свинка.jpg"/>
          <p:cNvPicPr/>
          <p:nvPr/>
        </p:nvPicPr>
        <p:blipFill>
          <a:blip r:embed="rId1"/>
          <a:stretch/>
        </p:blipFill>
        <p:spPr>
          <a:xfrm>
            <a:off x="2370240" y="1447920"/>
            <a:ext cx="5629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309840" y="846000"/>
            <a:ext cx="3749760" cy="38088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WHAT CAN YOU SEE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Прямоугольник 7"/>
          <p:cNvSpPr/>
          <p:nvPr/>
        </p:nvSpPr>
        <p:spPr>
          <a:xfrm>
            <a:off x="1500120" y="1571760"/>
            <a:ext cx="7286760" cy="4857480"/>
          </a:xfrm>
          <a:prstGeom prst="rect">
            <a:avLst/>
          </a:prstGeom>
          <a:solidFill>
            <a:srgbClr val="84aa3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F:\Месяц иностранного языка\ЧАСТЬ ЛИСЫ.jpg"/>
          <p:cNvPicPr/>
          <p:nvPr/>
        </p:nvPicPr>
        <p:blipFill>
          <a:blip r:embed="rId1"/>
          <a:stretch/>
        </p:blipFill>
        <p:spPr>
          <a:xfrm>
            <a:off x="4929120" y="1928880"/>
            <a:ext cx="35290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I CAN SEE A FOX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6" name="Picture 2" descr="F:\Месяц иностранного языка\лиса.jpg"/>
          <p:cNvPicPr/>
          <p:nvPr/>
        </p:nvPicPr>
        <p:blipFill>
          <a:blip r:embed="rId1"/>
          <a:stretch/>
        </p:blipFill>
        <p:spPr>
          <a:xfrm>
            <a:off x="1930320" y="1447920"/>
            <a:ext cx="6508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ut letters in correct order and read the word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atc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cat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5" descr="https://im2-tub-ru.yandex.net/i?id=6cecbb4c1f4a30332324788b814adb45-l&amp;n=13"/>
          <p:cNvPicPr/>
          <p:nvPr/>
        </p:nvPicPr>
        <p:blipFill>
          <a:blip r:embed="rId1"/>
          <a:stretch/>
        </p:blipFill>
        <p:spPr>
          <a:xfrm>
            <a:off x="4788000" y="3716280"/>
            <a:ext cx="4140000" cy="29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ut letters in correct order and read the word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lodl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doll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2" name="Picture 7" descr="http://present-express.ru/files/1_Warmhearts-Candy.jpg"/>
          <p:cNvPicPr/>
          <p:nvPr/>
        </p:nvPicPr>
        <p:blipFill>
          <a:blip r:embed="rId1"/>
          <a:stretch/>
        </p:blipFill>
        <p:spPr>
          <a:xfrm>
            <a:off x="4923000" y="2492280"/>
            <a:ext cx="4221000" cy="422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309840" y="846000"/>
            <a:ext cx="3749760" cy="38088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WHAT CAN YOU SEE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Прямоугольник 7"/>
          <p:cNvSpPr/>
          <p:nvPr/>
        </p:nvSpPr>
        <p:spPr>
          <a:xfrm>
            <a:off x="1500120" y="1571760"/>
            <a:ext cx="7286760" cy="4857480"/>
          </a:xfrm>
          <a:prstGeom prst="rect">
            <a:avLst/>
          </a:prstGeom>
          <a:solidFill>
            <a:srgbClr val="84aa3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Содержимое 6" descr=""/>
          <p:cNvPicPr/>
          <p:nvPr/>
        </p:nvPicPr>
        <p:blipFill>
          <a:blip r:embed="rId1"/>
          <a:stretch/>
        </p:blipFill>
        <p:spPr>
          <a:xfrm>
            <a:off x="4429080" y="2500200"/>
            <a:ext cx="36702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ut letters in correct order and read the word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nep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pen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5" descr="https://im3-tub-ru.yandex.net/i?id=7c5cc6cb76ecb2486ba707b2e750f044-l&amp;n=13"/>
          <p:cNvPicPr/>
          <p:nvPr/>
        </p:nvPicPr>
        <p:blipFill>
          <a:blip r:embed="rId1"/>
          <a:stretch/>
        </p:blipFill>
        <p:spPr>
          <a:xfrm>
            <a:off x="5076720" y="3357720"/>
            <a:ext cx="4067280" cy="28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7" descr="http://mebli4you.com.ua/images/product_images/popup_images/110038.jpg"/>
          <p:cNvPicPr/>
          <p:nvPr/>
        </p:nvPicPr>
        <p:blipFill>
          <a:blip r:embed="rId1"/>
          <a:stretch/>
        </p:blipFill>
        <p:spPr>
          <a:xfrm>
            <a:off x="4716360" y="3068640"/>
            <a:ext cx="4427640" cy="29448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ut letters in correct order and read the word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sked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desk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https://im1-tub-ru.yandex.net/i?id=9d075838527fb153dbc9f90fe38f1a99-l&amp;n=13"/>
          <p:cNvPicPr/>
          <p:nvPr/>
        </p:nvPicPr>
        <p:blipFill>
          <a:blip r:embed="rId1"/>
          <a:stretch/>
        </p:blipFill>
        <p:spPr>
          <a:xfrm>
            <a:off x="4740120" y="3284640"/>
            <a:ext cx="4219560" cy="31687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ut letters in correct order and read the word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26920" y="1557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oowd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wood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ut letters in correct order and read the word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occk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cock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4" name="Picture 5" descr="https://im1-tub-ru.yandex.net/i?id=ad3c6ab5a6db36fc24ddf18ea9cc118e-l&amp;n=13"/>
          <p:cNvPicPr/>
          <p:nvPr/>
        </p:nvPicPr>
        <p:blipFill>
          <a:blip r:embed="rId1"/>
          <a:stretch/>
        </p:blipFill>
        <p:spPr>
          <a:xfrm>
            <a:off x="5940360" y="2708280"/>
            <a:ext cx="3013200" cy="37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https://im1-tub-ru.yandex.net/i?id=31ec3e1018778a7119c72d322669f1ea-l&amp;n=13"/>
          <p:cNvPicPr/>
          <p:nvPr/>
        </p:nvPicPr>
        <p:blipFill>
          <a:blip r:embed="rId1"/>
          <a:stretch/>
        </p:blipFill>
        <p:spPr>
          <a:xfrm>
            <a:off x="5757840" y="3141720"/>
            <a:ext cx="3386160" cy="302400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ut letters in correct order and read the word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26920" y="1412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rryche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cherry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ut letters in correct order and read the word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nus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sun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Picture 5" descr="http://bedandbreakfastcelle.com/wp-content/uploads/2014/04/sole-vettoriale.png"/>
          <p:cNvPicPr/>
          <p:nvPr/>
        </p:nvPicPr>
        <p:blipFill>
          <a:blip r:embed="rId1"/>
          <a:stretch/>
        </p:blipFill>
        <p:spPr>
          <a:xfrm>
            <a:off x="5364000" y="3137040"/>
            <a:ext cx="3384720" cy="32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72314"/>
                </a:solidFill>
                <a:latin typeface="Gill Sans MT"/>
              </a:rPr>
              <a:t>WELL DONE!</a:t>
            </a:r>
            <a:endParaRPr b="0" lang="en-US" sz="8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I CAN SEE A C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3" descr=""/>
          <p:cNvPicPr/>
          <p:nvPr/>
        </p:nvPicPr>
        <p:blipFill>
          <a:blip r:embed="rId1"/>
          <a:stretch/>
        </p:blipFill>
        <p:spPr>
          <a:xfrm>
            <a:off x="1574640" y="1447920"/>
            <a:ext cx="7220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309840" y="846000"/>
            <a:ext cx="3749760" cy="38088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WHAT CAN YOU SEE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Прямоугольник 7"/>
          <p:cNvSpPr/>
          <p:nvPr/>
        </p:nvSpPr>
        <p:spPr>
          <a:xfrm>
            <a:off x="1500120" y="1571760"/>
            <a:ext cx="7286760" cy="4857480"/>
          </a:xfrm>
          <a:prstGeom prst="rect">
            <a:avLst/>
          </a:prstGeom>
          <a:solidFill>
            <a:srgbClr val="84aa3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5" descr=""/>
          <p:cNvPicPr/>
          <p:nvPr/>
        </p:nvPicPr>
        <p:blipFill>
          <a:blip r:embed="rId1"/>
          <a:stretch/>
        </p:blipFill>
        <p:spPr>
          <a:xfrm>
            <a:off x="4214880" y="2214720"/>
            <a:ext cx="420984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I CAN SEE A MUG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Содержимое 3" descr=""/>
          <p:cNvPicPr/>
          <p:nvPr/>
        </p:nvPicPr>
        <p:blipFill>
          <a:blip r:embed="rId1"/>
          <a:stretch/>
        </p:blipFill>
        <p:spPr>
          <a:xfrm>
            <a:off x="2009880" y="1727280"/>
            <a:ext cx="635004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309840" y="846000"/>
            <a:ext cx="3749760" cy="38088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WHAT CAN YOU SEE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Прямоугольник 7"/>
          <p:cNvSpPr/>
          <p:nvPr/>
        </p:nvSpPr>
        <p:spPr>
          <a:xfrm>
            <a:off x="1500120" y="1571760"/>
            <a:ext cx="7286760" cy="4857480"/>
          </a:xfrm>
          <a:prstGeom prst="rect">
            <a:avLst/>
          </a:prstGeom>
          <a:solidFill>
            <a:srgbClr val="84aa3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Рисунок 5" descr=""/>
          <p:cNvPicPr/>
          <p:nvPr/>
        </p:nvPicPr>
        <p:blipFill>
          <a:blip r:embed="rId1"/>
          <a:stretch/>
        </p:blipFill>
        <p:spPr>
          <a:xfrm>
            <a:off x="4286160" y="2000160"/>
            <a:ext cx="414036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I CAN SEE A FISH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Содержимое 3" descr="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309840" y="846000"/>
            <a:ext cx="3749760" cy="38088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WHAT CAN YOU SEE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Прямоугольник 7"/>
          <p:cNvSpPr/>
          <p:nvPr/>
        </p:nvSpPr>
        <p:spPr>
          <a:xfrm>
            <a:off x="1500120" y="1571760"/>
            <a:ext cx="7286760" cy="4857480"/>
          </a:xfrm>
          <a:prstGeom prst="rect">
            <a:avLst/>
          </a:prstGeom>
          <a:solidFill>
            <a:srgbClr val="84aa3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Рисунок 5" descr=""/>
          <p:cNvPicPr/>
          <p:nvPr/>
        </p:nvPicPr>
        <p:blipFill>
          <a:blip r:embed="rId1"/>
          <a:stretch/>
        </p:blipFill>
        <p:spPr>
          <a:xfrm>
            <a:off x="3643200" y="2143080"/>
            <a:ext cx="4859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I CAN SEE A DOG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6" name="Содержимое 3" descr=""/>
          <p:cNvPicPr/>
          <p:nvPr/>
        </p:nvPicPr>
        <p:blipFill>
          <a:blip r:embed="rId1"/>
          <a:stretch/>
        </p:blipFill>
        <p:spPr>
          <a:xfrm>
            <a:off x="3098880" y="1447920"/>
            <a:ext cx="4172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ина</dc:creator>
  <dc:description/>
  <dc:language>en-US</dc:language>
  <cp:lastModifiedBy>Валерия</cp:lastModifiedBy>
  <dcterms:modified xsi:type="dcterms:W3CDTF">2018-08-14T17:08:47Z</dcterms:modified>
  <cp:revision>10</cp:revision>
  <dc:subject/>
  <dc:title>“The World I Can See“</dc:title>
</cp:coreProperties>
</file>