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9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7442-87C4-470F-A7C5-AEF98391FB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C9DA-6FD3-42AE-973D-9C8D3817C6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382-0327-4A81-8F9F-A159D0BB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7C77-F45A-4A98-A03A-5DB124F9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6B8-67E4-4DB7-AC45-1A968A84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F1E-E577-4168-A54D-C589B708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589E-E2DD-4C74-899C-C5991F70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233A-8251-4AE8-8B64-8F461FDF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D168-5FEB-46BE-9555-DD392F6B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74AA-2308-4F3A-B271-BEF7AB4E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B04E-38D0-4FBD-BC63-E283025A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6B29-34C8-44BE-B3FF-A84EC52B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51C6-5B55-471E-B63A-E6D3E21D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9D4-DDE7-43EF-BCC3-3E723E0C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1316-2E94-4F40-AEDB-587E0DC7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5B3E-988B-4FAF-9FEC-52035537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02BF-5A31-46C5-8027-1E3984E0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DC82-62BA-49A2-AA49-788D6C4E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E55E-5D78-481A-B69F-B7100A5E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F86AC-004D-438D-B05D-29C572C1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14E0A-CE8D-4E92-9270-A99CC8A8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263D5-808F-4780-BFE4-9AC9F5CD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F41F5-FEF3-4F7D-B673-B6828AAE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62F98-8915-46B6-8CD2-0CAFAA63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F6E9-DCB3-45D7-BD23-8CF1C36A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A9D13-CAF5-4336-9146-133D844E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66392-8DDE-4E6F-8706-09BC4958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249D4-AD19-4DC7-963A-AC2B847F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E2C84-B022-418E-BFB8-8CF69969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E9870-9548-4C30-AFD3-7618643F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7DB6D-93AC-44BB-A023-C54D279C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F5C3-4B38-4969-888D-446D8A32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F027D-39D6-4682-A0AF-10D0BE54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A6431-2679-4363-958B-68550427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CC58C-42E5-4A7E-8E2F-4903109E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F31-F65A-4EFB-909E-E07A506B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2639D-A94C-45C0-A366-104DEDE6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8F583-EA3E-463A-B30A-ADB0D508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DB053-02FA-40CF-B79F-FFAD7B32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78E43-036F-4807-9098-E2EC8496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A742F-72E4-4B2A-8D84-89E66CFF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02B16-A096-44E4-9F1C-0AB5FD9A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3F644-F51E-4BB9-83DA-EF6D1FBF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BEE8C-8CB4-4D72-840E-6DD72663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8CF52-4DE1-4869-B744-F19C272D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A7534-F654-49FC-8B33-17C92A30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D37-7E23-46D9-8741-53D04D65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CB47A-64C4-49D5-B4FD-517FCACA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17A5D-7004-4ECF-A402-51BF9386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C21B8-6CE9-41C3-9928-0A0E84FA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8EE4F-01A1-4D2B-8BB3-2D44BAB3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F146A-11A0-44FF-903A-915D8760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337E7-A8FA-4A60-83DD-41447C55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70466-974A-4E82-9395-C48FFB34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CF784-FB18-43F5-9F52-748758C7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859CA-CE97-4889-860F-1485EF76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45B70-3204-4C51-BC90-40A5F2DB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129-A7D8-4144-8FFA-CACC37FB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DD31E-0686-42E5-8894-2C16DDA0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094DB-D439-4124-B01D-F69E1274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5F668-4DC4-4638-818F-6FC3C5D2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6253A-20B6-4F14-BACA-74F6085B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3344A-8EBC-4A85-B8D4-036FAF60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7BE5D-5408-4E5D-9994-4177CC9C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C8BF6-52AA-4E10-8340-E0F33BA3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5BD5F-3633-48A8-941B-3E8A8666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2DE85-AB48-4B11-8D47-303CE376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D9B2C-87B8-4D2E-886F-1CAC8906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BE55-E745-43D7-B2A7-A152613A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A34F7-0F84-4E73-8A27-81D6D152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532D4-BB1E-4511-86AD-8799E611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747BC-DEDB-4C18-B1E5-DF7EE4AA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CD530-B046-43CE-BA08-E5500935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1ABB7-6608-422E-9374-217ADBCD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82ADD-AEF7-484D-961D-C89D06CC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EFD8F-5FD8-4136-93EE-2A18443D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FBAD4-218A-4CFC-9B7A-88A2A40F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EAAAE-B2D9-4844-98F9-92E23276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EB8B4-4125-4053-9E55-5F6491FB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80A9-469E-47AE-B3EE-ABD932E2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0BE2C-FD0C-4439-B223-261CA0F8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5EA93-F0A2-4F90-A888-5DC734FE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F270A-02BC-4F0E-B91A-19205BB9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FEC15-7E41-4227-8634-3E299612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39E16-9CB8-4196-8D47-B7DA0D1E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102-F734-4C8A-A05B-FA1A78FC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315A-4E22-4FB2-B734-05CE1533C36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3B91-C4DF-4E3D-9733-4A6FF295247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648D-D11D-41DD-8B44-DC2CAE01BCC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CF5A-E7E8-4642-B3BC-2DECFA38138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BE2C-4C15-4D10-B4A7-EFDC72D0CDA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C4A5-8989-46A1-B426-EBD49518130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57DC-AD83-48B1-AC2C-A7F8F33BFC7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 Black"/>
              </a:rPr>
              <a:t>“</a:t>
            </a:r>
            <a:r>
              <a:rPr b="0" lang="en-US" sz="4300" spc="-1" strike="noStrike">
                <a:solidFill>
                  <a:srgbClr val="572314"/>
                </a:solidFill>
                <a:latin typeface="Arial Black"/>
              </a:rPr>
              <a:t>The World I Can See</a:t>
            </a:r>
            <a:r>
              <a:rPr b="0" lang="ru-RU" sz="4300" spc="-1" strike="noStrike">
                <a:solidFill>
                  <a:srgbClr val="572314"/>
                </a:solidFill>
                <a:latin typeface="Arial Black"/>
              </a:rPr>
              <a:t>“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1428840" y="1857240"/>
            <a:ext cx="692928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309840" y="846000"/>
            <a:ext cx="3749760" cy="3808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WHAT CAN YOU SEE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Прямоугольник 7"/>
          <p:cNvSpPr/>
          <p:nvPr/>
        </p:nvSpPr>
        <p:spPr>
          <a:xfrm>
            <a:off x="1500120" y="1571760"/>
            <a:ext cx="7286760" cy="4857480"/>
          </a:xfrm>
          <a:prstGeom prst="rect">
            <a:avLst/>
          </a:prstGeom>
          <a:solidFill>
            <a:srgbClr val="84aa3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F:\Месяц иностранного языка\ГРУЗОВИК ЧАСТЬ.png"/>
          <p:cNvPicPr/>
          <p:nvPr/>
        </p:nvPicPr>
        <p:blipFill>
          <a:blip r:embed="rId1"/>
          <a:stretch/>
        </p:blipFill>
        <p:spPr>
          <a:xfrm>
            <a:off x="3857760" y="2214720"/>
            <a:ext cx="438624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I CAN SEE A LORRY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Picture 2" descr="F:\Месяц иностранного языка\68f6e96790[1].png"/>
          <p:cNvPicPr/>
          <p:nvPr/>
        </p:nvPicPr>
        <p:blipFill>
          <a:blip r:embed="rId1"/>
          <a:stretch/>
        </p:blipFill>
        <p:spPr>
          <a:xfrm>
            <a:off x="1857240" y="1636560"/>
            <a:ext cx="63946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309840" y="846000"/>
            <a:ext cx="3749760" cy="3808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WHAT CAN YOU SEE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Прямоугольник 7"/>
          <p:cNvSpPr/>
          <p:nvPr/>
        </p:nvSpPr>
        <p:spPr>
          <a:xfrm>
            <a:off x="1500120" y="1571760"/>
            <a:ext cx="7286760" cy="4857480"/>
          </a:xfrm>
          <a:prstGeom prst="rect">
            <a:avLst/>
          </a:prstGeom>
          <a:solidFill>
            <a:srgbClr val="84aa3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F:\Месяц иностранного языка\ОБЕЗЬЯНКА ЧАСТЬ.jpg"/>
          <p:cNvPicPr/>
          <p:nvPr/>
        </p:nvPicPr>
        <p:blipFill>
          <a:blip r:embed="rId1"/>
          <a:stretch/>
        </p:blipFill>
        <p:spPr>
          <a:xfrm>
            <a:off x="4214880" y="2071800"/>
            <a:ext cx="380520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I CAN SEE A CHIMP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6" name="Picture 2" descr="F:\Месяц иностранного языка\253665874.jpg"/>
          <p:cNvPicPr/>
          <p:nvPr/>
        </p:nvPicPr>
        <p:blipFill>
          <a:blip r:embed="rId1"/>
          <a:stretch/>
        </p:blipFill>
        <p:spPr>
          <a:xfrm>
            <a:off x="2754360" y="1447920"/>
            <a:ext cx="486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309840" y="846000"/>
            <a:ext cx="3749760" cy="3808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WHAT CAN YOU SEE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Прямоугольник 7"/>
          <p:cNvSpPr/>
          <p:nvPr/>
        </p:nvSpPr>
        <p:spPr>
          <a:xfrm>
            <a:off x="1500120" y="1571760"/>
            <a:ext cx="7286760" cy="4857480"/>
          </a:xfrm>
          <a:prstGeom prst="rect">
            <a:avLst/>
          </a:prstGeom>
          <a:solidFill>
            <a:srgbClr val="84aa3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F:\Месяц иностранного языка\ЧАСТЬ СВИНКИ.jpg"/>
          <p:cNvPicPr/>
          <p:nvPr/>
        </p:nvPicPr>
        <p:blipFill>
          <a:blip r:embed="rId1"/>
          <a:stretch/>
        </p:blipFill>
        <p:spPr>
          <a:xfrm>
            <a:off x="3143160" y="2143080"/>
            <a:ext cx="50673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I CAN SEE A PIG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1" name="Picture 2" descr="F:\Месяц иностранного языка\свинка.jpg"/>
          <p:cNvPicPr/>
          <p:nvPr/>
        </p:nvPicPr>
        <p:blipFill>
          <a:blip r:embed="rId1"/>
          <a:stretch/>
        </p:blipFill>
        <p:spPr>
          <a:xfrm>
            <a:off x="2370240" y="1447920"/>
            <a:ext cx="5629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309840" y="846000"/>
            <a:ext cx="3749760" cy="3808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WHAT CAN YOU SEE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Прямоугольник 7"/>
          <p:cNvSpPr/>
          <p:nvPr/>
        </p:nvSpPr>
        <p:spPr>
          <a:xfrm>
            <a:off x="1500120" y="1571760"/>
            <a:ext cx="7286760" cy="4857480"/>
          </a:xfrm>
          <a:prstGeom prst="rect">
            <a:avLst/>
          </a:prstGeom>
          <a:solidFill>
            <a:srgbClr val="84aa3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F:\Месяц иностранного языка\ЧАСТЬ ЛИСЫ.jpg"/>
          <p:cNvPicPr/>
          <p:nvPr/>
        </p:nvPicPr>
        <p:blipFill>
          <a:blip r:embed="rId1"/>
          <a:stretch/>
        </p:blipFill>
        <p:spPr>
          <a:xfrm>
            <a:off x="4929120" y="1928880"/>
            <a:ext cx="35290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I CAN SEE A FOX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6" name="Picture 2" descr="F:\Месяц иностранного языка\лиса.jpg"/>
          <p:cNvPicPr/>
          <p:nvPr/>
        </p:nvPicPr>
        <p:blipFill>
          <a:blip r:embed="rId1"/>
          <a:stretch/>
        </p:blipFill>
        <p:spPr>
          <a:xfrm>
            <a:off x="1930320" y="1447920"/>
            <a:ext cx="6508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ut letters in correct order and read the word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atc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cat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5" descr="https://im2-tub-ru.yandex.net/i?id=6cecbb4c1f4a30332324788b814adb45-l&amp;n=13"/>
          <p:cNvPicPr/>
          <p:nvPr/>
        </p:nvPicPr>
        <p:blipFill>
          <a:blip r:embed="rId1"/>
          <a:stretch/>
        </p:blipFill>
        <p:spPr>
          <a:xfrm>
            <a:off x="4788000" y="3716280"/>
            <a:ext cx="4140000" cy="29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ut letters in correct order and read the word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lodl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doll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2" name="Picture 7" descr="http://present-express.ru/files/1_Warmhearts-Candy.jpg"/>
          <p:cNvPicPr/>
          <p:nvPr/>
        </p:nvPicPr>
        <p:blipFill>
          <a:blip r:embed="rId1"/>
          <a:stretch/>
        </p:blipFill>
        <p:spPr>
          <a:xfrm>
            <a:off x="4923000" y="2492280"/>
            <a:ext cx="4221000" cy="422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309840" y="846000"/>
            <a:ext cx="3749760" cy="3808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WHAT CAN YOU SEE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Прямоугольник 7"/>
          <p:cNvSpPr/>
          <p:nvPr/>
        </p:nvSpPr>
        <p:spPr>
          <a:xfrm>
            <a:off x="1500120" y="1571760"/>
            <a:ext cx="7286760" cy="4857480"/>
          </a:xfrm>
          <a:prstGeom prst="rect">
            <a:avLst/>
          </a:prstGeom>
          <a:solidFill>
            <a:srgbClr val="84aa3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Содержимое 6" descr=""/>
          <p:cNvPicPr/>
          <p:nvPr/>
        </p:nvPicPr>
        <p:blipFill>
          <a:blip r:embed="rId1"/>
          <a:stretch/>
        </p:blipFill>
        <p:spPr>
          <a:xfrm>
            <a:off x="4429080" y="2500200"/>
            <a:ext cx="36702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ut letters in correct order and read the word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nep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pen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5" descr="https://im3-tub-ru.yandex.net/i?id=7c5cc6cb76ecb2486ba707b2e750f044-l&amp;n=13"/>
          <p:cNvPicPr/>
          <p:nvPr/>
        </p:nvPicPr>
        <p:blipFill>
          <a:blip r:embed="rId1"/>
          <a:stretch/>
        </p:blipFill>
        <p:spPr>
          <a:xfrm>
            <a:off x="5076720" y="3357720"/>
            <a:ext cx="406728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7" descr="http://mebli4you.com.ua/images/product_images/popup_images/110038.jpg"/>
          <p:cNvPicPr/>
          <p:nvPr/>
        </p:nvPicPr>
        <p:blipFill>
          <a:blip r:embed="rId1"/>
          <a:stretch/>
        </p:blipFill>
        <p:spPr>
          <a:xfrm>
            <a:off x="4716360" y="3068640"/>
            <a:ext cx="4427640" cy="29448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ut letters in correct order and read the word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sked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desk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https://im1-tub-ru.yandex.net/i?id=9d075838527fb153dbc9f90fe38f1a99-l&amp;n=13"/>
          <p:cNvPicPr/>
          <p:nvPr/>
        </p:nvPicPr>
        <p:blipFill>
          <a:blip r:embed="rId1"/>
          <a:stretch/>
        </p:blipFill>
        <p:spPr>
          <a:xfrm>
            <a:off x="4740120" y="3284640"/>
            <a:ext cx="4219560" cy="31687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ut letters in correct order and read the word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26920" y="1557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oowd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wood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ut letters in correct order and read the word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occk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cock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4" name="Picture 5" descr="https://im1-tub-ru.yandex.net/i?id=ad3c6ab5a6db36fc24ddf18ea9cc118e-l&amp;n=13"/>
          <p:cNvPicPr/>
          <p:nvPr/>
        </p:nvPicPr>
        <p:blipFill>
          <a:blip r:embed="rId1"/>
          <a:stretch/>
        </p:blipFill>
        <p:spPr>
          <a:xfrm>
            <a:off x="5940360" y="2708280"/>
            <a:ext cx="3013200" cy="37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https://im1-tub-ru.yandex.net/i?id=31ec3e1018778a7119c72d322669f1ea-l&amp;n=13"/>
          <p:cNvPicPr/>
          <p:nvPr/>
        </p:nvPicPr>
        <p:blipFill>
          <a:blip r:embed="rId1"/>
          <a:stretch/>
        </p:blipFill>
        <p:spPr>
          <a:xfrm>
            <a:off x="5757840" y="3141720"/>
            <a:ext cx="3386160" cy="302400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ut letters in correct order and read the word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26920" y="1412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rryche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cherry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Put letters in correct order and read the word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nus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Gill Sans MT"/>
                <a:ea typeface="Calibri"/>
              </a:rPr>
              <a:t>sun</a:t>
            </a:r>
            <a:endParaRPr b="0" lang="en-US" sz="1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Picture 5" descr="http://bedandbreakfastcelle.com/wp-content/uploads/2014/04/sole-vettoriale.png"/>
          <p:cNvPicPr/>
          <p:nvPr/>
        </p:nvPicPr>
        <p:blipFill>
          <a:blip r:embed="rId1"/>
          <a:stretch/>
        </p:blipFill>
        <p:spPr>
          <a:xfrm>
            <a:off x="5364000" y="3137040"/>
            <a:ext cx="3384720" cy="32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72314"/>
                </a:solidFill>
                <a:latin typeface="Gill Sans MT"/>
              </a:rPr>
              <a:t>WELL DONE!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I CAN SEE A C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3" descr=""/>
          <p:cNvPicPr/>
          <p:nvPr/>
        </p:nvPicPr>
        <p:blipFill>
          <a:blip r:embed="rId1"/>
          <a:stretch/>
        </p:blipFill>
        <p:spPr>
          <a:xfrm>
            <a:off x="1574640" y="1447920"/>
            <a:ext cx="7220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309840" y="846000"/>
            <a:ext cx="3749760" cy="3808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WHAT CAN YOU SEE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Прямоугольник 7"/>
          <p:cNvSpPr/>
          <p:nvPr/>
        </p:nvSpPr>
        <p:spPr>
          <a:xfrm>
            <a:off x="1500120" y="1571760"/>
            <a:ext cx="7286760" cy="4857480"/>
          </a:xfrm>
          <a:prstGeom prst="rect">
            <a:avLst/>
          </a:prstGeom>
          <a:solidFill>
            <a:srgbClr val="84aa3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5" descr=""/>
          <p:cNvPicPr/>
          <p:nvPr/>
        </p:nvPicPr>
        <p:blipFill>
          <a:blip r:embed="rId1"/>
          <a:stretch/>
        </p:blipFill>
        <p:spPr>
          <a:xfrm>
            <a:off x="4214880" y="2214720"/>
            <a:ext cx="420984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I CAN SEE A MUG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Содержимое 3" descr=""/>
          <p:cNvPicPr/>
          <p:nvPr/>
        </p:nvPicPr>
        <p:blipFill>
          <a:blip r:embed="rId1"/>
          <a:stretch/>
        </p:blipFill>
        <p:spPr>
          <a:xfrm>
            <a:off x="2009880" y="1727280"/>
            <a:ext cx="635004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309840" y="846000"/>
            <a:ext cx="3749760" cy="3808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WHAT CAN YOU SEE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Прямоугольник 7"/>
          <p:cNvSpPr/>
          <p:nvPr/>
        </p:nvSpPr>
        <p:spPr>
          <a:xfrm>
            <a:off x="1500120" y="1571760"/>
            <a:ext cx="7286760" cy="4857480"/>
          </a:xfrm>
          <a:prstGeom prst="rect">
            <a:avLst/>
          </a:prstGeom>
          <a:solidFill>
            <a:srgbClr val="84aa3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Рисунок 5" descr=""/>
          <p:cNvPicPr/>
          <p:nvPr/>
        </p:nvPicPr>
        <p:blipFill>
          <a:blip r:embed="rId1"/>
          <a:stretch/>
        </p:blipFill>
        <p:spPr>
          <a:xfrm>
            <a:off x="4286160" y="2000160"/>
            <a:ext cx="414036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I CAN SEE A FISH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Содержимое 3" descr="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309840" y="846000"/>
            <a:ext cx="3749760" cy="380880"/>
          </a:xfrm>
          <a:prstGeom prst="rect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WHAT CAN YOU SEE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1500120" y="1571760"/>
            <a:ext cx="7286760" cy="4857480"/>
          </a:xfrm>
          <a:prstGeom prst="rect">
            <a:avLst/>
          </a:prstGeom>
          <a:solidFill>
            <a:srgbClr val="84aa3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Рисунок 5" descr=""/>
          <p:cNvPicPr/>
          <p:nvPr/>
        </p:nvPicPr>
        <p:blipFill>
          <a:blip r:embed="rId1"/>
          <a:stretch/>
        </p:blipFill>
        <p:spPr>
          <a:xfrm>
            <a:off x="3643200" y="2143080"/>
            <a:ext cx="4859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I CAN SEE A DOG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6" name="Содержимое 3" descr=""/>
          <p:cNvPicPr/>
          <p:nvPr/>
        </p:nvPicPr>
        <p:blipFill>
          <a:blip r:embed="rId1"/>
          <a:stretch/>
        </p:blipFill>
        <p:spPr>
          <a:xfrm>
            <a:off x="3098880" y="1447920"/>
            <a:ext cx="4172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ина</dc:creator>
  <dc:description/>
  <dc:language>en-US</dc:language>
  <cp:lastModifiedBy>Валерия</cp:lastModifiedBy>
  <dcterms:modified xsi:type="dcterms:W3CDTF">2018-08-14T17:08:47Z</dcterms:modified>
  <cp:revision>10</cp:revision>
  <dc:subject/>
  <dc:title>“The World I Can See“</dc:title>
</cp:coreProperties>
</file>