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8594-75AA-47B0-80F3-24CD8920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DE1A-F2C0-4EA5-B816-6C28592A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ED5A2-D01A-4B91-ADA0-056D33C4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157AD-69A8-4C05-8EE4-D0CF54E9F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7ECFC1-78F2-4DE6-8060-87CFC2594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37EF48-9869-4553-B366-9AA9338B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B5901-A99A-4F3F-A86C-4973547F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73C87-8D2F-49D2-B49B-A8E73751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5460E3-5321-4C74-8A6F-686A52B4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15DFCD-2798-4B43-B660-9AC91370E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E9F2E0-955B-45DA-ADF3-BAD9CC9F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74926C-786E-43DA-9FC8-1BAB53C6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A3D7-D096-409C-8D36-E9ADE47D0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E2EF45-FB0C-47C2-8F23-886E59A2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437373-0649-484B-9D43-4E0F214E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E7ABF-A6FF-4836-BD9D-ABFF8804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C499B-B9EC-4FD8-BB46-4DBB2292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7242D-A837-420A-B664-E50ED1FD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3C397-2F1A-4077-90E7-5430E005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F6A651-A208-40ED-B265-55F11AC1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72B71-5AE8-42EE-BDFC-ABB3DDF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049AD6-9896-41D5-845B-3D12C4C9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2ECCAB-42F9-4A2B-A7D3-BC2837D1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6EF4-F767-457D-B2E6-EA4AFB545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E2C3A-7796-4057-8054-797B5B856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C02F7-BEC6-4701-A158-6D352F8EF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F4506-4BD4-4403-80B9-844AAB8F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3DA472-7063-4B1B-98E1-EC6B73686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CC104-47CC-45EF-BFF3-4849AF8CF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D443D9-6034-4A6D-B3AE-07C2614D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965AC-9CD2-4E12-B282-47F4A38F1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A2394-0E12-4C7F-B79F-F8CE095B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DC6001-71E5-456C-A1E6-46D9D434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2FB58E-7C05-411A-A287-51B098B9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1AC77-4344-4D9E-84BD-9BACA12B4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2BE88-5BA9-48B7-8819-95701CE6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DEA6A4-6868-42BB-947E-FA3FE2EBD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8FDA7-62C7-4BA0-88D7-252DE311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0808BC-2F04-4848-93F3-78E930EFC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D83B89-785F-47F9-B599-F8E7D6A8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6639F-61B2-4933-8A75-50FE124A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DF0391-EA23-4643-A69E-6083979F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28343E-E369-4113-828D-0D42FC37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A4AC04-D383-4466-B774-5F2641B46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A702A0-6C6B-43CB-A057-FD9105C0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63D7-5FC6-4004-804C-50BB772C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98CD5D-21F1-48E8-A6A4-837794C0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4E7AC3-0A4F-4082-AE7F-2119DA0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DA9DA-A9B9-4783-8AC3-08318EC0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6D50F-311C-4634-88E2-CD2C8FA6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A5FFBD-3CA3-422E-8811-71D83C71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DA4F96-7427-4E54-A19E-2F48ED9C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E48E5D-0CA1-4E20-BFC8-438818A53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A693FD-5743-42A6-B6CC-6A0FBAA83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7008DA-DDFC-4E2A-AF27-6CEA89A1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A4119A-EF0C-4415-ABA1-5B5524AB9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BEC6-FAE1-4FF5-B6FE-5533EEB5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32FBF-DB09-4376-AA83-774BF8857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AD7D7E-CD37-4BFC-8BE1-959EF39D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1E2354-0447-4049-9A35-95C3D773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4C461-1E60-443D-82CA-FCC2292F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6D7A86-2ED5-4F3C-8577-5C5DC32D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07B0F1-394B-4F4E-ADEC-54BB6891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8FF7E-5C0D-47D8-83DF-73BB37E76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5CB6A-26AF-4813-AD63-8B9071AD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CD9F3-0807-4DA2-BACF-E3466A05E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3E9D9E-28C9-47F1-B97D-D6C109E18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329C-37FA-4F1F-AB30-6EBD6A2B7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F8B8F6-3155-4E60-B8A1-414AA3AD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3E240F-685E-4F01-8971-797645E9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E3CA99-09B5-4C0E-BC4E-CFE05E662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298105-151D-45D0-90FA-45E618F0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3E974C9-77FF-4708-A3D9-97AE24CF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D44318-6DD6-47FF-B500-A84CD7D3D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770A18-D097-41DF-B641-2846455C3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623E3B-37F4-40EC-A3DF-32ED978EC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1B8F4F-3D15-400D-BC7F-0D7AAF837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C6B70C-D4F7-4C65-87B3-F2DEC9A24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FA38-9E08-4F16-9FE7-43E1A644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DEFF4-1C10-49F9-A499-63F07E9AA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597F69-90F0-4E89-B227-D672742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200860-3319-43C9-84AB-2CCFC4042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8A44D2-2C8D-43F2-9EA5-D40954BD3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3167C4-604B-4F1D-9F81-44A37D677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1C78DD-3850-4384-91C3-EC611A63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0D652DD-096C-4F74-B0DE-49CEA2C0A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57F6F9-048E-4FEA-8833-5FBE54D88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E43DF1-4AA0-4E15-B98A-05BFD44DF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8894EC-2C02-45CF-96F2-DEFBDB1E8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2B6A-E67A-4B56-A98B-D8565D26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41795A-6C00-4FA4-BA5F-A36B8E7E7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B4AA04-72D0-4F7F-8BC2-50B97FF4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D4E06F-785A-4C8B-A81D-45BF42FF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2D5B8-BFF8-47F0-9558-58DB645AB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A92E4A-0AB2-4DF5-818E-AA732B179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6D8653-152B-49E2-A13B-0B03D16A6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AE5C1D-4ACC-48A4-8140-59C7A90BF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540E96-0087-4E53-920D-D95C34D4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2ACDC-9180-47C8-A40D-3C924577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6CC989-A256-4E8F-B869-4F8B617A1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2132-E165-4A39-A6D9-0FFCF752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9AA729-82C6-43E9-8E08-5410087D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3BC6EF-334C-42EB-911C-B99B42D1B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DDC7EA-CA59-4744-9B44-B0AA0393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7A48F9-6605-4267-8604-74428F371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F8874F-50C5-4A33-A44D-9B136C9B5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CDCCEF-AB35-401C-82DA-B06196BA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22C667-AA1B-4BD3-B31A-6B5A5176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4E60CF-9A24-4440-B3AB-FF38793D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D9FB5-EF5A-4357-B8A5-19DA38957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980C745-19B0-436E-9ED5-A3AD693DC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AD18-3E46-41C0-A948-DFEF7208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6917-EB80-48D7-9E7D-B2229789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81EE46-B659-452D-BE24-8B9794C1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AA3DA0-9216-4466-A9D6-8D1FED7C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885D59-B342-416A-B836-C3D038CA0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6ABD54-4418-4D6D-8826-918A6106E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BE9AD-067D-47D7-B4B6-96FE07B99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9B283E-06B4-44D7-8BEF-43B1BB5D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52141B-8832-4E02-9B0F-D0D858C0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8B9939-6D97-4482-B742-4DC638153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E05722-C97B-4C47-89A8-4FB1AA35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02ACCB-6184-4A79-90A3-AB30D4AB1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A3C9F-E6D2-4094-981D-CB5491625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6C07BD-94ED-4075-953A-95DA1021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9F69E8-7202-4D5F-8B38-ADD2C5CE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D7C491-B75D-4350-BF06-9D8618AA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554CC69-8A3A-4742-A443-B2BDFF697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E2E6B7-3DD8-4C49-88B8-CC303572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22EE9-34AB-410A-A98A-8148EB0B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91660-5CAC-48EF-BDA9-ED3BB3BBA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CDACE-E8EA-4B5A-9832-2843ED04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3DDC-C03E-412A-B1FD-224F0C055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DC03-3F51-4904-AEDD-046A253A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F474B-A28C-40CC-B4C7-81A6D8AC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2DBC0-49B1-4E20-B0A6-76F56C8E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63282-2B02-441C-8857-5FDD49DA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91C9C-33BB-4936-8BE2-7C78FBB4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8550F-F741-4EFA-9702-C2F364FF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4B7C-251E-4EC8-8022-0EC18BD9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2A086-BED6-4D84-A068-E5678019F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B1DBB-541D-4AFB-B36E-15A2C2E56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7D473-5CB8-49F4-8574-7B396BA7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DDEE-E5AE-40DF-8E12-7AFE8DEB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76E7D-81AD-4B27-A3D5-27363332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96412-EFE2-491E-A787-AA044A29A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18E3A-ADD8-4E4D-AD2B-E4BB4DAC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7E26F-9A39-432B-BDB3-E928EA925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067F3-081C-4D7D-8598-E8A43435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0BD3A5-1797-4C04-874F-0C44E3800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C18-F273-4A34-A828-080D32A0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6A5A8-8874-489E-8206-F6D0B7FCF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82B12-1FE0-493C-9553-027B1D5A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BE4DB-D69A-47B7-8B5C-5F5C57B3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BBC93-9B39-4D8B-9343-08E6E1D59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C50BF8-3EAB-4EA7-B75A-629FA5766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13F1-191E-4B05-990B-A95A35B3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23F3C-B155-4015-8EA7-37F41343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D13E2-131B-48FD-A6BF-A3419BD21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3F382-3935-464D-BA43-AF1C7A41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9D3CC-6B6B-4789-BFD6-C539732D8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9523-5EA7-470F-B178-5661AE6C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747F7-0CBC-4FAB-9954-A1CB48687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8B419E-0885-40F9-AB91-78F686B91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DDC2C-ABAE-49A8-A07F-D26349717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F47DD-60AE-4C9C-B56B-68A506DA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AC8D6-7E79-416E-8FDC-E9ACD54F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0944E-8EA2-4B8D-9423-26D6A361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0573F-F600-4AA9-BA80-CFE0B4F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FE927-F137-4D65-B804-2889A8A18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CD6C-EFB8-4DF6-8106-7D806B49E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73980-E3DD-4B31-A18E-D52181A5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D715-40DC-4698-BC63-6784248F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0DCCF-C1B4-44CE-9DD9-918C8641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117D5-9F36-441E-B5A4-1198C0C74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76BC44-CF23-40A3-8FB4-9B5AD9774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D1E25-C495-4304-AC27-5D67FF2F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ABD6B-88EB-4D03-B81F-C152E94DD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FBBF2-0FEF-496C-8A68-53E33BA2A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3507C9-1FBB-480F-B1D4-5F3D557CA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1E7CE-35A0-4254-B52D-67AFCC16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7CE67-C897-4203-9555-BFBAEFB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73F32B-E0A2-4664-AFAD-440B55E71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241D-0318-4B0C-8EAD-237B5F60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9EB438-7764-4326-9B75-2CDCF42C7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F3FA4-C4FF-4B5C-8216-07245A1D1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0FC26E-DB24-4768-B378-526E2D4DC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A3A0A-2CDD-4C2F-9C1C-D51FE3B45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A9327-088B-4A11-BF2A-288A8538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AD63E6-CE61-43F2-88C5-A6B39DD3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C97C82-181E-499C-8848-2E52AC4B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49980D-0289-4773-AB41-C78AA4EB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33E10-9D5B-450E-B486-5E9537B3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2DD838-C2B1-432F-AE99-7B2D9143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67D-BE61-44B3-A86D-208088EB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4C2E86-8057-44A5-B08B-2891B94F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79AE9-0C8E-42A4-B06F-41FB93E80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D777D-C404-4B2D-AD4A-E30C03EF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7325B-D9F7-4897-96F7-0F0A5FE9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8E73A-76BE-4040-8D36-EBE008289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D6321-602A-4517-96C8-7D71D700C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BA650-4257-4B1D-8936-49ECD482A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944C7-6C78-4EFD-A8FE-7F9568D0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48C116-C27B-4861-ACA0-4787F982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B09EF-B226-4550-8BB5-2843119B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20C-E028-4301-9F3D-B43098409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14040" y="619200"/>
            <a:ext cx="10363320" cy="739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98434-5446-4641-8344-515C04E24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BC222-AECE-4552-9D92-5241FB3A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310520-71F2-49AB-9CEB-D7818A851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F2D8C-63D8-4170-8E11-DAFCFE28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914040" y="4155840"/>
            <a:ext cx="1036332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DE36F-810A-4DDB-BC9C-EA455AE85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4400" y="236700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04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224400" y="4155840"/>
            <a:ext cx="505728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FB217B-18D2-4AE3-9551-3B2FCA16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828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7922160" y="236700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91404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441828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7922160" y="4155840"/>
            <a:ext cx="3336840" cy="16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E9D26-FB96-464D-B6BC-320014C00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59E224-FAA2-4894-9682-972EFC4A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C795E6-91A1-42AB-89E6-AEDF7CB17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775BAB-5C66-4326-88AF-9B7DF9D01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B6B4E2-2BC9-4208-B116-07B0813995B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8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9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30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9317D6-803C-435B-9B50-A731CC989B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A564B7-B829-4734-8B17-495AB0448CF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3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3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3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7A9FE4-0F9A-4BAE-B1A1-208D7F7CA6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8"/>
          <p:cNvSpPr/>
          <p:nvPr/>
        </p:nvSpPr>
        <p:spPr>
          <a:xfrm>
            <a:off x="1001880" y="754200"/>
            <a:ext cx="60948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TextBox 9"/>
          <p:cNvSpPr/>
          <p:nvPr/>
        </p:nvSpPr>
        <p:spPr>
          <a:xfrm>
            <a:off x="10557000" y="299412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w Cen MT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456D50-7491-49BF-81A6-C02142DD4C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4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4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4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CA0698-D586-4F6B-94D3-E5889ACB795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8D623-1A84-4BB9-8896-04B0493143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5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77E806-AB87-45C3-9C21-AB9B507CEE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EB3CDB-6995-4E6E-AD3D-77A71C95CB6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AC30AB-C861-47FC-9AAD-B7AF460A88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Droplets-HD-Title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E41727-18FD-4DA0-B94A-35B9C00A4E9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6EFBA0-B0C0-4A7D-A7B3-2A38367A8E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46A086-5C74-4B6D-904F-78243852B22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81047B-DAE4-4501-AB35-5372864F3AA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D42D87-0324-44AF-B43D-6E54B576598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7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9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0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21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03A608-6EF7-49C0-A0B7-2BE71192AB2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6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006689-5F98-4440-9884-438E96F7E27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8b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Picture 2" descr="\\DROBO-FS\QuickDrops\JB\PPTX NG\Droplets\LightingOverlay.png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10" descr="Droplets-HD-Content-R1d.png"/>
          <p:cNvPicPr/>
          <p:nvPr/>
        </p:nvPicPr>
        <p:blipFill>
          <a:blip r:embed="rId3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619200"/>
            <a:ext cx="1036332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w Cen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2367000"/>
            <a:ext cx="10363320" cy="34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678800" y="5882760"/>
            <a:ext cx="2743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914400" y="5882760"/>
            <a:ext cx="6672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10513800" y="5882760"/>
            <a:ext cx="763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1A9027-BE0D-46CF-BF22-38D7C349FE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85880" y="1198440"/>
            <a:ext cx="10837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LETTER GIVING ADVICE</a:t>
            </a:r>
            <a:endParaRPr b="0" lang="en-US" sz="6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6" name="TextBox 4"/>
          <p:cNvSpPr/>
          <p:nvPr/>
        </p:nvSpPr>
        <p:spPr>
          <a:xfrm>
            <a:off x="785880" y="2567160"/>
            <a:ext cx="573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n Body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743040" indent="-74304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</a:t>
            </a: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  <a:p>
            <a:pPr marL="743040" indent="-743040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5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Box 3"/>
          <p:cNvSpPr/>
          <p:nvPr/>
        </p:nvSpPr>
        <p:spPr>
          <a:xfrm>
            <a:off x="762120" y="0"/>
            <a:ext cx="1042488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oduction (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graphs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Heading (Address/Date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 Lenina Street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nilov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ssia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May 2018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r May 17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18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  <a:p>
            <a:pPr marL="914400" indent="-914400" algn="r">
              <a:lnSpc>
                <a:spcPct val="10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/05/2018)</a:t>
            </a:r>
            <a:endParaRPr b="0" lang="en-US" sz="4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TextBox 3"/>
          <p:cNvSpPr/>
          <p:nvPr/>
        </p:nvSpPr>
        <p:spPr>
          <a:xfrm>
            <a:off x="1295280" y="1143000"/>
            <a:ext cx="10896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Greeting (1 paragraph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ar Margaret,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TextBox 4"/>
          <p:cNvSpPr/>
          <p:nvPr/>
        </p:nvSpPr>
        <p:spPr>
          <a:xfrm>
            <a:off x="990720" y="685800"/>
            <a:ext cx="998208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Opening Sentence (1 paragraph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ing read your problem in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s sorry to read about your problem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understand how you are now and 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was in the same situation you are a few years ago 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Box 3"/>
          <p:cNvSpPr/>
          <p:nvPr/>
        </p:nvSpPr>
        <p:spPr>
          <a:xfrm>
            <a:off x="1184400" y="568440"/>
            <a:ext cx="1100772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Main Body (2 or 3 paragraphs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you should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strongly advise you to/not to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 really should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best thing for you to do is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I were you, I’d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’s usually a good idea to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my experience, … works really well.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Box 3"/>
          <p:cNvSpPr/>
          <p:nvPr/>
        </p:nvSpPr>
        <p:spPr>
          <a:xfrm>
            <a:off x="351000" y="117360"/>
            <a:ext cx="12317400" cy="66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Conclusion (3 paragraphs)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To sum up,…/Summing up,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onclude,…/Concluding,…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’m sure that if you follow my advice, you’ll see that everything will work out.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luck.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Yours faithfully,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urs sincerely,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Name/Surname</a:t>
            </a:r>
            <a:endParaRPr b="0" lang="en-US" sz="4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Рисунок 4" descr=""/>
          <p:cNvPicPr/>
          <p:nvPr/>
        </p:nvPicPr>
        <p:blipFill>
          <a:blip r:embed="rId1"/>
          <a:stretch/>
        </p:blipFill>
        <p:spPr>
          <a:xfrm>
            <a:off x="1812960" y="-9360"/>
            <a:ext cx="9045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3" name="Рисунок 4" descr=""/>
          <p:cNvPicPr/>
          <p:nvPr/>
        </p:nvPicPr>
        <p:blipFill>
          <a:blip r:embed="rId1"/>
          <a:stretch/>
        </p:blipFill>
        <p:spPr>
          <a:xfrm>
            <a:off x="1468440" y="0"/>
            <a:ext cx="9158400" cy="686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</dc:creator>
  <dc:description/>
  <dc:language>en-US</dc:language>
  <cp:lastModifiedBy>Трям</cp:lastModifiedBy>
  <dcterms:modified xsi:type="dcterms:W3CDTF">2018-08-14T10:22:13Z</dcterms:modified>
  <cp:revision>5</cp:revision>
  <dc:subject/>
  <dc:title>Презентация PowerPoint</dc:title>
</cp:coreProperties>
</file>