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1CA-47C1-4A08-BD22-5650E0E58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410F-23E1-4314-9E22-8E9837EF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D7EB53-B114-4AE8-AC87-F656DF7FE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C7039-D794-47FD-9D4E-8F9D9D08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63013D-B493-45ED-A136-0F076DC5B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70DEC-A30E-4C2C-B791-493ED59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845CF5-2B30-4F45-8DDD-299058B3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CC6E3-A0A0-4222-99D9-FD98BE5C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7F842-9510-4179-8866-6A4A29B9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7FCA63-3D02-4F5A-B6C5-DB576A594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2D2D9-AB76-4EBB-89BD-ACC54FCF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B38F0-2A86-4FFA-A134-848C3DD8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15DC-83A2-43CF-B523-2E98F71BC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971C0B-788B-4ADA-9FFE-AC21BE3F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7B282-BFC1-4652-84DF-F5CB652F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38562B-6D53-4C3A-90C5-50FD34003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D80AF-FE89-4904-9497-AAF43B52D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066A83-D9BA-4346-8A85-9960B718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D2953-A1DB-43CF-9B2B-E13A9298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DF7D2-E2E0-48E3-ABB8-98E25E083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4A820-20B3-4C8D-8C2E-83BCA2FE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9876A-4700-44E1-95D6-8DCC37A3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2D771-2AFB-44B7-9DA7-471EBE24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4B1-D1F6-4CD9-88F5-1D1047EB6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F4C1F8-3DC2-485A-97E7-6E88ED906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DDACA8-BD34-4093-8E10-8B38C5FD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91CDD-FD39-4E7F-911D-CAACBB5DF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85B1B1-4316-45A6-AB70-7460FD0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987C8-288D-41F1-8C24-AFBE7ACC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8D1CC-FF52-48FA-8268-89D90E47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56ADB0-46AE-4D00-A228-A938039F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08281B-74B2-43EF-8D93-1AFD6226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4E82D-E348-417D-9C67-7306290E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96811-C06F-4EEA-8317-AB6B3739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F911-1F00-4EF1-9B2C-C7C40AE24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7AA9C8-E1B9-44FF-B442-7372215B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371C1-BFBE-4E12-B570-94A6084C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CCA02-3777-4765-AB2B-8BD9B3115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B607A-C056-4DBD-8626-FABD8CF3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D209B1-E485-451C-B86A-5D033DA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563184-3E79-4F59-904B-ABC754462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25957D-639A-4BEC-8311-3FBB2693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03562-533C-447C-9DCD-1BBA8D05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839607-AE73-4D93-A9AC-D9BC2E22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4E0D14-F62A-447A-8E64-F6F17C0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C874-E421-4626-B326-EE82739C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8A3E-A76F-4C01-A3FA-388B80C9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50BC4-E1F4-4F5A-A02A-7E7D5E39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D6389-CBF6-4015-8075-7422503E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7EEC0-6513-4083-8B74-C1073366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278B73-B30D-4B09-B2DE-2085E277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6B8FE-0BBD-43B1-A172-B49C21DF8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B73AF8-8D82-4628-BD98-D9CEFDBC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22622B-D4E2-43E6-8C0F-5B4B50DA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AC06B-E6C9-4098-8AC4-B5E147A6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8EAE3D-ED2B-4784-B086-E42615402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C94E-C47F-4777-9BDC-D3B25172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1F1BA6-5953-43D9-8A2A-DC604199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0E860-BF37-48CC-9B8E-08C9CB72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F0178-BD10-4C23-A59E-D9B8FF17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3B614-D174-42AF-A3D6-1D38D1C6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0162DC-8944-475C-9650-85C0D38C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2149A7-43AC-4075-B31D-E1365433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023D7C-2A6F-45C0-99A0-FB5D5F5E7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836FDC-20F0-4E5B-9B56-C2F5C0BB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785362-B10C-49D0-A2D5-E3AB22BA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67CA7-87AA-4269-8648-60E14DB5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4347-0815-4EB0-8983-09A38C72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513CC8-3353-4EBE-BF40-0B340BDB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95F810-6B01-44BF-80A8-1463C2A2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AA88E4-8441-44C1-B7ED-57F536E3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6D4155-BF92-43E2-88C2-887DF3946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550A1-FF82-4228-9487-1777AAF7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9526D4-C598-4239-AAC1-34942FEF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9B930-ED8E-4554-870A-6E1AE828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45EC74-B485-447F-8A33-D1D90C88A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57C587-0A29-40FE-93DF-F4000367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C09563-23E2-45F5-BD0C-F065E326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C8778-D0DC-4A74-A504-3F105131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06824-434E-424F-A630-F1EDDA1D8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D759D-CC98-4424-A9F7-2D7B4AD7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98A435-6F52-4711-9F7D-CA33F06F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266CAE-5C7A-4E46-83A0-CE3783A2D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3148F7-8E27-4C3F-B0EB-7C5B2370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C97BB0-71CC-4D0D-9EEA-C0F9D239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E4309-534B-48FF-89C3-0908C0045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AD1D9-60C9-4962-BE52-8209C67B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052C2E-B2C5-4C2E-B0B0-B7412B07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16BAFA-1CF0-429D-9F08-99717C275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E148-6892-4365-B595-CD255EE2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55429-F063-4734-8834-E06849109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9DE8F5-C6B7-430B-BCA2-CF9653582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ED97AA-2D35-4F0F-8A45-DEE78697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495504-9FA1-41D2-AF4B-6086E912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811FBA1-9A37-4B1A-AB49-1A302ACF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56DC9C-15BC-4133-9F1A-7ADBDC19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D9AA78-66AF-4E7F-AD12-50C1009DD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9CAC7E-97EE-40C0-A290-1D862AA1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86A438-FCD0-4338-950A-CA024D2E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A87D8E-2CA8-4609-9DE2-9970AC3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A0B6-E3DC-476C-BC0C-F533A85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D6311A-BF4F-4E3D-81DF-1BEC5B27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F76354-5666-495E-8C55-239FB7C4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D620EF-9656-4680-9653-E44265D2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70053B-F638-42E4-B362-BCE2C7FB0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54AEAA-BF31-4308-BAC1-672F81EC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4C11E4-B46D-47DF-824C-F098ADE6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D4BCB-6A68-466C-A8D6-A2D75E00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32517-4454-4164-AC7A-FA8211EA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54C08-9F44-4199-BD54-B9735E1B0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A71C7D-E13A-4555-8F01-16DA5C74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AF6-CB01-48E7-B430-3BCC42975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5D70-C2C6-4224-BFA4-2D34DF412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0E450B-EE74-43AA-9A58-AB5DC49D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F89D8-E8CC-4D03-BA4F-033E4263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C662E6-CB6A-482F-B1C9-14B957C7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A56241-1A00-48D2-82C8-3D1C5B500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8F8E67-E139-45CF-8EED-B3FF5D8AC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764430-1699-45FE-8194-5B869F83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76784A-DD92-4E72-BCF4-ABC5E7B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710FFF-7CBE-4246-B9D6-B2B971210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1B4C92-B057-4CD3-8F90-59E981F7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7E70EC-F08A-47EC-82E0-657C38C6D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51DF-E533-4BB1-88D2-21AADED1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7CB1D-EC00-4BF2-97E9-7742D11E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1EE47-99E3-44EE-AE10-6F79A32BE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3A67B2-C508-4180-AA6C-59D3673C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3A975-2CF5-4357-AA1B-784F245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A786A4-BDF4-4959-B0AA-E7F10FF4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D257F5-7E21-45CA-972A-29390979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0CE86-02C2-4D9C-BD71-68E921A4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8535-EAA1-49A7-9AFA-40F517C0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864C7-C5C1-42B1-818C-4470DB6B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E9F5B-ADDE-4BE1-A05E-FAFA15E9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C90D7-C1A7-453B-9366-FEF7F5F5F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C3706-3573-4CA6-BC87-011125A6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99C42-D964-4C04-A5CD-CBB5B3FB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5D206-E61D-40E6-8624-E64D5F3D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91480-F78B-40CC-B671-8B72BDE1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64B2-76A4-44F1-9ED1-B8F260DF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9D400-0351-4236-B44F-417D4AB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323B8-904A-4DBE-A6E1-E00EDD947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64464-2F18-4B40-A532-94AAD093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C0374-B68B-4097-B9A1-C558103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7E97A-2203-402B-BB23-D8B84188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244C6-A5F3-4412-93DB-3819D5A5E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C4B3-DCE6-44C6-8597-B5DCAF41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8F765-570B-4DCC-A08B-162A0440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AFA81-D200-42CD-9444-B60517DDD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3BBB5-0658-47CC-8F0A-5CB227F1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C5F4-9B01-45AE-A3E6-8203BADF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EA9C-B87A-48CB-A1A7-E9D3009EF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F640A-DE72-4D56-9F61-3ED31BE8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5B4AF-3908-4928-A69E-DC14FEA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66AE1-03D3-4431-9790-55D3382F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E9DDC-C753-4250-B37A-2CA2C15E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678F7-E894-40CA-8116-9AAA16C09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8524B-80A4-448F-819B-404CA3A3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DA8A-67A1-4361-A4E4-4C27BAD0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C2E48-C193-45B0-8911-C62131AE0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B359B-D850-4F0B-B699-DDB8D88F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15C1-BC52-498F-B0BC-71B71602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2EF5-4818-443E-B8DB-16C27491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7160-1B56-4B08-BCDA-69F6A7BD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BC4A0-1DB0-4C89-B151-731454E3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88772-E0F3-441D-9814-65ED27FD1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D05E3-82A9-4015-8DCE-7BD78345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15058-3125-4E3A-8CC2-38E5652E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97B81-75A1-4001-AD76-718F324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1D4FB1-3128-4420-AF92-ED175A99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C4D32-7D75-406A-9590-FB8CF8E5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B7F05-D601-4BA3-B521-2F698659D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CCF0-5A44-477E-A90D-F1438758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8251C-A67D-4C48-8FF2-1FB063F4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06830-8570-4468-8854-E59C32030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0F23B-51E9-4F5B-81CE-2CF5C68F3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856B6-185C-44E4-86F2-380170F56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EF07F-31AD-4BCE-B49C-42121CA9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36435-7B04-495B-BE8E-6CB05B95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84833-17C6-47CF-8FB4-9261690C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4ED79-CA58-4F1E-A54B-849916D6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E6831-4D00-460E-860E-99DDCE86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01D18-0210-4EF5-99B7-9C53A17A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607-B1D9-4880-AACB-B0B48FCF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D787-68E6-4BEC-9EAA-38A14D70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2367-48CD-407E-83F2-18CE246E5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C0C5D-1C5E-4D0D-A3F7-3E778EB9F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3A783D-B2C2-4D45-A7D2-E8ADAB86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1EEA6-E483-4DA3-A8EB-6A3C45C1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920C4-4FD8-400D-B397-0C0893B6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DE0B4E-2B6A-4F6E-AD58-2BDFD96AE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581D4-A739-4CCB-AF95-9E4DF96C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E151B-808B-47B8-8B73-42338D51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EC078-34A7-451C-BD04-E1A9BDC1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34C-0497-41C9-8772-2FF9D9A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005F9-CE69-4BB6-A5A2-C9ED01B5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A29C4-3670-4D05-BEE1-890210EF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FC3B-CC13-4A84-B4A3-4E8DFA0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BCA62-AC8C-4AF7-A799-917F5EA9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FFFD0-C9DD-4A32-ADDB-69887F15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46DC2-5F06-4A55-86DB-63020DA8B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268C5-F239-494C-8CA1-20670D24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08BF0-51E3-415B-AE36-0647CBA9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B202F1-0D88-4B89-B0B2-FE90D9DF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7BF926-9A50-44CE-85C3-ED0ABFE1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FAD9-24A7-4E71-8D4F-1E1C8406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92D3D-BFA2-4D85-9F39-1318D1B9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44264-06F4-4E5B-8AB8-75584CD9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26EC0-5E03-43E0-A01C-99E7F09D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5FA84-6CF2-40B0-AC98-83825DC9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CF47C-B4F3-43C6-8826-83460D40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ABA00-05E0-4112-A18D-52C3D1374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A250CE-86D2-4BB6-8898-4DBBFE0ED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BB200-EEEF-4DFF-AAE8-1E55C3FD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455F-D4AA-45A4-AABD-5FD2DD92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A9EC4-77D0-4900-9C27-D02252A3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12AAA1-CB20-47F5-AB52-F57C26B6B1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139D7F-9160-4F09-9C88-A788664B8C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0B8171-1435-478F-9048-51E70BEA7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9892E-20D1-426A-AB17-597015EED6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350A6-5427-4475-86C4-D37D1126C5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FE4E14-4157-4544-9A11-99C892C475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3FC55-E04C-43AE-B5B6-F240C410D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2E0B2A-C798-4ACE-8112-BE2F06F4A6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2EC2CF-BD2E-45B1-BF70-1B935B2BE1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76C097-1205-46A3-80C6-293D0B5F75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3C265E-D2BD-48A7-BEB0-D3F0DA7899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32590A-65A7-422E-8833-B9AB1C6E039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BE4259-B7CC-45CD-A68F-E8660FAFA6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0F67B-739F-40A2-9910-50264517984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63CEB-9B0E-4C18-872E-FE0A3998C1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76FFD-2538-4A81-8FD1-93503D0C6E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1A9BF-A7F4-438D-A604-6C41E81218E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35BCD5-C037-4034-907C-64D5E71C3D8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85880" y="1198440"/>
            <a:ext cx="108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TTER GIVING ADVIC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TextBox 4"/>
          <p:cNvSpPr/>
          <p:nvPr/>
        </p:nvSpPr>
        <p:spPr>
          <a:xfrm>
            <a:off x="785880" y="2567160"/>
            <a:ext cx="573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Body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3"/>
          <p:cNvSpPr/>
          <p:nvPr/>
        </p:nvSpPr>
        <p:spPr>
          <a:xfrm>
            <a:off x="762120" y="0"/>
            <a:ext cx="104248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(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eading (Address/Date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Lenina Stre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lov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May 2018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May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/05/2018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3"/>
          <p:cNvSpPr/>
          <p:nvPr/>
        </p:nvSpPr>
        <p:spPr>
          <a:xfrm>
            <a:off x="1295280" y="1143000"/>
            <a:ext cx="10896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Greeting (1 paragraph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 Margaret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4"/>
          <p:cNvSpPr/>
          <p:nvPr/>
        </p:nvSpPr>
        <p:spPr>
          <a:xfrm>
            <a:off x="990720" y="685800"/>
            <a:ext cx="9982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Opening Sentence (1 paragraph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read your problem in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sorry to read about your problem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nderstand how you are now and 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in the same situation you are a few years ago 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3"/>
          <p:cNvSpPr/>
          <p:nvPr/>
        </p:nvSpPr>
        <p:spPr>
          <a:xfrm>
            <a:off x="1184400" y="568440"/>
            <a:ext cx="11007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ain Body (2 or 3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you shoul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rongly advise you to/not to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really shoul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st thing for you to do is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ere you, I’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ually a good idea to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y experience, … works really well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3"/>
          <p:cNvSpPr/>
          <p:nvPr/>
        </p:nvSpPr>
        <p:spPr>
          <a:xfrm>
            <a:off x="351000" y="117360"/>
            <a:ext cx="12317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nclusion (3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To sum up,…/Summing up,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clude,…/Concluding,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’m sure that if you follow my advice, you’ll see that everything will work out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uck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Yours faithfully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s sincerely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Name/Surname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Рисунок 4" descr=""/>
          <p:cNvPicPr/>
          <p:nvPr/>
        </p:nvPicPr>
        <p:blipFill>
          <a:blip r:embed="rId1"/>
          <a:stretch/>
        </p:blipFill>
        <p:spPr>
          <a:xfrm>
            <a:off x="1812960" y="-9360"/>
            <a:ext cx="9045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Рисунок 4" descr=""/>
          <p:cNvPicPr/>
          <p:nvPr/>
        </p:nvPicPr>
        <p:blipFill>
          <a:blip r:embed="rId1"/>
          <a:stretch/>
        </p:blipFill>
        <p:spPr>
          <a:xfrm>
            <a:off x="146844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Трям</cp:lastModifiedBy>
  <dcterms:modified xsi:type="dcterms:W3CDTF">2018-08-14T10:22:13Z</dcterms:modified>
  <cp:revision>5</cp:revision>
  <dc:subject/>
  <dc:title>Презентация PowerPoint</dc:title>
</cp:coreProperties>
</file>