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A0AF-9A3B-4B0D-99CE-E28FE98753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7B73-8C59-4AA5-AF3B-9E91FED442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C447-1412-4F77-8299-6D42DF63C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182A-9EC4-4758-8421-44E6BA34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F7E9-4A51-45CE-A53D-A4315DD12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BB90-6716-41A7-981B-F8DB2788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FA6F-CC78-4341-9C97-2E92E98F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A48D-0EE5-4A36-ADDE-99DE672A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CDF2-E077-4DA9-B4B8-3E35D1A3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BBFE-0B80-4352-9744-DE8F2100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3D5C-777B-4B66-A7D6-05DEBB7C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38AE-0A34-4132-B43D-890B8962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5F72-2388-427C-98A9-96F60161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BA4B-05D8-4543-B84B-FE82704A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F253-DAFC-4554-9D9C-4E31B15DC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836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«Балахнинское чудо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8960" y="4952520"/>
            <a:ext cx="7407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Arial"/>
              </a:rPr>
              <a:t>Выполнила: ученица средней школы №12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Arial"/>
              </a:rPr>
              <a:t>9А класса, Синякова Дарь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Arial"/>
              </a:rPr>
              <a:t>Французкое и Балахнинское кружева </a:t>
            </a:r>
            <a:r>
              <a:rPr b="0" lang="en-US" sz="4100" spc="-1" strike="noStrike">
                <a:solidFill>
                  <a:srgbClr val="000000"/>
                </a:solidFill>
                <a:latin typeface="Gill Sans MT"/>
              </a:rPr>
              <a:t>XVII </a:t>
            </a:r>
            <a:r>
              <a:rPr b="0" lang="ru-RU" sz="4100" spc="-1" strike="noStrike">
                <a:solidFill>
                  <a:srgbClr val="000000"/>
                </a:solidFill>
                <a:latin typeface="Arial"/>
              </a:rPr>
              <a:t>века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Содержимое 4" descr="фран.jpg"/>
          <p:cNvPicPr/>
          <p:nvPr/>
        </p:nvPicPr>
        <p:blipFill>
          <a:blip r:embed="rId1"/>
          <a:stretch/>
        </p:blipFill>
        <p:spPr>
          <a:xfrm>
            <a:off x="380880" y="2362320"/>
            <a:ext cx="3500640" cy="3500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3" name="Содержимое 5" descr="балх.jpg"/>
          <p:cNvPicPr/>
          <p:nvPr/>
        </p:nvPicPr>
        <p:blipFill>
          <a:blip r:embed="rId2"/>
          <a:stretch/>
        </p:blipFill>
        <p:spPr>
          <a:xfrm>
            <a:off x="4648320" y="2514600"/>
            <a:ext cx="4160880" cy="3368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7260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КРУЖЕВНИЦЫ БАЛАХНЫ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181480" y="1294920"/>
            <a:ext cx="3409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з внимания мы не можем оставить знаменитых кружевниц, которые плели кружева. Это представительницы известных балахнинских семейств Заевых, Богдариных, Зеленихиных и других. Имена кружевниц содержатся и в архивных документах, правда, встречаются они крайне редко. Под 1863 годом названы балахнинские кружевницы – мещанские жены Агафья Федорова Половинкина, Александра Иванова Пастухова, Елизавета Алексеева Коскина. Также бабушка Максима Горького, Акулина Ивановна является кружевницей нашего город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Содержимое 4" descr="img8.jpg"/>
          <p:cNvPicPr/>
          <p:nvPr/>
        </p:nvPicPr>
        <p:blipFill>
          <a:blip r:embed="rId1"/>
          <a:stretch/>
        </p:blipFill>
        <p:spPr>
          <a:xfrm>
            <a:off x="380880" y="1143000"/>
            <a:ext cx="4179960" cy="5135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1371240"/>
            <a:ext cx="42670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ИЛЛЮСТРАЦИЯ К 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ПОВЕСТИ М.ГОРЬКОГО 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«ДЕТСТВО»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БАБУШКА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АКУЛИНА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ИВАНОВНА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2643120" y="1714320"/>
            <a:ext cx="2195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Содержимое 4" descr="Бабушка_Акулина_Ивановна.jpg"/>
          <p:cNvPicPr/>
          <p:nvPr/>
        </p:nvPicPr>
        <p:blipFill>
          <a:blip r:embed="rId1"/>
          <a:stretch/>
        </p:blipFill>
        <p:spPr>
          <a:xfrm>
            <a:off x="4876920" y="685800"/>
            <a:ext cx="3477960" cy="5429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043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ИДИЯ ФЕДОРОВНА ВАСИЛЬЕВА-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АЛАХНИНСКАЯ КРУЖЕВ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350028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1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удивительной мастерицы Варвары Ивановны Быковой занималась Лидия Федоровна Васильева, окончившая Вятскую школу кружевниц. В 1968 г. она возглавила цех кружевоплетения в Балахне. Вместе со своими ученицами Галиной Александровной Котовой и Ольгой Анатольевной Чернигиной собирала старинные сколки, образцы рисунков, изучала технологию многопарного плет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Содержимое 4" descr="лидия фк.jpg"/>
          <p:cNvPicPr/>
          <p:nvPr/>
        </p:nvPicPr>
        <p:blipFill>
          <a:blip r:embed="rId1"/>
          <a:stretch/>
        </p:blipFill>
        <p:spPr>
          <a:xfrm>
            <a:off x="4191120" y="1447920"/>
            <a:ext cx="4606920" cy="4952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0438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БАЛАХНИНСКИЕ КРУЖЕВНИЦ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438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алина Александровна Котова  работала в цехе кружевоплетения Городецкой строчевышивальной фабрики, который существовал в Балахне с 1969 по 1994 г. Возглавляла его Лидия Федоровна Васильева, окончившая Кировское училище и приехавшая в Балахну в 1968 г. Кружевницы этого цеха стали наследницами сложного по технике исполнения «балахонского манер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Содержимое 4" descr="cex_kruzhevybc.jpg"/>
          <p:cNvPicPr/>
          <p:nvPr/>
        </p:nvPicPr>
        <p:blipFill>
          <a:blip r:embed="rId1"/>
          <a:stretch/>
        </p:blipFill>
        <p:spPr>
          <a:xfrm>
            <a:off x="4876920" y="1066680"/>
            <a:ext cx="4006800" cy="5257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2500200" y="1494000"/>
            <a:ext cx="21715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1640" y="990360"/>
            <a:ext cx="4390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дия Федоровна плетет косынки, шарфы, воротники “балахонского манера”. Освоила самые сложные многопарные переплетения, характерные только для Балахны, изучила художественные особенности орнаментального узора кружева, проводит работу по реставрации старинного балахнинского круж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4" descr="22.jpg"/>
          <p:cNvPicPr/>
          <p:nvPr/>
        </p:nvPicPr>
        <p:blipFill>
          <a:blip r:embed="rId1"/>
          <a:stretch/>
        </p:blipFill>
        <p:spPr>
          <a:xfrm>
            <a:off x="380880" y="380880"/>
            <a:ext cx="4040280" cy="5857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57120" y="571320"/>
            <a:ext cx="45007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балахнинском кружеве вы найдете около десятка различных вариантов сеток-решеток, которые весьма плотны на ощупь, но все же не утяжеляют кружево, а наоборот придают ему особую воздушность. Кроме того в кружевном полотне используются овальные насновки, цветочные мотивы, виноградные грозди, розы, медальоны, завитки, цветочные гирля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Содержимое 4" descr="kruzhevo6.jpg"/>
          <p:cNvPicPr/>
          <p:nvPr/>
        </p:nvPicPr>
        <p:blipFill>
          <a:blip r:embed="rId1"/>
          <a:stretch/>
        </p:blipFill>
        <p:spPr>
          <a:xfrm>
            <a:off x="5029200" y="457200"/>
            <a:ext cx="3867120" cy="5867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429840" y="-23760"/>
            <a:ext cx="93600" cy="61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85480"/>
            <a:ext cx="832968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В 19 веке кружевоплетением в Балахне занималось практически все ее женское население (традиционно девочек начинали обучать ремеслу с 5 лет), к тридцатым годам революционного 20 столетия кружевной промысел почти умер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Содержимое 4" descr="kruzhevo5.jpg"/>
          <p:cNvPicPr/>
          <p:nvPr/>
        </p:nvPicPr>
        <p:blipFill>
          <a:blip r:embed="rId1"/>
          <a:stretch/>
        </p:blipFill>
        <p:spPr>
          <a:xfrm>
            <a:off x="2362320" y="3200400"/>
            <a:ext cx="4687920" cy="3357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2143080" y="1024200"/>
            <a:ext cx="150012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380880"/>
            <a:ext cx="8043840" cy="14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временное балахнинское кружево восстановлено по крупицам теми, для кого кружевоплетение и жизнь слились воеди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Содержимое 4" descr="ba9f169f5a2c.jpg"/>
          <p:cNvPicPr/>
          <p:nvPr/>
        </p:nvPicPr>
        <p:blipFill>
          <a:blip r:embed="rId1"/>
          <a:stretch/>
        </p:blipFill>
        <p:spPr>
          <a:xfrm>
            <a:off x="914400" y="2057400"/>
            <a:ext cx="7510320" cy="4307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900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РНАМЕНТ  БАЛАХНИНСКОГО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РУЖ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13880" y="1356840"/>
            <a:ext cx="7401240" cy="16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оеобразие «балахонского манера» заключалось в легкости решеток, на которых располагаются густые букеты цветов и винограда. Орнамент почти всегда очерчен толстой шелковой нитью, внутреннее пространство между лепестками заполнено прозрачной решеткой. Орнаментом балахнинского кружева в основном являлось и является раститель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Содержимое 4" descr="747f217d00e0cfe41c.jpg"/>
          <p:cNvPicPr/>
          <p:nvPr/>
        </p:nvPicPr>
        <p:blipFill>
          <a:blip r:embed="rId1"/>
          <a:stretch/>
        </p:blipFill>
        <p:spPr>
          <a:xfrm>
            <a:off x="1143000" y="3276720"/>
            <a:ext cx="6781680" cy="3093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240" y="761760"/>
            <a:ext cx="4714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Одним из самых загадочных чудес нашего края является кружево. Местный кружевной промысел ведет свою историю с последних десятилетий XVII в., его расцвет пришелся на период с конца XVIII до конца XIX в. В XIX в. кружевоплетением занималась половина всего женского населения Балахны и окрестных деревень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Содержимое 4" descr="3b7982fa7d (1).jpg"/>
          <p:cNvPicPr/>
          <p:nvPr/>
        </p:nvPicPr>
        <p:blipFill>
          <a:blip r:embed="rId1"/>
          <a:stretch/>
        </p:blipFill>
        <p:spPr>
          <a:xfrm>
            <a:off x="4952880" y="609480"/>
            <a:ext cx="3973680" cy="5791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428400"/>
            <a:ext cx="86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торический факт – платье королевы Виктории украшали балахнинские круже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Содержимое 3" descr="vikt_albert_24_3134fa2548f73aad013f48cd371cc332_272.jpg"/>
          <p:cNvPicPr/>
          <p:nvPr/>
        </p:nvPicPr>
        <p:blipFill>
          <a:blip r:embed="rId1"/>
          <a:stretch/>
        </p:blipFill>
        <p:spPr>
          <a:xfrm>
            <a:off x="2590920" y="1752480"/>
            <a:ext cx="4108320" cy="4657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714240" y="-180000"/>
            <a:ext cx="46080" cy="69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14200"/>
            <a:ext cx="83296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ссортимент кружевных изделий был многообразен . С одной стороны - это бельевое кружево : концы полотенец , простынь , подзоры , салфетки , скатерти, кружево на отделку подушек , на комоды , подносы ; с другой- изделия для отделки женской , а также мужской одежды : галстуки , пояса , каймы платков , наколки на причёску, головные уборы ( шапочки ), перчатки , кофты , платья , воротники , манжеты , накидки , шали , косынки и платки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Содержимое 4" descr="42-1.jpg"/>
          <p:cNvPicPr/>
          <p:nvPr/>
        </p:nvPicPr>
        <p:blipFill>
          <a:blip r:embed="rId1"/>
          <a:stretch/>
        </p:blipFill>
        <p:spPr>
          <a:xfrm>
            <a:off x="990720" y="2743200"/>
            <a:ext cx="7086600" cy="3686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285480"/>
            <a:ext cx="8400960" cy="21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лахнинские мастерицы выплетали шарфы, косынки, наколки на голову, пояса, оплеты носовых платков, концы полотенец, воротники, платья и пальт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Содержимое 4" descr="11.jpg"/>
          <p:cNvPicPr/>
          <p:nvPr/>
        </p:nvPicPr>
        <p:blipFill>
          <a:blip r:embed="rId1"/>
          <a:stretch/>
        </p:blipFill>
        <p:spPr>
          <a:xfrm>
            <a:off x="914400" y="2666880"/>
            <a:ext cx="7391520" cy="3714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4857840" y="779400"/>
            <a:ext cx="381024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4002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Типичными для этих изделий были цветочные мотивы, но встречались и геометрические в виде ромбов, кругов, цеп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Содержимое 4" descr="9.jpg"/>
          <p:cNvPicPr/>
          <p:nvPr/>
        </p:nvPicPr>
        <p:blipFill>
          <a:blip r:embed="rId1"/>
          <a:stretch/>
        </p:blipFill>
        <p:spPr>
          <a:xfrm>
            <a:off x="5410080" y="914400"/>
            <a:ext cx="3286080" cy="5037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6840" y="285480"/>
            <a:ext cx="8115480" cy="18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14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кусство кружевоплетения не забыто и сегодня. В 1970-е годы в Балахне был открыт центр кружевоплетения. В настоящее время обучение детей и взрослых кружевоплетению проводится в центрах народного творчества Нижегородской об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Содержимое 4" descr="129.jpg"/>
          <p:cNvPicPr/>
          <p:nvPr/>
        </p:nvPicPr>
        <p:blipFill>
          <a:blip r:embed="rId1"/>
          <a:stretch/>
        </p:blipFill>
        <p:spPr>
          <a:xfrm>
            <a:off x="990720" y="2362320"/>
            <a:ext cx="7238880" cy="4070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, все таки, наше балахнинское (балахонское) кружеве – действительно чудо из чудес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3886200" cy="3448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105520" y="3124080"/>
            <a:ext cx="3619440" cy="342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5562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715680" y="1848960"/>
            <a:ext cx="14284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0e04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76520" y="781200"/>
            <a:ext cx="5867280" cy="4400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1640" y="838080"/>
            <a:ext cx="4357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бор инструментов и приспособлений для плетения кружев был доступен для простого народа и включал коклюшки, валик, подставку под валик, склок, булавки, ножницы и ни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Содержимое 4" descr="687474703a2f2f796f736874612e72752f77702d636f6e74656e742f75706c6f6164732f323031312f30332f494d475f363834312e6a7067.jpg"/>
          <p:cNvPicPr/>
          <p:nvPr/>
        </p:nvPicPr>
        <p:blipFill>
          <a:blip r:embed="rId1"/>
          <a:stretch/>
        </p:blipFill>
        <p:spPr>
          <a:xfrm>
            <a:off x="304920" y="457200"/>
            <a:ext cx="4143240" cy="5799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58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КОКЛЮШКИ.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91120" y="1371600"/>
            <a:ext cx="4572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лахнинские коклюшки по форме напоминают веретено с небольшой плоской головкой и имеют длину 12-15 см. Изредка они украшались неглубокими надрезами – проточкам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Содержимое 4" descr="84123933_2wcecli.jpg"/>
          <p:cNvPicPr/>
          <p:nvPr/>
        </p:nvPicPr>
        <p:blipFill>
          <a:blip r:embed="rId1"/>
          <a:stretch/>
        </p:blipFill>
        <p:spPr>
          <a:xfrm>
            <a:off x="304920" y="1066680"/>
            <a:ext cx="3571920" cy="5024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74725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КОКЛЮШКИ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06160"/>
            <a:ext cx="425772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Содержимое 4" descr="97013dd62283b26df765631521.jpg"/>
          <p:cNvPicPr/>
          <p:nvPr/>
        </p:nvPicPr>
        <p:blipFill>
          <a:blip r:embed="rId1"/>
          <a:stretch/>
        </p:blipFill>
        <p:spPr>
          <a:xfrm>
            <a:off x="3886200" y="1143000"/>
            <a:ext cx="4938840" cy="5029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0" name="Прямоугольник 5"/>
          <p:cNvSpPr/>
          <p:nvPr/>
        </p:nvSpPr>
        <p:spPr>
          <a:xfrm>
            <a:off x="228600" y="838080"/>
            <a:ext cx="3505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ревенские мастера вырезали коклюшки обычно из березы или можжевельника, хорошим деревом считался клен, а самым лучшим – липа. Коклюшки считали парами, продавались они на местных базарах сотнями. Для начала работы обычно требовалась одна сотня коклю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0722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ВАЛИК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8400960" cy="15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закрепления сколка и коклюшек во время плетения кружев служила плотная подушка, которую в Балахне называли валиком, а в старые времена – кутузом. Чаще всего валик имел длину 35-40 см и диаметр 30-40 см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одержимое 4" descr="koklushki.jpg"/>
          <p:cNvPicPr/>
          <p:nvPr/>
        </p:nvPicPr>
        <p:blipFill>
          <a:blip r:embed="rId1"/>
          <a:stretch/>
        </p:blipFill>
        <p:spPr>
          <a:xfrm>
            <a:off x="914400" y="2819520"/>
            <a:ext cx="7238880" cy="342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6840" y="356760"/>
            <a:ext cx="838188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2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Балахне кружева плели в основном из шелковых и хлопчатобумажных ниток, реже – из льняных. Использовались нитки черного, золотисто-кремового или белого цв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Содержимое 6" descr="140411205136 (1).jpg"/>
          <p:cNvPicPr/>
          <p:nvPr/>
        </p:nvPicPr>
        <p:blipFill>
          <a:blip r:embed="rId1"/>
          <a:stretch/>
        </p:blipFill>
        <p:spPr>
          <a:xfrm>
            <a:off x="838080" y="2362320"/>
            <a:ext cx="7620120" cy="3735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857240" y="419040"/>
            <a:ext cx="114120" cy="61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28760" y="642960"/>
            <a:ext cx="391464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работав орнаменты французских и бельгийских кружев, местные кружевницы создали свой неповторимый стиль – «балахонский манер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Содержимое 4" descr="140411205136 (2).jpg"/>
          <p:cNvPicPr/>
          <p:nvPr/>
        </p:nvPicPr>
        <p:blipFill>
          <a:blip r:embed="rId1"/>
          <a:stretch/>
        </p:blipFill>
        <p:spPr>
          <a:xfrm>
            <a:off x="4495680" y="380880"/>
            <a:ext cx="4469040" cy="5867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914040" y="228240"/>
            <a:ext cx="7543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го основу составляют композиции из цветов и листьев, плодов граната, гроздьев винограда – узоров, служивших символами любви, земного рая, счастливой семейной жизни. Своеобразной визитной карточкой мастериц стала «балахонская роза». В сравнении с растительным орнаментом изображения животных и птиц – оленей, павлинов, орлов – на балахонских кружевах встречаются реж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Содержимое 4" descr="sta40758.jpg"/>
          <p:cNvPicPr/>
          <p:nvPr/>
        </p:nvPicPr>
        <p:blipFill>
          <a:blip r:embed="rId1"/>
          <a:stretch/>
        </p:blipFill>
        <p:spPr>
          <a:xfrm>
            <a:off x="914400" y="2895480"/>
            <a:ext cx="7391520" cy="3487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0T16:18:50Z</dcterms:created>
  <dc:creator>user</dc:creator>
  <dc:description/>
  <dc:language>en-US</dc:language>
  <cp:lastModifiedBy>user</cp:lastModifiedBy>
  <dcterms:modified xsi:type="dcterms:W3CDTF">2014-11-10T16:53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