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080-7FDF-4334-8800-E499EE194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E8C-09AE-4F25-AC84-ADB04A0D20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3B2-A28E-4651-890F-D2DFAE12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C70-D611-40E6-892A-C8502FD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848-6763-4628-BD2D-D1F8C0F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B7B-006F-4296-B46E-DDE64DF0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E51-2A12-470A-9C61-1D70F51A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B6C-5B5F-469D-8B2B-9B3598D8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42C-A98F-45F7-84E8-F6E534B1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B32-B3D8-4DBA-8543-C3C94F5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326-B738-4CF1-8C52-79E96E76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D11-46B8-4AF4-90BC-E35768A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C31-99B6-4DE6-A306-99F053B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816-2364-4499-B6FC-F9F4B73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7865-387B-4AB0-A093-3C400470F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3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«Балахнинское чуд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952520"/>
            <a:ext cx="7407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Выполнила: ученица средней школы №12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Arial"/>
              </a:rPr>
              <a:t>9А класса, Синякова Дар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Французкое и Балахнинское кружева </a:t>
            </a: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XVII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фран.jpg"/>
          <p:cNvPicPr/>
          <p:nvPr/>
        </p:nvPicPr>
        <p:blipFill>
          <a:blip r:embed="rId1"/>
          <a:stretch/>
        </p:blipFill>
        <p:spPr>
          <a:xfrm>
            <a:off x="380880" y="2362320"/>
            <a:ext cx="3500640" cy="35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Содержимое 5" descr="балх.jpg"/>
          <p:cNvPicPr/>
          <p:nvPr/>
        </p:nvPicPr>
        <p:blipFill>
          <a:blip r:embed="rId2"/>
          <a:stretch/>
        </p:blipFill>
        <p:spPr>
          <a:xfrm>
            <a:off x="4648320" y="2514600"/>
            <a:ext cx="4160880" cy="3368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72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КРУЖЕВНИЦЫ БАЛАХНЫ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81480" y="1294920"/>
            <a:ext cx="340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 внимания мы не можем оставить знаменитых кружевниц, которые плели кружева. Это представительницы известных балахнинских семейств Заевых, Богдариных, Зеленихиных и других. Имена кружевниц содержатся и в архивных документах, правда, встречаются они крайне редко. Под 1863 годом названы балахнинские кружевницы – мещанские жены Агафья Федорова Половинкина, Александра Иванова Пастухова, Елизавета Алексеева Коскина. Также бабушка Максима Горького, Акулина Ивановна является кружевницей нашего горо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4" descr="img8.jpg"/>
          <p:cNvPicPr/>
          <p:nvPr/>
        </p:nvPicPr>
        <p:blipFill>
          <a:blip r:embed="rId1"/>
          <a:stretch/>
        </p:blipFill>
        <p:spPr>
          <a:xfrm>
            <a:off x="380880" y="1143000"/>
            <a:ext cx="4179960" cy="5135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137124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ЛЛЮСТРАЦИЯ К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ВЕСТИ М.ГОРЬКОГО 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«ДЕТСТВО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БАБУШК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АКУЛИ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ИВАНО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2643120" y="1714320"/>
            <a:ext cx="2195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Бабушка_Акулина_Ивановна.jpg"/>
          <p:cNvPicPr/>
          <p:nvPr/>
        </p:nvPicPr>
        <p:blipFill>
          <a:blip r:embed="rId1"/>
          <a:stretch/>
        </p:blipFill>
        <p:spPr>
          <a:xfrm>
            <a:off x="4876920" y="685800"/>
            <a:ext cx="3477960" cy="5429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043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ДИЯ ФЕДОРОВНА ВАСИЛЬЕВА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ЛАХНИНСКАЯ КРУЖЕ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350028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удивительной мастерицы Варвары Ивановны Быковой занималась Лидия Федоровна Васильева, окончившая Вятскую школу кружевниц. В 1968 г. она возглавила цех кружевоплетения в Балахне. Вместе со своими ученицами Галиной Александровной Котовой и Ольгой Анатольевной Чернигиной собирала старинные сколки, образцы рисунков, изучала технологию многопарного пл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4" descr="лидия фк.jpg"/>
          <p:cNvPicPr/>
          <p:nvPr/>
        </p:nvPicPr>
        <p:blipFill>
          <a:blip r:embed="rId1"/>
          <a:stretch/>
        </p:blipFill>
        <p:spPr>
          <a:xfrm>
            <a:off x="4191120" y="1447920"/>
            <a:ext cx="4606920" cy="495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438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АЛАХНИНСКИЕ КРУЖЕВН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38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лина Александровна Котова  работала в цехе кружевоплетения Городецкой строчевышивальной фабрики, который существовал в Балахне с 1969 по 1994 г. Возглавляла его Лидия Федоровна Васильева, окончившая Кировское училище и приехавшая в Балахну в 1968 г. Кружевницы этого цеха стали наследницами сложного по технике исполнения «балахонского мане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cex_kruzhevybc.jpg"/>
          <p:cNvPicPr/>
          <p:nvPr/>
        </p:nvPicPr>
        <p:blipFill>
          <a:blip r:embed="rId1"/>
          <a:stretch/>
        </p:blipFill>
        <p:spPr>
          <a:xfrm>
            <a:off x="4876920" y="1066680"/>
            <a:ext cx="4006800" cy="525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2500200" y="1494000"/>
            <a:ext cx="21715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1640" y="990360"/>
            <a:ext cx="4390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ия Федоровна плетет косынки, шарфы, воротники “балахонского манера”. Освоила самые сложные многопарные переплетения, характерные только для Балахны, изучила художественные особенности орнаментального узора кружева, проводит работу по реставрации старинного балахнинского круж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4" descr="22.jpg"/>
          <p:cNvPicPr/>
          <p:nvPr/>
        </p:nvPicPr>
        <p:blipFill>
          <a:blip r:embed="rId1"/>
          <a:stretch/>
        </p:blipFill>
        <p:spPr>
          <a:xfrm>
            <a:off x="380880" y="380880"/>
            <a:ext cx="4040280" cy="5857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45007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алахнинском кружеве вы найдете около десятка различных вариантов сеток-решеток, которые весьма плотны на ощупь, но все же не утяжеляют кружево, а наоборот придают ему особую воздушность. Кроме того в кружевном полотне используются овальные насновки, цветочные мотивы, виноградные грозди, розы, медальоны, завитки, цветочные гирля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4" descr="kruzhevo6.jpg"/>
          <p:cNvPicPr/>
          <p:nvPr/>
        </p:nvPicPr>
        <p:blipFill>
          <a:blip r:embed="rId1"/>
          <a:stretch/>
        </p:blipFill>
        <p:spPr>
          <a:xfrm>
            <a:off x="5029200" y="457200"/>
            <a:ext cx="3867120" cy="58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429840" y="-23760"/>
            <a:ext cx="9360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85480"/>
            <a:ext cx="8329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В 19 веке кружевоплетением в Балахне занималось практически все ее женское население (традиционно девочек начинали обучать ремеслу с 5 лет), к тридцатым годам революционного 20 столетия кружевной промысел почти уме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kruzhevo5.jpg"/>
          <p:cNvPicPr/>
          <p:nvPr/>
        </p:nvPicPr>
        <p:blipFill>
          <a:blip r:embed="rId1"/>
          <a:stretch/>
        </p:blipFill>
        <p:spPr>
          <a:xfrm>
            <a:off x="2362320" y="3200400"/>
            <a:ext cx="4687920" cy="335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43080" y="1024200"/>
            <a:ext cx="15001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80880"/>
            <a:ext cx="804384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балахнинское кружево восстановлено по крупицам теми, для кого кружевоплетение и жизнь слились воед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4" descr="ba9f169f5a2c.jpg"/>
          <p:cNvPicPr/>
          <p:nvPr/>
        </p:nvPicPr>
        <p:blipFill>
          <a:blip r:embed="rId1"/>
          <a:stretch/>
        </p:blipFill>
        <p:spPr>
          <a:xfrm>
            <a:off x="914400" y="2057400"/>
            <a:ext cx="7510320" cy="4307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00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НАМЕНТ  БАЛАХНИНСКОГО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Ж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3880" y="1356840"/>
            <a:ext cx="74012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ие «балахонского манера» заключалось в легкости решеток, на которых располагаются густые букеты цветов и винограда. Орнамент почти всегда очерчен толстой шелковой нитью, внутреннее пространство между лепестками заполнено прозрачной решеткой. Орнаментом балахнинского кружева в основном являлось и является расти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4" descr="747f217d00e0cfe41c.jpg"/>
          <p:cNvPicPr/>
          <p:nvPr/>
        </p:nvPicPr>
        <p:blipFill>
          <a:blip r:embed="rId1"/>
          <a:stretch/>
        </p:blipFill>
        <p:spPr>
          <a:xfrm>
            <a:off x="1143000" y="3276720"/>
            <a:ext cx="6781680" cy="3093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4714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дним из самых загадочных чудес нашего края является кружево. Местный кружевной промысел ведет свою историю с последних десятилетий XVII в., его расцвет пришелся на период с конца XVIII до конца XIX в. В XIX в. кружевоплетением занималась половина всего женского населения Балахны и окрестных деревень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одержимое 4" descr="3b7982fa7d (1).jpg"/>
          <p:cNvPicPr/>
          <p:nvPr/>
        </p:nvPicPr>
        <p:blipFill>
          <a:blip r:embed="rId1"/>
          <a:stretch/>
        </p:blipFill>
        <p:spPr>
          <a:xfrm>
            <a:off x="4952880" y="609480"/>
            <a:ext cx="3973680" cy="5791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28400"/>
            <a:ext cx="86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рический факт – платье королевы Виктории украшали балахнинские круж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vikt_albert_24_3134fa2548f73aad013f48cd371cc332_272.jpg"/>
          <p:cNvPicPr/>
          <p:nvPr/>
        </p:nvPicPr>
        <p:blipFill>
          <a:blip r:embed="rId1"/>
          <a:stretch/>
        </p:blipFill>
        <p:spPr>
          <a:xfrm>
            <a:off x="2590920" y="1752480"/>
            <a:ext cx="4108320" cy="46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714240" y="-180000"/>
            <a:ext cx="4608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3296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сортимент кружевных изделий был многообразен . С одной стороны - это бельевое кружево : концы полотенец , простынь , подзоры , салфетки , скатерти, кружево на отделку подушек , на комоды , подносы ; с другой- изделия для отделки женской , а также мужской одежды : галстуки , пояса , каймы платков , наколки на причёску, головные уборы ( шапочки ), перчатки , кофты , платья , воротники , манжеты , накидки , шали , косынки и плат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4" descr="42-1.jpg"/>
          <p:cNvPicPr/>
          <p:nvPr/>
        </p:nvPicPr>
        <p:blipFill>
          <a:blip r:embed="rId1"/>
          <a:stretch/>
        </p:blipFill>
        <p:spPr>
          <a:xfrm>
            <a:off x="990720" y="2743200"/>
            <a:ext cx="7086600" cy="3686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40096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лахнинские мастерицы выплетали шарфы, косынки, наколки на голову, пояса, оплеты носовых платков, концы полотенец, воротники, платья и паль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4" descr="11.jpg"/>
          <p:cNvPicPr/>
          <p:nvPr/>
        </p:nvPicPr>
        <p:blipFill>
          <a:blip r:embed="rId1"/>
          <a:stretch/>
        </p:blipFill>
        <p:spPr>
          <a:xfrm>
            <a:off x="914400" y="2666880"/>
            <a:ext cx="7391520" cy="3714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4857840" y="779400"/>
            <a:ext cx="38102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44002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ипичными для этих изделий были цветочные мотивы, но встречались и геометрические в виде ромбов, кругов, цеп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9.jpg"/>
          <p:cNvPicPr/>
          <p:nvPr/>
        </p:nvPicPr>
        <p:blipFill>
          <a:blip r:embed="rId1"/>
          <a:stretch/>
        </p:blipFill>
        <p:spPr>
          <a:xfrm>
            <a:off x="5410080" y="914400"/>
            <a:ext cx="3286080" cy="503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85480"/>
            <a:ext cx="81154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кусство кружевоплетения не забыто и сегодня. В 1970-е годы в Балахне был открыт центр кружевоплетения. В настоящее время обучение детей и взрослых кружевоплетению проводится в центрах народного творчества Нижегород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одержимое 4" descr="129.jpg"/>
          <p:cNvPicPr/>
          <p:nvPr/>
        </p:nvPicPr>
        <p:blipFill>
          <a:blip r:embed="rId1"/>
          <a:stretch/>
        </p:blipFill>
        <p:spPr>
          <a:xfrm>
            <a:off x="990720" y="2362320"/>
            <a:ext cx="7238880" cy="407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, все таки, наше балахнинское (балахонское) кружеве – действительно чудо из чуде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886200" cy="3448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619440" cy="34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5680" y="1848960"/>
            <a:ext cx="1428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781200"/>
            <a:ext cx="5867280" cy="44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1640" y="838080"/>
            <a:ext cx="435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бор инструментов и приспособлений для плетения кружев был доступен для простого народа и включал коклюшки, валик, подставку под валик, склок, булавки, ножницы и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687474703a2f2f796f736874612e72752f77702d636f6e74656e742f75706c6f6164732f323031312f30332f494d475f363834312e6a7067.jpg"/>
          <p:cNvPicPr/>
          <p:nvPr/>
        </p:nvPicPr>
        <p:blipFill>
          <a:blip r:embed="rId1"/>
          <a:stretch/>
        </p:blipFill>
        <p:spPr>
          <a:xfrm>
            <a:off x="304920" y="457200"/>
            <a:ext cx="4143240" cy="579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58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КОКЛЮШКИ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1120" y="13716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лахнинские коклюшки по форме напоминают веретено с небольшой плоской головкой и имеют длину 12-15 см. Изредка они украшались неглубокими надрезами – проточк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4" descr="84123933_2wcecli.jpg"/>
          <p:cNvPicPr/>
          <p:nvPr/>
        </p:nvPicPr>
        <p:blipFill>
          <a:blip r:embed="rId1"/>
          <a:stretch/>
        </p:blipFill>
        <p:spPr>
          <a:xfrm>
            <a:off x="304920" y="1066680"/>
            <a:ext cx="3571920" cy="502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4725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КОКЛЮШ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06160"/>
            <a:ext cx="4257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97013dd62283b26df765631521.jpg"/>
          <p:cNvPicPr/>
          <p:nvPr/>
        </p:nvPicPr>
        <p:blipFill>
          <a:blip r:embed="rId1"/>
          <a:stretch/>
        </p:blipFill>
        <p:spPr>
          <a:xfrm>
            <a:off x="3886200" y="1143000"/>
            <a:ext cx="493884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Прямоугольник 5"/>
          <p:cNvSpPr/>
          <p:nvPr/>
        </p:nvSpPr>
        <p:spPr>
          <a:xfrm>
            <a:off x="228600" y="838080"/>
            <a:ext cx="3505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мастера вырезали коклюшки обычно из березы или можжевельника, хорошим деревом считался клен, а самым лучшим – липа. Коклюшки считали парами, продавались они на местных базарах сотнями. Для начала работы обычно требовалась одна сотня коклю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0722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ВАЛИК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40096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закрепления сколка и коклюшек во время плетения кружев служила плотная подушка, которую в Балахне называли валиком, а в старые времена – кутузом. Чаще всего валик имел длину 35-40 см и диаметр 30-40 с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4" descr="koklushki.jpg"/>
          <p:cNvPicPr/>
          <p:nvPr/>
        </p:nvPicPr>
        <p:blipFill>
          <a:blip r:embed="rId1"/>
          <a:stretch/>
        </p:blipFill>
        <p:spPr>
          <a:xfrm>
            <a:off x="914400" y="2819520"/>
            <a:ext cx="7238880" cy="342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356760"/>
            <a:ext cx="838188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2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Балахне кружева плели в основном из шелковых и хлопчатобумажных ниток, реже – из льняных. Использовались нитки черного, золотисто-кремового или белого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6" descr="140411205136 (1).jpg"/>
          <p:cNvPicPr/>
          <p:nvPr/>
        </p:nvPicPr>
        <p:blipFill>
          <a:blip r:embed="rId1"/>
          <a:stretch/>
        </p:blipFill>
        <p:spPr>
          <a:xfrm>
            <a:off x="838080" y="2362320"/>
            <a:ext cx="7620120" cy="3735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857240" y="419040"/>
            <a:ext cx="11412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642960"/>
            <a:ext cx="391464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аботав орнаменты французских и бельгийских кружев, местные кружевницы создали свой неповторимый стиль – «балахонский манер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4" descr="140411205136 (2).jpg"/>
          <p:cNvPicPr/>
          <p:nvPr/>
        </p:nvPicPr>
        <p:blipFill>
          <a:blip r:embed="rId1"/>
          <a:stretch/>
        </p:blipFill>
        <p:spPr>
          <a:xfrm>
            <a:off x="4495680" y="380880"/>
            <a:ext cx="4469040" cy="586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040" y="2282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основу составляют композиции из цветов и листьев, плодов граната, гроздьев винограда – узоров, служивших символами любви, земного рая, счастливой семейной жизни. Своеобразной визитной карточкой мастериц стала «балахонская роза». В сравнении с растительным орнаментом изображения животных и птиц – оленей, павлинов, орлов – на балахонских кружевах встречаются ре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sta40758.jpg"/>
          <p:cNvPicPr/>
          <p:nvPr/>
        </p:nvPicPr>
        <p:blipFill>
          <a:blip r:embed="rId1"/>
          <a:stretch/>
        </p:blipFill>
        <p:spPr>
          <a:xfrm>
            <a:off x="914400" y="2895480"/>
            <a:ext cx="7391520" cy="348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6:18:50Z</dcterms:created>
  <dc:creator>user</dc:creator>
  <dc:description/>
  <dc:language>en-US</dc:language>
  <cp:lastModifiedBy>user</cp:lastModifiedBy>
  <dcterms:modified xsi:type="dcterms:W3CDTF">2014-11-10T16:53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