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2B3-E93B-43D5-8522-FF5ECBB9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446-4A2A-4465-A489-F38066D4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884-6854-44C2-BB20-C105610D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54D-45DA-4EAB-B49F-224BA288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16E-C2CE-4928-8574-84406289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2EB-7BFF-474C-8990-E61462F6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DF7-C2EE-40E1-B90B-0C2AB6A8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80A-47D3-4347-B73D-E44714E4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E88-71CB-49E8-B176-D98845B2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842-2B0D-4285-8F4F-B7E6C622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8A2-8994-4D03-8F15-9DFA5271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D4A-CF58-4BC1-B62D-C18DCF08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7AB0-00A2-43F3-9C21-3751CFB843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7014222"/>
          <p:cNvPicPr/>
          <p:nvPr/>
        </p:nvPicPr>
        <p:blipFill>
          <a:blip r:embed="rId2"/>
          <a:stretch/>
        </p:blipFill>
        <p:spPr>
          <a:xfrm>
            <a:off x="1042920" y="189000"/>
            <a:ext cx="5249880" cy="43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Picture 7" descr="11200720moskvamoskva_133"/>
          <p:cNvPicPr/>
          <p:nvPr/>
        </p:nvPicPr>
        <p:blipFill>
          <a:blip r:embed="rId3"/>
          <a:stretch/>
        </p:blipFill>
        <p:spPr>
          <a:xfrm>
            <a:off x="2556000" y="1773360"/>
            <a:ext cx="6140160" cy="445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" name="Picture 9" descr="0_6a9a7_9cb3c98_XL"/>
          <p:cNvPicPr/>
          <p:nvPr/>
        </p:nvPicPr>
        <p:blipFill>
          <a:blip r:embed="rId4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09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6967310f32"/>
          <p:cNvPicPr/>
          <p:nvPr/>
        </p:nvPicPr>
        <p:blipFill>
          <a:blip r:embed="rId2"/>
          <a:stretch/>
        </p:blipFill>
        <p:spPr>
          <a:xfrm>
            <a:off x="9360" y="792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022-073-Bystraja-perestrojka-sovetskoj-ekonomiki-na-voennyj-lad-v-1941-1942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Picture 7" descr="user48542_pic2605_1290967966"/>
          <p:cNvPicPr/>
          <p:nvPr/>
        </p:nvPicPr>
        <p:blipFill>
          <a:blip r:embed="rId2"/>
          <a:stretch/>
        </p:blipFill>
        <p:spPr>
          <a:xfrm>
            <a:off x="-23760" y="23760"/>
            <a:ext cx="9144000" cy="683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Picture 8" descr="armia-czerwona-10"/>
          <p:cNvPicPr/>
          <p:nvPr/>
        </p:nvPicPr>
        <p:blipFill>
          <a:blip r:embed="rId3"/>
          <a:stretch/>
        </p:blipFill>
        <p:spPr>
          <a:xfrm>
            <a:off x="-31680" y="2376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9" name="Picture 9" descr="599801219"/>
          <p:cNvPicPr/>
          <p:nvPr/>
        </p:nvPicPr>
        <p:blipFill>
          <a:blip r:embed="rId4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62996_original"/>
          <p:cNvPicPr/>
          <p:nvPr/>
        </p:nvPicPr>
        <p:blipFill>
          <a:blip r:embed="rId1"/>
          <a:stretch/>
        </p:blipFill>
        <p:spPr>
          <a:xfrm>
            <a:off x="27000" y="22320"/>
            <a:ext cx="9144000" cy="6856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0" descr="20090915-p04"/>
          <p:cNvPicPr/>
          <p:nvPr/>
        </p:nvPicPr>
        <p:blipFill>
          <a:blip r:embed="rId2"/>
          <a:stretch/>
        </p:blipFill>
        <p:spPr>
          <a:xfrm>
            <a:off x="4599000" y="0"/>
            <a:ext cx="45705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0_7bfdb_b7c30afa_XL"/>
          <p:cNvPicPr/>
          <p:nvPr/>
        </p:nvPicPr>
        <p:blipFill>
          <a:blip r:embed="rId3"/>
          <a:stretch/>
        </p:blipFill>
        <p:spPr>
          <a:xfrm>
            <a:off x="27000" y="0"/>
            <a:ext cx="45007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16-11-24T13:52:58Z</dcterms:modified>
  <cp:revision>12</cp:revision>
  <dc:subject/>
  <dc:title>Слайд 1</dc:title>
</cp:coreProperties>
</file>