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D90-44DC-4416-A4C5-47534A54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3BB-93F1-4E1B-844C-738D8265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EC3-BA64-43F2-BFB3-919BC768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15E-AB90-4871-B0AF-74C7356B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116A-BACE-4186-B84F-0B744CC3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33BD-FA7E-4A95-9300-B73F2E42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972A-C24E-46FD-9E4D-DBE0722A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A701-7441-4E7F-826A-0DB4FCDD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33C4-8863-423B-A5CC-5BE11C57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F498-2C7C-47C2-A787-69DDEB3E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17BF-6EF4-4D1D-81A4-00131174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65A-4AC5-43FF-989F-BAB583E2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E2FA-9EB8-49E5-9A7A-F015353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8E21-189C-48B1-B23B-E80843A6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33FA-24C2-4184-A7CF-B0FCCE18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CD23-19E2-4F4B-9317-A33509DF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30D9-4635-41F2-9A40-7AD2A9C2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D3F-A890-4304-9736-06C9389E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1B3-8F90-4B3C-8DAB-A5935F8E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E58-D151-4D69-AC27-1826D625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CFD-CFCE-4F84-8ABF-6414DAAD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768-2951-4454-9F32-0886C2C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116-928F-4BE3-ACD3-0D539BC6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AE6-4F66-42D8-B52A-12F5BF50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597D-FE2E-44F6-ACB7-777AFB015B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B3A8-7E27-4CC7-91CE-9A5A950402F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596520"/>
            <a:ext cx="81090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«Коррекция и развитие внимания младших школьников»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211640" y="3933720"/>
            <a:ext cx="44244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ельникова Оксана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ригорьев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Учитель МБОУ «Школа №10 города Благовещенск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4" descr="23535453"/>
          <p:cNvPicPr/>
          <p:nvPr/>
        </p:nvPicPr>
        <p:blipFill>
          <a:blip r:embed="rId1"/>
          <a:stretch/>
        </p:blipFill>
        <p:spPr>
          <a:xfrm>
            <a:off x="324000" y="4221000"/>
            <a:ext cx="20872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Найди отличия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Picture 15" descr="59B824DB"/>
          <p:cNvPicPr/>
          <p:nvPr/>
        </p:nvPicPr>
        <p:blipFill>
          <a:blip r:embed="rId1"/>
          <a:stretch/>
        </p:blipFill>
        <p:spPr>
          <a:xfrm>
            <a:off x="755640" y="1844640"/>
            <a:ext cx="3384720" cy="3456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24D06EA1"/>
          <p:cNvPicPr/>
          <p:nvPr/>
        </p:nvPicPr>
        <p:blipFill>
          <a:blip r:embed="rId2"/>
          <a:stretch/>
        </p:blipFill>
        <p:spPr>
          <a:xfrm>
            <a:off x="4932360" y="1916280"/>
            <a:ext cx="3527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Смешанный лес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4" descr="DFAC4A57"/>
          <p:cNvPicPr/>
          <p:nvPr/>
        </p:nvPicPr>
        <p:blipFill>
          <a:blip r:embed="rId1"/>
          <a:stretch/>
        </p:blipFill>
        <p:spPr>
          <a:xfrm>
            <a:off x="1468440" y="1484280"/>
            <a:ext cx="619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«Весёлая география»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волга – Волг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гра – Риг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ожа + ворона = полевая птичка, прилетающая ранней весно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рфографические задачи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жи – и + е + вика = яго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ота «до» + зарытые в земле ценности = 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 + мелкое место поперёк реки = 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р + знак препинания = 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Собери слово из двух слов, переставив в них буквы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ора + камин = музыкальный инструмен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да + ринг = фрукты, которые любят де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ипа + нота = животно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ета + трон = мясной продук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«Письмо инопланетян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) АММАДАМА  РЕБЕРГЕ   АССАМАСО ГЕСКЛАЛЛА   ЕССАНАССАС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) ЕНАЛССТАДЕ  ЕНАДСЛАТ   ЕТАЛЬТАРРС  УСОКГАТА   ЛИММОДОРА    КЛАТИМОР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)РЕНАБРЕРТА  НОРА   СОТАННА    ДЕБАГУГА   КАЛЛИХАРРА   ФИЛЛИТ   АДЕР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асибо за внимани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Picture 5" descr="anim107[1]"/>
          <p:cNvPicPr/>
          <p:nvPr/>
        </p:nvPicPr>
        <p:blipFill>
          <a:blip r:embed="rId1"/>
          <a:stretch/>
        </p:blipFill>
        <p:spPr>
          <a:xfrm>
            <a:off x="2268360" y="2562120"/>
            <a:ext cx="39592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596520"/>
            <a:ext cx="8324640" cy="15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Формы</a:t>
            </a:r>
            <a:r>
              <a:rPr b="1" i="1" lang="ru-RU" sz="5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проявления внимания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68000" y="2421000"/>
            <a:ext cx="8351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Сенсорное (перцептивное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9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Интеллектуальное (мыслительное)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- Моторное (двигательное)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сновные функции вниман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ктивизация необходимых и торможение ненужных в данный момент психических и физиологических процессов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Целенаправленный организованный отбор поступающей информации (основная селективная функция внимания)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держание, сохранение образов определённого предметного содержания до тех пор, пока не будет достигнута цель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беспечение длительной сосредоточенности, активности на одном и том же объекте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егуляция и контроль протекания деятель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Игры, задания и упражн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направленные на развитие внимани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Найди два одинаковых предмета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9" descr="FDD6DBDB"/>
          <p:cNvPicPr/>
          <p:nvPr/>
        </p:nvPicPr>
        <p:blipFill>
          <a:blip r:embed="rId1"/>
          <a:stretch/>
        </p:blipFill>
        <p:spPr>
          <a:xfrm>
            <a:off x="826920" y="2565360"/>
            <a:ext cx="7345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E7F7B455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54C272C4"/>
          <p:cNvPicPr/>
          <p:nvPr/>
        </p:nvPicPr>
        <p:blipFill>
          <a:blip r:embed="rId2"/>
          <a:stretch/>
        </p:blipFill>
        <p:spPr>
          <a:xfrm>
            <a:off x="4716360" y="2205000"/>
            <a:ext cx="42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Выкладывание из палочек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6" descr="4F7DFC7D"/>
          <p:cNvPicPr/>
          <p:nvPr/>
        </p:nvPicPr>
        <p:blipFill>
          <a:blip r:embed="rId1"/>
          <a:stretch/>
        </p:blipFill>
        <p:spPr>
          <a:xfrm>
            <a:off x="1042920" y="2349360"/>
            <a:ext cx="626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375A0093"/>
          <p:cNvPicPr/>
          <p:nvPr/>
        </p:nvPicPr>
        <p:blipFill>
          <a:blip r:embed="rId1"/>
          <a:stretch/>
        </p:blipFill>
        <p:spPr>
          <a:xfrm>
            <a:off x="611280" y="62064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Исключение лишнего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5" descr="C794C58F"/>
          <p:cNvPicPr/>
          <p:nvPr/>
        </p:nvPicPr>
        <p:blipFill>
          <a:blip r:embed="rId1"/>
          <a:stretch/>
        </p:blipFill>
        <p:spPr>
          <a:xfrm>
            <a:off x="1692360" y="1628640"/>
            <a:ext cx="4897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0:36:35Z</dcterms:created>
  <dc:creator>User</dc:creator>
  <dc:description/>
  <dc:language>en-US</dc:language>
  <cp:lastModifiedBy>User</cp:lastModifiedBy>
  <dcterms:modified xsi:type="dcterms:W3CDTF">2017-10-28T22:53:30Z</dcterms:modified>
  <cp:revision>7</cp:revision>
  <dc:subject/>
  <dc:title>«Коррекция и развитие внимания младших школьнико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