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BC27-E962-489D-A992-E0A3670B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5FC4-463B-4A79-866A-8579E08C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C547-F61B-48E7-B1BF-AEDB157D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E095-1F75-430D-8133-4267873D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E96C-3A21-446B-9C4E-B98D92DB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C85E-F8B5-44F1-B53B-22D5C0DA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75BD-E483-4025-9DA4-7CB28742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645C-20EE-40DC-ADE1-83ECC7BE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8A0C-1168-4600-BCA3-E98E4294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F993-886E-4F47-A7EA-AB409F3A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DF8A-A754-4FF2-B8CB-88FECE53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9F7E-4685-4C41-9ED7-16F845A5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D88D-5E67-463F-923A-8C2F0C1A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A582-2D80-44BC-ACE6-8888F2B9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3162-647E-46F5-B62C-26BEF812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067B-F9F3-433D-B036-E5C53FBF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FC37-990C-479E-A72F-47C49297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E91D-D1F6-4EFA-B129-A5BF92BA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7D4C-CF5E-40AD-A817-DD743398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C455-F5EF-488C-A8C9-42EF6537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1CFE-7D8F-4861-B1A3-FB6CA068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AC26-C19A-4D88-ADA9-7F0F2F9F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0E5D-26E5-44E2-A63D-664F81DF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6C55-EDCD-4640-A56E-1BD96DA9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8972-E23D-4C2F-8A6F-BB433326C7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6AE8-7FDC-472B-A385-35737E0940E6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596520"/>
            <a:ext cx="81090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«Коррекция и развитие внимания младших школьников»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211640" y="3933720"/>
            <a:ext cx="442440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Мельникова Оксана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Григорьевн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Учитель МБОУ «Школа №10 города Благовещенска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4" descr="23535453"/>
          <p:cNvPicPr/>
          <p:nvPr/>
        </p:nvPicPr>
        <p:blipFill>
          <a:blip r:embed="rId1"/>
          <a:stretch/>
        </p:blipFill>
        <p:spPr>
          <a:xfrm>
            <a:off x="324000" y="4221000"/>
            <a:ext cx="208728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«Найди отличия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6" name="Picture 15" descr="59B824DB"/>
          <p:cNvPicPr/>
          <p:nvPr/>
        </p:nvPicPr>
        <p:blipFill>
          <a:blip r:embed="rId1"/>
          <a:stretch/>
        </p:blipFill>
        <p:spPr>
          <a:xfrm>
            <a:off x="755640" y="1844640"/>
            <a:ext cx="3384720" cy="3456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6" descr="24D06EA1"/>
          <p:cNvPicPr/>
          <p:nvPr/>
        </p:nvPicPr>
        <p:blipFill>
          <a:blip r:embed="rId2"/>
          <a:stretch/>
        </p:blipFill>
        <p:spPr>
          <a:xfrm>
            <a:off x="4932360" y="1916280"/>
            <a:ext cx="35272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«Смешанный лес»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9" name="Picture 4" descr="DFAC4A57"/>
          <p:cNvPicPr/>
          <p:nvPr/>
        </p:nvPicPr>
        <p:blipFill>
          <a:blip r:embed="rId1"/>
          <a:stretch/>
        </p:blipFill>
        <p:spPr>
          <a:xfrm>
            <a:off x="1468440" y="1484280"/>
            <a:ext cx="6192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«Весёлая география»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волга – Волг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гра – Риг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ожа + ворона = полевая птичка, прилетающая ранней весно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рфографические задачи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Ежи – и + е + вика = яго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ота «до» + зарытые в земле ценности = 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 + мелкое место поперёк реки = 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р + знак препинания = 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333360"/>
            <a:ext cx="82440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Собери слово из двух слов, переставив в них буквы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ора + камин = музыкальный инструмен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ода + ринг = фрукты, которые любят дет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Липа + нота = животно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ета + трон = мясной продук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«Письмо инопланетян»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а) АММАДАМА  РЕБЕРГЕ   АССАМАСО ГЕСКЛАЛЛА   ЕССАНАССАС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б) ЕНАЛССТАДЕ  ЕНАДСЛАТ   ЕТАЛЬТАРРС  УСОКГАТА   ЛИММОДОРА    КЛАТИМОР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)РЕНАБРЕРТА  НОРА   СОТАННА    ДЕБАГУГА   КАЛЛИХАРРА   ФИЛЛИТ   АДЕРР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пасибо за внимание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9" name="Picture 5" descr="anim107[1]"/>
          <p:cNvPicPr/>
          <p:nvPr/>
        </p:nvPicPr>
        <p:blipFill>
          <a:blip r:embed="rId1"/>
          <a:stretch/>
        </p:blipFill>
        <p:spPr>
          <a:xfrm>
            <a:off x="2268360" y="2562120"/>
            <a:ext cx="39592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596520"/>
            <a:ext cx="8324640" cy="153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Verdana"/>
              </a:rPr>
              <a:t>Формы</a:t>
            </a:r>
            <a:r>
              <a:rPr b="1" i="1" lang="ru-RU" sz="52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i="1" lang="ru-RU" sz="4000" spc="-1" strike="noStrike">
                <a:solidFill>
                  <a:srgbClr val="006666"/>
                </a:solidFill>
                <a:latin typeface="Verdana"/>
              </a:rPr>
              <a:t>проявления внимания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68000" y="2421000"/>
            <a:ext cx="83516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Сенсорное (перцептивное)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901"/>
              </a:spcBef>
              <a:buClr>
                <a:srgbClr val="0066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Интеллектуальное (мыслительное)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- Моторное (двигательное)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сновные функции внимания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ктивизация необходимых и торможение ненужных в данный момент психических и физиологических процессов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Целенаправленный организованный отбор поступающей информации (основная селективная функция внимания)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Удержание, сохранение образов определённого предметного содержания до тех пор, пока не будет достигнута цель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беспечение длительной сосредоточенности, активности на одном и том же объекте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Регуляция и контроль протекания деятельност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Игры, задания и упражнения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направленные на развитие внимания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«Найди два одинаковых предмета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Picture 9" descr="FDD6DBDB"/>
          <p:cNvPicPr/>
          <p:nvPr/>
        </p:nvPicPr>
        <p:blipFill>
          <a:blip r:embed="rId1"/>
          <a:stretch/>
        </p:blipFill>
        <p:spPr>
          <a:xfrm>
            <a:off x="826920" y="2565360"/>
            <a:ext cx="73454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7" descr="E7F7B455"/>
          <p:cNvPicPr/>
          <p:nvPr/>
        </p:nvPicPr>
        <p:blipFill>
          <a:blip r:embed="rId1"/>
          <a:stretch/>
        </p:blipFill>
        <p:spPr>
          <a:xfrm>
            <a:off x="179280" y="189000"/>
            <a:ext cx="3816360" cy="3311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54C272C4"/>
          <p:cNvPicPr/>
          <p:nvPr/>
        </p:nvPicPr>
        <p:blipFill>
          <a:blip r:embed="rId2"/>
          <a:stretch/>
        </p:blipFill>
        <p:spPr>
          <a:xfrm>
            <a:off x="4716360" y="2205000"/>
            <a:ext cx="4248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«Выкладывание из палочек»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1" name="Picture 6" descr="4F7DFC7D"/>
          <p:cNvPicPr/>
          <p:nvPr/>
        </p:nvPicPr>
        <p:blipFill>
          <a:blip r:embed="rId1"/>
          <a:stretch/>
        </p:blipFill>
        <p:spPr>
          <a:xfrm>
            <a:off x="1042920" y="2349360"/>
            <a:ext cx="6264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375A0093"/>
          <p:cNvPicPr/>
          <p:nvPr/>
        </p:nvPicPr>
        <p:blipFill>
          <a:blip r:embed="rId1"/>
          <a:stretch/>
        </p:blipFill>
        <p:spPr>
          <a:xfrm>
            <a:off x="611280" y="620640"/>
            <a:ext cx="7489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«Исключение лишнего»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4" name="Picture 5" descr="C794C58F"/>
          <p:cNvPicPr/>
          <p:nvPr/>
        </p:nvPicPr>
        <p:blipFill>
          <a:blip r:embed="rId1"/>
          <a:stretch/>
        </p:blipFill>
        <p:spPr>
          <a:xfrm>
            <a:off x="1692360" y="1628640"/>
            <a:ext cx="4897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0:36:35Z</dcterms:created>
  <dc:creator>User</dc:creator>
  <dc:description/>
  <dc:language>en-US</dc:language>
  <cp:lastModifiedBy>User</cp:lastModifiedBy>
  <dcterms:modified xsi:type="dcterms:W3CDTF">2017-10-28T22:53:30Z</dcterms:modified>
  <cp:revision>7</cp:revision>
  <dc:subject/>
  <dc:title>«Коррекция и развитие внимания младших школьников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