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1E94-5643-4970-A035-490AA21F006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8ECD9-0509-4E08-82CF-F614D1FCE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9E1ED-12BF-4375-B2CD-BBB239B3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D30B1-4FFF-4FB0-872A-9B1A8BE4A1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036A1-2B3D-4532-BE37-D3A3C3341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F39B7-E0E1-4226-B976-2F77DF73C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D252C-AAD9-41AA-A8F7-B4303D50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B6DC75-EB05-4ED2-9CE7-444A4790E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76C74-586F-4543-AB94-8B1B5250B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80893-BA40-44EA-8B29-BE3A2E3B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43B01-7A0E-4AE3-A264-BB835DCD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492DE-5B60-464B-A625-65AB0DB6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56160"/>
            <a:ext cx="2130480" cy="36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A0F07-458D-4BAC-91DF-A1AF72A40922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773640" y="1052640"/>
            <a:ext cx="1103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Плесецкая детская музыкальная школа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/>
          <p:nvPr/>
        </p:nvSpPr>
        <p:spPr>
          <a:xfrm>
            <a:off x="2072520" y="2852640"/>
            <a:ext cx="4940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Monotype Corsiva"/>
              </a:rPr>
              <a:t>Нам 50!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723240" y="476280"/>
            <a:ext cx="787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Луговина Наталия Васил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067280" y="335772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96000" y="1341360"/>
            <a:ext cx="5103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ыпускница Плесецкой детской музыкаль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ы 1989 года по классу фортепиан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сле окончания Поморского государственн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ниверситета  работала в РЦД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с 2012 года является  руководителем ДМШ№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преподавателем теоретических дисциплин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971640" y="1557360"/>
            <a:ext cx="223200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52320" y="476280"/>
            <a:ext cx="782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уряткова Надежда Серг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3881160" cy="290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708360" y="1125360"/>
            <a:ext cx="5094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04 году закончила Плесецкую музыкальную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у № 20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: учеба в Архангельском музыкальн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лледже, Вологодском Государственно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ческом университет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10  г. - учитель музыки СОШ № 1 п. Плесец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09 г. Надежда Сергеевна работает преподавателем ДМШ № 20  совмести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5640" y="1413000"/>
            <a:ext cx="2303640" cy="42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778320" y="333360"/>
            <a:ext cx="7546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Кокоянина Ирина Андр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5076720" y="3284640"/>
            <a:ext cx="2374920" cy="3262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132000" y="1052640"/>
            <a:ext cx="5659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рина Андреевна в 2007 году закончила ДМШ № 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 классу фортепиано, а в 2009 году  по классу вока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ончила Архангельский колледж культуры и искусств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затем  -  учеба в Санкт-Петербургском университет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льтуры и искусст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2013 года Ирина Андреевна преподает в ДМШ № 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ценическое движение и сценическую реч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79280" y="1197000"/>
            <a:ext cx="2808360" cy="332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593720" y="549360"/>
            <a:ext cx="56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Вот уже много лет в нашей школе работае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75120" y="981000"/>
            <a:ext cx="79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Емангулова Инна Геннад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227640" y="1844640"/>
            <a:ext cx="2305080" cy="3922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916360" y="2060640"/>
            <a:ext cx="315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на Геннадьевна работает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Ш № 20 с 1995 год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руководителем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самбля преподавателей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Фантазия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и одно мероприятие школ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 проходит без участи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ащихся  Инны Геннадьев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1871640" cy="41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21680" y="549360"/>
            <a:ext cx="710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Гурова Светлана Серге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178080" cy="381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51280" y="2133720"/>
            <a:ext cx="4924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олетнее сотрудничество связывает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тлану Сергеевну и ДМШ № 2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вляется неизменным участником ансамбл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елей «Фантазия», всех шко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протяжении многих лет осуществля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ворческую связь  ДМШ № 20 и Плесецкой СО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93160" y="549360"/>
            <a:ext cx="753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Русанов Владимир Иванович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/>
          <p:nvPr/>
        </p:nvSpPr>
        <p:spPr>
          <a:xfrm>
            <a:off x="744480" y="1484280"/>
            <a:ext cx="813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2010 году в ДМШ № 20 был открыт класс изобразительного искусства, где ста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подавать  Русанов Владимир Иванови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ши юные художники успешно участвуют в районных и област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оприятиях: конкурсах, выставк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ыставка рисунков учащихся  является неотъемлемой частью жизни школ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050920" y="3141720"/>
            <a:ext cx="4859640" cy="32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49840" y="476280"/>
            <a:ext cx="90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onotype Corsiva"/>
              </a:rPr>
              <a:t>Ратникова Анастасия Сергеев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2924280"/>
            <a:ext cx="3684600" cy="32986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796680" y="1268280"/>
            <a:ext cx="8317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ДМШ № 20 работает с 01 апреля 2015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первых дней работы показала себя как энергичный, заинтересованный в успехе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ктивный, творческий челове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руководством педагога хор учащихся уже успел покорить не только Плесецк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о и Каргополь, Архангельск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299960" y="981000"/>
            <a:ext cx="11871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асть 3: 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…ученики приносят славу ей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635040" y="2637000"/>
            <a:ext cx="7607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50 лет  школа выпустила не одну сотню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льчишек и девчоно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которые из них связали свою жизн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музыкой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79280" y="3789360"/>
            <a:ext cx="403236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Ольга Любченко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80 по 1987 гг. обучалась по классу ф-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87 по 1991 гг. - Архангельское музыкальное училище (фортепианное отдел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1 по 1996 гг. - Российский Государственный педагогический университет имени А.Герцена (факультет музыки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ыне - заместитель директора по воспитательной работе, учитель музыки в  ГБОУ Гимназия № 622 Выборгского района Санкт - Петербур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16000" y="404640"/>
            <a:ext cx="2087640" cy="304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292720" y="33336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356000" y="3789360"/>
            <a:ext cx="457200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арина Залесских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с 1995 по  2003 г.г. обучалась и закончила по классу ф-но (класс преп.Вебер Л.Е.). С  2003 по 2006 г.г. обучалась и закончила по классу вокала (класс преп. Чичварин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6 по 2010 гг. обучалась и закончила с отличием  Архангельский  музыкальный  колледж (по спец. Эстрадный вокал), С 2010по 2015 г.  – студентка Московского гос. университета культуры и искусств (по спец. эстрадно-джазовое пение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384720" cy="338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0920" y="3789360"/>
            <a:ext cx="4105080" cy="24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Андрей Дмитриев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2 по 2010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ся и закончил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 по 2012 г. обучался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3 по 2015 г. – студент Санкт-Петербургского музыкального колледжа им. Мусоргског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2 г. – солист Ансамбля песни и пляски Северо-Западного военного окру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4140360" y="549360"/>
            <a:ext cx="4616280" cy="25923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572000" y="4149720"/>
            <a:ext cx="432108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Роман Вострокнутов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1 по 2011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ся и закончил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1 по 2015  г. обучался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5 г. – студент Московского государственного педагогического университе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24000" y="189000"/>
            <a:ext cx="8496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Часть 1:  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Из века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XX</a:t>
            </a:r>
            <a:r>
              <a:rPr b="1" lang="ru-RU" sz="6000" spc="-1" strike="noStrike">
                <a:solidFill>
                  <a:srgbClr val="000000"/>
                </a:solidFill>
                <a:latin typeface="Monotype Corsiva"/>
              </a:rPr>
              <a:t> в век </a:t>
            </a:r>
            <a:r>
              <a:rPr b="1" lang="en-US" sz="6000" spc="-1" strike="noStrike">
                <a:solidFill>
                  <a:srgbClr val="000000"/>
                </a:solidFill>
                <a:latin typeface="Monotype Corsiva"/>
              </a:rPr>
              <a:t>XX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/>
          <p:nvPr/>
        </p:nvSpPr>
        <p:spPr>
          <a:xfrm>
            <a:off x="1834920" y="1197000"/>
            <a:ext cx="54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свои 50 лет музыкальная школа сменила 3 зд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вый адрес школы   – улица Фокина д. 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853080" cy="2603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144880" y="5157720"/>
            <a:ext cx="417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тем музыкальная школа переехала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ание бывшего д/с «Красная шапочка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564000" y="404640"/>
            <a:ext cx="2182680" cy="35308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627280" y="4149720"/>
            <a:ext cx="3529080" cy="20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Ксения Колупаева 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0 по 2007 гг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обучалась и закончила по классу вокала (класс преп. Лизуновой Е.В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07 по 2010 год обучалась и закончила по классу гитара (класс преп. Емангуловой И.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 по 2014 гг. г. обучалась в Архангельском музыкальном колледже (по спец. эстрадный вокал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2800" y="1844640"/>
            <a:ext cx="697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Большинство наших выпускник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 выбравшие карьеру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профессиональных музыкантов,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сделали музыку своим хобб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/>
          <p:nvPr/>
        </p:nvSpPr>
        <p:spPr>
          <a:xfrm>
            <a:off x="1692360" y="4508640"/>
            <a:ext cx="611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вот лишь несколько примеров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1075680" y="620640"/>
            <a:ext cx="688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 музыкой по жизн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227640" y="260280"/>
            <a:ext cx="2630520" cy="22399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940360" y="2997360"/>
            <a:ext cx="2952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Мария Калитин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-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8  по  2005 гг. обучалась по класс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-но (класс преп. Капишниковой Г.М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09 по 2014 гг - обучалась в Вологодский Государственный Технический Университе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737080" cy="19717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2133720"/>
            <a:ext cx="25923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дежда Голубкова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–  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 2001 по 2008 гг.  обучалась и закончила по классу аккордеона (класс преп. Гилютиной  А.С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0 г. – по классу вокала (класс преп. Лизуновой Е.В.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0по 214 г.г. – студентка Ярославского железнодорожного техникума филиала  МИИ, а 2014 г. – студентка МИИ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Является активной участницей всех студенческих мероприятий, а также солисткой вокальной студии при ДК г. Ярославл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492360" y="0"/>
            <a:ext cx="2159280" cy="32464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771640" y="3284640"/>
            <a:ext cx="33656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Алена Кувшинова 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–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1997 по 2004 гг. обучалась по классу ф-но (класс преп.Вебер Л.Е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  2008 по 2011 гг. обучалась в Ярославском училище культуры (по спец. хореогра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С 2011 г. поступила в г. Рязань  в филиал Московского института культуры ( факультет искусств, по спец. хореограф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Ныне работает руководителем эстрадно-хореографического коллектива «Антрэ» (г. Ярославль)  и является солисткой в шоу-балета «Рандеву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2232000" cy="3355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4149720"/>
            <a:ext cx="3384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Юлия Мирошниченко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 с 2000 по  2007 гг. обучалась и закончила по классу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ф-но (класс преп. Вебер Л.Е.)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1 поступила в Казанский национальный исследовательский технологический университ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До сих пор Юлия на расстается с любимым инструментом фортепиано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292720" y="0"/>
            <a:ext cx="2232000" cy="39736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851280" y="4221000"/>
            <a:ext cx="4572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Чичварин Владислав 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– с 2001 по  2010 гг. обучался и закончил по классу ф-но (класс преп. Милютиной И.М.)</a:t>
            </a:r>
            <a:br>
              <a:rPr sz="1400"/>
            </a:b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 2015 г.  поступил в Санкт-Петербургский  государственный университет аэрокосмического приборостро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лад продолжает не только играть на фортепиано, но активно участвует в концертной жизни университет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50920" y="333360"/>
            <a:ext cx="8785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Часть 4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Наши преподаватели являются людьми творческими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Monotype Corsiva"/>
              </a:rPr>
              <a:t>В школе существует  несколько творческих коллективов</a:t>
            </a: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/>
          <p:nvPr/>
        </p:nvSpPr>
        <p:spPr>
          <a:xfrm>
            <a:off x="967680" y="1125360"/>
            <a:ext cx="68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Ансамбль «Фантазия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/>
          <p:nvPr/>
        </p:nvSpPr>
        <p:spPr>
          <a:xfrm>
            <a:off x="4140360" y="1700280"/>
            <a:ext cx="47527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самбль "Фантазия" был создан в 1995 году. Организатор, аранжировщик  и первый руководитель ансамбля Ольга Владимировна Боровская (Колбас), выпускница Милютина В.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Первый состав ансамбля: Колбас О.В. (домра - альт), Русина Е.В. (аккордеон), Милютин В.Г. (контрабас), Милютина И.М. (фортепиано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настоящее время в составе ансамбля играют: Емангулова И.Г. (домра малая) - руководитель ансамбля, Гурова С.С. (баян), Куряткова Н.С. (домра - альт), Милютина И.М. (фортепиано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Ансамбль "Фантазия" тесно сотрудничает с вокалистами: Т. Хламовой, В. Дудиным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Е. Лизуновой, Л. Вебер, Е. Киснемцевой, Ратниковой А.С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В репертуаре ансамбля произведения народные, эстрадные, джазовые, советская классика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0920" y="2349360"/>
            <a:ext cx="3628800" cy="281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382920" cy="2254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189000"/>
            <a:ext cx="6696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Вокальный дуэт  преподава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Monotype Corsiva"/>
              </a:rPr>
              <a:t>Любовь Вебер и Елена Лизуно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/>
          <p:nvPr/>
        </p:nvSpPr>
        <p:spPr>
          <a:xfrm>
            <a:off x="3780000" y="1268280"/>
            <a:ext cx="493236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Дуэт преподавателей существует с 1999 года. Педагоги являются активными участниками всех школьных и районных мероприятий.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В репертуаре дуэта произведения различных жанров: от классики до современных автор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Большинство переложений для дуэта делают сами педагоги 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/>
          <p:nvPr/>
        </p:nvSpPr>
        <p:spPr>
          <a:xfrm>
            <a:off x="567000" y="3573360"/>
            <a:ext cx="78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Monotype Corsiva"/>
              </a:rPr>
              <a:t>Интересный факт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еть в одном коллективе  Елена и Любовь стали горазд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ньше 1999 год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979640" y="4221000"/>
            <a:ext cx="5081400" cy="2506680"/>
          </a:xfrm>
          <a:prstGeom prst="rect">
            <a:avLst/>
          </a:prstGeom>
          <a:ln w="0">
            <a:noFill/>
          </a:ln>
        </p:spPr>
      </p:pic>
      <p:cxnSp>
        <p:nvCxnSpPr>
          <p:cNvPr id="133" name=""/>
          <p:cNvCxnSpPr/>
          <p:nvPr/>
        </p:nvCxnSpPr>
        <p:spPr>
          <a:xfrm flipV="1">
            <a:off x="4858920" y="4288680"/>
            <a:ext cx="2592720" cy="656280"/>
          </a:xfrm>
          <a:prstGeom prst="bentConnector3">
            <a:avLst>
              <a:gd name="adj1" fmla="val 49993"/>
            </a:avLst>
          </a:prstGeom>
          <a:ln cap="sq"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4" name=""/>
          <p:cNvSpPr/>
          <p:nvPr/>
        </p:nvSpPr>
        <p:spPr>
          <a:xfrm>
            <a:off x="7451640" y="4149720"/>
            <a:ext cx="1389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лена Лизунов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5" name=""/>
          <p:cNvCxnSpPr/>
          <p:nvPr/>
        </p:nvCxnSpPr>
        <p:spPr>
          <a:xfrm rot="10800000">
            <a:off x="1544040" y="4577760"/>
            <a:ext cx="2167560" cy="654480"/>
          </a:xfrm>
          <a:prstGeom prst="bentConnector3">
            <a:avLst>
              <a:gd name="adj1" fmla="val 50000"/>
            </a:avLst>
          </a:prstGeom>
          <a:ln cap="sq"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36" name=""/>
          <p:cNvSpPr/>
          <p:nvPr/>
        </p:nvSpPr>
        <p:spPr>
          <a:xfrm>
            <a:off x="108000" y="4437000"/>
            <a:ext cx="127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юбовь Вебер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11280" y="549360"/>
            <a:ext cx="7675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.S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: За годы существования Детской музыкальной школой пройден долгий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есный путь. Каждый новый учебный год приносит новые побе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коряются новые вершин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еники и преподаватели дарят людям радость общения с музыко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этому, я надеюсь, что школа будет продолжать жить, радовать детей 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жителей Плесецка своим творчеством не смотря ни на что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педагоги смогут выстоять в сложившихся обстоятельства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06864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Я часто говорю себе, когда все плохо,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на пути встречаются прегр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вает ровной не всегда дорог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ней встречаются и камни, и ухаб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то я сумею пережить любые бе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одолеть на свете все смог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116000" y="5013360"/>
            <a:ext cx="7238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Об авторе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Лизунова Елена Владимировна, преподаватель филиала ДО «Детская музыкальная школа»,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есто жительства: г. Мирный Архангельской област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/>
          <p:nvPr/>
        </p:nvSpPr>
        <p:spPr>
          <a:xfrm>
            <a:off x="1022040" y="1413000"/>
            <a:ext cx="7357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26920" y="404640"/>
            <a:ext cx="782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в 1988 году школа переезжает в  свое здание по адресу улица Садовая д. 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3745080" cy="26146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643280" y="3716280"/>
            <a:ext cx="3700800" cy="2484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4000" y="3716280"/>
            <a:ext cx="45720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ть школа на Земле одн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сегда в ней музыка слышн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кистью учатся водить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 тетрадках ноты выводить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оет там хор, ансамбль  звучит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Там кто-то иногда бренчит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И раздается скрип пор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И нот фальшивых шумный стро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ам изучают волшебство —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ется с потом мастерство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о фея Звуков там летае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всем в ученье помога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260280"/>
            <a:ext cx="947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Часть 2:</a:t>
            </a: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 Учителями славится Россия…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08000" y="1700280"/>
            <a:ext cx="4751640" cy="376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708360" y="1052640"/>
            <a:ext cx="130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е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300640"/>
            <a:ext cx="803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 (слева направо): Суслова Ольга Пав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дырева Татьяна Викторовна, Милютина Ирина Михай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свирнина (Асеева)  Любовь Александровна, Микушева Татьяна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836640"/>
            <a:ext cx="4935600" cy="37018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95640" y="333360"/>
            <a:ext cx="125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ек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XX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4797360"/>
            <a:ext cx="85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дагоги (слева направо): Вебер Любовь Евгеньевна, Емангулова Инна Геннадьевна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рисова Елена Анатольевна, Куряткова (Гилютина) Анастасия Сергеевна,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изунова Елена Владимировна, Милютина Ирина Михайловна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пишникова Галина Михайловна,  Гурова Светлана Серге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50920" y="429264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настоящее время в школе  работаю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 преподавателей. И 6 из них – выпускники Плесецкой музыкальной школ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/>
          <p:nvPr/>
        </p:nvSpPr>
        <p:spPr>
          <a:xfrm>
            <a:off x="1042920" y="836640"/>
            <a:ext cx="7705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стая  школьной летописи страницы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омьтесь:  это наши выпускни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А ныне - все учител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уд и радость с детьми  деля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йдя со школьного пор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ни профессию избрали педаго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вои умения и знания детям передают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ные предметы им преподаю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14880" y="549360"/>
            <a:ext cx="79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Милютина Ирина Михайл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767400" cy="3535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948360" y="2708280"/>
            <a:ext cx="2063880" cy="3970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96000" y="1413000"/>
            <a:ext cx="510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дна из самых первых выпускниц ДМШ № 20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рина Михайловна с 1981 года работает в родно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коле преподавателе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234936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ногие из учеников Ирины Михайловны продолжил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е музыкально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ние и работают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чреждениях стран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273600" y="476280"/>
            <a:ext cx="98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Лизунова (Калитина) Елена Владимировн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379760" cy="3137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3645000"/>
            <a:ext cx="4219560" cy="2808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501440" y="1413000"/>
            <a:ext cx="4568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87 году закончила Плесецкую музыкальную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школу № 20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том были: учеба в Архангельском музыкальн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илище, Вологодском Государственном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едагогическом университете; работа в РЦДО 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ОШ № 659 г. Санкт-Петербург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1999 г. Елена Владимировна возвращается 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тены родной школы, где и нынче преподает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482760" y="404640"/>
            <a:ext cx="1014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Вебер (Третьякова) Любовь Евгень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5148360" y="4076640"/>
            <a:ext cx="3757680" cy="2451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980160" y="1413000"/>
            <a:ext cx="5104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1992 году Любовь Евгеньевна закончил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МШ № 20. А после окончания Архангельског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узыкального училища  пришла работать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дную школу, где преподает до сих по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плечами Любовь Евгеньевны учеба 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кт-Петербургском университете культуры 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скусств, многочисленные концерты, конкурсы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которых принимают участие не только учащиес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юбовь Евгеньевны, но и сам педаго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55640" y="1484280"/>
            <a:ext cx="2633760" cy="2736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4T08:26:17Z</dcterms:created>
  <dc:creator>Лена</dc:creator>
  <dc:description/>
  <dc:language>en-US</dc:language>
  <cp:lastModifiedBy>RePack by SPecialiST</cp:lastModifiedBy>
  <dcterms:modified xsi:type="dcterms:W3CDTF">2016-05-10T06:45:52Z</dcterms:modified>
  <cp:revision>59</cp:revision>
  <dc:subject/>
  <dc:title>Слайд 1</dc:title>
</cp:coreProperties>
</file>