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93BAC-2EA3-4E90-9788-850588BCC1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A79C5-AB61-4DFA-B874-96A0E3FD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EA5E-53C3-493C-A496-8EF2E71F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C978B-5720-4788-A29F-B4C30B673F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C0ACB-8098-4AE1-86ED-086EDBC0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095ED-1CC3-441E-9E61-80C5D2B3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11898-48E1-4659-9BBE-18B6CBF3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C3858-7943-49FB-9A8D-7A9EB4F9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D1773-3ADF-4EF8-91C5-271A540A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E1FB4-4263-40D6-A54C-96B6228F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4C990-D98F-41B1-9470-7244AD6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E2847-B132-4AC4-AEBB-3AF7B03D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707CA-8071-4656-9457-C48C5ED8C9D7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73640" y="1052640"/>
            <a:ext cx="110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лесецкая детская музыкальная шко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072520" y="2852640"/>
            <a:ext cx="49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Нам 50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3240" y="476280"/>
            <a:ext cx="78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уговина Наталия Васил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067280" y="335772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96000" y="1341360"/>
            <a:ext cx="510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ускница Плесецкой детской музыкаль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ы 1989 года по классу фортепиан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окончания Поморского государств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ниверситета  работала в РЦ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с 2012 года является  руководителем ДМШ№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реподавателем теоретических дисципл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223200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2320" y="47628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уряткова Надежда Серге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3881160" cy="29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08360" y="1125360"/>
            <a:ext cx="509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04 году закончила Плесецкую музыкальну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у № 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: учеба в Архангельском музыкаль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ледже, Вологодском Государственн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ческом университ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2010  г. - учитель музыки СОШ № 1 п. Плесец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2009 г. Надежда Сергеевна работает преподавателем ДМШ № 20  совместите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30364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78320" y="333360"/>
            <a:ext cx="75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окоянина Ирина Андре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2374920" cy="326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32000" y="1052640"/>
            <a:ext cx="565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рина Андреевна в 2007 году закончила ДМШ № 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лассу фортепиано, а в 2009 году  по классу вок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ончила Архангельский колледж культуры и искусст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затем  -  учеба в Санкт-Петербургском университ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льтуры и искус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2013 года Ирина Андреевна преподает в ДМШ №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ценическое движение и сценическую ре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80836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3720" y="549360"/>
            <a:ext cx="56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т уже много лет в нашей школе работ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75120" y="98100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Емангулова Инна Геннад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2305080" cy="392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16360" y="2060640"/>
            <a:ext cx="315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а Геннадьевна работает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МШ № 20 с 1995 го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руководител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самбля преподавател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Фантаз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одно мероприятие шко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оходит без учас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хся  Инны Геннадьев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871640" cy="41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21680" y="549360"/>
            <a:ext cx="71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урова Светлана Серге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178080" cy="381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51280" y="2133720"/>
            <a:ext cx="492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летнее сотрудничество связыв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лану Сергеевну и ДМШ № 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неизменным участником ансамб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одавателей «Фантазия», всех шко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отяжении многих лет осуществля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ую связь  ДМШ № 20 и Плесецкой СО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93160" y="549360"/>
            <a:ext cx="75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усанов Владимир Иван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44480" y="148428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10 году в ДМШ № 20 был открыт класс изобразительного искусства, где ста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одавать  Русанов Владимир Иван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и юные художники успешно участвуют в районных и област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х: конкурсах, выстав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ыставка рисунков учащихся  является неотъемлемой частью жизни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48596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9840" y="476280"/>
            <a:ext cx="90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атникова Анастасия Серг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684600" cy="329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96680" y="1268280"/>
            <a:ext cx="831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МШ № 20 работает с 01 апреля 201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ервых дней работы показала себя как энергичный, заинтересованный в успех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ный, творческий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руководством педагога хор учащихся уже успел покорить не только Плесец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и Каргополь, Архангельс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299960" y="981000"/>
            <a:ext cx="118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асть 3: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…ученики приносят славу ей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2637000"/>
            <a:ext cx="760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50 лет  школа выпустила не одну сотн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шек и девч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из них связали свою жиз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узы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3789360"/>
            <a:ext cx="40323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льга Любченко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80 по 1987 гг. обучалась по классу ф-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87 по 1991 гг. - Архангельское музыкальное училище (фортепианное отдел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91 по 1996 гг. - Российский Государственный педагогический университет имени А.Герцена (факультет музык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ыне - заместитель директора по воспитательной работе, учитель музыки в  ГБОУ Гимназия № 622 Выборгского района Санкт - Петербур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2087640" cy="304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56000" y="3789360"/>
            <a:ext cx="4572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рина Залесских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–с 1995 по  2003 г.г. обучалась и закончила по классу ф-но (класс преп.Вебер Л.Е.). С  2003 по 2006 г.г. обучалась и закончила по классу вокала (класс преп. Чичварин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6 по 2010 гг. обучалась и закончила с отличием  Архангельский  музыкальный  колледж (по спец. Эстрадный вокал), С 2010по 2015 г.  – студентка Московского гос. университета культуры и искусств (по спец. эстрадно-джазовое п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3789360"/>
            <a:ext cx="41050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дрей Дмитриев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2 по 2010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бучался и закончил по классу вокала (класс преп. Лизунов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0 по 2012 г. обучался в Архангельском музыкальном колледже (по спец. эстрадный вок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3 по 2015 г. – студент Санкт-Петербургского музыкального колледжа им. Мусоргско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2 г. – солист Ансамбля песни и пляски Северо-Западного военного окру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616280" cy="2592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0" y="4149720"/>
            <a:ext cx="4321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ан Вострокнутов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1 по 2011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бучался и закончил по классу вокала (класс преп. Лизунов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1 по 2015  г. обучался в Архангельском музыкальном колледже (по спец. эстрадный вок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5 г. – студент Московского государственного педагогического универси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8900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асть 1: 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Из века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XX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в век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X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834920" y="119700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вои 50 лет музыкальная школа сменила 3 з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адрес школы   – улица Фокина д. 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53080" cy="260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44880" y="515772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музыкальная школа переехала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бывшего д/с «Красная шапо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182680" cy="35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27280" y="4149720"/>
            <a:ext cx="35290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сения Колупаева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0 по 2007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бучалась и закончила по классу вокала (класс преп. Лизунов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7 по 2010 год обучалась и закончила по классу гитара (класс преп. Емангуловой И.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0 по 2014 гг. г. обучалась в Архангельском музыкальном колледже (по спец. эстрадный вок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2800" y="1844640"/>
            <a:ext cx="697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ьшинство наших выпускник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выбравшие карьеру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фессиональных музыкант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ли музыку своим хоб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508640"/>
            <a:ext cx="61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т лишь несколько примеро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075680" y="620640"/>
            <a:ext cx="68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музыкой по жизн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630520" cy="2239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40360" y="299736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рия Калити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-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98  по  2005 гг. обучалась по клас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-но (класс преп. Капишниковой Г.М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09 по 2014 гг - обучалась в Вологодский Государственный Технический Универси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737080" cy="1971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2133720"/>
            <a:ext cx="2592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дежда Голубков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–  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 2001 по 2008 гг.  обучалась и закончила по классу аккордеона (класс преп. Гилютиной  А.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10 г. – по классу вокала (класс преп. Лизуновой Е.В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0по 214 г.г. – студентка Ярославского железнодорожного техникума филиала  МИИ, а 2014 г. – студентка МИ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Является активной участницей всех студенческих мероприятий, а также солисткой вокальной студии при ДК г. Ярослав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0"/>
            <a:ext cx="21592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3284640"/>
            <a:ext cx="3365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лена Кувшинова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97 по 2004 гг. обучалась по классу ф-но (класс преп.Вебер Л.Е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  2008 по 2011 гг. обучалась в Ярославском училище культуры (по спец. хореогра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1 г. поступила в г. Рязань  в филиал Московского института культуры ( факультет искусств, по спец. хореогра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ыне работает руководителем эстрадно-хореографического коллектива «Антрэ» (г. Ярославль)  и является солисткой в шоу-балета «Рандев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232000" cy="335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4149720"/>
            <a:ext cx="3384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Юлия Мирошниченко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– с 2000 по  2007 гг. обучалась и закончила по класс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-но (класс преп. Вебер Л.Е.)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11 поступила в Казанский национальный исследовательский технологический универс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о сих пор Юлия на расстается с любимым инструментом фортепиа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2232000" cy="397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1280" y="42210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Чичварин Владислав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– с 2001 по  2010 гг. обучался и закончил по классу ф-но (класс преп. Милютиной И.М.)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15 г.  поступил в Санкт-Петербургский  государственный университет аэрокосмического приборостро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лад продолжает не только играть на фортепиано, но активно участвует в концертной жизни университ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333360"/>
            <a:ext cx="8785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асть 4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ши преподаватели являются людьми творческ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школе существует  несколько творческих коллективов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967680" y="1125360"/>
            <a:ext cx="68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самбль «Фантаз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1700280"/>
            <a:ext cx="475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самбль "Фантазия" был создан в 1995 году. Организатор, аранжировщик  и первый руководитель ансамбля Ольга Владимировна Боровская (Колбас), выпускница Милютина В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вый состав ансамбля: Колбас О.В. (домра - альт), Русина Е.В. (аккордеон), Милютин В.Г. (контрабас), Милютина И.М. (фортепиано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настоящее время в составе ансамбля играют: Емангулова И.Г. (домра малая) - руководитель ансамбля, Гурова С.С. (баян), Куряткова Н.С. (домра - альт), Милютина И.М. (фортепиано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самбль "Фантазия" тесно сотрудничает с вокалистами: Т. Хламовой, В. Дудины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Е. Лизуновой, Л. Вебер, Е. Киснемцевой, Ратниковой А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репертуаре ансамбля произведения народные, эстрадные, джазовые, советская классика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62880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382920" cy="2254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189000"/>
            <a:ext cx="66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кальный дуэт  преподав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юбовь Вебер и Елена Лизу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1268280"/>
            <a:ext cx="49323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уэт преподавателей существует с 1999 года. Педагоги являются активными участниками всех школьных и районных мероприяти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репертуаре дуэта произведения различных жанров: от классики до современных автор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ольшинство переложений для дуэта делают сами педагог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67000" y="3573360"/>
            <a:ext cx="78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нтересный фак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ть в одном коллективе  Елена и Любовь стали горазд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ьше 1999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081400" cy="2506680"/>
          </a:xfrm>
          <a:prstGeom prst="rect">
            <a:avLst/>
          </a:prstGeom>
          <a:ln w="0">
            <a:noFill/>
          </a:ln>
        </p:spPr>
      </p:pic>
      <p:cxnSp>
        <p:nvCxnSpPr>
          <p:cNvPr id="133" name=""/>
          <p:cNvCxnSpPr/>
          <p:nvPr/>
        </p:nvCxnSpPr>
        <p:spPr>
          <a:xfrm flipV="1">
            <a:off x="4858920" y="4288680"/>
            <a:ext cx="2592720" cy="656280"/>
          </a:xfrm>
          <a:prstGeom prst="bentConnector3">
            <a:avLst>
              <a:gd name="adj1" fmla="val 49993"/>
            </a:avLst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"/>
          <p:cNvSpPr/>
          <p:nvPr/>
        </p:nvSpPr>
        <p:spPr>
          <a:xfrm>
            <a:off x="7451640" y="414972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лена Лизун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"/>
          <p:cNvCxnSpPr/>
          <p:nvPr/>
        </p:nvCxnSpPr>
        <p:spPr>
          <a:xfrm rot="10800000">
            <a:off x="1544040" y="4577760"/>
            <a:ext cx="2167560" cy="654480"/>
          </a:xfrm>
          <a:prstGeom prst="bentConnector3">
            <a:avLst>
              <a:gd name="adj1" fmla="val 50000"/>
            </a:avLst>
          </a:prstGeom>
          <a:ln cap="sq"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6" name=""/>
          <p:cNvSpPr/>
          <p:nvPr/>
        </p:nvSpPr>
        <p:spPr>
          <a:xfrm>
            <a:off x="108000" y="44370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овь Веб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549360"/>
            <a:ext cx="767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.S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За годы существования Детской музыкальной школой пройден долг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есный путь. Каждый новый учебный год приносит новые побе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оряются новые верш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и и преподаватели дарят людям радость общения с музы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, я надеюсь, что школа будет продолжать жить, радовать дете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телей Плесецка своим творчеством не смотря ни на чт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едагоги смогут выстоять в сложившихся обстоятельст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06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часто говорю себе, когда все плохо,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а пути встречаются прегр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вает ровной не всегда дорог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й встречаются и камни, и ухаб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я сумею пережить любые бе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долеть на свете все смог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5013360"/>
            <a:ext cx="723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 автор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зунова Елена Владимировна, преподаватель филиала ДО «Детская музыкальная школа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сто жительства: г. Мирный Архангельской обл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022040" y="1413000"/>
            <a:ext cx="73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40464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 1988 году школа переезжает в  свое здание по адресу улица Садовая д. 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745080" cy="26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700800" cy="24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3716280"/>
            <a:ext cx="4572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ть школа на Земле од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гда в ней музыка слыш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кистью учатся води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тетрадках ноты вывод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ет там хор, ансамбль  звуч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Там кто-то иногда бренч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И раздается скрип пор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И нот фальшивых шумный стр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изучают волшебство —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ется с потом мастерство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фея Звуков там лет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сем в ученье помога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0280"/>
            <a:ext cx="947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асть 2: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Учителями славится Россия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751640" cy="376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08360" y="10526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300640"/>
            <a:ext cx="803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 (слева направо): Суслова Ольга Павл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дырева Татьяна Викторовна, Милютина Ирина Михайл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вирнина (Асеева)  Любовь Александровна, Микуше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4935600" cy="3701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95640" y="3333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X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79736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 (слева направо): Вебер Любовь Евгеньевна, Емангулова Инна Геннадь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исова Елена Анатольевна, Куряткова (Гилютина) Анастасия Сергеевна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зунова Елена Владимировна, Милютина Ирина Михайл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пишникова Галина Михайловна,  Гурова Светла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292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стоящее время в школе  работ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 преподавателей. И 6 из них – выпускники Плесецкой музыкальн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836640"/>
            <a:ext cx="77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стая  школьной летописи страниц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ьтесь:  это наши выпуск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ыне - все учител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 и радость с детьми  дел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дя со школьного пор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профессию избрали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 умения и знания детям передаю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ые предметы им препод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4880" y="549360"/>
            <a:ext cx="79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илютина Ирина Михайл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767400" cy="353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48360" y="2708280"/>
            <a:ext cx="2063880" cy="397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6000" y="141300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из самых первых выпускниц ДМШ № 20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рина Михайловна с 1981 года работает в род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е преподавате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23493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ие из учеников Ирины Михайловны продолжи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е музыкаль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е и работают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реждениях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273600" y="476280"/>
            <a:ext cx="98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Лизунова (Калитина) Елена Владимиро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379760" cy="3137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21956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01440" y="1413000"/>
            <a:ext cx="4568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987 году закончила Плесецкую музыкальну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колу № 20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том были: учеба в Архангельском музыкаль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лище, Вологодском Государственн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агогическом университете; работа в РЦДО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Ш № 659 г. Санкт-Петербур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999 г. Елена Владимировна возвращается 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ены родной школы, где и нынче препод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482760" y="404640"/>
            <a:ext cx="101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бер (Третьякова) Любовь Евген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757680" cy="2451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80160" y="1413000"/>
            <a:ext cx="510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92 году Любовь Евгеньевна законч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МШ № 20. А после окончания Архангель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ого училища  пришла работать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ную школу, где преподает до сих п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лечами Любовь Евгеньевны учеба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ском университете культуры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усств, многочисленные концерты, конкурс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торых принимают участие не только учащие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овь Евгеньевны, но и сам педаг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6337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8:26:17Z</dcterms:created>
  <dc:creator>Лена</dc:creator>
  <dc:description/>
  <dc:language>en-US</dc:language>
  <cp:lastModifiedBy>RePack by SPecialiST</cp:lastModifiedBy>
  <dcterms:modified xsi:type="dcterms:W3CDTF">2016-05-10T06:45:52Z</dcterms:modified>
  <cp:revision>59</cp:revision>
  <dc:subject/>
  <dc:title>Слайд 1</dc:title>
</cp:coreProperties>
</file>