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6FD5-CD14-4DD6-AD9C-6B2EF3225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52EA-0BF5-4D09-A252-B7778B73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3C2C-5E62-49E3-9D12-8A4D0CBDC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8518-A698-4187-A6B2-A2CA2E027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DF4B-4357-4E46-9A37-02D819B5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4037-AE81-4EB6-ADC2-4B59E8DB5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7829-4FB5-4421-AD7A-50259BB91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4737-2BA5-4785-AB24-3C1520A0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FE49-10D0-4169-BA0C-D33073DF5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5A28-ECD9-4BB3-B2AD-4CE63BAF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805C-AD2C-4E9E-8AF1-B4CA7BD3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071F-8C54-4145-83CA-1A66979D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D5DF-9EAF-48A5-BD9B-4ACF744DA8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50920" y="2276640"/>
            <a:ext cx="856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Harrington"/>
              </a:rPr>
              <a:t>  </a:t>
            </a:r>
            <a:r>
              <a:rPr b="1" lang="ru-RU" sz="8800" spc="-1" strike="noStrike">
                <a:solidFill>
                  <a:srgbClr val="000000"/>
                </a:solidFill>
                <a:latin typeface="Harrington"/>
              </a:rPr>
              <a:t>День Росси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12 06"/>
          <p:cNvPicPr/>
          <p:nvPr/>
        </p:nvPicPr>
        <p:blipFill>
          <a:blip r:embed="rId1"/>
          <a:stretch/>
        </p:blipFill>
        <p:spPr>
          <a:xfrm>
            <a:off x="324000" y="404640"/>
            <a:ext cx="1942920" cy="1943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3" name="Picture 6" descr="день россии"/>
          <p:cNvPicPr/>
          <p:nvPr/>
        </p:nvPicPr>
        <p:blipFill>
          <a:blip r:embed="rId2"/>
          <a:stretch/>
        </p:blipFill>
        <p:spPr>
          <a:xfrm>
            <a:off x="5940360" y="189000"/>
            <a:ext cx="2667240" cy="2400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4" name="Picture 7" descr="дрос"/>
          <p:cNvPicPr/>
          <p:nvPr/>
        </p:nvPicPr>
        <p:blipFill>
          <a:blip r:embed="rId3"/>
          <a:stretch/>
        </p:blipFill>
        <p:spPr>
          <a:xfrm>
            <a:off x="214200" y="3571920"/>
            <a:ext cx="1973520" cy="29606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5" name="Picture 8" descr="пр 12 и"/>
          <p:cNvPicPr/>
          <p:nvPr/>
        </p:nvPicPr>
        <p:blipFill>
          <a:blip r:embed="rId4"/>
          <a:stretch/>
        </p:blipFill>
        <p:spPr>
          <a:xfrm>
            <a:off x="5292720" y="3860640"/>
            <a:ext cx="3386160" cy="2708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6" name="Picture 10" descr="Ельцин"/>
          <p:cNvPicPr/>
          <p:nvPr/>
        </p:nvPicPr>
        <p:blipFill>
          <a:blip r:embed="rId5"/>
          <a:stretch/>
        </p:blipFill>
        <p:spPr>
          <a:xfrm>
            <a:off x="3059280" y="404640"/>
            <a:ext cx="2233440" cy="20322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7" name="Picture 12" descr="днь рс"/>
          <p:cNvPicPr/>
          <p:nvPr/>
        </p:nvPicPr>
        <p:blipFill>
          <a:blip r:embed="rId6"/>
          <a:stretch/>
        </p:blipFill>
        <p:spPr>
          <a:xfrm>
            <a:off x="2484360" y="4508640"/>
            <a:ext cx="2521080" cy="15541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"/>
          <p:cNvSpPr/>
          <p:nvPr/>
        </p:nvSpPr>
        <p:spPr>
          <a:xfrm>
            <a:off x="428760" y="527400"/>
            <a:ext cx="82864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ый цвет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неустрашимость, великодуш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олото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ила, богатство, могущество, справедлив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ёл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ласть, прозорлив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углавый орёл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храна своих владений на западе, и на востоке, в Европе и Аз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ны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имволы трёх ветвей власти: исполнительной, законодательной и судеб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ипетр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имвол защиты суверенит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жава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имвол единства, целостности 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адник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ражающий змея – символ победы добра над зл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ros_bi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680" y="357120"/>
            <a:ext cx="8229600" cy="536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м знамен, флагов, штандартов занимается особая наука – 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ксиллология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ечественной литературе используется понятие «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меноведение»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 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аговедение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Безымянный"/>
          <p:cNvPicPr/>
          <p:nvPr/>
        </p:nvPicPr>
        <p:blipFill>
          <a:blip r:embed="rId1"/>
          <a:stretch/>
        </p:blipFill>
        <p:spPr>
          <a:xfrm>
            <a:off x="428760" y="4071960"/>
            <a:ext cx="3286080" cy="24638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181080" y="5157720"/>
            <a:ext cx="8725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2 июня 1990 года в обстановке проходившей в СССР суверенизации союз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спублик 1 съезд народных депутатов РСФСР принял Декларацию 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енном суверенитете России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konk00"/>
          <p:cNvPicPr/>
          <p:nvPr/>
        </p:nvPicPr>
        <p:blipFill>
          <a:blip r:embed="rId1"/>
          <a:stretch/>
        </p:blipFill>
        <p:spPr>
          <a:xfrm>
            <a:off x="1042920" y="404640"/>
            <a:ext cx="5322960" cy="3992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new_721_1"/>
          <p:cNvPicPr/>
          <p:nvPr/>
        </p:nvPicPr>
        <p:blipFill>
          <a:blip r:embed="rId2"/>
          <a:stretch/>
        </p:blipFill>
        <p:spPr>
          <a:xfrm>
            <a:off x="6948360" y="907920"/>
            <a:ext cx="1676520" cy="242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z_86439bcd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5"/>
          <p:cNvSpPr/>
          <p:nvPr/>
        </p:nvSpPr>
        <p:spPr>
          <a:xfrm>
            <a:off x="5286240" y="383400"/>
            <a:ext cx="36435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ый цвет означает мир, чистоту, благородст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ий – честность, верность, безупреч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ый – силу и смелость, неустрашим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"/>
          <p:cNvSpPr/>
          <p:nvPr/>
        </p:nvSpPr>
        <p:spPr>
          <a:xfrm>
            <a:off x="285840" y="442440"/>
            <a:ext cx="82868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мн  – слово греческого происхождения. В древней Греции гимном называли торжественную хвалебную песню в честь богов и героев. Гимн – это музыкальное сопровождение всех торжественных мероприят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img24"/>
          <p:cNvPicPr/>
          <p:nvPr/>
        </p:nvPicPr>
        <p:blipFill>
          <a:blip r:embed="rId1"/>
          <a:stretch/>
        </p:blipFill>
        <p:spPr>
          <a:xfrm>
            <a:off x="6143760" y="3286080"/>
            <a:ext cx="2697120" cy="3313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3" name="Picture 6" descr="12 июня"/>
          <p:cNvPicPr/>
          <p:nvPr/>
        </p:nvPicPr>
        <p:blipFill>
          <a:blip r:embed="rId2"/>
          <a:stretch/>
        </p:blipFill>
        <p:spPr>
          <a:xfrm>
            <a:off x="1285920" y="3929040"/>
            <a:ext cx="3244680" cy="21607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1571760" y="2928960"/>
            <a:ext cx="7286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е «торжественные песни» повелел исполнять Петр I. В честь российских побед звучало, по меньшей мере, 5 или 6 разных песен, наиболее известная из которых – «Преображенский марш» (автор неизвестен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07"/>
          <p:cNvPicPr/>
          <p:nvPr/>
        </p:nvPicPr>
        <p:blipFill>
          <a:blip r:embed="rId1"/>
          <a:stretch/>
        </p:blipFill>
        <p:spPr>
          <a:xfrm>
            <a:off x="428760" y="357120"/>
            <a:ext cx="3143160" cy="20876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76" name="Picture 5" descr="600x300"/>
          <p:cNvPicPr/>
          <p:nvPr/>
        </p:nvPicPr>
        <p:blipFill>
          <a:blip r:embed="rId2"/>
          <a:stretch/>
        </p:blipFill>
        <p:spPr>
          <a:xfrm>
            <a:off x="4286160" y="571680"/>
            <a:ext cx="4235400" cy="2117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открытка"/>
          <p:cNvPicPr/>
          <p:nvPr/>
        </p:nvPicPr>
        <p:blipFill>
          <a:blip r:embed="rId1"/>
          <a:stretch/>
        </p:blipFill>
        <p:spPr>
          <a:xfrm>
            <a:off x="2268360" y="2997360"/>
            <a:ext cx="6301080" cy="3471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07"/>
          <p:cNvPicPr/>
          <p:nvPr/>
        </p:nvPicPr>
        <p:blipFill>
          <a:blip r:embed="rId2"/>
          <a:stretch/>
        </p:blipFill>
        <p:spPr>
          <a:xfrm>
            <a:off x="468360" y="333360"/>
            <a:ext cx="3672000" cy="2438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DSCF0668"/>
          <p:cNvPicPr/>
          <p:nvPr/>
        </p:nvPicPr>
        <p:blipFill>
          <a:blip r:embed="rId3"/>
          <a:stretch/>
        </p:blipFill>
        <p:spPr>
          <a:xfrm>
            <a:off x="5148360" y="333360"/>
            <a:ext cx="316872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big_59897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500040" y="428760"/>
            <a:ext cx="8215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России или же День независимости России, как именовал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раздник до 2002 года - это один из самых «молодых» государстве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здников в нашей стране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дрос"/>
          <p:cNvPicPr/>
          <p:nvPr/>
        </p:nvPicPr>
        <p:blipFill>
          <a:blip r:embed="rId1"/>
          <a:stretch/>
        </p:blipFill>
        <p:spPr>
          <a:xfrm>
            <a:off x="539640" y="1989000"/>
            <a:ext cx="3029040" cy="45450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1" name="Picture 6" descr="00_13"/>
          <p:cNvPicPr/>
          <p:nvPr/>
        </p:nvPicPr>
        <p:blipFill>
          <a:blip r:embed="rId2"/>
          <a:stretch/>
        </p:blipFill>
        <p:spPr>
          <a:xfrm>
            <a:off x="5219640" y="1989000"/>
            <a:ext cx="3097440" cy="2354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2" name="Picture 7" descr="13663_20070612104943"/>
          <p:cNvPicPr/>
          <p:nvPr/>
        </p:nvPicPr>
        <p:blipFill>
          <a:blip r:embed="rId3"/>
          <a:stretch/>
        </p:blipFill>
        <p:spPr>
          <a:xfrm>
            <a:off x="5508720" y="4797360"/>
            <a:ext cx="2303280" cy="17272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717637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 flipV="1" rot="10800000">
            <a:off x="681120" y="5444640"/>
            <a:ext cx="7711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Я рожден в Росси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ozero_full640x4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u9973_2085_1680x1050_HD_Wallpaper_192_Zixp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valday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2"/>
          <p:cNvSpPr/>
          <p:nvPr/>
        </p:nvSpPr>
        <p:spPr>
          <a:xfrm>
            <a:off x="785880" y="214200"/>
            <a:ext cx="7143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жданин - это человек, обладающий чувством гражданской ответственности, который стремится к участию в государственных и общественных делах. Понятие гражданин вошло в российскую культуру как синоним слова «патриот» - человек, болеющий за интересы родного народа, готовый идти на жертвы во имя Отчизны, Род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герб 21"/>
          <p:cNvPicPr/>
          <p:nvPr/>
        </p:nvPicPr>
        <p:blipFill>
          <a:blip r:embed="rId1"/>
          <a:stretch/>
        </p:blipFill>
        <p:spPr>
          <a:xfrm>
            <a:off x="5000760" y="428760"/>
            <a:ext cx="3871800" cy="45003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60" name="Picture 8" descr="флаг 21"/>
          <p:cNvPicPr/>
          <p:nvPr/>
        </p:nvPicPr>
        <p:blipFill>
          <a:blip r:embed="rId2"/>
          <a:stretch/>
        </p:blipFill>
        <p:spPr>
          <a:xfrm>
            <a:off x="285840" y="3000240"/>
            <a:ext cx="4608360" cy="30718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428760" y="949320"/>
            <a:ext cx="8215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б - дословно переводиться как “наследство”. В толковом словаре русского языка С. И. Ожегова “герб” определяется как - “эмблема государства, города, сословия, рода, изображаемая на флагах, монетах, печатях, государственных и других документах”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5T11:38:04Z</dcterms:created>
  <dc:creator>Computer</dc:creator>
  <dc:description/>
  <dc:language>en-US</dc:language>
  <cp:lastModifiedBy>Настенька</cp:lastModifiedBy>
  <dcterms:modified xsi:type="dcterms:W3CDTF">2014-06-10T06:05:06Z</dcterms:modified>
  <cp:revision>16</cp:revision>
  <dc:subject/>
  <dc:title>Слайд 1</dc:title>
</cp:coreProperties>
</file>