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678A-8211-4A62-BCF9-1E13D5966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1B13-182A-4548-82EB-88BF4B833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6BC3-BA33-4F25-8D93-D5FB1872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226D-8809-43A4-A9F7-FA849403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4558-C745-445E-87D8-C8436277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0817-BD34-4907-B7DA-446D9FA93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D2B0-B5E3-449C-A8DE-0BF4B6DB9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BD5-8EED-4C55-A538-F813432B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3537-5ABC-4B46-BA55-1BCF738B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B6FD-80A1-4216-BF89-BAE9C3536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2AF8-100A-4F04-8B51-321351C4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0ED-C5BB-4D54-BA89-334C53A4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FF391-705C-46CF-B925-85028BF433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27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Harrington"/>
              </a:rPr>
              <a:t>  </a:t>
            </a:r>
            <a:r>
              <a:rPr b="1" lang="ru-RU" sz="8800" spc="-1" strike="noStrike">
                <a:solidFill>
                  <a:srgbClr val="000000"/>
                </a:solidFill>
                <a:latin typeface="Harrington"/>
              </a:rPr>
              <a:t>День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12 06"/>
          <p:cNvPicPr/>
          <p:nvPr/>
        </p:nvPicPr>
        <p:blipFill>
          <a:blip r:embed="rId1"/>
          <a:stretch/>
        </p:blipFill>
        <p:spPr>
          <a:xfrm>
            <a:off x="324000" y="404640"/>
            <a:ext cx="1942920" cy="19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" name="Picture 6" descr="день россии"/>
          <p:cNvPicPr/>
          <p:nvPr/>
        </p:nvPicPr>
        <p:blipFill>
          <a:blip r:embed="rId2"/>
          <a:stretch/>
        </p:blipFill>
        <p:spPr>
          <a:xfrm>
            <a:off x="5940360" y="189000"/>
            <a:ext cx="2667240" cy="2400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7" descr="дрос"/>
          <p:cNvPicPr/>
          <p:nvPr/>
        </p:nvPicPr>
        <p:blipFill>
          <a:blip r:embed="rId3"/>
          <a:stretch/>
        </p:blipFill>
        <p:spPr>
          <a:xfrm>
            <a:off x="214200" y="3571920"/>
            <a:ext cx="1973520" cy="296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8" descr="пр 12 и"/>
          <p:cNvPicPr/>
          <p:nvPr/>
        </p:nvPicPr>
        <p:blipFill>
          <a:blip r:embed="rId4"/>
          <a:stretch/>
        </p:blipFill>
        <p:spPr>
          <a:xfrm>
            <a:off x="5292720" y="3860640"/>
            <a:ext cx="3386160" cy="270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10" descr="Ельцин"/>
          <p:cNvPicPr/>
          <p:nvPr/>
        </p:nvPicPr>
        <p:blipFill>
          <a:blip r:embed="rId5"/>
          <a:stretch/>
        </p:blipFill>
        <p:spPr>
          <a:xfrm>
            <a:off x="3059280" y="404640"/>
            <a:ext cx="2233440" cy="203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12" descr="днь рс"/>
          <p:cNvPicPr/>
          <p:nvPr/>
        </p:nvPicPr>
        <p:blipFill>
          <a:blip r:embed="rId6"/>
          <a:stretch/>
        </p:blipFill>
        <p:spPr>
          <a:xfrm>
            <a:off x="2484360" y="4508640"/>
            <a:ext cx="2521080" cy="155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28760" y="52740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ц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устрашимость, великоду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ла, богатство, могущество, справед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ё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ласть, прозор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главый орё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храна своих владений на западе, и на востоке, в Европе и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ы трёх ветвей власти: исполнительной, законодательной и судеб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петр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 защиты суверен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 единства, целостност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адни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ажающий змея – символ победы добра над з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ros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м знамен, флагов, штандартов занимается особая наука –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силлологи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ечественной литературе используется понятие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оведение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овед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Безымянный"/>
          <p:cNvPicPr/>
          <p:nvPr/>
        </p:nvPicPr>
        <p:blipFill>
          <a:blip r:embed="rId1"/>
          <a:stretch/>
        </p:blipFill>
        <p:spPr>
          <a:xfrm>
            <a:off x="428760" y="4071960"/>
            <a:ext cx="3286080" cy="2463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81080" y="5157720"/>
            <a:ext cx="87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июня 1990 года в обстановке проходившей в СССР суверенизации союз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 1 съезд народных депутатов РСФСР принял Декларацию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м суверенитете Росси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onk00"/>
          <p:cNvPicPr/>
          <p:nvPr/>
        </p:nvPicPr>
        <p:blipFill>
          <a:blip r:embed="rId1"/>
          <a:stretch/>
        </p:blipFill>
        <p:spPr>
          <a:xfrm>
            <a:off x="1042920" y="404640"/>
            <a:ext cx="5322960" cy="399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ew_721_1"/>
          <p:cNvPicPr/>
          <p:nvPr/>
        </p:nvPicPr>
        <p:blipFill>
          <a:blip r:embed="rId2"/>
          <a:stretch/>
        </p:blipFill>
        <p:spPr>
          <a:xfrm>
            <a:off x="6948360" y="907920"/>
            <a:ext cx="1676520" cy="242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z_86439bc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286240" y="383400"/>
            <a:ext cx="3643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цвет означает мир, чистоту, благор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– честность, верность, безупре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– силу и смелость, неустраш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85840" y="442440"/>
            <a:ext cx="828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  – слово греческого происхождения. В древней Греции гимном называли торжественную хвалебную песню в честь богов и героев. Гимн – это музыкальное сопровождение всех торжественных меропри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mg24"/>
          <p:cNvPicPr/>
          <p:nvPr/>
        </p:nvPicPr>
        <p:blipFill>
          <a:blip r:embed="rId1"/>
          <a:stretch/>
        </p:blipFill>
        <p:spPr>
          <a:xfrm>
            <a:off x="6143760" y="3286080"/>
            <a:ext cx="2697120" cy="331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6" descr="12 июня"/>
          <p:cNvPicPr/>
          <p:nvPr/>
        </p:nvPicPr>
        <p:blipFill>
          <a:blip r:embed="rId2"/>
          <a:stretch/>
        </p:blipFill>
        <p:spPr>
          <a:xfrm>
            <a:off x="1285920" y="3929040"/>
            <a:ext cx="3244680" cy="216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571760" y="2928960"/>
            <a:ext cx="72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«торжественные песни» повелел исполнять Петр I. В честь российских побед звучало, по меньшей мере, 5 или 6 разных песен, наиболее известная из которых – «Преображенский марш» (автор неизвесте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7"/>
          <p:cNvPicPr/>
          <p:nvPr/>
        </p:nvPicPr>
        <p:blipFill>
          <a:blip r:embed="rId1"/>
          <a:stretch/>
        </p:blipFill>
        <p:spPr>
          <a:xfrm>
            <a:off x="428760" y="357120"/>
            <a:ext cx="3143160" cy="208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5" descr="600x300"/>
          <p:cNvPicPr/>
          <p:nvPr/>
        </p:nvPicPr>
        <p:blipFill>
          <a:blip r:embed="rId2"/>
          <a:stretch/>
        </p:blipFill>
        <p:spPr>
          <a:xfrm>
            <a:off x="4286160" y="571680"/>
            <a:ext cx="4235400" cy="211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открытка"/>
          <p:cNvPicPr/>
          <p:nvPr/>
        </p:nvPicPr>
        <p:blipFill>
          <a:blip r:embed="rId1"/>
          <a:stretch/>
        </p:blipFill>
        <p:spPr>
          <a:xfrm>
            <a:off x="2268360" y="2997360"/>
            <a:ext cx="6301080" cy="347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07"/>
          <p:cNvPicPr/>
          <p:nvPr/>
        </p:nvPicPr>
        <p:blipFill>
          <a:blip r:embed="rId2"/>
          <a:stretch/>
        </p:blipFill>
        <p:spPr>
          <a:xfrm>
            <a:off x="468360" y="333360"/>
            <a:ext cx="367200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SCF0668"/>
          <p:cNvPicPr/>
          <p:nvPr/>
        </p:nvPicPr>
        <p:blipFill>
          <a:blip r:embed="rId3"/>
          <a:stretch/>
        </p:blipFill>
        <p:spPr>
          <a:xfrm>
            <a:off x="5148360" y="333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ig_598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00040" y="428760"/>
            <a:ext cx="821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ссии или же День независимости России, как именова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аздник до 2002 года - это один из самых «молодых» государ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ов в нашей стран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дрос"/>
          <p:cNvPicPr/>
          <p:nvPr/>
        </p:nvPicPr>
        <p:blipFill>
          <a:blip r:embed="rId1"/>
          <a:stretch/>
        </p:blipFill>
        <p:spPr>
          <a:xfrm>
            <a:off x="539640" y="1989000"/>
            <a:ext cx="3029040" cy="454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6" descr="00_13"/>
          <p:cNvPicPr/>
          <p:nvPr/>
        </p:nvPicPr>
        <p:blipFill>
          <a:blip r:embed="rId2"/>
          <a:stretch/>
        </p:blipFill>
        <p:spPr>
          <a:xfrm>
            <a:off x="5219640" y="1989000"/>
            <a:ext cx="3097440" cy="2354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7" descr="13663_20070612104943"/>
          <p:cNvPicPr/>
          <p:nvPr/>
        </p:nvPicPr>
        <p:blipFill>
          <a:blip r:embed="rId3"/>
          <a:stretch/>
        </p:blipFill>
        <p:spPr>
          <a:xfrm>
            <a:off x="5508720" y="4797360"/>
            <a:ext cx="2303280" cy="17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176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flipV="1" rot="10800000">
            <a:off x="681120" y="5444640"/>
            <a:ext cx="771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Я рожден в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zero_full640x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9973_2085_1680x1050_HD_Wallpaper_192_Zixp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valday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785880" y="214200"/>
            <a:ext cx="714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ин - это человек, обладающий чувством гражданской ответственности, который стремится к участию в государственных и общественных делах. Понятие гражданин вошло в российскую культуру как синоним слова «патриот» - человек, болеющий за интересы родного народа, готовый идти на жертвы во имя Отчизны,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герб 21"/>
          <p:cNvPicPr/>
          <p:nvPr/>
        </p:nvPicPr>
        <p:blipFill>
          <a:blip r:embed="rId1"/>
          <a:stretch/>
        </p:blipFill>
        <p:spPr>
          <a:xfrm>
            <a:off x="5000760" y="428760"/>
            <a:ext cx="3871800" cy="450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8" descr="флаг 21"/>
          <p:cNvPicPr/>
          <p:nvPr/>
        </p:nvPicPr>
        <p:blipFill>
          <a:blip r:embed="rId2"/>
          <a:stretch/>
        </p:blipFill>
        <p:spPr>
          <a:xfrm>
            <a:off x="285840" y="3000240"/>
            <a:ext cx="460836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28760" y="94932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- дословно переводиться как “наследство”. В толковом словаре русского языка С. И. Ожегова “герб” определяется как - “эмблема государства, города, сословия, рода, изображаемая на флагах, монетах, печатях, государственных и других документах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38:04Z</dcterms:created>
  <dc:creator>Computer</dc:creator>
  <dc:description/>
  <dc:language>en-US</dc:language>
  <cp:lastModifiedBy>Настенька</cp:lastModifiedBy>
  <dcterms:modified xsi:type="dcterms:W3CDTF">2014-06-10T06:05:06Z</dcterms:modified>
  <cp:revision>16</cp:revision>
  <dc:subject/>
  <dc:title>Слайд 1</dc:title>
</cp:coreProperties>
</file>