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DF29-23E6-4FDD-88C6-F4C2835CC6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D355-874E-4B83-993C-5074852D13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908-C15A-4D2E-BFF0-56227566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D47-1586-4C5E-8079-4A4D3D26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DE2-84A5-46DB-862E-B3A6A643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531-D2F5-464F-80A1-3F68F3F8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3EB-92A2-4FD1-A5CC-BE8BF811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CA0-F64A-40F2-B352-39F44FE0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545-330A-47F2-A7EC-BE5DC667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4D3-10BC-48ED-9F07-3B5B3A17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669-C7FA-411A-88AD-1E49A4D1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439-3D98-4D11-98B0-131040E0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4F6-1695-42C7-A428-ED0FB73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484-6128-4629-9CE2-A2FA9A00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8F04-5267-431D-80E9-563037268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Моя Родина - Росси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esnya-iz-kf-quotSchit-i-mechquot-S-chego-nachinaetsya-Rodina(muzofon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нега и льды крайнего Сев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image_4f27022598d97.jpg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images (12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images (11).jpg"/>
          <p:cNvPicPr/>
          <p:nvPr/>
        </p:nvPicPr>
        <p:blipFill>
          <a:blip r:embed="rId1"/>
          <a:stretch/>
        </p:blipFill>
        <p:spPr>
          <a:xfrm>
            <a:off x="785880" y="1571760"/>
            <a:ext cx="7286400" cy="484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райние просторы тунд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images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images (2).jpg"/>
          <p:cNvPicPr/>
          <p:nvPr/>
        </p:nvPicPr>
        <p:blipFill>
          <a:blip r:embed="rId1"/>
          <a:stretch/>
        </p:blipFill>
        <p:spPr>
          <a:xfrm>
            <a:off x="714240" y="1643040"/>
            <a:ext cx="7318440" cy="487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урийская тай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images (13).jpg"/>
          <p:cNvPicPr/>
          <p:nvPr/>
        </p:nvPicPr>
        <p:blipFill>
          <a:blip r:embed="rId1"/>
          <a:stretch/>
        </p:blipFill>
        <p:spPr>
          <a:xfrm>
            <a:off x="1071720" y="1785960"/>
            <a:ext cx="7000560" cy="4638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улканы и гейзеры Камча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images (14).jpg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images (1).jpg"/>
          <p:cNvPicPr/>
          <p:nvPr/>
        </p:nvPicPr>
        <p:blipFill>
          <a:blip r:embed="rId1"/>
          <a:stretch/>
        </p:blipFill>
        <p:spPr>
          <a:xfrm>
            <a:off x="1428840" y="1571760"/>
            <a:ext cx="6210360" cy="4971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зё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images (5).jpg"/>
          <p:cNvPicPr/>
          <p:nvPr/>
        </p:nvPicPr>
        <p:blipFill>
          <a:blip r:embed="rId1"/>
          <a:stretch/>
        </p:blipFill>
        <p:spPr>
          <a:xfrm>
            <a:off x="1214280" y="1571760"/>
            <a:ext cx="6786720" cy="5083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и и хол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00812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images (4)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images (2).jpg"/>
          <p:cNvPicPr/>
          <p:nvPr/>
        </p:nvPicPr>
        <p:blipFill>
          <a:blip r:embed="rId1"/>
          <a:stretch/>
        </p:blipFill>
        <p:spPr>
          <a:xfrm>
            <a:off x="0" y="4618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images.jpg"/>
          <p:cNvPicPr/>
          <p:nvPr/>
        </p:nvPicPr>
        <p:blipFill>
          <a:blip r:embed="rId1"/>
          <a:stretch/>
        </p:blipFill>
        <p:spPr>
          <a:xfrm>
            <a:off x="1000080" y="1571760"/>
            <a:ext cx="7143840" cy="475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ря и г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images (8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images (8).jpg"/>
          <p:cNvPicPr/>
          <p:nvPr/>
        </p:nvPicPr>
        <p:blipFill>
          <a:blip r:embed="rId1"/>
          <a:stretch/>
        </p:blipFill>
        <p:spPr>
          <a:xfrm>
            <a:off x="1071720" y="1500120"/>
            <a:ext cx="7000560" cy="486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бтропическая растительность Краснодарскогокр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785960"/>
            <a:ext cx="8115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images (6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род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я многонациональное государство. В нашей  стране проживает более 100 народностей и национальностей. Каждый народ имеет свою культуру и традиции. Но всех их объединяет любовь к своей стра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images (18).jpg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images (14).jpg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image_4f27015c3b8d6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images (17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880.jpg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8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images (13).jpg"/>
          <p:cNvPicPr/>
          <p:nvPr/>
        </p:nvPicPr>
        <p:blipFill>
          <a:blip r:embed="rId1"/>
          <a:stretch/>
        </p:blipFill>
        <p:spPr>
          <a:xfrm>
            <a:off x="1969920" y="0"/>
            <a:ext cx="520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images (12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images (10).jpg"/>
          <p:cNvPicPr/>
          <p:nvPr/>
        </p:nvPicPr>
        <p:blipFill>
          <a:blip r:embed="rId1"/>
          <a:stretch/>
        </p:blipFill>
        <p:spPr>
          <a:xfrm>
            <a:off x="839880" y="0"/>
            <a:ext cx="7464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images (11).jpg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images (1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images (19).jpg"/>
          <p:cNvPicPr/>
          <p:nvPr/>
        </p:nvPicPr>
        <p:blipFill>
          <a:blip r:embed="rId1"/>
          <a:stretch/>
        </p:blipFill>
        <p:spPr>
          <a:xfrm>
            <a:off x="2166840" y="0"/>
            <a:ext cx="481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рхитектура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2640" y="2428920"/>
            <a:ext cx="67150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осторах нашей Родины можно увидеть большие города и маленькие деревеньки. Современные здания и памятники архитек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132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1-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images (23).jpg"/>
          <p:cNvPicPr/>
          <p:nvPr/>
        </p:nvPicPr>
        <p:blipFill>
          <a:blip r:embed="rId1"/>
          <a:stretch/>
        </p:blipFill>
        <p:spPr>
          <a:xfrm>
            <a:off x="155520" y="0"/>
            <a:ext cx="8832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597120" y="32457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15.10.201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f35db4150276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images (4).jpg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images (9).jpg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images (1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images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images (3)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z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сква – столица нашей Род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9" name="O-Gazmanov-Moskva-zvonyat-kolokola(muzofon.com).mp3" descr=""/>
          <p:cNvPicPr/>
          <p:nvPr/>
        </p:nvPicPr>
        <p:blipFill>
          <a:blip r:embed="rId1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.0)">
                                      <p:cBhvr>
                                        <p:cTn id="49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images (19).jpg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images (20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images (18).jpg"/>
          <p:cNvPicPr/>
          <p:nvPr/>
        </p:nvPicPr>
        <p:blipFill>
          <a:blip r:embed="rId1"/>
          <a:stretch/>
        </p:blipFill>
        <p:spPr>
          <a:xfrm>
            <a:off x="382680" y="0"/>
            <a:ext cx="837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images (6)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images (16)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images (15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ages (25).jp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images (24).jpg"/>
          <p:cNvPicPr/>
          <p:nvPr/>
        </p:nvPicPr>
        <p:blipFill>
          <a:blip r:embed="rId1"/>
          <a:stretch/>
        </p:blipFill>
        <p:spPr>
          <a:xfrm>
            <a:off x="0" y="488880"/>
            <a:ext cx="914400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images (22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images (21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сударственные символ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77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88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90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597120" y="32457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15.10.201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riroda_Rossii_1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47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555.jpg"/>
          <p:cNvPicPr/>
          <p:nvPr/>
        </p:nvPicPr>
        <p:blipFill>
          <a:blip r:embed="rId1"/>
          <a:stretch/>
        </p:blipFill>
        <p:spPr>
          <a:xfrm>
            <a:off x="642960" y="357120"/>
            <a:ext cx="7858080" cy="5884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Detskiy-hor-televideniya-i-radio-Sankt-Peterburga-Gosudarstvennyy-gimn-Rossiyskoy-Federacii(muzofon.com)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962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images (3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я самая большая страна в мире. Она расположена в двух континентах – Европе и А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999.jpg"/>
          <p:cNvPicPr/>
          <p:nvPr/>
        </p:nvPicPr>
        <p:blipFill>
          <a:blip r:embed="rId1"/>
          <a:stretch/>
        </p:blipFill>
        <p:spPr>
          <a:xfrm>
            <a:off x="1714680" y="1357200"/>
            <a:ext cx="623376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рода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378576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да России очень разнообраз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esnya-k-9-maya-ochen_-patrioticheskaya-Ya-lyublyu-tebya-Rossiya(muzofon.com).mp3" descr=""/>
          <p:cNvPicPr/>
          <p:nvPr/>
        </p:nvPicPr>
        <p:blipFill>
          <a:blip r:embed="rId1"/>
          <a:stretch/>
        </p:blipFill>
        <p:spPr>
          <a:xfrm>
            <a:off x="8643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5:56:22Z</dcterms:created>
  <dc:creator>1</dc:creator>
  <dc:description/>
  <dc:language>en-US</dc:language>
  <cp:lastModifiedBy>GYPNORION</cp:lastModifiedBy>
  <dcterms:modified xsi:type="dcterms:W3CDTF">2015-06-11T12:43:06Z</dcterms:modified>
  <cp:revision>39</cp:revision>
  <dc:subject/>
  <dc:title>Моя Родина - Россия</dc:title>
</cp:coreProperties>
</file>