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2F82-2081-47CC-B4DD-C12B666739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4E81-6F82-45CB-992B-FF4D979DAE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7D9-3698-48AF-AFCB-FFFCF3E2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E653-B327-40C5-9E21-C9B105FC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CF6-D347-4D2A-AA0B-3A2B7476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BA2-C672-4F99-9495-BB2207FA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903-B01C-4F09-826A-015C56D8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AC6-ACEA-4E9C-BFC3-DD17CF61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F754-74D1-4542-909B-D2409594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731-6BE8-4A8B-967A-A8486044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00D-063D-4C8C-86B0-7E6418B6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119-4E1B-4979-9259-60C7950F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15D-3D2D-411B-800D-D95F59AD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F18-6AAD-4292-A750-D8485F74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3F19-1978-42AC-9FF3-516908CD8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84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Моя Родина - Росси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esnya-iz-kf-quotSchit-i-mechquot-S-chego-nachinaetsya-Rodina(muzofon.co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нега и льды крайнего Сев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image_4f27022598d97.jpg"/>
          <p:cNvPicPr/>
          <p:nvPr/>
        </p:nvPicPr>
        <p:blipFill>
          <a:blip r:embed="rId1"/>
          <a:stretch/>
        </p:blipFill>
        <p:spPr>
          <a:xfrm>
            <a:off x="1477800" y="1600200"/>
            <a:ext cx="61884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images (12).jpg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images (11).jpg"/>
          <p:cNvPicPr/>
          <p:nvPr/>
        </p:nvPicPr>
        <p:blipFill>
          <a:blip r:embed="rId1"/>
          <a:stretch/>
        </p:blipFill>
        <p:spPr>
          <a:xfrm>
            <a:off x="785880" y="1571760"/>
            <a:ext cx="7286400" cy="4848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скрайние просторы тунд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images 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images (2).jpg"/>
          <p:cNvPicPr/>
          <p:nvPr/>
        </p:nvPicPr>
        <p:blipFill>
          <a:blip r:embed="rId1"/>
          <a:stretch/>
        </p:blipFill>
        <p:spPr>
          <a:xfrm>
            <a:off x="714240" y="1643040"/>
            <a:ext cx="7318440" cy="4870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урийская тай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images (13).jpg"/>
          <p:cNvPicPr/>
          <p:nvPr/>
        </p:nvPicPr>
        <p:blipFill>
          <a:blip r:embed="rId1"/>
          <a:stretch/>
        </p:blipFill>
        <p:spPr>
          <a:xfrm>
            <a:off x="1071720" y="1785960"/>
            <a:ext cx="7000560" cy="4638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улканы и гейзеры Камча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images (14).jpg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0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images (1).jpg"/>
          <p:cNvPicPr/>
          <p:nvPr/>
        </p:nvPicPr>
        <p:blipFill>
          <a:blip r:embed="rId1"/>
          <a:stretch/>
        </p:blipFill>
        <p:spPr>
          <a:xfrm>
            <a:off x="1428840" y="1571760"/>
            <a:ext cx="6210360" cy="4971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зё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images (5).jpg"/>
          <p:cNvPicPr/>
          <p:nvPr/>
        </p:nvPicPr>
        <p:blipFill>
          <a:blip r:embed="rId1"/>
          <a:stretch/>
        </p:blipFill>
        <p:spPr>
          <a:xfrm>
            <a:off x="1214280" y="1571760"/>
            <a:ext cx="6786720" cy="5083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ки и хол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00812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images (4).jpg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images (2).jpg"/>
          <p:cNvPicPr/>
          <p:nvPr/>
        </p:nvPicPr>
        <p:blipFill>
          <a:blip r:embed="rId1"/>
          <a:stretch/>
        </p:blipFill>
        <p:spPr>
          <a:xfrm>
            <a:off x="0" y="461880"/>
            <a:ext cx="9144000" cy="59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images.jpg"/>
          <p:cNvPicPr/>
          <p:nvPr/>
        </p:nvPicPr>
        <p:blipFill>
          <a:blip r:embed="rId1"/>
          <a:stretch/>
        </p:blipFill>
        <p:spPr>
          <a:xfrm>
            <a:off x="1000080" y="1571760"/>
            <a:ext cx="7143840" cy="4754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ря и г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images (8)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images (8).jpg"/>
          <p:cNvPicPr/>
          <p:nvPr/>
        </p:nvPicPr>
        <p:blipFill>
          <a:blip r:embed="rId1"/>
          <a:stretch/>
        </p:blipFill>
        <p:spPr>
          <a:xfrm>
            <a:off x="1071720" y="1500120"/>
            <a:ext cx="7000560" cy="4867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бтропическая растительность Краснодарскогокр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785960"/>
            <a:ext cx="8115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images (6)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род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ссия многонациональное государство. В нашей  стране проживает более 100 народностей и национальностей. Каждый народ имеет свою культуру и традиции. Но всех их объединяет любовь к своей стра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images (18).jpg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1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images (14).jpg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image_4f27015c3b8d6.jp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images (17)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880.jpg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58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images (13).jpg"/>
          <p:cNvPicPr/>
          <p:nvPr/>
        </p:nvPicPr>
        <p:blipFill>
          <a:blip r:embed="rId1"/>
          <a:stretch/>
        </p:blipFill>
        <p:spPr>
          <a:xfrm>
            <a:off x="1969920" y="0"/>
            <a:ext cx="5202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images (12).jpg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images (10).jpg"/>
          <p:cNvPicPr/>
          <p:nvPr/>
        </p:nvPicPr>
        <p:blipFill>
          <a:blip r:embed="rId1"/>
          <a:stretch/>
        </p:blipFill>
        <p:spPr>
          <a:xfrm>
            <a:off x="839880" y="0"/>
            <a:ext cx="7464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images (11).jpg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1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images (1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images (19).jpg"/>
          <p:cNvPicPr/>
          <p:nvPr/>
        </p:nvPicPr>
        <p:blipFill>
          <a:blip r:embed="rId1"/>
          <a:stretch/>
        </p:blipFill>
        <p:spPr>
          <a:xfrm>
            <a:off x="2166840" y="0"/>
            <a:ext cx="481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рхитектура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42640" y="2428920"/>
            <a:ext cx="671508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росторах нашей Родины можно увидеть большие города и маленькие деревеньки. Современные здания и памятники архитект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132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1-(1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images (23).jpg"/>
          <p:cNvPicPr/>
          <p:nvPr/>
        </p:nvPicPr>
        <p:blipFill>
          <a:blip r:embed="rId1"/>
          <a:stretch/>
        </p:blipFill>
        <p:spPr>
          <a:xfrm>
            <a:off x="155520" y="0"/>
            <a:ext cx="8832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3597120" y="324576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15.10.201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f35db4150276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images (4).jpg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images (9).jpg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images (1).jpg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images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images (3)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z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сква – столица нашей Род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9" name="O-Gazmanov-Moskva-zvonyat-kolokola(muzofon.com).mp3" descr=""/>
          <p:cNvPicPr/>
          <p:nvPr/>
        </p:nvPicPr>
        <p:blipFill>
          <a:blip r:embed="rId1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.0)">
                                      <p:cBhvr>
                                        <p:cTn id="49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images (19).jpg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images (20)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images (18).jpg"/>
          <p:cNvPicPr/>
          <p:nvPr/>
        </p:nvPicPr>
        <p:blipFill>
          <a:blip r:embed="rId1"/>
          <a:stretch/>
        </p:blipFill>
        <p:spPr>
          <a:xfrm>
            <a:off x="382680" y="0"/>
            <a:ext cx="8378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images (6).jpg"/>
          <p:cNvPicPr/>
          <p:nvPr/>
        </p:nvPicPr>
        <p:blipFill>
          <a:blip r:embed="rId1"/>
          <a:stretch/>
        </p:blipFill>
        <p:spPr>
          <a:xfrm>
            <a:off x="0" y="579600"/>
            <a:ext cx="9144000" cy="56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images (16)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images (15)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images (25).jpg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images (24).jpg"/>
          <p:cNvPicPr/>
          <p:nvPr/>
        </p:nvPicPr>
        <p:blipFill>
          <a:blip r:embed="rId1"/>
          <a:stretch/>
        </p:blipFill>
        <p:spPr>
          <a:xfrm>
            <a:off x="0" y="488880"/>
            <a:ext cx="9144000" cy="58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images (22).jpg"/>
          <p:cNvPicPr/>
          <p:nvPr/>
        </p:nvPicPr>
        <p:blipFill>
          <a:blip r:embed="rId1"/>
          <a:stretch/>
        </p:blipFill>
        <p:spPr>
          <a:xfrm>
            <a:off x="0" y="38592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images (21)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сударственные символ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77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88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90.jpg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3597120" y="324576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15.10.201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riroda_Rossii_1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47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555.jpg"/>
          <p:cNvPicPr/>
          <p:nvPr/>
        </p:nvPicPr>
        <p:blipFill>
          <a:blip r:embed="rId1"/>
          <a:stretch/>
        </p:blipFill>
        <p:spPr>
          <a:xfrm>
            <a:off x="642960" y="357120"/>
            <a:ext cx="7858080" cy="5884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Detskiy-hor-televideniya-i-radio-Sankt-Peterburga-Gosudarstvennyy-gimn-Rossiyskoy-Federacii(muzofon.com).mp3" descr=""/>
          <p:cNvPicPr/>
          <p:nvPr/>
        </p:nvPicPr>
        <p:blipFill>
          <a:blip r:embed="rId2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0962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images (3)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я самая большая страна в мире. Она расположена в двух континентах – Европе и А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999.jpg"/>
          <p:cNvPicPr/>
          <p:nvPr/>
        </p:nvPicPr>
        <p:blipFill>
          <a:blip r:embed="rId1"/>
          <a:stretch/>
        </p:blipFill>
        <p:spPr>
          <a:xfrm>
            <a:off x="1714680" y="1357200"/>
            <a:ext cx="6233760" cy="469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рода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3785760"/>
            <a:ext cx="64008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да России очень разнообраз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esnya-k-9-maya-ochen_-patrioticheskaya-Ya-lyublyu-tebya-Rossiya(muzofon.com).mp3" descr=""/>
          <p:cNvPicPr/>
          <p:nvPr/>
        </p:nvPicPr>
        <p:blipFill>
          <a:blip r:embed="rId1"/>
          <a:stretch/>
        </p:blipFill>
        <p:spPr>
          <a:xfrm>
            <a:off x="864396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5:56:22Z</dcterms:created>
  <dc:creator>1</dc:creator>
  <dc:description/>
  <dc:language>en-US</dc:language>
  <cp:lastModifiedBy>GYPNORION</cp:lastModifiedBy>
  <dcterms:modified xsi:type="dcterms:W3CDTF">2015-06-11T12:43:06Z</dcterms:modified>
  <cp:revision>39</cp:revision>
  <dc:subject/>
  <dc:title>Моя Родина - Россия</dc:title>
</cp:coreProperties>
</file>