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F90A-5A86-4549-9E60-EB036B7DD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F86C-2ADA-4F0D-A96E-76C792DDC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C6D1-F116-4D00-A1A2-F28465DE2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46C0-0BE1-4E64-877D-7783C7193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8DF38-1518-4A25-BC1C-D6E5488F5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AD039-2A9A-4077-98C3-FFD0F4E1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A83CD-4F08-44D3-8644-0E784607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8499D-728D-40E5-8779-3AFEA86A0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2599A-C6A0-4B95-92BA-29F26148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964B-16E8-416C-82B0-5E773A29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1E418-F881-4659-9A6C-D09D7E34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5C8E-3181-4852-B3E7-890C49A4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18C1E-5AD8-4F8C-BCE8-48B4F5BD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739A3-A242-4B8E-970B-FBF35CB7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45564-23BF-4551-A207-417E0D1E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645D6-74EB-44A8-AFE6-789890F0F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8ECA-1301-44B8-9FAD-68E6D35A0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E3752-3CF6-4E4A-9916-E0C639AC3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758C69-6AEB-4B1D-BC1A-BFD957A9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1562E-EFA8-45FD-9655-AB3E3FC1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3D378-54C0-4EDB-9121-922FC974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31EC0-A7A8-4A20-AE48-0BF56A15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8A1C-26CC-4B3F-A346-659881BA1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0B545-DD40-414D-8361-2B10A789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37C79-18FD-4339-A02C-836A70C9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B324EA-FCF4-4868-A654-38209244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56796-9ACA-4938-B93E-A58A3D62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0F2DA-63A0-4DAD-A483-E6C50253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574AC-C533-4EFE-9DB3-80E04402C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F0813-D233-4FB2-92B1-B2E6445B7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9AB14-6576-4144-B939-0CBA81F40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BAB87-5305-492D-83C9-D63218D36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72A5C-AF77-4ADA-9E35-6F4F3DAC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44E3-2960-43BD-BE33-291C06690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B4592-8DBC-4729-B843-37B3E581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A11AC-BC6E-42B8-86A3-73913B8F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7B1C1-4887-48F6-993C-E9DC9B4F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47C8D-B9BD-42A6-BFDE-CA8B0E3AF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EAF81-71F6-45E9-BC53-DB6F78B8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279DDA-AB09-461B-825D-B710C30A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C396E-7B83-43C7-8375-7AD58B49B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9F04C-CDCA-4061-80DA-5487DC564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21955-284D-4B6B-AF86-9623E219D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C07DD-752E-40CC-9D50-3C2682DC5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B81A-4EDB-47A6-81A9-6A40B235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47E72-C257-4D3B-9A18-B8BA7C5CF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1CB3A-95B9-460A-A307-2AEFE2CDF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1148B2-40A9-4614-8DE7-6D7E44F5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7CC14-C1DB-44D9-B7DC-56CE11AC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15973-4DD4-4D6A-8F47-D2A90667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559EE-751C-4420-80F1-92040D0A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FDE14-AA97-4470-AA9D-6E43B961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FDEF4-8BE2-4C29-955F-880647A38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26B43-B816-4A3D-94A9-D571D8ED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086BE-FF28-46B4-A9C1-92F552316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003B-A684-4F40-8D1C-D6036276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E084C-E164-4614-A3B9-24EC5EA04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3636-EF07-44CE-AAA7-874AC3F00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8AE8-16FD-42FA-BDC3-44FA818E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3A38-7D5A-4D83-A580-0A0A5EF9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E446D-4194-44B2-BBA3-943E8B7C3BD5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E15D-61D0-49D4-B09B-7AADBAC58158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2CC5C-279E-46E9-80A8-F68EF6571E76}" type="slidenum">
              <a:rPr b="0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B15D-6515-46A9-B903-627310203A46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363FB-EE1C-4DB4-BFD1-266019D8CB3B}" type="slidenum">
              <a:rPr b="0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ОЕКТНАЯ ЗАДАЧА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«ТУРФИРМА ПРИГЛАШАЕТ В ПУТЕШЕСТВИЕ ПО БАЙКАЛУ»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6 класс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6" name="Picture 4" descr="C:\Documents and Settings\Пользователь\Рабочий стол\ПРОЕКТНАЯ Задача\группа 4\002_s.jpg"/>
          <p:cNvPicPr/>
          <p:nvPr/>
        </p:nvPicPr>
        <p:blipFill>
          <a:blip r:embed="rId1"/>
          <a:stretch/>
        </p:blipFill>
        <p:spPr>
          <a:xfrm>
            <a:off x="2286000" y="3000240"/>
            <a:ext cx="46450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Задание 3</a:t>
            </a:r>
            <a:br>
              <a:rPr sz="3600"/>
            </a:br>
            <a:r>
              <a:rPr b="0" lang="ru-RU" sz="2200" spc="-1" strike="noStrike">
                <a:solidFill>
                  <a:srgbClr val="04617b"/>
                </a:solidFill>
                <a:latin typeface="Calibri"/>
              </a:rPr>
              <a:t>за каждого правильно названного животного 1 балла, максимально- 12 баллов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4" name="Picture 4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4608360" cy="460836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5"/>
          <p:cNvSpPr/>
          <p:nvPr/>
        </p:nvSpPr>
        <p:spPr>
          <a:xfrm>
            <a:off x="5508720" y="2672280"/>
            <a:ext cx="3024000" cy="14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9280" rIns="0" tIns="0" bIns="684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лова рыси, туловище и плавники рыбы, туловище птицы, ноги медвед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4617b"/>
                </a:solidFill>
                <a:latin typeface="Calibri"/>
              </a:rPr>
              <a:t>Задание №4</a:t>
            </a:r>
            <a:br>
              <a:rPr sz="2500"/>
            </a:br>
            <a:r>
              <a:rPr b="1" lang="ru-RU" sz="2200" spc="-1" strike="noStrike">
                <a:solidFill>
                  <a:srgbClr val="04617b"/>
                </a:solidFill>
                <a:latin typeface="Calibri"/>
              </a:rPr>
              <a:t>Разгадать кроссворд (за каждый правильный ответ 1 балл, максимально- 11 баллов).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7" name="Rectangle 734"/>
          <p:cNvSpPr/>
          <p:nvPr/>
        </p:nvSpPr>
        <p:spPr>
          <a:xfrm>
            <a:off x="6804000" y="1701360"/>
            <a:ext cx="4248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Голомя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Ольх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Лимноло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Эндем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Телецк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Обруч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Баргуз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.Буря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9.Анг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.Байк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1.Сар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735"/>
          <p:cNvSpPr/>
          <p:nvPr/>
        </p:nvSpPr>
        <p:spPr>
          <a:xfrm>
            <a:off x="2880" y="1629720"/>
            <a:ext cx="6272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зово-белая прозрачная рыбка, не имеющая чешу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ый большой остров на Байка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ые, изучающие оз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мы, не встречающиеся больше ниг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упное озеро на Алтае, младший брат Байк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еный, изучавший озеро Байк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веро-восточный ветер на Байка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енное население побережья озера Байк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а , вытекающая из озера Байк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дная жемчужина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аганный ветер на Байка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64296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уклет – это издание, отпечатанное на листе формата А-3 или А-4 и сложенное один или несколько раз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468360" y="692280"/>
            <a:ext cx="2012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4" marL="1828800" algn="just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3" name="Picture 5" descr="olkhon-island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6" name="Picture 5" descr="olkhon-island_1"/>
          <p:cNvPicPr/>
          <p:nvPr/>
        </p:nvPicPr>
        <p:blipFill>
          <a:blip r:embed="rId1"/>
          <a:stretch/>
        </p:blipFill>
        <p:spPr>
          <a:xfrm>
            <a:off x="0" y="0"/>
            <a:ext cx="9045720" cy="63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1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AutoShape 1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5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9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21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23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4" descr="22a"/>
          <p:cNvPicPr/>
          <p:nvPr/>
        </p:nvPicPr>
        <p:blipFill>
          <a:blip r:embed="rId1"/>
          <a:stretch/>
        </p:blipFill>
        <p:spPr>
          <a:xfrm>
            <a:off x="250920" y="260280"/>
            <a:ext cx="8675640" cy="610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Times New Roman"/>
              </a:rPr>
              <a:t>Список литературы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http://www.advertiser-school.ru/advertising-theory/booklets-kinds-of-booklets-booklet-printing.html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алазий Г.И. Байкал в вопросах и ответах. – Иркутск, Вост. - Сиб. Кн. изд-во, 1987. – 384 с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ухаров А.А. Байкал в цифрах. - Иркутск, 2001 - 72 с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узеванова Е.Н. Олимпиада по байкаловедению. Иркутск, 2002. - 53 с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4617b"/>
                </a:solidFill>
                <a:latin typeface="Calibri"/>
              </a:rPr>
              <a:t>Проектная задача.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11280" y="1197000"/>
            <a:ext cx="8075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Rectangle 4"/>
          <p:cNvSpPr/>
          <p:nvPr/>
        </p:nvSpPr>
        <p:spPr>
          <a:xfrm>
            <a:off x="324000" y="1495080"/>
            <a:ext cx="849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сем недавно закончились весенние каникулы, но впереди летние и грамотный потребитель готовится к отдыху заранее, выбирает, где и как он отдохнет  в следующий раз. Жители городов, как правило, стремятся выехать из мегаполиса и это все знают. Многие люди ищут такое место, где можно не только отдохнуть, но и получить новые впечатления. На сегодня наиболее востребованными стали туры в Австралию, Новую Зеландию, Бразилию, Среднюю Азию, за счет национального колорита. В России также есть места, где можно насладиться первозданной, нетронутой природой, например озеро Байкал. Иногда люди приходят в турагентство совершенно не подготовленные, а грамотный   потребитель должен знать, куда он поедет и что увидит, чтобы выбранный тур принес удовольств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бята! Сегодня утром нам на электронный ящик пришло письмо из туристической фирмы с просьбой разработать буклет для привлечения туристов на озеро Байка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1680" y="342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Задание №1</a:t>
            </a:r>
            <a:br>
              <a:rPr sz="4500"/>
            </a:br>
            <a:r>
              <a:rPr b="0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Соотнести числа и названия с их значением (за каждый правильный ответ 1 балл, максимально-12 баллов)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Задание 1</a:t>
            </a:r>
            <a:br>
              <a:rPr sz="3200"/>
            </a:b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за каждый правильный ответ 1 балл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457200" y="1600200"/>
          <a:ext cx="8229600" cy="4584600"/>
        </p:xfrm>
        <a:graphic>
          <a:graphicData uri="http://schemas.openxmlformats.org/drawingml/2006/table">
            <a:tbl>
              <a:tblPr/>
              <a:tblGrid>
                <a:gridCol w="4475160"/>
                <a:gridCol w="3754440"/>
              </a:tblGrid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то первым исследовал Байкал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.Д.Чер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амая крупная река впадающая в Байкал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елен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олько бы могли прожить люди всей Земли на байкальской воде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0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лина озера Байкал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36 к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де находится Шаманский камень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 устье р. Анга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ворник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Байкала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эпишу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чь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Байкала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нга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Что означает бурятское слово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«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ала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»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айк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аибольшая глубина Байка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37 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ные, изучающие озера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лимноло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лощадь Байкала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1,5 тыс.кв.к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Сколько эндемиков в Байкале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более 7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57120" y="2428560"/>
            <a:ext cx="8229600" cy="3143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Задание №2</a:t>
            </a:r>
            <a:br>
              <a:rPr sz="4500"/>
            </a:br>
            <a:r>
              <a:rPr b="0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Исправить географические ошибки в тексте (за каждую правильно названную ошибку -2 балла, максимально- 12 баллов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)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Times New Roman"/>
              </a:rPr>
              <a:t>Задание 2</a:t>
            </a:r>
            <a:br>
              <a:rPr sz="36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за каждую найденную ошибку 2 балла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179280" y="1461960"/>
            <a:ext cx="8964720" cy="505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всех географических картах Байкал называется озером. Местные жители исстари считают его морем. Вот и в песне поется: «Славное море, священный Байкал». Да, морских примет в Байкале значительно больше, чем озерных. Одним только он «подкачал» - остался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лен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айкал – самая глубокая на суше впадина. В разные годы ее глубину определяли по-разному: 1741 м, 1620 м, а сейчас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647 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И это не ошибка в измерениях. И дно, и берега Байкала меняются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ло в том, что Байкал находится в так называемой рифтовой зоне, т. е. в разломе земной коры. Поэтому здесь происходят сильнейшие и частые (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 среднем 6 тыс. в год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) землетрясения. При этом раз в 20-25 лет землетрясения достигают 10 и более баллов. Так, в 1862 году вблизи устья реки Селенги при таком землетрясении ушло под воду 200 км2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степи с бурятскими улусами. Образовался залив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аргузинский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В 1959 году с корабля Лимнологического института «Г. Ю.Верещагин» производился очередной промер глубин. На следующий день сильнейшее землетрясение более чем в 9 баллов разрушило село Култук у западного берега озера. Промерив после этого глубину, исследователи обнаружили, что дно в южной котловине опустилось на 5 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 геофизическим данным, глубина кристаллического основания Байкала в приустьевой части Селенги достигает 6 км. Пока этот провал заполнен рыхлыми речными наносами. Однако трещина уже почти достигла подкоровой мантии. С глубиной нарастают и температуры. Ученые Института земной коры установили, что в некоторых местах Байкал как бы расширяется, его берега удаляются друг от друга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о 10 с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в год. Предполагают, что не пройдёт и 50 млн. лет, как здесь, возможно, образуется настоящий океан. Ведь впадина Байкала стала образовываться не более 20 млн. лет наза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сокие волны с буйными штормами, приливы и подводные течения, трещина, достигшая, как и в Атлантическом океане, астеносферы, масса морских животных – все это выдает стремление Байкала сделаться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зеро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8229600" cy="5367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4617b"/>
                </a:solidFill>
                <a:latin typeface="Calibri"/>
              </a:rPr>
              <a:t>Задание № 3</a:t>
            </a:r>
            <a:br>
              <a:rPr sz="4500"/>
            </a:br>
            <a:r>
              <a:rPr b="0" lang="ru-RU" sz="40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Необходимо угадать, какие части, каких животных имеются у изображенного на рисунке «Чудо-юдо» зверя (за каждого правильно названного животного 1 балл, максимально- 12 баллов).</a:t>
            </a:r>
            <a:br>
              <a:rPr sz="40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Задание 3</a:t>
            </a:r>
            <a:br>
              <a:rPr sz="3600"/>
            </a:br>
            <a:r>
              <a:rPr b="0" lang="ru-RU" sz="2200" spc="-1" strike="noStrike">
                <a:solidFill>
                  <a:srgbClr val="04617b"/>
                </a:solidFill>
                <a:latin typeface="Calibri"/>
              </a:rPr>
              <a:t>за каждого правильно названного животного 1 балла, максимально- 12 баллов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826920" y="2143080"/>
            <a:ext cx="3959280" cy="438156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5"/>
          <p:cNvSpPr/>
          <p:nvPr/>
        </p:nvSpPr>
        <p:spPr>
          <a:xfrm>
            <a:off x="5940360" y="3116880"/>
            <a:ext cx="2303640" cy="171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9280" rIns="0" tIns="0" bIns="684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лова соболя, туловище лося, крыло птицы, хвост нер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Задание 3</a:t>
            </a:r>
            <a:br>
              <a:rPr sz="3600"/>
            </a:br>
            <a:r>
              <a:rPr b="0" lang="ru-RU" sz="2200" spc="-1" strike="noStrike">
                <a:solidFill>
                  <a:srgbClr val="04617b"/>
                </a:solidFill>
                <a:latin typeface="Calibri"/>
              </a:rPr>
              <a:t>за каждого правильно названного животного 1 балла, максимально- 12 баллов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1" name="Picture 4" descr=""/>
          <p:cNvPicPr/>
          <p:nvPr/>
        </p:nvPicPr>
        <p:blipFill>
          <a:blip r:embed="rId1"/>
          <a:stretch/>
        </p:blipFill>
        <p:spPr>
          <a:xfrm>
            <a:off x="468360" y="2133720"/>
            <a:ext cx="5630760" cy="354492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5"/>
          <p:cNvSpPr/>
          <p:nvPr/>
        </p:nvSpPr>
        <p:spPr>
          <a:xfrm>
            <a:off x="6300720" y="2211480"/>
            <a:ext cx="2274840" cy="171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9280" rIns="0" tIns="0" bIns="684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га лося, голова медведя, туловище нерпы, ноги п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3T13:08:04Z</dcterms:created>
  <dc:creator>1</dc:creator>
  <dc:description/>
  <dc:language>en-US</dc:language>
  <cp:lastModifiedBy>1</cp:lastModifiedBy>
  <dcterms:modified xsi:type="dcterms:W3CDTF">2018-03-09T14:40:15Z</dcterms:modified>
  <cp:revision>12</cp:revision>
  <dc:subject/>
  <dc:title>Задание 1</dc:title>
</cp:coreProperties>
</file>