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E395-1E1C-4628-8D6A-4E5A2CCB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472-D5F1-4A7A-B475-EDAF836F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8A84-8EF8-4A9E-A91E-A1B81C345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5BE2-5AFC-4786-A947-AA54CF038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9980-C5C0-4635-9F13-63E7DF07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6AB1-CFCC-4BA9-90DC-D249F9561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6B547-67EF-41F7-AB0D-5C151490B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54AA-0420-41F5-821D-15395A73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03DA4-ADFA-4136-8AFD-F79B42D7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9AAF-F285-43D0-A2A7-8904D5E3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06645-450C-4A9B-92E1-5E70A2B5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6DCC-0D75-4745-8DC4-078FA828C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6D19-F25E-4119-969A-6F118F79A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9855-568E-45F5-9AA4-E7758EFC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DC29-6FDE-48E5-A235-FDB06CC72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5FA3-27D9-4C4F-BA76-161D0FD8F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03396-5C75-47AF-8929-5EDE9166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C9880-2AC4-4BE4-B8CC-2513ABDD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60E0-4BD8-49DD-83E0-A5FA896F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5DB9A-C243-42AE-961B-570466FC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9417-B7E8-472B-899B-243F49260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410D1-D336-4CD9-8E49-3DAF82E5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84D4-166D-4519-90AD-A09DF003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FB79-AA2A-43CA-B381-E86A8199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7A77C-45F7-45C8-8954-D85E9D47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105FDB-F036-4B52-976C-680FEFCE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9882E-4048-4F26-BBC6-252CF6A6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55FA8-9D46-4DAD-A111-7466F6D8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2AE1-94CE-4A33-AB01-599F57311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897DB1-8C1B-43DD-8731-1E415A50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B20BF-E1D7-4F2F-B756-CF12FD32B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5DC7-D50B-450C-BA85-7994D1B8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3DFBE4-3AF0-4580-AB04-92861EB6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E15D-FE80-4984-A263-28B6DF82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B5B39-BAE3-43EF-BD7E-ECF80D5AF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5F63F-6BE7-4E53-A6A3-96A135E4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D42EF-44EA-4517-9A06-126A0EE9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65549-4C27-46A0-94E5-3BF21942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E7BDB-3F1B-4CF8-B72E-7F6DD67F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29065-B610-46DD-BBE6-3865452C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8E3D0-E7E4-4045-A5B1-23C23B0E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5F07F-5497-44A3-BD92-AD320D3F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75D5-2CE3-4658-A059-79D1E5B6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35F20-8C2C-456E-8DDD-74753764E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0400-C17D-4331-830D-6CCC51EE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B2D30-221F-4419-8F13-676BBF9F9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66740-5CA4-421E-959A-C9AC1971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89791-A6AC-4378-9F44-2F5D6323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FEF94-1B13-4ED4-9BF3-AFA8CFC8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831A83-E3EB-454A-AEAD-FA428E67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50E9B-A397-4B2F-B740-AA4851C5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0896A-3A6B-44E6-A1DF-44146786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336FA-6160-47B6-8D66-4E5455F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97090-FBA5-4269-AD97-384E9E31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118B9-65B4-4A2D-81D0-0E329785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BFF-2325-4D9D-8F86-6A7CDF14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6DEF3-D8A7-4C4F-8688-9DD79F59E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BC47-43E6-46F8-B531-E4E0A8A5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E40-CEE6-4D9E-BFA5-BB2DC0A2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4855-6740-4164-ABDE-E68C3D53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E596-63C7-4F6F-A7E6-BD7AC5FCD43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AFAF-E3C2-453E-A2B4-60FA07787B9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6D43-F920-472F-85EB-8D03AF9305ED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13AB-26CB-436F-A724-280D80A9E7F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82B1-30F7-46AF-BDEF-DFD24A670A4D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ЕКТНАЯ ЗАДАЧ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УРФИРМА ПРИГЛАШАЕТ В ПУТЕШЕСТВИЕ ПО БАЙКАЛУ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6 клас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4" descr="C:\Documents and Settings\Пользователь\Рабочий стол\ПРОЕКТНАЯ Задача\группа 4\002_s.jpg"/>
          <p:cNvPicPr/>
          <p:nvPr/>
        </p:nvPicPr>
        <p:blipFill>
          <a:blip r:embed="rId1"/>
          <a:stretch/>
        </p:blipFill>
        <p:spPr>
          <a:xfrm>
            <a:off x="2286000" y="3000240"/>
            <a:ext cx="4645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3</a:t>
            </a:r>
            <a:br>
              <a:rPr sz="36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за каждого правильно названного животного 1 балла, максимально- 12 баллов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608360" cy="4608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5508720" y="2672280"/>
            <a:ext cx="3024000" cy="14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0" tIns="0" bIns="68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а рыси, туловище и плавники рыбы, туловище птицы, ноги медве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4617b"/>
                </a:solidFill>
                <a:latin typeface="Calibri"/>
              </a:rPr>
              <a:t>Задание №4</a:t>
            </a: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Calibri"/>
              </a:rPr>
              <a:t>Разгадать кроссворд (за каждый правильный ответ 1 балл, максимально- 11 баллов)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Rectangle 734"/>
          <p:cNvSpPr/>
          <p:nvPr/>
        </p:nvSpPr>
        <p:spPr>
          <a:xfrm>
            <a:off x="6804000" y="1701360"/>
            <a:ext cx="424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олом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Ольх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Лимн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Энде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Телец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Обру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Баргу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Буря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Анг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Са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35"/>
          <p:cNvSpPr/>
          <p:nvPr/>
        </p:nvSpPr>
        <p:spPr>
          <a:xfrm>
            <a:off x="2880" y="1629720"/>
            <a:ext cx="62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ово-белая прозрачная рыбка, не имеющая чешу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большой остров на Байк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е, изучающие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ы, не встречающиеся больше ниг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ое озеро на Алтае, младший брат Байк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, изучавший озеро Байк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о-восточный ветер на Байк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енное население побережья озера Байк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, вытекающая из озера Байк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ая жемчужин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ганный ветер на Байк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429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клет – это издание, отпечатанное на листе формата А-3 или А-4 и сложенное один или несколько раз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468360" y="692280"/>
            <a:ext cx="2012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5" descr="olkhon-island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5" descr="olkhon-island_1"/>
          <p:cNvPicPr/>
          <p:nvPr/>
        </p:nvPicPr>
        <p:blipFill>
          <a:blip r:embed="rId1"/>
          <a:stretch/>
        </p:blipFill>
        <p:spPr>
          <a:xfrm>
            <a:off x="0" y="0"/>
            <a:ext cx="90457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4" descr="22a"/>
          <p:cNvPicPr/>
          <p:nvPr/>
        </p:nvPicPr>
        <p:blipFill>
          <a:blip r:embed="rId1"/>
          <a:stretch/>
        </p:blipFill>
        <p:spPr>
          <a:xfrm>
            <a:off x="250920" y="260280"/>
            <a:ext cx="867564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Список литерату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advertiser-school.ru/advertising-theory/booklets-kinds-of-booklets-booklet-printing.htm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лазий Г.И. Байкал в вопросах и ответах. – Иркутск, Вост. - Сиб. Кн. изд-во, 1987. – 384 с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харов А.А. Байкал в цифрах. - Иркутск, 2001 - 72 с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зеванова Е.Н. Олимпиада по байкаловедению. Иркутск, 2002. - 53 с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Проектная задача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1280" y="1197000"/>
            <a:ext cx="8075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24000" y="1495080"/>
            <a:ext cx="849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сем недавно закончились весенние каникулы, но впереди летние и грамотный потребитель готовится к отдыху заранее, выбирает, где и как он отдохнет  в следующий раз. Жители городов, как правило, стремятся выехать из мегаполиса и это все знают. Многие люди ищут такое место, где можно не только отдохнуть, но и получить новые впечатления. На сегодня наиболее востребованными стали туры в Австралию, Новую Зеландию, Бразилию, Среднюю Азию, за счет национального колорита. В России также есть места, где можно насладиться первозданной, нетронутой природой, например озеро Байкал. Иногда люди приходят в турагентство совершенно не подготовленные, а грамотный   потребитель должен знать, куда он поедет и что увидит, чтобы выбранный тур принес удоволь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ята! Сегодня утром нам на электронный ящик пришло письмо из туристической фирмы с просьбой разработать буклет для привлечения туристов на озеро Байк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Задание №1</a:t>
            </a:r>
            <a:br>
              <a:rPr sz="45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оотнести числа и названия с их значением (за каждый правильный ответ 1 балл, максимально-12 баллов)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Задание 1</a:t>
            </a:r>
            <a:br>
              <a:rPr sz="32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а каждый правильный ответ 1 бал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600200"/>
          <a:ext cx="8229600" cy="4584600"/>
        </p:xfrm>
        <a:graphic>
          <a:graphicData uri="http://schemas.openxmlformats.org/drawingml/2006/table">
            <a:tbl>
              <a:tblPr/>
              <a:tblGrid>
                <a:gridCol w="4475160"/>
                <a:gridCol w="375444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о первым исследовал Байка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Д.Чер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крупная река впадающая в Байка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ле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лько бы могли прожить люди всей Земли на байкальской вод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на озера Байка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6 к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находится Шаманский камен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устье р. Анг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орни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Байкал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пиш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ч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Байкал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г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означает бурятское слово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ла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йк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большая глубина Байк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37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ные, изучающие озер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мнол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щадь Байкал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,5 тыс.кв.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лько эндемиков в Байкал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е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Задание №2</a:t>
            </a:r>
            <a:br>
              <a:rPr sz="45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править географические ошибки в тексте (за каждую правильно названную ошибку -2 балла, максимально- 12 баллов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)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Задание 2</a:t>
            </a:r>
            <a:br>
              <a:rPr sz="36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 каждую найденную ошибку 2 балл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79280" y="1461960"/>
            <a:ext cx="896472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сех географических картах Байкал называется озером. Местные жители исстари считают его морем. Вот и в песне поется: «Славное море, священный Байкал». Да, морских примет в Байкале значительно больше, чем озерных. Одним только он «подкачал» - остал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ле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йкал – самая глубокая на суше впадина. В разные годы ее глубину определяли по-разному: 1741 м, 1620 м, а сейча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47 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И это не ошибка в измерениях. И дно, и берега Байкала меняют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о в том, что Байкал находится в так называемой рифтовой зоне, т. е. в разломе земной коры. Поэтому здесь происходят сильнейшие и частые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реднем 6 тыс. в го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землетрясения. При этом раз в 20-25 лет землетрясения достигают 10 и более баллов. Так, в 1862 году вблизи устья реки Селенги при таком землетрясении ушло под воду 200 км2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тепи с бурятскими улусами. Образовался зали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ргузин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1959 году с корабля Лимнологического института «Г. Ю.Верещагин» производился очередной промер глубин. На следующий день сильнейшее землетрясение более чем в 9 баллов разрушило село Култук у западного берега озера. Промерив после этого глубину, исследователи обнаружили, что дно в южной котловине опустилось на 5 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геофизическим данным, глубина кристаллического основания Байкала в приустьевой части Селенги достигает 6 км. Пока этот провал заполнен рыхлыми речными наносами. Однако трещина уже почти достигла подкоровой мантии. С глубиной нарастают и температуры. Ученые Института земной коры установили, что в некоторых местах Байкал как бы расширяется, его берега удаляются друг от друг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 10 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год. Предполагают, что не пройдёт и 50 млн. лет, как здесь, возможно, образуется настоящий океан. Ведь впадина Байкала стала образовываться не более 20 млн. лет наз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кие волны с буйными штормами, приливы и подводные течения, трещина, достигшая, как и в Атлантическом океане, астеносферы, масса морских животных – все это выдает стремление Байкала сделать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зе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536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Задание № 3</a:t>
            </a:r>
            <a:br>
              <a:rPr sz="45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еобходимо угадать, какие части, каких животных имеются у изображенного на рисунке «Чудо-юдо» зверя (за каждого правильно названного животного 1 балл, максимально- 12 баллов)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3</a:t>
            </a:r>
            <a:br>
              <a:rPr sz="36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за каждого правильно названного животного 1 балла, максимально- 12 баллов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826920" y="2143080"/>
            <a:ext cx="3959280" cy="43815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5940360" y="3116880"/>
            <a:ext cx="2303640" cy="17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0" tIns="0" bIns="68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а соболя, туловище лося, крыло птицы, хвост нер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3</a:t>
            </a:r>
            <a:br>
              <a:rPr sz="36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за каждого правильно названного животного 1 балла, максимально- 12 баллов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5630760" cy="35449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6300720" y="2211480"/>
            <a:ext cx="2274840" cy="17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0" tIns="0" bIns="68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га лося, голова медведя, туловище нерпы, ноги 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3T13:08:04Z</dcterms:created>
  <dc:creator>1</dc:creator>
  <dc:description/>
  <dc:language>en-US</dc:language>
  <cp:lastModifiedBy>1</cp:lastModifiedBy>
  <dcterms:modified xsi:type="dcterms:W3CDTF">2018-03-09T14:40:15Z</dcterms:modified>
  <cp:revision>12</cp:revision>
  <dc:subject/>
  <dc:title>Задание 1</dc:title>
</cp:coreProperties>
</file>