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E8A-6200-4534-8003-2FE570C9D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82C-1EF8-45A9-B42E-A982FC258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10F-7A3B-4467-84E9-5AC0802F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616-BD87-4D0E-8514-7ED28018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801-6031-44D8-ABF6-7E748805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0DC-B741-4EE3-AD1A-0F78A1A0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1CC-9E3D-48F3-80D2-A815FCB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7F4-23AA-42E1-BDD4-1A629E08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DA7-3109-4BA9-9C9A-EEB4A45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687-E947-4588-B4B5-E2BBFE66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AC2-2645-4C3D-BB06-0B4559A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380-6A37-426C-A85E-5C48152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432-876C-4A48-8310-CE38230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358-B759-48D5-85EA-2EE35E9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F98-9661-4B30-9A36-D36CCC76E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403280" y="620640"/>
            <a:ext cx="748980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хотите научиться плавать,                                                                  То смело входите в во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хотите научиться решать задачи,                                                                 То решай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 и педагог  Дьёрдь Пойа (1887-1985)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439560"/>
            <a:ext cx="7416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Bradley Hand ITC"/>
              </a:rPr>
              <a:t>Старинная задача из математической рукописи XVII века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33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ва плотника рядились двор ставить. И говорит первый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олько бы мне одному двор ставить, то я бы поставил за 3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другой молвил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Я бы поставил его в шесть 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а решили сообща ставить двор. Сколько долго они ставили двор?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старинная задача из математической рукописи XVII века: « Два плотника рядились двор ставить. И говорит первый: - Только бы мне одному двор ставить, то я бы поставил за 3 года. А другой молвил: - Я бы поставил его в шесть лет. Оба решили сообща ставить двор. Сколько долго они ставили двор?»"/>
          <p:cNvPicPr/>
          <p:nvPr/>
        </p:nvPicPr>
        <p:blipFill>
          <a:blip r:embed="rId2"/>
          <a:srcRect l="53552" t="19494" r="0" b="2215"/>
          <a:stretch/>
        </p:blipFill>
        <p:spPr>
          <a:xfrm>
            <a:off x="4834080" y="1639800"/>
            <a:ext cx="3698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2"/>
          <p:cNvSpPr/>
          <p:nvPr/>
        </p:nvSpPr>
        <p:spPr>
          <a:xfrm>
            <a:off x="395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ешение задач на работ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187280" y="765000"/>
            <a:ext cx="79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 - объём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t -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p- производи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6"/>
          <p:cNvSpPr/>
          <p:nvPr/>
        </p:nvSpPr>
        <p:spPr>
          <a:xfrm>
            <a:off x="468360" y="765000"/>
            <a:ext cx="820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1122"/>
                </a:solidFill>
                <a:latin typeface="Times New Roman"/>
              </a:rPr>
              <a:t>Если в задаче не известен объём работы -  принимай его за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1122"/>
                </a:solidFill>
                <a:latin typeface="Times New Roman"/>
              </a:rPr>
              <a:t>При совместной работе производительности складываю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922320" y="1428840"/>
            <a:ext cx="82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1 группы: решить старинную задачу, предложенную в начале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лотника рядились двор ставить. И говорит первы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ы мне одному двор ставить, то я бы поставил за 3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ой молв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поставил его в шесть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решили сообща ставить двор. Сколько долго они ставили д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2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труба заполняет бассейн за 6 часов, вторая – за 4 часа. За какое время обе трубы заполнят бассейн, работая вме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3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тицеферму привезли корм, которого хватило бы уткам на 30 дней, а гусям на 45 дней. На сколько дней хватит привезенного корма уткам и гусям вме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035440" y="277920"/>
            <a:ext cx="50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256520" y="49320"/>
            <a:ext cx="1585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187280" y="476280"/>
            <a:ext cx="748836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и Паша могут по­кра­сить забор за 20 часов, Паша и Во­ло­дя — за 21 час, а Во­ло­дя и Игорь за 28 часов. За какое время по­кра­сят забор мальчики, ра­бо­тая втрое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аблица 1" descr=""/>
          <p:cNvPicPr/>
          <p:nvPr/>
        </p:nvPicPr>
        <p:blipFill>
          <a:blip r:embed="rId2"/>
          <a:stretch/>
        </p:blipFill>
        <p:spPr>
          <a:xfrm>
            <a:off x="1395360" y="3292560"/>
            <a:ext cx="7383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268360" y="115920"/>
            <a:ext cx="457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фраз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8-08-14T06:24:22Z</dcterms:modified>
  <cp:revision>84</cp:revision>
  <dc:subject/>
  <dc:title>Два случая при решении задач на совместную работу:</dc:title>
</cp:coreProperties>
</file>