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252F-DB22-482D-A344-1EE1EF4622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D674-C250-4EA5-B5CE-586B1BCA4D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161-1389-46B2-9EC3-21B35D7A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FB2-E2E6-41C5-9D07-0F5FA01F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9F7-057F-462D-A437-A27A5031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11B-875D-43D4-8771-EF13A038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DAB-0ADF-4F7D-A579-888B1306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205-E107-4EAE-BF89-8CFD2878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419-1179-4B75-B1B3-3ED4EEBC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26C-BA48-4CC9-8EC8-1606238B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76A-A104-49AE-BC9D-20C56052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1AA-8060-416B-8908-DE55151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553-36C8-4A7D-984F-4EE4AE4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8F0-C6CE-4597-A5DB-60777263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4D4B-8BF8-4FB2-8C68-20763B8A8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403280" y="620640"/>
            <a:ext cx="748980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хотите научиться плавать,                                                                  То смело входите в вод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сли хотите научиться решать задачи,                                                                 То решайте и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 и педагог  Дьёрдь Пойа (1887-1985)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439560"/>
            <a:ext cx="7416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Bradley Hand ITC"/>
              </a:rPr>
              <a:t>Старинная задача из математической рукописи XVII века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330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Два плотника рядились двор ставить. И говорит первый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олько бы мне одному двор ставить, то я бы поставил за 3 го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 другой молвил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Я бы поставил его в шесть л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а решили сообща ставить двор. Сколько долго они ставили двор?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старинная задача из математической рукописи XVII века: « Два плотника рядились двор ставить. И говорит первый: - Только бы мне одному двор ставить, то я бы поставил за 3 года. А другой молвил: - Я бы поставил его в шесть лет. Оба решили сообща ставить двор. Сколько долго они ставили двор?»"/>
          <p:cNvPicPr/>
          <p:nvPr/>
        </p:nvPicPr>
        <p:blipFill>
          <a:blip r:embed="rId2"/>
          <a:srcRect l="53552" t="19494" r="0" b="2215"/>
          <a:stretch/>
        </p:blipFill>
        <p:spPr>
          <a:xfrm>
            <a:off x="4834080" y="1639800"/>
            <a:ext cx="369864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2"/>
          <p:cNvSpPr/>
          <p:nvPr/>
        </p:nvSpPr>
        <p:spPr>
          <a:xfrm>
            <a:off x="39528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ешение задач на работ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1187280" y="765000"/>
            <a:ext cx="795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А - объём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t - врем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p- производите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6"/>
          <p:cNvSpPr/>
          <p:nvPr/>
        </p:nvSpPr>
        <p:spPr>
          <a:xfrm>
            <a:off x="468360" y="765000"/>
            <a:ext cx="820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1122"/>
                </a:solidFill>
                <a:latin typeface="Times New Roman"/>
              </a:rPr>
              <a:t>Если в задаче не известен объём работы -  принимай его за 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1122"/>
                </a:solidFill>
                <a:latin typeface="Times New Roman"/>
              </a:rPr>
              <a:t>При совместной работе производительности складывают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922320" y="1428840"/>
            <a:ext cx="82440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для 1 группы: решить старинную задачу, предложенную в начале заня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плотника рядились двор ставить. И говорит первы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бы мне одному двор ставить, то я бы поставил за 3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ругой молви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ы поставил его в шесть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 решили сообща ставить двор. Сколько долго они ставили дво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для 2 групп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труба заполняет бассейн за 6 часов, вторая – за 4 часа. За какое время обе трубы заполнят бассейн, работая вмес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для 3 групп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тицеферму привезли корм, которого хватило бы уткам на 30 дней, а гусям на 45 дней. На сколько дней хватит привезенного корма уткам и гусям вмес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035440" y="277920"/>
            <a:ext cx="507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81bd"/>
                </a:solidFill>
                <a:latin typeface="Calibri"/>
              </a:rPr>
              <a:t>Работа в групп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7256520" y="49320"/>
            <a:ext cx="15858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"/>
          <p:cNvSpPr/>
          <p:nvPr/>
        </p:nvSpPr>
        <p:spPr>
          <a:xfrm>
            <a:off x="1187280" y="476280"/>
            <a:ext cx="748836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рь и Паша могут по­кра­сить забор за 20 часов, Паша и Во­ло­дя — за 21 час, а Во­ло­дя и Игорь за 28 часов. За какое время по­кра­сят забор мальчики, ра­бо­тая втроем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Таблица 1" descr=""/>
          <p:cNvPicPr/>
          <p:nvPr/>
        </p:nvPicPr>
        <p:blipFill>
          <a:blip r:embed="rId2"/>
          <a:stretch/>
        </p:blipFill>
        <p:spPr>
          <a:xfrm>
            <a:off x="1395360" y="3292560"/>
            <a:ext cx="7383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268360" y="115920"/>
            <a:ext cx="4572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фразу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узнал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ыполнял задани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ял, ч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чувствовал, ч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мог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пробую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захотело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Наталья</cp:lastModifiedBy>
  <dcterms:modified xsi:type="dcterms:W3CDTF">2018-08-14T06:24:22Z</dcterms:modified>
  <cp:revision>84</cp:revision>
  <dc:subject/>
  <dc:title>Два случая при решении задач на совместную работу:</dc:title>
</cp:coreProperties>
</file>