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8AC-C481-41FB-BB57-45B54BAB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BED-FD6A-486D-9D8F-E2CE94F7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9AF-3761-49EF-BF53-A6BEF4EB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125-E579-4733-886D-3A812AE0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4E5E-A910-40FE-9454-D177CCFB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0845-1F07-44F1-B1F3-BB617EF4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0A91-2B76-4305-ABC0-F05A6E6B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A511-01F4-42C2-AE5E-9D3F6D7B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2195-521E-4874-975F-C205C8CE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030E-3553-40B5-B180-F39AD784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E965-ED9F-471C-9EAD-F5D254AE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C4C-2927-49F5-AF2D-5DBE1EB9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6B7B-1130-4A65-91BE-5AB53E77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D029-E1FF-44A3-A361-38DA64A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D0A8-4D74-4A2B-8F6A-3627D8A0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B9ED-6BE9-4186-954C-F4A68B92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6DB9-28A1-4239-9B7B-F4E66129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CEE-280D-44B9-A3CB-07C8C0FF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09D-0098-4F4E-8D09-2BD6245F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64C-745C-4EC7-9B38-9EB3278B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7C3-91DC-4107-9E18-FBA4D843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427-BF75-4356-AB0A-964064D2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507-AD04-4C97-B37C-BCF03C8E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560-70BB-474F-A5EE-91A4DA62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C3CA-430B-41E5-9033-4C3E8AE2202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FDB2-75C3-49CC-AC77-3B2D3277495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3995640" y="4797360"/>
            <a:ext cx="4897440" cy="1585800"/>
          </a:xfrm>
          <a:custGeom>
            <a:avLst/>
            <a:gdLst>
              <a:gd name="textAreaLeft" fmla="*/ 1143000 w 4897440"/>
              <a:gd name="textAreaRight" fmla="*/ 3754440 w 4897440"/>
              <a:gd name="textAreaTop" fmla="*/ 393480 h 1585800"/>
              <a:gd name="textAreaBottom" fmla="*/ 158616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66" y="0"/>
                </a:lnTo>
                <a:arcTo wR="675" hR="1340" stAng="16200000" swAng="5400000"/>
                <a:lnTo>
                  <a:pt x="7741" y="5360"/>
                </a:lnTo>
                <a:lnTo>
                  <a:pt x="13859" y="5360"/>
                </a:lnTo>
                <a:lnTo>
                  <a:pt x="13859" y="1340"/>
                </a:lnTo>
                <a:arcTo wR="675" hR="1340" stAng="10800000" swAng="5400000"/>
                <a:lnTo>
                  <a:pt x="21600" y="0"/>
                </a:lnTo>
                <a:lnTo>
                  <a:pt x="18900" y="8120"/>
                </a:lnTo>
                <a:lnTo>
                  <a:pt x="21600" y="16240"/>
                </a:lnTo>
                <a:lnTo>
                  <a:pt x="16559" y="16240"/>
                </a:lnTo>
                <a:lnTo>
                  <a:pt x="16559" y="20260"/>
                </a:lnTo>
                <a:arcTo wR="675" hR="1340" stAng="0" swAng="5400000"/>
                <a:lnTo>
                  <a:pt x="5716" y="21600"/>
                </a:lnTo>
                <a:arcTo wR="675" hR="1340" stAng="5400000" swAng="5400000"/>
                <a:lnTo>
                  <a:pt x="5041" y="16240"/>
                </a:lnTo>
                <a:lnTo>
                  <a:pt x="0" y="16240"/>
                </a:lnTo>
                <a:lnTo>
                  <a:pt x="2700" y="8120"/>
                </a:lnTo>
                <a:close/>
              </a:path>
              <a:path fill="none" w="21600" h="21600">
                <a:moveTo>
                  <a:pt x="7741" y="1340"/>
                </a:moveTo>
                <a:arcTo wR="675" hR="1340" stAng="0" swAng="5400000"/>
                <a:lnTo>
                  <a:pt x="5716" y="2680"/>
                </a:lnTo>
                <a:arcTo wR="675" hR="1340" stAng="16200000" swAng="-5400000"/>
                <a:arcTo wR="675" hR="1340" stAng="10800000" swAng="-5400000"/>
                <a:lnTo>
                  <a:pt x="7741" y="5360"/>
                </a:lnTo>
              </a:path>
              <a:path fill="none" w="21600" h="21600">
                <a:moveTo>
                  <a:pt x="13859" y="1340"/>
                </a:moveTo>
                <a:arcTo wR="675" hR="1340" stAng="10800000" swAng="-5400000"/>
                <a:lnTo>
                  <a:pt x="15884" y="2680"/>
                </a:lnTo>
                <a:arcTo wR="675" hR="1340" stAng="16200000" swAng="5400000"/>
                <a:arcTo wR="675" hR="1340" stAng="0" swAng="5400000"/>
                <a:lnTo>
                  <a:pt x="13859" y="5360"/>
                </a:lnTo>
              </a:path>
              <a:path fill="none" w="21600" h="21600">
                <a:moveTo>
                  <a:pt x="5041" y="4020"/>
                </a:moveTo>
                <a:lnTo>
                  <a:pt x="5041" y="16240"/>
                </a:lnTo>
              </a:path>
              <a:path fill="none" w="21600" h="21600">
                <a:moveTo>
                  <a:pt x="16559" y="4020"/>
                </a:moveTo>
                <a:lnTo>
                  <a:pt x="16559" y="16240"/>
                </a:lnTo>
              </a:path>
            </a:pathLst>
          </a:custGeom>
          <a:solidFill>
            <a:srgbClr val="ffffcc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6699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6699"/>
                </a:solidFill>
                <a:latin typeface="Arial"/>
              </a:rPr>
              <a:t>МКОУ «Любимовск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6699"/>
                </a:solidFill>
                <a:latin typeface="Arial"/>
              </a:rPr>
              <a:t>СОШ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2357280" y="2643120"/>
            <a:ext cx="237672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232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323247"/>
                    </a:gs>
                    <a:gs pos="100000">
                      <a:srgbClr val="6b6b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уб</a:t>
            </a:r>
            <a:endParaRPr b="1" lang="en-US" sz="4000" spc="1" strike="noStrike">
              <a:ln w="2232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323247"/>
                  </a:gs>
                  <a:gs pos="100000">
                    <a:srgbClr val="6b6b99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4" name="WordArt 3" descr=""/>
          <p:cNvPicPr/>
          <p:nvPr/>
        </p:nvPicPr>
        <p:blipFill>
          <a:blip r:embed="rId1"/>
          <a:stretch/>
        </p:blipFill>
        <p:spPr>
          <a:xfrm>
            <a:off x="407880" y="3279600"/>
            <a:ext cx="7023240" cy="1494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9" descr=""/>
          <p:cNvPicPr/>
          <p:nvPr/>
        </p:nvPicPr>
        <p:blipFill>
          <a:blip r:embed="rId2"/>
          <a:stretch/>
        </p:blipFill>
        <p:spPr>
          <a:xfrm>
            <a:off x="6424560" y="0"/>
            <a:ext cx="2719440" cy="231444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0" descr=""/>
          <p:cNvPicPr/>
          <p:nvPr/>
        </p:nvPicPr>
        <p:blipFill>
          <a:blip r:embed="rId3"/>
          <a:stretch/>
        </p:blipFill>
        <p:spPr>
          <a:xfrm>
            <a:off x="1036800" y="963720"/>
            <a:ext cx="5248080" cy="1109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8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25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324000" y="333360"/>
            <a:ext cx="820872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ffff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4800" spc="1" strike="noStrike">
              <a:ln w="22320">
                <a:solidFill>
                  <a:srgbClr val="ffff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8" name="Клип 6" descr="H:\1.jpg"/>
          <p:cNvPicPr/>
          <p:nvPr/>
        </p:nvPicPr>
        <p:blipFill>
          <a:blip r:embed="rId3"/>
          <a:stretch/>
        </p:blipFill>
        <p:spPr>
          <a:xfrm>
            <a:off x="3024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Клип 6" descr=""/>
          <p:cNvPicPr/>
          <p:nvPr/>
        </p:nvPicPr>
        <p:blipFill>
          <a:blip r:embed="rId4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8640" y="259920"/>
            <a:ext cx="625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и любимые руководител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Объект 4" descr=""/>
          <p:cNvPicPr/>
          <p:nvPr/>
        </p:nvPicPr>
        <p:blipFill>
          <a:blip r:embed="rId1"/>
          <a:stretch/>
        </p:blipFill>
        <p:spPr>
          <a:xfrm>
            <a:off x="0" y="1844640"/>
            <a:ext cx="9123480" cy="4824360"/>
          </a:xfrm>
          <a:prstGeom prst="rect">
            <a:avLst/>
          </a:prstGeom>
          <a:ln w="0">
            <a:noFill/>
          </a:ln>
        </p:spPr>
      </p:pic>
      <p:pic>
        <p:nvPicPr>
          <p:cNvPr id="252" name="Клип 6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7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7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2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3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и любимые руководител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Объект 4" descr=""/>
          <p:cNvPicPr/>
          <p:nvPr/>
        </p:nvPicPr>
        <p:blipFill>
          <a:blip r:embed="rId1"/>
          <a:stretch/>
        </p:blipFill>
        <p:spPr>
          <a:xfrm>
            <a:off x="0" y="1692360"/>
            <a:ext cx="9144000" cy="4976640"/>
          </a:xfrm>
          <a:prstGeom prst="rect">
            <a:avLst/>
          </a:prstGeom>
          <a:ln w="0">
            <a:noFill/>
          </a:ln>
        </p:spPr>
      </p:pic>
      <p:pic>
        <p:nvPicPr>
          <p:cNvPr id="255" name="Клип 6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3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671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и любимые руководители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Объект 2" descr=""/>
          <p:cNvPicPr/>
          <p:nvPr/>
        </p:nvPicPr>
        <p:blipFill>
          <a:blip r:embed="rId1"/>
          <a:stretch/>
        </p:blipFill>
        <p:spPr>
          <a:xfrm>
            <a:off x="0" y="1922400"/>
            <a:ext cx="9144000" cy="4746600"/>
          </a:xfrm>
          <a:prstGeom prst="rect">
            <a:avLst/>
          </a:prstGeom>
          <a:ln w="0">
            <a:noFill/>
          </a:ln>
        </p:spPr>
      </p:pic>
      <p:pic>
        <p:nvPicPr>
          <p:cNvPr id="258" name="Клип 6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75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2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7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7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7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ллектуальные игр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Клип 6" descr="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  <p:pic>
        <p:nvPicPr>
          <p:cNvPr id="261" name="Объект 7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4179960" cy="26640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9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889440" cy="3024000"/>
          </a:xfrm>
          <a:prstGeom prst="rect">
            <a:avLst/>
          </a:prstGeom>
          <a:ln w="0">
            <a:noFill/>
          </a:ln>
        </p:spPr>
      </p:pic>
      <p:pic>
        <p:nvPicPr>
          <p:cNvPr id="263" name="Объект 8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385128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1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324000" y="333360"/>
            <a:ext cx="8820000" cy="23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5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232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2f2f47"/>
                    </a:gs>
                    <a:gs pos="50000">
                      <a:srgbClr val="666699">
                        <a:alpha val="66274"/>
                      </a:srgbClr>
                    </a:gs>
                    <a:gs pos="100000">
                      <a:srgbClr val="2f2f47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</a:t>
            </a:r>
            <a:endParaRPr b="1" lang="en-US" sz="4800" spc="1" strike="noStrike">
              <a:ln w="2232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2f2f47"/>
                  </a:gs>
                  <a:gs pos="50000">
                    <a:srgbClr val="666699">
                      <a:alpha val="66274"/>
                    </a:srgbClr>
                  </a:gs>
                  <a:gs pos="100000">
                    <a:srgbClr val="2f2f47"/>
                  </a:gs>
                </a:gsLst>
                <a:lin ang="189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03120" y="2924280"/>
            <a:ext cx="8498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Мы любим занятия в спортивном клубе, всегда участвуем в школьных Спартакиадах, которые проводят наши учителя физической культуры,  защищаем и всегда будем защищать честь своей школы во всех спортивных соревнованиях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Клип 6" descr="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1916280"/>
            <a:ext cx="8226360" cy="32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57120" y="342900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288280" cy="5286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</a:t>
            </a:r>
            <a:br>
              <a:rPr sz="22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виз клуба:                                                 Эмблема клуба:   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тарт – начало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тарт – для всех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И на финише – успех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ы стремимся лишь вперед,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Нас всегда победа ждет!</a:t>
            </a:r>
            <a:br>
              <a:rPr sz="24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ru-RU" sz="2200" spc="-1" strike="noStrike">
                <a:solidFill>
                  <a:srgbClr val="ccec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Рисунок 4" descr=""/>
          <p:cNvPicPr/>
          <p:nvPr/>
        </p:nvPicPr>
        <p:blipFill>
          <a:blip r:embed="rId1"/>
          <a:stretch/>
        </p:blipFill>
        <p:spPr>
          <a:xfrm>
            <a:off x="5003640" y="5429160"/>
            <a:ext cx="4140360" cy="8668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"/>
          <p:cNvPicPr/>
          <p:nvPr/>
        </p:nvPicPr>
        <p:blipFill>
          <a:blip r:embed="rId2"/>
          <a:stretch/>
        </p:blipFill>
        <p:spPr>
          <a:xfrm>
            <a:off x="5286240" y="1285920"/>
            <a:ext cx="3362400" cy="3786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7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9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лятва клуба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ого выполнять устав клуб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рошо учиться и помогать в учебе и занятиях спортом товарища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ть и действовать по принципу: «Один за всех, и все за одного!»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рожить честью своего учебного заведения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оянно работать над собой, развивать силу воли, совершенствовать свой характер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Рисунок 2" descr=""/>
          <p:cNvPicPr/>
          <p:nvPr/>
        </p:nvPicPr>
        <p:blipFill>
          <a:blip r:embed="rId1"/>
          <a:stretch/>
        </p:blipFill>
        <p:spPr>
          <a:xfrm>
            <a:off x="6424560" y="0"/>
            <a:ext cx="2719440" cy="2314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49687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755640" y="5157720"/>
            <a:ext cx="75614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Содержимое 8" descr=""/>
          <p:cNvPicPr/>
          <p:nvPr/>
        </p:nvPicPr>
        <p:blipFill>
          <a:blip r:embed="rId1"/>
          <a:stretch/>
        </p:blipFill>
        <p:spPr>
          <a:xfrm>
            <a:off x="-6480" y="-298440"/>
            <a:ext cx="8266320" cy="7162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" descr=""/>
          <p:cNvPicPr/>
          <p:nvPr/>
        </p:nvPicPr>
        <p:blipFill>
          <a:blip r:embed="rId2"/>
          <a:stretch/>
        </p:blipFill>
        <p:spPr>
          <a:xfrm>
            <a:off x="6424560" y="0"/>
            <a:ext cx="2719440" cy="2314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5" descr=""/>
          <p:cNvPicPr/>
          <p:nvPr/>
        </p:nvPicPr>
        <p:blipFill>
          <a:blip r:embed="rId1"/>
          <a:stretch/>
        </p:blipFill>
        <p:spPr>
          <a:xfrm>
            <a:off x="6424560" y="0"/>
            <a:ext cx="2719440" cy="2314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Выноска со стрелкой вниз 3"/>
          <p:cNvSpPr/>
          <p:nvPr/>
        </p:nvSpPr>
        <p:spPr>
          <a:xfrm>
            <a:off x="2500200" y="0"/>
            <a:ext cx="3643560" cy="1000080"/>
          </a:xfrm>
          <a:prstGeom prst="downArrowCallout">
            <a:avLst>
              <a:gd name="adj1" fmla="val 24999"/>
              <a:gd name="adj2" fmla="val 24997"/>
              <a:gd name="adj3" fmla="val 25000"/>
              <a:gd name="adj4" fmla="val 64977"/>
            </a:avLst>
          </a:prstGeom>
          <a:gradFill rotWithShape="0">
            <a:gsLst>
              <a:gs pos="0">
                <a:srgbClr val="90ffb0"/>
              </a:gs>
              <a:gs pos="100000">
                <a:srgbClr val="e0ffe8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b6b99"/>
                </a:solidFill>
                <a:latin typeface="Times New Roman"/>
                <a:ea typeface="Times New Roman"/>
              </a:rPr>
              <a:t>Задачи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Вертикальный свиток 4"/>
          <p:cNvSpPr/>
          <p:nvPr/>
        </p:nvSpPr>
        <p:spPr>
          <a:xfrm>
            <a:off x="0" y="1157400"/>
            <a:ext cx="7358040" cy="5643360"/>
          </a:xfrm>
          <a:prstGeom prst="verticalScroll">
            <a:avLst>
              <a:gd name="adj" fmla="val 12500"/>
            </a:avLst>
          </a:prstGeom>
          <a:solidFill>
            <a:srgbClr val="00cc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ить здоровье, способствовать формированию двигательных умений и навыков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ить знания по физкультуре и спорту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ь организаторские и инструктор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выки проведения физических упражнений с небольшими группами школьников, судейство спортивных соревнований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ть к спортивно-массовой работе в клубе родителей учащихся школы, педагогов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ь активную жизненную позицию, нравственные и волевые качеств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3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-176040" y="1639800"/>
            <a:ext cx="7546680" cy="52246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468360" y="4581360"/>
            <a:ext cx="8207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0" y="0"/>
            <a:ext cx="835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232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2f2f47"/>
                    </a:gs>
                    <a:gs pos="50000">
                      <a:srgbClr val="666699">
                        <a:alpha val="85098"/>
                      </a:srgbClr>
                    </a:gs>
                    <a:gs pos="100000">
                      <a:srgbClr val="2f2f47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    </a:t>
            </a:r>
            <a:endParaRPr b="1" lang="en-US" sz="4400" spc="1" strike="noStrike">
              <a:ln w="2232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2f2f47"/>
                  </a:gs>
                  <a:gs pos="50000">
                    <a:srgbClr val="666699">
                      <a:alpha val="85098"/>
                    </a:srgbClr>
                  </a:gs>
                  <a:gs pos="100000">
                    <a:srgbClr val="2f2f47"/>
                  </a:gs>
                </a:gsLst>
                <a:lin ang="189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4" name="Клип 6" descr=""/>
          <p:cNvPicPr/>
          <p:nvPr/>
        </p:nvPicPr>
        <p:blipFill>
          <a:blip r:embed="rId2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8" descr=""/>
          <p:cNvPicPr/>
          <p:nvPr/>
        </p:nvPicPr>
        <p:blipFill>
          <a:blip r:embed="rId3"/>
          <a:stretch/>
        </p:blipFill>
        <p:spPr>
          <a:xfrm>
            <a:off x="895320" y="-341280"/>
            <a:ext cx="5194440" cy="1938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8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385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38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38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1000080" y="2786040"/>
            <a:ext cx="48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WordArt 6"/>
          <p:cNvSpPr txBox="1"/>
          <p:nvPr/>
        </p:nvSpPr>
        <p:spPr>
          <a:xfrm>
            <a:off x="395280" y="260280"/>
            <a:ext cx="603396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232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направления</a:t>
            </a:r>
            <a:endParaRPr b="1" lang="en-US" sz="5400" spc="1" strike="noStrike">
              <a:ln w="22320">
                <a:solidFill>
                  <a:srgbClr val="ffff99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357120" y="214200"/>
            <a:ext cx="628668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2320">
                  <a:solidFill>
                    <a:srgbClr val="ffff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1" lang="en-US" sz="5400" spc="1" strike="noStrike">
              <a:ln w="22320">
                <a:solidFill>
                  <a:srgbClr val="ffff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9" name="Клип 6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0" y="202176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оведение спортивных соревнований; 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беспечение систематического посещения занятий физической культурой и спортом учащимися 1-11-х классов школы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рганизация спортивно-массовой работы с детьми младшего школьного возраст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оведение конкурсов на лучшую постановку массовой культурно-оздоровительной и спортивной работы среди классов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ыявление лучшего спортсмена класса, школы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1856880"/>
            <a:ext cx="7678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граждение лучших спортсменов, команд – победителей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ощрение лучших спортсменов и активистов клуб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опаганда физической культуры и спорта в школе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оведение дней здоровья в образовательных учреждениях под девизом: «Быстрее, выше, сильнее»; смотров-конкурсов на лучшую постановку спортивно-массовой и физкультурно-оздоровительной работы в общеобразовательных учреждениях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нформационное обеспечение спортивной жизни школы через школьную газету, стенные газеты и т.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WordArt 5"/>
          <p:cNvSpPr txBox="1"/>
          <p:nvPr/>
        </p:nvSpPr>
        <p:spPr>
          <a:xfrm>
            <a:off x="179280" y="115920"/>
            <a:ext cx="64645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676"/>
                <a:gd name="adj2" fmla="val 1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232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направления</a:t>
            </a:r>
            <a:endParaRPr b="1" lang="en-US" sz="4400" spc="1" strike="noStrike">
              <a:ln w="22320">
                <a:solidFill>
                  <a:srgbClr val="ffff99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3" name="Клип 6" descr="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324000" y="5302080"/>
            <a:ext cx="860724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2320">
                  <a:solidFill>
                    <a:srgbClr val="ffff99"/>
                  </a:solidFill>
                  <a:miter/>
                </a:ln>
                <a:solidFill>
                  <a:srgbClr val="c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ши любимые виды спорта</a:t>
            </a:r>
            <a:endParaRPr b="1" lang="en-US" sz="4400" spc="1" strike="noStrike">
              <a:ln w="22320">
                <a:solidFill>
                  <a:srgbClr val="ffff99"/>
                </a:solidFill>
                <a:miter/>
              </a:ln>
              <a:solidFill>
                <a:srgbClr val="c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5" name="Клип 6" descr="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2562120"/>
          </a:xfrm>
          <a:prstGeom prst="rect">
            <a:avLst/>
          </a:prstGeom>
          <a:ln w="0">
            <a:noFill/>
          </a:ln>
        </p:spPr>
      </p:pic>
      <p:pic>
        <p:nvPicPr>
          <p:cNvPr id="246" name="Объек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1:51:38Z</dcterms:created>
  <dc:creator>Елена</dc:creator>
  <dc:description/>
  <dc:language>en-US</dc:language>
  <cp:lastModifiedBy>школа</cp:lastModifiedBy>
  <dcterms:modified xsi:type="dcterms:W3CDTF">2018-08-14T09:22:45Z</dcterms:modified>
  <cp:revision>49</cp:revision>
  <dc:subject/>
  <dc:title>Слайд 1</dc:title>
</cp:coreProperties>
</file>