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81E-9381-42BB-83A4-73FEBEFB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6CF-7C22-4AF1-B237-06CEF822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B76-3F57-40C9-BC39-A97900D1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EA7-EED1-4FA5-96C8-94B7E575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52EB-B740-4112-B2DD-ADF76657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1320-209C-4EC2-830C-FDAE2EA4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662C-4D42-425E-858C-73496286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20EE-6110-4B91-A1FB-265D2C6D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A67-3A1C-4CE1-93CB-CF45D12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66CE-6FC2-433D-A4C5-9C392F43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705C-4B55-4BD7-A81A-E07F0F8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699-7329-4337-930E-BFC815C3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F6C4-935C-41AD-BD6D-F99F3941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5611-9477-4B41-9612-780A8CFE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F9A-AE53-41CF-993F-5E4C6973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66F6-5345-46E9-B749-4BFE50CA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FB93-059F-4EFA-893E-7356EF89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BEB-D767-4F2F-A33C-B22C622D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080-29CE-4DA5-9734-152783E5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368-AEE9-4895-A0C0-A50C3902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77E-B02E-4AB4-89D7-836E74F1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6DA-7032-406C-94DF-0C0DF5B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CEF-5277-49CB-938C-186C0A29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FD0-F260-4C02-A070-F38E6E5C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27BF-BC84-4176-9C3C-5C6A1B55EF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F14C-6546-48F6-B543-4F60E8715E62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3995640" y="4797360"/>
            <a:ext cx="4897440" cy="1585800"/>
          </a:xfrm>
          <a:custGeom>
            <a:avLst/>
            <a:gdLst>
              <a:gd name="textAreaLeft" fmla="*/ 1143000 w 4897440"/>
              <a:gd name="textAreaRight" fmla="*/ 3754440 w 4897440"/>
              <a:gd name="textAreaTop" fmla="*/ 393480 h 1585800"/>
              <a:gd name="textAreaBottom" fmla="*/ 15861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66" y="0"/>
                </a:lnTo>
                <a:arcTo wR="675" hR="1340" stAng="16200000" swAng="5400000"/>
                <a:lnTo>
                  <a:pt x="7741" y="5360"/>
                </a:lnTo>
                <a:lnTo>
                  <a:pt x="13859" y="5360"/>
                </a:lnTo>
                <a:lnTo>
                  <a:pt x="13859" y="1340"/>
                </a:lnTo>
                <a:arcTo wR="675" hR="1340" stAng="10800000" swAng="5400000"/>
                <a:lnTo>
                  <a:pt x="21600" y="0"/>
                </a:lnTo>
                <a:lnTo>
                  <a:pt x="18900" y="8120"/>
                </a:lnTo>
                <a:lnTo>
                  <a:pt x="21600" y="16240"/>
                </a:lnTo>
                <a:lnTo>
                  <a:pt x="16559" y="16240"/>
                </a:lnTo>
                <a:lnTo>
                  <a:pt x="16559" y="20260"/>
                </a:lnTo>
                <a:arcTo wR="675" hR="1340" stAng="0" swAng="5400000"/>
                <a:lnTo>
                  <a:pt x="5716" y="21600"/>
                </a:lnTo>
                <a:arcTo wR="675" hR="1340" stAng="5400000" swAng="5400000"/>
                <a:lnTo>
                  <a:pt x="5041" y="16240"/>
                </a:lnTo>
                <a:lnTo>
                  <a:pt x="0" y="16240"/>
                </a:lnTo>
                <a:lnTo>
                  <a:pt x="2700" y="8120"/>
                </a:lnTo>
                <a:close/>
              </a:path>
              <a:path fill="none" w="21600" h="21600">
                <a:moveTo>
                  <a:pt x="7741" y="1340"/>
                </a:moveTo>
                <a:arcTo wR="675" hR="1340" stAng="0" swAng="5400000"/>
                <a:lnTo>
                  <a:pt x="5716" y="2680"/>
                </a:lnTo>
                <a:arcTo wR="675" hR="1340" stAng="16200000" swAng="-5400000"/>
                <a:arcTo wR="675" hR="1340" stAng="10800000" swAng="-5400000"/>
                <a:lnTo>
                  <a:pt x="7741" y="5360"/>
                </a:lnTo>
              </a:path>
              <a:path fill="none" w="21600" h="21600">
                <a:moveTo>
                  <a:pt x="13859" y="1340"/>
                </a:moveTo>
                <a:arcTo wR="675" hR="1340" stAng="10800000" swAng="-5400000"/>
                <a:lnTo>
                  <a:pt x="15884" y="2680"/>
                </a:lnTo>
                <a:arcTo wR="675" hR="1340" stAng="16200000" swAng="5400000"/>
                <a:arcTo wR="675" hR="1340" stAng="0" swAng="5400000"/>
                <a:lnTo>
                  <a:pt x="13859" y="5360"/>
                </a:lnTo>
              </a:path>
              <a:path fill="none" w="21600" h="21600">
                <a:moveTo>
                  <a:pt x="5041" y="4020"/>
                </a:moveTo>
                <a:lnTo>
                  <a:pt x="5041" y="16240"/>
                </a:lnTo>
              </a:path>
              <a:path fill="none" w="21600" h="21600">
                <a:moveTo>
                  <a:pt x="16559" y="4020"/>
                </a:moveTo>
                <a:lnTo>
                  <a:pt x="16559" y="16240"/>
                </a:lnTo>
              </a:path>
            </a:pathLst>
          </a:custGeom>
          <a:solidFill>
            <a:srgbClr val="ffffcc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99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99"/>
                </a:solidFill>
                <a:latin typeface="Arial"/>
              </a:rPr>
              <a:t>МКОУ «Любимовск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6699"/>
                </a:solidFill>
                <a:latin typeface="Arial"/>
              </a:rPr>
              <a:t>СОШ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2357280" y="2643120"/>
            <a:ext cx="237672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232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323247"/>
                    </a:gs>
                    <a:gs pos="100000">
                      <a:srgbClr val="6b6b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уб</a:t>
            </a:r>
            <a:endParaRPr b="1" lang="en-US" sz="4000" spc="1" strike="noStrike">
              <a:ln w="2232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323247"/>
                  </a:gs>
                  <a:gs pos="100000">
                    <a:srgbClr val="6b6b99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4" name="WordArt 3" descr=""/>
          <p:cNvPicPr/>
          <p:nvPr/>
        </p:nvPicPr>
        <p:blipFill>
          <a:blip r:embed="rId1"/>
          <a:stretch/>
        </p:blipFill>
        <p:spPr>
          <a:xfrm>
            <a:off x="407880" y="3279600"/>
            <a:ext cx="7023240" cy="1494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9" descr=""/>
          <p:cNvPicPr/>
          <p:nvPr/>
        </p:nvPicPr>
        <p:blipFill>
          <a:blip r:embed="rId2"/>
          <a:stretch/>
        </p:blipFill>
        <p:spPr>
          <a:xfrm>
            <a:off x="6424560" y="0"/>
            <a:ext cx="2719440" cy="231444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0" descr=""/>
          <p:cNvPicPr/>
          <p:nvPr/>
        </p:nvPicPr>
        <p:blipFill>
          <a:blip r:embed="rId3"/>
          <a:stretch/>
        </p:blipFill>
        <p:spPr>
          <a:xfrm>
            <a:off x="1036800" y="963720"/>
            <a:ext cx="5248080" cy="1109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324000" y="333360"/>
            <a:ext cx="820872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ffff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4800" spc="1" strike="noStrike">
              <a:ln w="22320">
                <a:solidFill>
                  <a:srgbClr val="ffff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8" name="Клип 6" descr="H:\1.jpg"/>
          <p:cNvPicPr/>
          <p:nvPr/>
        </p:nvPicPr>
        <p:blipFill>
          <a:blip r:embed="rId3"/>
          <a:stretch/>
        </p:blipFill>
        <p:spPr>
          <a:xfrm>
            <a:off x="3024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Клип 6" descr=""/>
          <p:cNvPicPr/>
          <p:nvPr/>
        </p:nvPicPr>
        <p:blipFill>
          <a:blip r:embed="rId4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8640" y="259920"/>
            <a:ext cx="625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и любимые руководител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Объект 4" descr=""/>
          <p:cNvPicPr/>
          <p:nvPr/>
        </p:nvPicPr>
        <p:blipFill>
          <a:blip r:embed="rId1"/>
          <a:stretch/>
        </p:blipFill>
        <p:spPr>
          <a:xfrm>
            <a:off x="0" y="1844640"/>
            <a:ext cx="9123480" cy="4824360"/>
          </a:xfrm>
          <a:prstGeom prst="rect">
            <a:avLst/>
          </a:prstGeom>
          <a:ln w="0">
            <a:noFill/>
          </a:ln>
        </p:spPr>
      </p:pic>
      <p:pic>
        <p:nvPicPr>
          <p:cNvPr id="252" name="Клип 6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3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и любимые руководител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Объект 4" descr=""/>
          <p:cNvPicPr/>
          <p:nvPr/>
        </p:nvPicPr>
        <p:blipFill>
          <a:blip r:embed="rId1"/>
          <a:stretch/>
        </p:blipFill>
        <p:spPr>
          <a:xfrm>
            <a:off x="0" y="1692360"/>
            <a:ext cx="9144000" cy="4976640"/>
          </a:xfrm>
          <a:prstGeom prst="rect">
            <a:avLst/>
          </a:prstGeom>
          <a:ln w="0">
            <a:noFill/>
          </a:ln>
        </p:spPr>
      </p:pic>
      <p:pic>
        <p:nvPicPr>
          <p:cNvPr id="255" name="Клип 6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3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671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и любимые руководители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Объект 2" descr=""/>
          <p:cNvPicPr/>
          <p:nvPr/>
        </p:nvPicPr>
        <p:blipFill>
          <a:blip r:embed="rId1"/>
          <a:stretch/>
        </p:blipFill>
        <p:spPr>
          <a:xfrm>
            <a:off x="0" y="1922400"/>
            <a:ext cx="9144000" cy="4746600"/>
          </a:xfrm>
          <a:prstGeom prst="rect">
            <a:avLst/>
          </a:prstGeom>
          <a:ln w="0">
            <a:noFill/>
          </a:ln>
        </p:spPr>
      </p:pic>
      <p:pic>
        <p:nvPicPr>
          <p:cNvPr id="258" name="Клип 6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75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2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7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7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ллектуальные игр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Клип 6" descr="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  <p:pic>
        <p:nvPicPr>
          <p:cNvPr id="261" name="Объект 7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4179960" cy="26640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9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889440" cy="3024000"/>
          </a:xfrm>
          <a:prstGeom prst="rect">
            <a:avLst/>
          </a:prstGeom>
          <a:ln w="0">
            <a:noFill/>
          </a:ln>
        </p:spPr>
      </p:pic>
      <p:pic>
        <p:nvPicPr>
          <p:cNvPr id="263" name="Объект 8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385128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1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324000" y="333360"/>
            <a:ext cx="8820000" cy="23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5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2f2f47"/>
                    </a:gs>
                    <a:gs pos="50000">
                      <a:srgbClr val="666699">
                        <a:alpha val="66274"/>
                      </a:srgbClr>
                    </a:gs>
                    <a:gs pos="100000">
                      <a:srgbClr val="2f2f47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</a:t>
            </a:r>
            <a:endParaRPr b="1" lang="en-US" sz="4800" spc="1" strike="noStrike">
              <a:ln w="2232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2f2f47"/>
                  </a:gs>
                  <a:gs pos="50000">
                    <a:srgbClr val="666699">
                      <a:alpha val="66274"/>
                    </a:srgbClr>
                  </a:gs>
                  <a:gs pos="100000">
                    <a:srgbClr val="2f2f47"/>
                  </a:gs>
                </a:gsLst>
                <a:lin ang="189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03120" y="2924280"/>
            <a:ext cx="8498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Мы любим занятия в спортивном клубе, всегда участвуем в школьных Спартакиадах, которые проводят наши учителя физической культуры,  защищаем и всегда будем защищать честь своей школы во всех спортивных соревнованиях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Клип 6" descr="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1916280"/>
            <a:ext cx="8226360" cy="32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57120" y="342900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288280" cy="5286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</a:t>
            </a:r>
            <a:br>
              <a:rPr sz="22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виз клуба:                                                 Эмблема клуба:   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тарт – начало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тарт – для всех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И на финише – успех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ы стремимся лишь вперед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Нас всегда победа ждет!</a:t>
            </a: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Рисунок 4" descr=""/>
          <p:cNvPicPr/>
          <p:nvPr/>
        </p:nvPicPr>
        <p:blipFill>
          <a:blip r:embed="rId1"/>
          <a:stretch/>
        </p:blipFill>
        <p:spPr>
          <a:xfrm>
            <a:off x="5003640" y="5429160"/>
            <a:ext cx="4140360" cy="8668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"/>
          <p:cNvPicPr/>
          <p:nvPr/>
        </p:nvPicPr>
        <p:blipFill>
          <a:blip r:embed="rId2"/>
          <a:stretch/>
        </p:blipFill>
        <p:spPr>
          <a:xfrm>
            <a:off x="5286240" y="1285920"/>
            <a:ext cx="3362400" cy="3786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7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9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лятва клуба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ого выполнять устав клуб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рошо учиться и помогать в учебе и занятиях спортом товарища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ть и действовать по принципу: «Один за всех, и все за одного!»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рожить честью своего учебного заведения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оянно работать над собой, развивать силу воли, совершенствовать свой характе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Рисунок 2" descr=""/>
          <p:cNvPicPr/>
          <p:nvPr/>
        </p:nvPicPr>
        <p:blipFill>
          <a:blip r:embed="rId1"/>
          <a:stretch/>
        </p:blipFill>
        <p:spPr>
          <a:xfrm>
            <a:off x="6424560" y="0"/>
            <a:ext cx="2719440" cy="2314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49687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55640" y="5157720"/>
            <a:ext cx="7561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Содержимое 8" descr=""/>
          <p:cNvPicPr/>
          <p:nvPr/>
        </p:nvPicPr>
        <p:blipFill>
          <a:blip r:embed="rId1"/>
          <a:stretch/>
        </p:blipFill>
        <p:spPr>
          <a:xfrm>
            <a:off x="-6480" y="-298440"/>
            <a:ext cx="8266320" cy="7162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"/>
          <p:cNvPicPr/>
          <p:nvPr/>
        </p:nvPicPr>
        <p:blipFill>
          <a:blip r:embed="rId2"/>
          <a:stretch/>
        </p:blipFill>
        <p:spPr>
          <a:xfrm>
            <a:off x="6424560" y="0"/>
            <a:ext cx="2719440" cy="2314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5" descr=""/>
          <p:cNvPicPr/>
          <p:nvPr/>
        </p:nvPicPr>
        <p:blipFill>
          <a:blip r:embed="rId1"/>
          <a:stretch/>
        </p:blipFill>
        <p:spPr>
          <a:xfrm>
            <a:off x="6424560" y="0"/>
            <a:ext cx="2719440" cy="2314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Выноска со стрелкой вниз 3"/>
          <p:cNvSpPr/>
          <p:nvPr/>
        </p:nvSpPr>
        <p:spPr>
          <a:xfrm>
            <a:off x="2500200" y="0"/>
            <a:ext cx="3643560" cy="1000080"/>
          </a:xfrm>
          <a:prstGeom prst="downArrowCallout">
            <a:avLst>
              <a:gd name="adj1" fmla="val 24999"/>
              <a:gd name="adj2" fmla="val 24997"/>
              <a:gd name="adj3" fmla="val 25000"/>
              <a:gd name="adj4" fmla="val 64977"/>
            </a:avLst>
          </a:prstGeom>
          <a:gradFill rotWithShape="0">
            <a:gsLst>
              <a:gs pos="0">
                <a:srgbClr val="90ffb0"/>
              </a:gs>
              <a:gs pos="100000">
                <a:srgbClr val="e0ffe8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b6b99"/>
                </a:solidFill>
                <a:latin typeface="Times New Roman"/>
                <a:ea typeface="Times New Roman"/>
              </a:rPr>
              <a:t>Задачи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Вертикальный свиток 4"/>
          <p:cNvSpPr/>
          <p:nvPr/>
        </p:nvSpPr>
        <p:spPr>
          <a:xfrm>
            <a:off x="0" y="1157400"/>
            <a:ext cx="7358040" cy="5643360"/>
          </a:xfrm>
          <a:prstGeom prst="verticalScroll">
            <a:avLst>
              <a:gd name="adj" fmla="val 12500"/>
            </a:avLst>
          </a:prstGeom>
          <a:solidFill>
            <a:srgbClr val="00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ть здоровье, способствовать формированию двигательных умений и навыков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ить знания по физкультуре и спорту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ь организаторские и инструктор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ыки проведения физических упражнений с небольшими группами школьников, судейство спортивных соревнований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ть к спортивно-массовой работе в клубе родителей учащихся школы, педагогов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ь активную жизненную позицию, нравственные и волевые качеств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3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-176040" y="1639800"/>
            <a:ext cx="7546680" cy="52246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468360" y="4581360"/>
            <a:ext cx="8207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0" y="0"/>
            <a:ext cx="835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232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2f2f47"/>
                    </a:gs>
                    <a:gs pos="50000">
                      <a:srgbClr val="666699">
                        <a:alpha val="85098"/>
                      </a:srgbClr>
                    </a:gs>
                    <a:gs pos="100000">
                      <a:srgbClr val="2f2f47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    </a:t>
            </a:r>
            <a:endParaRPr b="1" lang="en-US" sz="4400" spc="1" strike="noStrike">
              <a:ln w="2232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2f2f47"/>
                  </a:gs>
                  <a:gs pos="50000">
                    <a:srgbClr val="666699">
                      <a:alpha val="85098"/>
                    </a:srgbClr>
                  </a:gs>
                  <a:gs pos="100000">
                    <a:srgbClr val="2f2f47"/>
                  </a:gs>
                </a:gsLst>
                <a:lin ang="189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Клип 6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8" descr=""/>
          <p:cNvPicPr/>
          <p:nvPr/>
        </p:nvPicPr>
        <p:blipFill>
          <a:blip r:embed="rId3"/>
          <a:stretch/>
        </p:blipFill>
        <p:spPr>
          <a:xfrm>
            <a:off x="895320" y="-341280"/>
            <a:ext cx="5194440" cy="1938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8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385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38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38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1000080" y="2786040"/>
            <a:ext cx="48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WordArt 6"/>
          <p:cNvSpPr txBox="1"/>
          <p:nvPr/>
        </p:nvSpPr>
        <p:spPr>
          <a:xfrm>
            <a:off x="395280" y="260280"/>
            <a:ext cx="603396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232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направления</a:t>
            </a:r>
            <a:endParaRPr b="1" lang="en-US" sz="5400" spc="1" strike="noStrike">
              <a:ln w="22320">
                <a:solidFill>
                  <a:srgbClr val="ffff99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357120" y="214200"/>
            <a:ext cx="628668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2320">
                  <a:solidFill>
                    <a:srgbClr val="ffff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5400" spc="1" strike="noStrike">
              <a:ln w="22320">
                <a:solidFill>
                  <a:srgbClr val="ffff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9" name="Клип 6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0" y="202176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ведение спортивных соревнований; 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беспечение систематического посещения занятий физической культурой и спортом учащимися 1-11-х классов школы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рганизация спортивно-массовой работы с детьми младшего школьного возраст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ведение конкурсов на лучшую постановку массовой культурно-оздоровительной и спортивной работы среди классов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ыявление лучшего спортсмена класса, школы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856880"/>
            <a:ext cx="7678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граждение лучших спортсменов, команд – победителей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ощрение лучших спортсменов и активистов клуб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паганда физической культуры и спорта в школе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ведение дней здоровья в образовательных учреждениях под девизом: «Быстрее, выше, сильнее»; смотров-конкурсов на лучшую постановку спортивно-массовой и физкультурно-оздоровительной работы в общеобразовательных учреждения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формационное обеспечение спортивной жизни школы через школьную газету, стенные газеты и т.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WordArt 5"/>
          <p:cNvSpPr txBox="1"/>
          <p:nvPr/>
        </p:nvSpPr>
        <p:spPr>
          <a:xfrm>
            <a:off x="179280" y="115920"/>
            <a:ext cx="64645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676"/>
                <a:gd name="adj2" fmla="val 1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232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направления</a:t>
            </a:r>
            <a:endParaRPr b="1" lang="en-US" sz="4400" spc="1" strike="noStrike">
              <a:ln w="22320">
                <a:solidFill>
                  <a:srgbClr val="ffff99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3" name="Клип 6" descr="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324000" y="5302080"/>
            <a:ext cx="860724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232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ши любимые виды спорта</a:t>
            </a:r>
            <a:endParaRPr b="1" lang="en-US" sz="4400" spc="1" strike="noStrike">
              <a:ln w="22320">
                <a:solidFill>
                  <a:srgbClr val="ffff99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5" name="Клип 6" descr="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  <p:pic>
        <p:nvPicPr>
          <p:cNvPr id="246" name="Объек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1:51:38Z</dcterms:created>
  <dc:creator>Елена</dc:creator>
  <dc:description/>
  <dc:language>en-US</dc:language>
  <cp:lastModifiedBy>школа</cp:lastModifiedBy>
  <dcterms:modified xsi:type="dcterms:W3CDTF">2018-08-14T09:22:45Z</dcterms:modified>
  <cp:revision>49</cp:revision>
  <dc:subject/>
  <dc:title>Слайд 1</dc:title>
</cp:coreProperties>
</file>