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9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0827-AA0F-4E79-85A1-292FB91A2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90B6-CA69-418A-BA53-6A4A2BF172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B381-F929-45ED-BD20-6225491B43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C2F-5CD5-45B3-8927-B1C322A6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A7C-A2DB-4857-A995-2C1BAF2E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26B-F207-4706-82BE-E7456308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DCB-5242-4233-969A-F9742234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440-7984-43CC-8DC0-EF0E8595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83A-39C2-4588-ACA3-C51F5356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A3C-D454-4B70-A3AB-1E23731E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00D-2F2F-47E9-B27A-1EBDFABD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07F-6AEE-461A-B3AC-6EF66A42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B57-22D2-481C-ACE5-78BFD466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7C3-A8A9-4698-BEC6-84D923E4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4C5-B106-4FF6-8BF1-89BE02A9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9E9A-004A-46C7-85DA-88C4529753C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611280" y="69228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ений- это 1% талант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и 99% труда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Томас Эди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611280" y="549360"/>
            <a:ext cx="8137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Часть слова первая – предлог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Вторая – мелкая моне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А весь он, он бы нам помо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При счёте, ну и что же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2"/>
          <a:stretch/>
        </p:blipFill>
        <p:spPr>
          <a:xfrm>
            <a:off x="7277040" y="4118040"/>
            <a:ext cx="1471680" cy="14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0320" y="2044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: «Проценты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Заголовок 3"/>
          <p:cNvSpPr/>
          <p:nvPr/>
        </p:nvSpPr>
        <p:spPr>
          <a:xfrm>
            <a:off x="1332000" y="0"/>
            <a:ext cx="67737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 Шляп Мыш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bluehat"/>
          <p:cNvPicPr/>
          <p:nvPr/>
        </p:nvPicPr>
        <p:blipFill>
          <a:blip r:embed="rId2"/>
          <a:stretch/>
        </p:blipFill>
        <p:spPr>
          <a:xfrm>
            <a:off x="1187280" y="5803920"/>
            <a:ext cx="112896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whitehat"/>
          <p:cNvPicPr/>
          <p:nvPr/>
        </p:nvPicPr>
        <p:blipFill>
          <a:blip r:embed="rId3"/>
          <a:stretch/>
        </p:blipFill>
        <p:spPr>
          <a:xfrm>
            <a:off x="1168560" y="676440"/>
            <a:ext cx="996840" cy="7826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2"/>
          <p:cNvSpPr/>
          <p:nvPr/>
        </p:nvSpPr>
        <p:spPr>
          <a:xfrm>
            <a:off x="2263680" y="1022400"/>
            <a:ext cx="57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ть 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redhat"/>
          <p:cNvPicPr/>
          <p:nvPr/>
        </p:nvPicPr>
        <p:blipFill>
          <a:blip r:embed="rId4"/>
          <a:stretch/>
        </p:blipFill>
        <p:spPr>
          <a:xfrm>
            <a:off x="1154160" y="1631880"/>
            <a:ext cx="995400" cy="8478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4"/>
          <p:cNvSpPr/>
          <p:nvPr/>
        </p:nvSpPr>
        <p:spPr>
          <a:xfrm>
            <a:off x="2279520" y="1941480"/>
            <a:ext cx="46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историческую справку о процен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2230560" y="2789280"/>
            <a:ext cx="66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какой ошибкой была связана история появления знака 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blackhat"/>
          <p:cNvPicPr/>
          <p:nvPr/>
        </p:nvPicPr>
        <p:blipFill>
          <a:blip r:embed="rId5"/>
          <a:stretch/>
        </p:blipFill>
        <p:spPr>
          <a:xfrm>
            <a:off x="1154160" y="2589120"/>
            <a:ext cx="995400" cy="849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yellowhat"/>
          <p:cNvPicPr/>
          <p:nvPr/>
        </p:nvPicPr>
        <p:blipFill>
          <a:blip r:embed="rId6"/>
          <a:stretch/>
        </p:blipFill>
        <p:spPr>
          <a:xfrm>
            <a:off x="1187280" y="3503520"/>
            <a:ext cx="997200" cy="91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greenhat"/>
          <p:cNvPicPr/>
          <p:nvPr/>
        </p:nvPicPr>
        <p:blipFill>
          <a:blip r:embed="rId7"/>
          <a:stretch/>
        </p:blipFill>
        <p:spPr>
          <a:xfrm>
            <a:off x="1101600" y="4578480"/>
            <a:ext cx="1128960" cy="849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230560" y="381636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используют процент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2377800" y="597852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вести ит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8"/>
          <a:stretch/>
        </p:blipFill>
        <p:spPr>
          <a:xfrm>
            <a:off x="7054920" y="4016520"/>
            <a:ext cx="1854000" cy="24206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2529000" y="4745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ить ребус на тему: «Процент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2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423720" y="1773360"/>
            <a:ext cx="4572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процент» происходит от латинского слова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centu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буквально означает «за сотню» или «со ста»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центы были особенно распространены в Древнем Риме. Римляне называли процентами деньги, которые должник платил за каждую сотн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2"/>
          <a:srcRect l="8264" t="9050" r="56303" b="5900"/>
          <a:stretch/>
        </p:blipFill>
        <p:spPr>
          <a:xfrm>
            <a:off x="5651640" y="1579680"/>
            <a:ext cx="2520720" cy="453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redhat"/>
          <p:cNvPicPr/>
          <p:nvPr/>
        </p:nvPicPr>
        <p:blipFill>
          <a:blip r:embed="rId3"/>
          <a:stretch/>
        </p:blipFill>
        <p:spPr>
          <a:xfrm>
            <a:off x="179280" y="235080"/>
            <a:ext cx="995400" cy="84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4572000" y="12114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611280" y="1211400"/>
            <a:ext cx="331308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ся, что знак % произошел в результате нелепой опечатки, совершенной наборщиком. В 1685 году в Париже была опубликована книга – руководство по коммерческой арифметике, где по ошибке наборщик вместо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печатал %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этого знак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лучил всеобщее признание и до сих пор мы пользуемся этим значком проц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blackhat"/>
          <p:cNvPicPr/>
          <p:nvPr/>
        </p:nvPicPr>
        <p:blipFill>
          <a:blip r:embed="rId2"/>
          <a:stretch/>
        </p:blipFill>
        <p:spPr>
          <a:xfrm>
            <a:off x="250920" y="189000"/>
            <a:ext cx="995400" cy="8492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1638360" y="355680"/>
            <a:ext cx="73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какой ошибкой была связана история появления знака 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5" descr=""/>
          <p:cNvPicPr/>
          <p:nvPr/>
        </p:nvPicPr>
        <p:blipFill>
          <a:blip r:embed="rId2"/>
          <a:stretch/>
        </p:blipFill>
        <p:spPr>
          <a:xfrm>
            <a:off x="457200" y="1603440"/>
            <a:ext cx="8229600" cy="453528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457200" y="874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центы вокруг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http://www.vkusnopedia.ru/static/pimages/productimage-picture-00085226-137165.jpg"/>
          <p:cNvPicPr/>
          <p:nvPr/>
        </p:nvPicPr>
        <p:blipFill>
          <a:blip r:embed="rId3"/>
          <a:stretch/>
        </p:blipFill>
        <p:spPr>
          <a:xfrm>
            <a:off x="324000" y="4221000"/>
            <a:ext cx="1188720" cy="2400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skidka_1"/>
          <p:cNvPicPr/>
          <p:nvPr/>
        </p:nvPicPr>
        <p:blipFill>
          <a:blip r:embed="rId4"/>
          <a:stretch/>
        </p:blipFill>
        <p:spPr>
          <a:xfrm>
            <a:off x="5508720" y="709560"/>
            <a:ext cx="2427120" cy="180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mso39306"/>
          <p:cNvPicPr/>
          <p:nvPr/>
        </p:nvPicPr>
        <p:blipFill>
          <a:blip r:embed="rId5"/>
          <a:srcRect l="0" t="0" r="26807" b="23460"/>
          <a:stretch/>
        </p:blipFill>
        <p:spPr>
          <a:xfrm>
            <a:off x="6784920" y="4365720"/>
            <a:ext cx="2492280" cy="1592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4" descr="http://900igr.net/up/datas/151142/006.jpg"/>
          <p:cNvPicPr/>
          <p:nvPr/>
        </p:nvPicPr>
        <p:blipFill>
          <a:blip r:embed="rId6"/>
          <a:srcRect l="9913" t="28168" r="50575" b="34488"/>
          <a:stretch/>
        </p:blipFill>
        <p:spPr>
          <a:xfrm>
            <a:off x="7556400" y="2857680"/>
            <a:ext cx="1587600" cy="112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sbb.by/i/photo/news/lovi_moment.jpg"/>
          <p:cNvPicPr/>
          <p:nvPr/>
        </p:nvPicPr>
        <p:blipFill>
          <a:blip r:embed="rId7"/>
          <a:stretch/>
        </p:blipFill>
        <p:spPr>
          <a:xfrm>
            <a:off x="665280" y="712800"/>
            <a:ext cx="2108160" cy="371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yellowhat"/>
          <p:cNvPicPr/>
          <p:nvPr/>
        </p:nvPicPr>
        <p:blipFill>
          <a:blip r:embed="rId8"/>
          <a:stretch/>
        </p:blipFill>
        <p:spPr>
          <a:xfrm>
            <a:off x="7970760" y="90360"/>
            <a:ext cx="997200" cy="912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93760" y="18540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полните тест и узнайте имя ученого, который впервые в 1584 году опубликовал таблицу проц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2" descr=""/>
          <p:cNvPicPr/>
          <p:nvPr/>
        </p:nvPicPr>
        <p:blipFill>
          <a:blip r:embed="rId1"/>
          <a:stretch/>
        </p:blipFill>
        <p:spPr>
          <a:xfrm>
            <a:off x="469800" y="1054080"/>
            <a:ext cx="8229600" cy="561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5580000" y="1197000"/>
            <a:ext cx="2819520" cy="3790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6159240" y="537372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6012000" y="5373720"/>
            <a:ext cx="1584360" cy="35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whitehat"/>
          <p:cNvPicPr/>
          <p:nvPr/>
        </p:nvPicPr>
        <p:blipFill>
          <a:blip r:embed="rId3"/>
          <a:stretch/>
        </p:blipFill>
        <p:spPr>
          <a:xfrm>
            <a:off x="3240" y="152280"/>
            <a:ext cx="996840" cy="78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2"/>
          <a:srcRect l="387" t="10782" r="4327" b="22234"/>
          <a:stretch/>
        </p:blipFill>
        <p:spPr>
          <a:xfrm>
            <a:off x="34920" y="1413000"/>
            <a:ext cx="910908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5:49:21Z</dcterms:created>
  <dc:creator>206-792-232</dc:creator>
  <dc:description/>
  <dc:language>en-US</dc:language>
  <cp:lastModifiedBy>Наталья</cp:lastModifiedBy>
  <dcterms:modified xsi:type="dcterms:W3CDTF">2018-08-14T06:42:44Z</dcterms:modified>
  <cp:revision>477</cp:revision>
  <dc:subject>Презентация 1</dc:subject>
  <dc:title>Фестиваль педагогических идей  «Открытый урок»</dc:title>
</cp:coreProperties>
</file>