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7F6F-4806-4758-9F71-9A92BFCD7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99F-9BA3-4EAD-A2B4-5CB0F8E29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EB1B-547A-4E89-AC1B-129039000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8B1-0D8C-4AC6-BE35-34AA123D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FE2-85BE-41A8-AB80-1BE25A39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8A2-42DA-4C69-A042-31333395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0A0-83CD-4412-8342-E0A3F96E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E26-4690-4868-95A5-2E70152B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CB1-EF61-4D7F-9DD7-964C3FFE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3BA-D3B3-4224-B5A3-004EF304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055-8142-4E9A-83DD-274A0B73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A93-86F3-4A0E-803B-D93E60FA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1EC-C74E-4B11-B0EF-C0EC34BC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373-03C2-4AEE-B5FF-76674A2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5A0-0F30-4E71-BC39-9DCCF21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5048-090A-490D-903E-B114FB2A4E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611280" y="69228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ений- это 1% талан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99% труда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Томас Эди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611280" y="549360"/>
            <a:ext cx="8137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Часть слова первая – предлог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Вторая – мелкая моне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А весь он, он бы нам помо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При счёте, ну и что же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7277040" y="4118040"/>
            <a:ext cx="1471680" cy="14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0320" y="2044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«Процент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3"/>
          <p:cNvSpPr/>
          <p:nvPr/>
        </p:nvSpPr>
        <p:spPr>
          <a:xfrm>
            <a:off x="1332000" y="0"/>
            <a:ext cx="67737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 Шляп Мышл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bluehat"/>
          <p:cNvPicPr/>
          <p:nvPr/>
        </p:nvPicPr>
        <p:blipFill>
          <a:blip r:embed="rId2"/>
          <a:stretch/>
        </p:blipFill>
        <p:spPr>
          <a:xfrm>
            <a:off x="1187280" y="5803920"/>
            <a:ext cx="112896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whitehat"/>
          <p:cNvPicPr/>
          <p:nvPr/>
        </p:nvPicPr>
        <p:blipFill>
          <a:blip r:embed="rId3"/>
          <a:stretch/>
        </p:blipFill>
        <p:spPr>
          <a:xfrm>
            <a:off x="1168560" y="676440"/>
            <a:ext cx="996840" cy="7826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2"/>
          <p:cNvSpPr/>
          <p:nvPr/>
        </p:nvSpPr>
        <p:spPr>
          <a:xfrm>
            <a:off x="2263680" y="1022400"/>
            <a:ext cx="57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ть т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redhat"/>
          <p:cNvPicPr/>
          <p:nvPr/>
        </p:nvPicPr>
        <p:blipFill>
          <a:blip r:embed="rId4"/>
          <a:stretch/>
        </p:blipFill>
        <p:spPr>
          <a:xfrm>
            <a:off x="1154160" y="1631880"/>
            <a:ext cx="995400" cy="8478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4"/>
          <p:cNvSpPr/>
          <p:nvPr/>
        </p:nvSpPr>
        <p:spPr>
          <a:xfrm>
            <a:off x="2279520" y="1941480"/>
            <a:ext cx="46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историческую справку о проц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2230560" y="2789280"/>
            <a:ext cx="66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какой ошибкой была связана история появления знака 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blackhat"/>
          <p:cNvPicPr/>
          <p:nvPr/>
        </p:nvPicPr>
        <p:blipFill>
          <a:blip r:embed="rId5"/>
          <a:stretch/>
        </p:blipFill>
        <p:spPr>
          <a:xfrm>
            <a:off x="1154160" y="2589120"/>
            <a:ext cx="995400" cy="84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yellowhat"/>
          <p:cNvPicPr/>
          <p:nvPr/>
        </p:nvPicPr>
        <p:blipFill>
          <a:blip r:embed="rId6"/>
          <a:stretch/>
        </p:blipFill>
        <p:spPr>
          <a:xfrm>
            <a:off x="1187280" y="3503520"/>
            <a:ext cx="997200" cy="91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greenhat"/>
          <p:cNvPicPr/>
          <p:nvPr/>
        </p:nvPicPr>
        <p:blipFill>
          <a:blip r:embed="rId7"/>
          <a:stretch/>
        </p:blipFill>
        <p:spPr>
          <a:xfrm>
            <a:off x="1101600" y="4578480"/>
            <a:ext cx="1128960" cy="849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230560" y="381636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используют процент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2377800" y="597852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вести ит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7054920" y="4016520"/>
            <a:ext cx="1854000" cy="2420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529000" y="4745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ребус на тему: «Процент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2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423720" y="1773360"/>
            <a:ext cx="4572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процент» происходит от латинского слова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centu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буквально означает «за сотню» или «со ста»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центы были особенно распространены в Древнем Риме. Римляне называли процентами деньги, которые должник платил за каждую сотн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rcRect l="8264" t="9050" r="56303" b="5900"/>
          <a:stretch/>
        </p:blipFill>
        <p:spPr>
          <a:xfrm>
            <a:off x="5651640" y="1579680"/>
            <a:ext cx="2520720" cy="453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redhat"/>
          <p:cNvPicPr/>
          <p:nvPr/>
        </p:nvPicPr>
        <p:blipFill>
          <a:blip r:embed="rId3"/>
          <a:stretch/>
        </p:blipFill>
        <p:spPr>
          <a:xfrm>
            <a:off x="179280" y="235080"/>
            <a:ext cx="995400" cy="84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4572000" y="12114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611280" y="1211400"/>
            <a:ext cx="33130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, что знак % произошел в результате нелепой опечатки, совершенной наборщиком. В 1685 году в Париже была опубликована книга – руководство по коммерческой арифметике, где по ошибке наборщик вместо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печатал %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этого знак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лучил всеобщее признание и до сих пор мы пользуемся этим значком проц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blackhat"/>
          <p:cNvPicPr/>
          <p:nvPr/>
        </p:nvPicPr>
        <p:blipFill>
          <a:blip r:embed="rId2"/>
          <a:stretch/>
        </p:blipFill>
        <p:spPr>
          <a:xfrm>
            <a:off x="250920" y="189000"/>
            <a:ext cx="995400" cy="8492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1638360" y="355680"/>
            <a:ext cx="73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какой ошибкой была связана история появления знака 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5" descr=""/>
          <p:cNvPicPr/>
          <p:nvPr/>
        </p:nvPicPr>
        <p:blipFill>
          <a:blip r:embed="rId2"/>
          <a:stretch/>
        </p:blipFill>
        <p:spPr>
          <a:xfrm>
            <a:off x="457200" y="1603440"/>
            <a:ext cx="8229600" cy="453528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457200" y="874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центы вокруг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http://www.vkusnopedia.ru/static/pimages/productimage-picture-00085226-137165.jpg"/>
          <p:cNvPicPr/>
          <p:nvPr/>
        </p:nvPicPr>
        <p:blipFill>
          <a:blip r:embed="rId3"/>
          <a:stretch/>
        </p:blipFill>
        <p:spPr>
          <a:xfrm>
            <a:off x="324000" y="4221000"/>
            <a:ext cx="1188720" cy="240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skidka_1"/>
          <p:cNvPicPr/>
          <p:nvPr/>
        </p:nvPicPr>
        <p:blipFill>
          <a:blip r:embed="rId4"/>
          <a:stretch/>
        </p:blipFill>
        <p:spPr>
          <a:xfrm>
            <a:off x="5508720" y="709560"/>
            <a:ext cx="2427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mso39306"/>
          <p:cNvPicPr/>
          <p:nvPr/>
        </p:nvPicPr>
        <p:blipFill>
          <a:blip r:embed="rId5"/>
          <a:srcRect l="0" t="0" r="26807" b="23460"/>
          <a:stretch/>
        </p:blipFill>
        <p:spPr>
          <a:xfrm>
            <a:off x="6784920" y="4365720"/>
            <a:ext cx="2492280" cy="1592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http://900igr.net/up/datas/151142/006.jpg"/>
          <p:cNvPicPr/>
          <p:nvPr/>
        </p:nvPicPr>
        <p:blipFill>
          <a:blip r:embed="rId6"/>
          <a:srcRect l="9913" t="28168" r="50575" b="34488"/>
          <a:stretch/>
        </p:blipFill>
        <p:spPr>
          <a:xfrm>
            <a:off x="7556400" y="2857680"/>
            <a:ext cx="1587600" cy="1125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sbb.by/i/photo/news/lovi_moment.jpg"/>
          <p:cNvPicPr/>
          <p:nvPr/>
        </p:nvPicPr>
        <p:blipFill>
          <a:blip r:embed="rId7"/>
          <a:stretch/>
        </p:blipFill>
        <p:spPr>
          <a:xfrm>
            <a:off x="665280" y="712800"/>
            <a:ext cx="2108160" cy="371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yellowhat"/>
          <p:cNvPicPr/>
          <p:nvPr/>
        </p:nvPicPr>
        <p:blipFill>
          <a:blip r:embed="rId8"/>
          <a:stretch/>
        </p:blipFill>
        <p:spPr>
          <a:xfrm>
            <a:off x="7970760" y="90360"/>
            <a:ext cx="997200" cy="912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3760" y="18540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полните тест и узнайте имя ученого, который впервые в 1584 году опубликовал таблицу проц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2" descr=""/>
          <p:cNvPicPr/>
          <p:nvPr/>
        </p:nvPicPr>
        <p:blipFill>
          <a:blip r:embed="rId1"/>
          <a:stretch/>
        </p:blipFill>
        <p:spPr>
          <a:xfrm>
            <a:off x="469800" y="1054080"/>
            <a:ext cx="8229600" cy="561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580000" y="1197000"/>
            <a:ext cx="2819520" cy="3790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6159240" y="537372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6"/>
          <p:cNvSpPr/>
          <p:nvPr/>
        </p:nvSpPr>
        <p:spPr>
          <a:xfrm>
            <a:off x="6012000" y="5373720"/>
            <a:ext cx="1584360" cy="35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whitehat"/>
          <p:cNvPicPr/>
          <p:nvPr/>
        </p:nvPicPr>
        <p:blipFill>
          <a:blip r:embed="rId3"/>
          <a:stretch/>
        </p:blipFill>
        <p:spPr>
          <a:xfrm>
            <a:off x="3240" y="152280"/>
            <a:ext cx="996840" cy="78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2"/>
          <a:srcRect l="387" t="10782" r="4327" b="22234"/>
          <a:stretch/>
        </p:blipFill>
        <p:spPr>
          <a:xfrm>
            <a:off x="34920" y="1413000"/>
            <a:ext cx="910908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5:49:21Z</dcterms:created>
  <dc:creator>206-792-232</dc:creator>
  <dc:description/>
  <dc:language>en-US</dc:language>
  <cp:lastModifiedBy>Наталья</cp:lastModifiedBy>
  <dcterms:modified xsi:type="dcterms:W3CDTF">2018-08-14T06:42:44Z</dcterms:modified>
  <cp:revision>477</cp:revision>
  <dc:subject>Презентация 1</dc:subject>
  <dc:title>Фестиваль педагогических идей  «Открытый урок»</dc:title>
</cp:coreProperties>
</file>