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2D95-B357-4F3E-9E63-DD2C28AF2C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40A8-BAB4-49D1-B4F0-0B692B36E1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C12-5994-415F-88C5-89AAB079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3DA-09CC-4A84-9177-032775FC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FDC4B-E982-442E-98E4-6F5DB193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1F413-EBCD-42E2-A2F8-DDA2E864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24933-8219-4429-821D-35E812FD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8DC0D-D5D2-484C-99F8-25131F3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C4238-266C-41F6-A957-F9EEBEFB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4AA43-48F4-4022-8E38-96144AE0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96B51-3BE3-4402-B8DB-7C86BEA7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765AD-8CC9-4B76-A772-7DE4BB93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E37BB-8E13-443C-A311-59883130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2B55A-83FB-4E2A-A67F-7A2A4128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F58-2196-4DB8-A5CB-BC7280DC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E5F41-DDBF-4877-928B-9AD16DBE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74B95-CBC9-4945-BBDE-365139DB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3F191-A4FC-4633-A5F3-FB49EE96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1779F-9EDD-4EFB-B516-0817D7BD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76356-E309-439F-879B-A88D7C20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57E83-7D51-48AD-91A9-249D6C6E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CCECD-3BD3-4CE8-AA6B-3A577EE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DBFDC-95C2-48EF-9581-A95D2A7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3B437-AFBD-4701-BE02-9085BB4F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EE57A-6C4C-495E-B8FC-39CE67C7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9E0-43FA-4979-8D6A-E597B187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6399C-2282-4AEB-B207-23252021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61D01-C01E-462D-B198-6D7CF610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A4857-31C5-40F6-86DC-45C7C13B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6B699-0913-4397-95D3-B2160C5C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0C0FB-AA5C-4476-A5C5-65A8E9C8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D941D-C76A-4C7F-891A-93EDFE22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DBF22-D973-47BC-A31A-0FB5E1B3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59C83-9CB3-4F18-A961-7818576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FE446-DA5C-4D4D-8832-2F840981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84112-4957-4687-BFD8-B257094E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3F74-64F1-4FE6-86C7-CACFC0CF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4B1F3-B60D-43E3-B524-EE2DC3E7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6BF4E-2248-405E-A3EC-B32D9699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26E36-4B53-4DAA-BF19-1162F9D6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59A9-A77B-4BA5-8736-1F14FF7B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EDE8-2FBE-4815-8A1C-CCE68856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3E76-B9C9-408C-8B6A-2A2FFBA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2108-5932-484F-AAA3-09445E2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DE0B-8A62-493F-8FFA-23F513B7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AA1A-0683-45C9-9A27-A3ABE1AB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735-893A-4E12-B200-1DC13C3F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E83-D5BA-498F-A98E-AADECCBC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1F4B-C472-4A2A-BAE1-F3FAF5AB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E921-A217-499F-A668-E20BED60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4ECC-E500-44D4-AA44-024CDFD3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A428-BD2C-47F7-820C-859D2377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3F76-FDF5-4573-B8E4-5175EF31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0D4D-4535-434E-A792-F8DC834D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4449-F6D9-4AA0-94B4-C7963B42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644B-4351-41DE-B51D-5762DB3E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5CDB-3EC8-465F-A64F-C866CB2C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F84-0610-4E5C-B47E-7FE394CE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05AB-FD99-4684-AB47-D8F802CD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6543-6DE4-440F-9623-2EAC80E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C4C5-B24E-434C-AAEB-7C29918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D476-F878-4982-949E-6A5B998F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4A9F8-C963-4DD0-9ECE-1AE30933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C041-9BC7-4542-9518-2A99D6B9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457D-E4C1-485A-B3D4-11D0E6B0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81E7-B069-4A1A-846D-6279A150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0C3A-C291-44A0-AC5D-85039516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B0458-2C21-435F-8BEB-0F47526E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800-4CAE-4FAA-A4DA-0068CCD2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959F-A0BE-4E55-B624-F630A9AD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1274-4C20-4F47-8A05-0DC14C75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DF97-43E2-4476-9177-6CE0826D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0882-C654-4715-9D50-0FABF3C1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2973-A5C6-4753-81D7-F4584EE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A73D-F73D-4CD2-9A49-7CD9743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76DC-4B2E-455C-858E-37B631C2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7B90-79DF-4067-B64D-215561FE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17473-87DD-4816-A330-34D33C0F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0CBF-6276-4983-8C75-335D61D3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5F2-CF51-4C13-AFDB-C328C95A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5B481-973A-4791-9DE4-0943E8B8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AD428-5A4C-443F-824A-A551561C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BA8C6-16A4-429D-B51E-E7B6AED2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4140-9818-43AC-ABA5-CCBCBD8D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E77B7-E793-4AEC-BAC5-7253A4B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F0E02-6CE5-4E11-B025-132DD608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8E7EA-6637-4D90-AF7D-920DCFB6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5E62-5A48-4CEC-B31F-2E435576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AA7A2-0D48-4A0C-B5F5-520AF47F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BA57-B355-409A-B61D-3D6B32F3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D68-3399-4ACF-8599-64B677D0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9989B-A4FF-4F5B-AA6C-A5699806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54E5-C080-4A13-93F4-FB1C64F8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7C579-0783-4BD7-88B0-9131B8E6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33DD-6D56-492C-AB16-2B1A57D3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9D863-0451-4413-8C9D-1DE64D37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17DCA-3783-440E-9917-5CE9E136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35D7E-A072-4E61-8ADA-552486E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D945C-5EB6-48A4-B974-B766318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10CEA-7D07-4C3E-84E5-27BEEA2A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0D5B3-747C-49C3-889D-432AAE1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BC1-ED12-4F7E-8B0F-3A028FAD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0AAF7-B08C-48E4-BDB0-AD23D1CE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940F9-21D0-4A25-9218-30198A7F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CB107-271F-43E6-A1AC-C38C64F4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D8853-C759-4DD2-B412-7B9A3D67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E60CE-9149-4D49-B408-8C2D57F7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8408E-837C-4C21-8EEF-BE190546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C05F1-0DE5-4BBE-8CA1-64CC7EB8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CE045-9996-4AA6-9D9C-2E4BA4FE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DFE03-96BF-4D42-8140-7034EA84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40BB-F5D3-4855-BB79-A0A03652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F73-7059-4F68-9F53-85FFD300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1534-FA0F-44E2-92C3-479B4C56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9D85D-F4FC-488D-80DB-FD304C0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BB646-C8C1-4411-87F5-B0E356D7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DAF62-E91B-4F16-AB53-AD6D32C7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84C22-FBF5-4054-B61C-33A81D77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6BE16-78CF-484B-A1A1-E85FB931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82E74-D11D-42B0-B4E2-C99D0F53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228F-30AE-469C-9E9D-FFBF0DD9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3CA27-8D8B-4FFF-97DB-61DD34FC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4E631-0DDB-43CD-83F3-179799F2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819-CEC3-4F39-82A6-C925C51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75000-4CAE-4912-8247-19E3AB97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19ED8-0AC0-467C-9F40-B8A860BC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12759-04EB-47F4-A445-D90096D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4CA9-91AE-4A55-B3C2-215FFBB7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4E98-E252-4DD0-BA48-3505B2AB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E0B37-8474-4F94-8CA5-6B5030E3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1BE8D-EC0A-41FF-8E17-F8E13A3F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28D7C-F5ED-4F27-87C8-05BD222B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6B653-B31D-4D36-947D-E23F2819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63CFF-8F80-4510-BCBA-637C380F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1718-93B0-44BB-AF70-DC27F1A9AA5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FE7F-BCC0-43DA-A203-0382ECE2FB6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BEE3-0379-4B5D-A6E9-A7F2A640DD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F0FF-8869-4FE3-BF24-99B194FEA65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91BF-D612-4E5B-9605-935ABD789AC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3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B733-BABB-469B-8B1D-AED84745D9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7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8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B0FF-F28F-4807-8A69-599320848F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2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557F-1CA2-441E-BD1D-6DD3DCD3A28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7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563A-CA69-46B8-BA71-6FCE533086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ABE8-65B5-416B-871A-C84834156B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5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DCB4-C428-4B4D-BC11-B86BF2084D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Заголовок 1" descr=""/>
          <p:cNvPicPr/>
          <p:nvPr/>
        </p:nvPicPr>
        <p:blipFill>
          <a:blip r:embed="rId1"/>
          <a:stretch/>
        </p:blipFill>
        <p:spPr>
          <a:xfrm>
            <a:off x="1189080" y="920880"/>
            <a:ext cx="6838920" cy="24987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071720" y="5143320"/>
            <a:ext cx="757224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Выполнила 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учитель биологии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ПолубояроваЮлия Анатольевна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8560080" cy="18716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285480" y="1714680"/>
            <a:ext cx="69008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зуе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ной пигментацией кожи, волос и глаз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чавыми или широковолнистыми волосам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 широкий, маловыступающ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ается нижняя часть ли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2" descr="http://www.womeninthebible.net/images/Image6.jpg"/>
          <p:cNvPicPr/>
          <p:nvPr/>
        </p:nvPicPr>
        <p:blipFill>
          <a:blip r:embed="rId2"/>
          <a:stretch/>
        </p:blipFill>
        <p:spPr>
          <a:xfrm>
            <a:off x="1500120" y="4714920"/>
            <a:ext cx="2928960" cy="188748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4" descr="http://www.krasota.uz/images/comments/16259.jpg"/>
          <p:cNvPicPr/>
          <p:nvPr/>
        </p:nvPicPr>
        <p:blipFill>
          <a:blip r:embed="rId3"/>
          <a:stretch/>
        </p:blipFill>
        <p:spPr>
          <a:xfrm>
            <a:off x="7143840" y="2000160"/>
            <a:ext cx="1666800" cy="2249640"/>
          </a:xfrm>
          <a:prstGeom prst="rect">
            <a:avLst/>
          </a:prstGeom>
          <a:ln w="0">
            <a:noFill/>
          </a:ln>
        </p:spPr>
      </p:pic>
      <p:sp>
        <p:nvSpPr>
          <p:cNvPr id="533" name="Скругленный прямоугольник 5">
            <a:hlinkClick r:id="rId4" action="ppaction://hlinksldjump"/>
          </p:cNvPr>
          <p:cNvSpPr/>
          <p:nvPr/>
        </p:nvSpPr>
        <p:spPr>
          <a:xfrm>
            <a:off x="7786800" y="6000840"/>
            <a:ext cx="50004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идные (океанические)  р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еддоид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Австралийц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Айн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апуасы и меланезийц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егритос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5500800" y="1285920"/>
            <a:ext cx="3394080" cy="26128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5"/>
          <p:cNvSpPr/>
          <p:nvPr/>
        </p:nvSpPr>
        <p:spPr>
          <a:xfrm>
            <a:off x="6227640" y="393372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апуас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6" descr="Увеличенное изображение"/>
          <p:cNvPicPr/>
          <p:nvPr/>
        </p:nvPicPr>
        <p:blipFill>
          <a:blip r:embed="rId2"/>
          <a:stretch/>
        </p:blipFill>
        <p:spPr>
          <a:xfrm>
            <a:off x="3635280" y="4005360"/>
            <a:ext cx="3754440" cy="25002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7"/>
          <p:cNvSpPr/>
          <p:nvPr/>
        </p:nvSpPr>
        <p:spPr>
          <a:xfrm>
            <a:off x="684360" y="6165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встралийц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кругленный прямоугольник 9">
            <a:hlinkClick r:id="rId3" action="ppaction://hlinksldjump"/>
          </p:cNvPr>
          <p:cNvSpPr/>
          <p:nvPr/>
        </p:nvSpPr>
        <p:spPr>
          <a:xfrm>
            <a:off x="8143920" y="6143760"/>
            <a:ext cx="50004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417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Негроидные (африканские) р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417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егр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егрилли (пигмеи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Бушмены и готтент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5867280" y="61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егр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6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571680" y="3716280"/>
            <a:ext cx="3816000" cy="240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5" name="Text Box 7"/>
          <p:cNvSpPr/>
          <p:nvPr/>
        </p:nvSpPr>
        <p:spPr>
          <a:xfrm>
            <a:off x="826920" y="61657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игмеи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8" descr="Эфиопия. Племя Мурзи (22 фото)"/>
          <p:cNvPicPr/>
          <p:nvPr/>
        </p:nvPicPr>
        <p:blipFill>
          <a:blip r:embed="rId2"/>
          <a:stretch/>
        </p:blipFill>
        <p:spPr>
          <a:xfrm>
            <a:off x="5611680" y="1341360"/>
            <a:ext cx="307656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рямоугольник 1"/>
          <p:cNvSpPr/>
          <p:nvPr/>
        </p:nvSpPr>
        <p:spPr>
          <a:xfrm>
            <a:off x="428760" y="214200"/>
            <a:ext cx="81439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3466"/>
                </a:solidFill>
                <a:latin typeface="Times New Roman"/>
              </a:rPr>
              <a:t>Единство ра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биологическом единстве человеческих рас свидетельствует отсутствие генетической изоляции между ними, т.е. возможность плодовитых браков между представителями разных р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полнительным доказательством единства человечества служит локализация на втором и третьем пальцах рук кожных узоров типа дуг у всех представителей рас, одинаковый характер расположения волос на голове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азличия между расами касаются только второстепенных признаков, обычно связанных с частными приспособлениями к условиям существ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8785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Смешанные расы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571680" y="1071720"/>
            <a:ext cx="14256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555480" y="3500280"/>
            <a:ext cx="1800360" cy="57636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вропей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555480" y="2276640"/>
            <a:ext cx="1800360" cy="57600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ей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2714760" y="3500280"/>
            <a:ext cx="1800000" cy="57636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7035840" y="2276640"/>
            <a:ext cx="1800360" cy="57600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голои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82760" y="4869000"/>
            <a:ext cx="1871640" cy="576000"/>
          </a:xfrm>
          <a:prstGeom prst="rect">
            <a:avLst/>
          </a:prstGeom>
          <a:solidFill>
            <a:srgbClr val="00b0f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и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2714760" y="4869000"/>
            <a:ext cx="1871640" cy="576000"/>
          </a:xfrm>
          <a:prstGeom prst="rect">
            <a:avLst/>
          </a:prstGeom>
          <a:solidFill>
            <a:srgbClr val="00b0f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у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6948360" y="4869000"/>
            <a:ext cx="1871640" cy="576000"/>
          </a:xfrm>
          <a:prstGeom prst="rect">
            <a:avLst/>
          </a:prstGeom>
          <a:solidFill>
            <a:srgbClr val="00b0f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льга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2643120" y="2276640"/>
            <a:ext cx="1800360" cy="57600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вропей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4875120" y="2276640"/>
            <a:ext cx="1800360" cy="57600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ей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6"/>
          <p:cNvSpPr/>
          <p:nvPr/>
        </p:nvSpPr>
        <p:spPr>
          <a:xfrm>
            <a:off x="7035840" y="3500280"/>
            <a:ext cx="1800360" cy="57636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4875120" y="3500280"/>
            <a:ext cx="1800360" cy="57636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8"/>
          <p:cNvSpPr/>
          <p:nvPr/>
        </p:nvSpPr>
        <p:spPr>
          <a:xfrm>
            <a:off x="4788000" y="4869000"/>
            <a:ext cx="1871640" cy="576000"/>
          </a:xfrm>
          <a:prstGeom prst="rect">
            <a:avLst/>
          </a:prstGeom>
          <a:solidFill>
            <a:srgbClr val="00b0f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19"/>
          <p:cNvSpPr/>
          <p:nvPr/>
        </p:nvSpPr>
        <p:spPr>
          <a:xfrm>
            <a:off x="1419120" y="3068640"/>
            <a:ext cx="265320" cy="2890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AutoShape 20"/>
          <p:cNvSpPr/>
          <p:nvPr/>
        </p:nvSpPr>
        <p:spPr>
          <a:xfrm>
            <a:off x="3435480" y="3068640"/>
            <a:ext cx="264960" cy="2890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21"/>
          <p:cNvSpPr/>
          <p:nvPr/>
        </p:nvSpPr>
        <p:spPr>
          <a:xfrm>
            <a:off x="5667480" y="3068640"/>
            <a:ext cx="264960" cy="2890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AutoShape 22"/>
          <p:cNvSpPr/>
          <p:nvPr/>
        </p:nvSpPr>
        <p:spPr>
          <a:xfrm>
            <a:off x="7827840" y="3068640"/>
            <a:ext cx="265320" cy="2890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23"/>
          <p:cNvSpPr/>
          <p:nvPr/>
        </p:nvSpPr>
        <p:spPr>
          <a:xfrm rot="5400000">
            <a:off x="1168560" y="4255200"/>
            <a:ext cx="500400" cy="4316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 rot="5400000">
            <a:off x="7720560" y="4255200"/>
            <a:ext cx="500400" cy="432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utoShape 25"/>
          <p:cNvSpPr/>
          <p:nvPr/>
        </p:nvSpPr>
        <p:spPr>
          <a:xfrm rot="5400000">
            <a:off x="3256560" y="4255200"/>
            <a:ext cx="500400" cy="432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AutoShape 26"/>
          <p:cNvSpPr/>
          <p:nvPr/>
        </p:nvSpPr>
        <p:spPr>
          <a:xfrm rot="5400000">
            <a:off x="5561640" y="4255200"/>
            <a:ext cx="500400" cy="432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2425680"/>
          </a:xfrm>
          <a:prstGeom prst="rect">
            <a:avLst/>
          </a:prstGeom>
          <a:ln w="0">
            <a:noFill/>
          </a:ln>
        </p:spPr>
      </p:pic>
      <p:pic>
        <p:nvPicPr>
          <p:cNvPr id="491" name="Содержимое 6" descr="https://ds04.infourok.ru/uploads/ex/01a0/00060897-879ef840/img1.jpg"/>
          <p:cNvPicPr/>
          <p:nvPr/>
        </p:nvPicPr>
        <p:blipFill>
          <a:blip r:embed="rId2"/>
          <a:stretch/>
        </p:blipFill>
        <p:spPr>
          <a:xfrm>
            <a:off x="500040" y="2786040"/>
            <a:ext cx="8043840" cy="354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-360" y="-360"/>
            <a:ext cx="86439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итальянского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, порода, племя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Современное человечество представлено единым биологическим видом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MS PGothic"/>
              </a:rPr>
              <a:t>Homo sapien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состоит из 3 крупных рас, каждая из которых делится на несколько мал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Человеческие расы складывались в течение сотен тысяч лет под влиянием географических, климатических и социальных фактор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494" name="Скругленный прямоугольник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94440" y="1695600"/>
            <a:ext cx="3541680" cy="1322280"/>
          </a:xfrm>
          <a:prstGeom prst="rect">
            <a:avLst/>
          </a:prstGeom>
          <a:ln w="0">
            <a:noFill/>
          </a:ln>
        </p:spPr>
      </p:pic>
      <p:pic>
        <p:nvPicPr>
          <p:cNvPr id="495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1908000" y="3524400"/>
            <a:ext cx="3542040" cy="1425600"/>
          </a:xfrm>
          <a:prstGeom prst="rect">
            <a:avLst/>
          </a:prstGeom>
          <a:ln w="0">
            <a:noFill/>
          </a:ln>
        </p:spPr>
      </p:pic>
      <p:pic>
        <p:nvPicPr>
          <p:cNvPr id="496" name="Скругленный прямоугольник 7" descr=""/>
          <p:cNvPicPr/>
          <p:nvPr/>
        </p:nvPicPr>
        <p:blipFill>
          <a:blip r:embed="rId5"/>
          <a:stretch/>
        </p:blipFill>
        <p:spPr>
          <a:xfrm>
            <a:off x="2597040" y="5237280"/>
            <a:ext cx="3584520" cy="1425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европеиодная раса"/>
          <p:cNvPicPr/>
          <p:nvPr/>
        </p:nvPicPr>
        <p:blipFill>
          <a:blip r:embed="rId6"/>
          <a:stretch/>
        </p:blipFill>
        <p:spPr>
          <a:xfrm>
            <a:off x="2714760" y="1214280"/>
            <a:ext cx="1871640" cy="2428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моноголоидная раса"/>
          <p:cNvPicPr/>
          <p:nvPr/>
        </p:nvPicPr>
        <p:blipFill>
          <a:blip r:embed="rId7"/>
          <a:stretch/>
        </p:blipFill>
        <p:spPr>
          <a:xfrm>
            <a:off x="285840" y="2928960"/>
            <a:ext cx="1928880" cy="2462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негроидная раса"/>
          <p:cNvPicPr/>
          <p:nvPr/>
        </p:nvPicPr>
        <p:blipFill>
          <a:blip r:embed="rId8"/>
          <a:stretch/>
        </p:blipFill>
        <p:spPr>
          <a:xfrm>
            <a:off x="6500880" y="4214880"/>
            <a:ext cx="1841400" cy="247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зуе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лой кожей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ми прямыми или волнистыми волосам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изонтальным разрезом глаз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ренно или сильно развитым волосяным покровом на лице и груди у мужчин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тно выступающим нос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ым или несколько наклонным лб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Picture 29" descr="e27c574b0d49"/>
          <p:cNvPicPr/>
          <p:nvPr/>
        </p:nvPicPr>
        <p:blipFill>
          <a:blip r:embed="rId2"/>
          <a:stretch/>
        </p:blipFill>
        <p:spPr>
          <a:xfrm>
            <a:off x="6929280" y="214200"/>
            <a:ext cx="1857600" cy="2428920"/>
          </a:xfrm>
          <a:prstGeom prst="rect">
            <a:avLst/>
          </a:prstGeom>
          <a:ln w="0">
            <a:noFill/>
          </a:ln>
        </p:spPr>
      </p:pic>
      <p:sp>
        <p:nvSpPr>
          <p:cNvPr id="503" name="Скругленный прямоугольник 6">
            <a:hlinkClick r:id="rId3" action="ppaction://hlinksldjump"/>
          </p:cNvPr>
          <p:cNvSpPr/>
          <p:nvPr/>
        </p:nvSpPr>
        <p:spPr>
          <a:xfrm>
            <a:off x="8001000" y="6000840"/>
            <a:ext cx="57168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42920" y="0"/>
            <a:ext cx="5500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Европеоидная рас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Северные формы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тланто-балтий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еломорско-балтий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HG明朝B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ереходные (промежуточные) формы: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Альпий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Среднеевропей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Восточноевропей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5" descr="5-3"/>
          <p:cNvPicPr/>
          <p:nvPr/>
        </p:nvPicPr>
        <p:blipFill>
          <a:blip r:embed="rId1"/>
          <a:stretch/>
        </p:blipFill>
        <p:spPr>
          <a:xfrm>
            <a:off x="5143680" y="642960"/>
            <a:ext cx="1579320" cy="19670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32"/>
          <p:cNvPicPr/>
          <p:nvPr/>
        </p:nvPicPr>
        <p:blipFill>
          <a:blip r:embed="rId2"/>
          <a:stretch/>
        </p:blipFill>
        <p:spPr>
          <a:xfrm>
            <a:off x="4857840" y="3714840"/>
            <a:ext cx="1638360" cy="238104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8"/>
          <p:cNvSpPr/>
          <p:nvPr/>
        </p:nvSpPr>
        <p:spPr>
          <a:xfrm>
            <a:off x="4929120" y="61437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льпий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11"/>
          <p:cNvSpPr/>
          <p:nvPr/>
        </p:nvSpPr>
        <p:spPr>
          <a:xfrm>
            <a:off x="5214960" y="25718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HG明朝B"/>
              </a:rPr>
              <a:t>Дало-фаль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HG明朝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Скругленный прямоугольник 12">
            <a:hlinkClick r:id="rId3" action="ppaction://hlinksldjump"/>
          </p:cNvPr>
          <p:cNvSpPr/>
          <p:nvPr/>
        </p:nvSpPr>
        <p:spPr>
          <a:xfrm>
            <a:off x="8215200" y="6286680"/>
            <a:ext cx="50004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457200" y="274680"/>
            <a:ext cx="61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Европеоидная рас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Южные формы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Средиземномор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Индо-афган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Балкано-кавказ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Переднеазиатская (арменоидная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Памиро-ферган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4" descr="8"/>
          <p:cNvPicPr/>
          <p:nvPr/>
        </p:nvPicPr>
        <p:blipFill>
          <a:blip r:embed="rId1"/>
          <a:stretch/>
        </p:blipFill>
        <p:spPr>
          <a:xfrm>
            <a:off x="6516720" y="2857680"/>
            <a:ext cx="2259000" cy="21729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5"/>
          <p:cNvSpPr/>
          <p:nvPr/>
        </p:nvSpPr>
        <p:spPr>
          <a:xfrm>
            <a:off x="6410160" y="5157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Биск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6" descr="-1"/>
          <p:cNvPicPr/>
          <p:nvPr/>
        </p:nvPicPr>
        <p:blipFill>
          <a:blip r:embed="rId2"/>
          <a:stretch/>
        </p:blipFill>
        <p:spPr>
          <a:xfrm>
            <a:off x="7467480" y="333360"/>
            <a:ext cx="1486080" cy="23814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7"/>
          <p:cNvSpPr/>
          <p:nvPr/>
        </p:nvSpPr>
        <p:spPr>
          <a:xfrm>
            <a:off x="5114880" y="1341360"/>
            <a:ext cx="22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еверо-индий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8" descr="01"/>
          <p:cNvPicPr/>
          <p:nvPr/>
        </p:nvPicPr>
        <p:blipFill>
          <a:blip r:embed="rId3"/>
          <a:stretch/>
        </p:blipFill>
        <p:spPr>
          <a:xfrm>
            <a:off x="4500720" y="3867120"/>
            <a:ext cx="1828800" cy="2637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9"/>
          <p:cNvSpPr/>
          <p:nvPr/>
        </p:nvSpPr>
        <p:spPr>
          <a:xfrm>
            <a:off x="1979640" y="602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рменоидная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Скругленный прямоугольник 9">
            <a:hlinkClick r:id="rId4" action="ppaction://hlinksldjump"/>
          </p:cNvPr>
          <p:cNvSpPr/>
          <p:nvPr/>
        </p:nvSpPr>
        <p:spPr>
          <a:xfrm>
            <a:off x="8072280" y="6143760"/>
            <a:ext cx="57168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6126120" cy="18097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28400" y="1785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 кожи от смуглого до светлог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осы темные, часто жесткие и прямы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ание носа  небольшо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зная щель имеет косой разрез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ительно развита складка верхнего века, есть складка, прикрывающая внутренний угол глаза(эпикантус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ый волосяной покров на те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Picture 2" descr="Картинка 65 из 730"/>
          <p:cNvPicPr/>
          <p:nvPr/>
        </p:nvPicPr>
        <p:blipFill>
          <a:blip r:embed="rId2"/>
          <a:stretch/>
        </p:blipFill>
        <p:spPr>
          <a:xfrm>
            <a:off x="6858000" y="357120"/>
            <a:ext cx="2000160" cy="2225880"/>
          </a:xfrm>
          <a:prstGeom prst="rect">
            <a:avLst/>
          </a:prstGeom>
          <a:ln w="0">
            <a:noFill/>
          </a:ln>
        </p:spPr>
      </p:pic>
      <p:sp>
        <p:nvSpPr>
          <p:cNvPr id="523" name="Скругленный прямоугольник 4">
            <a:hlinkClick r:id="rId3" action="ppaction://hlinksldjump"/>
          </p:cNvPr>
          <p:cNvSpPr/>
          <p:nvPr/>
        </p:nvSpPr>
        <p:spPr>
          <a:xfrm>
            <a:off x="7643880" y="6072120"/>
            <a:ext cx="50004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Монголоидная ра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Азиатская ветвь монголоидных рас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ентальные монголоиды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Арктическая рас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Тихоокеанские монголои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Американские рас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6" descr="e10e3f1480021972c435c0cd7dcdcad7_full"/>
          <p:cNvPicPr/>
          <p:nvPr/>
        </p:nvPicPr>
        <p:blipFill>
          <a:blip r:embed="rId1"/>
          <a:stretch/>
        </p:blipFill>
        <p:spPr>
          <a:xfrm>
            <a:off x="928800" y="364320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asuka"/>
          <p:cNvPicPr/>
          <p:nvPr/>
        </p:nvPicPr>
        <p:blipFill>
          <a:blip r:embed="rId2"/>
          <a:stretch/>
        </p:blipFill>
        <p:spPr>
          <a:xfrm>
            <a:off x="5857920" y="1643040"/>
            <a:ext cx="1928880" cy="2879640"/>
          </a:xfrm>
          <a:prstGeom prst="rect">
            <a:avLst/>
          </a:prstGeom>
          <a:ln w="0">
            <a:noFill/>
          </a:ln>
        </p:spPr>
      </p:pic>
      <p:sp>
        <p:nvSpPr>
          <p:cNvPr id="528" name="Скругленный прямоугольник 7">
            <a:hlinkClick r:id="rId3" action="ppaction://hlinksldjump"/>
          </p:cNvPr>
          <p:cNvSpPr/>
          <p:nvPr/>
        </p:nvSpPr>
        <p:spPr>
          <a:xfrm>
            <a:off x="7643880" y="621504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2:29:20Z</dcterms:created>
  <dc:creator>Я</dc:creator>
  <dc:description/>
  <dc:language>en-US</dc:language>
  <cp:lastModifiedBy>User</cp:lastModifiedBy>
  <dcterms:modified xsi:type="dcterms:W3CDTF">2018-08-14T15:09:28Z</dcterms:modified>
  <cp:revision>37</cp:revision>
  <dc:subject/>
  <dc:title>Человеческие расы</dc:title>
</cp:coreProperties>
</file>