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0280-A88D-4B47-A0FE-A307EE7596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F8D4-AC76-4862-AA1E-FB7B3A091FE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8D7-E122-4AB9-8C8D-87203E0F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938-84A3-436A-99DB-01498F09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C764A-6CA0-4068-9CE8-F51906BD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33542-7B44-4388-98BF-96002F1E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90626-9160-4F22-9700-EDB80ACC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A9D42-5285-4B28-B170-98B3E30D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BA198-4BEC-4322-99F1-F218BA1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1F9B1-7F43-4D43-8552-7059EE82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A57C6-BBC8-4375-AABF-4368994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00DDA-0A3A-4A5F-9629-1F3E1B0F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90AFC-74C6-4786-BFCE-8C3614FB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4B2FD-FEBE-49CD-9EB8-822FC9AD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690-C53D-47F8-95B3-29955375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C2A33-546E-4494-A9E3-A78799EA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50F1E-EEB4-4645-8ECF-44A68106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CCEA7-C7C9-4FD7-9099-7D479F8A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D3D09-B101-4ADE-971F-93BE56E0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D5E45-78C6-4FDD-BBF6-04F8FE42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A479E-4688-4F95-A237-54591635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D7FC6-C6BE-4524-BEF9-E35334B3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ED7F6-D2B5-40CC-B483-6B65F7B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D6EA3-2567-424D-8BDF-AF488988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D208E-8460-4987-995F-6E165306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1D3-F273-49A3-8363-CDAA14B3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E76FB-1920-4179-B941-9B756A67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5EF22-4D27-4DC5-B8FC-0FAE1A07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9DBB8-3721-415F-96F0-11AB01C4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16D6F-4A7A-4410-8C62-8F8A084A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3E98A-8217-463A-8C73-3706BD98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B6D8F-3C7A-422C-B295-F1A84477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38FF8-F4A8-487D-BAEC-65667108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12200-2788-4E56-B3E2-9F3C9377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3A7C0-501F-4814-94AF-EC84B995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3A285-4D46-4FCA-BE15-A802DA5C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2E05-22C6-4E3E-8562-D1073397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ECE7C-3ECA-4B62-A07D-027EAC72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B6513-6C9B-49FA-949F-D39EB969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53B33-B419-4C7B-9613-9A36A9FF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5C57-0F3B-4E5F-90A3-139D1423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03D7-8977-467D-B6EC-596DDD8F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D6FA-0371-4478-A03B-A48B93E9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6F8C-A795-45D1-81AC-689A0106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9785-C4E9-419D-897F-B94BA96A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4D56-A640-4511-8D00-80B649CD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BC1-C016-485D-AE21-9F261C76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1E12-1075-4965-8C89-7AB7568C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3044-36DA-4B5D-B104-795DFA13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AE04-30C0-440D-A086-6AD8C603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CF02-D950-493D-9B49-82787D0D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4288-EBE6-4966-8829-015D2CE3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B9BA-177C-42E6-B958-C2E99D2D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2EB1-45AD-41B0-9BD8-6088B7D1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5EAF-4053-45D0-A440-29759F19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6A8B6-E5EC-4C18-9414-02D330A7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7E5B-B6A3-4EF7-96AE-7B3DC173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B8E-8F21-4FCB-AF5F-2C03DDBD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9700-D152-431A-9232-7F63E026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9A70-8C76-4D70-9BC8-85E13E1F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B769-F1ED-4578-BDEC-5C56832E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5703-77E6-4143-9F04-062A4A36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358C-7AEC-4CB7-AB25-52AB850E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E55D-D97D-40FD-AB78-5F667604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E5F9-C4DE-4DAB-99C1-52BFE525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14E6D-D3E7-4B4B-A9FB-E694F7E6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CADC2-56E8-4AE1-B08F-24F57E96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0905-32EA-449C-A1B0-2E2006EF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AE2-2E2D-48C8-AC6D-F83759E0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BF50E-15B0-487D-B422-21676F43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71A7-2745-4BD7-A5B8-8D46E4AD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328E9-0F18-475E-9D03-4735EC18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62FCC-ED75-436D-A385-57F9C9D5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E213-299C-46EA-A781-3B97451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E411-E2B7-4FA1-9E56-1A422E11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7EF2A-1D81-4322-8F38-D793F896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5E79-986D-4118-AAE7-F642C346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A4B54-34EB-48FB-A250-53BC898C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31F06-5B29-45D4-B135-FA62AC17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F2B-3674-4267-9DBA-439C061A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E1EB2-8A8E-4676-95CC-2AD168FF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69890-D75D-4C44-86BE-D568EEA3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8B0DD-B9AA-4C47-ACD2-8AC3DAA3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489FF-E1D0-4569-8E6C-A27AEDA5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0A70D-2BF6-4205-BD6E-0719B199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84968-8A5D-4853-8628-E4E9302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5D1C-8ACF-432D-8111-3A9B3A6E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4A955-A9D4-46F0-AE55-F21EFA2C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52F9C-B290-4F9D-BDC4-BE63A310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82E56-C311-4249-8A10-0CB83944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FFB-11AF-4CE8-83C8-51215E26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F7EB0-DB33-4CDC-88E5-E11C9256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2C96D-EFF9-445A-841C-0D659131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5F58C-D8F1-4937-B655-13679392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4B332-160B-42C5-A6F5-9D18D01B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EFC53-045C-48DB-8752-29BBC2B2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CBE53-1D42-46A4-9271-151E7895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7DF02-6261-4623-8D49-EF8AED30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5AE4D-6E31-441F-8556-66B6C950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CB3A6-F386-41ED-BFC0-E660BF14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47DDA-AE57-4EA6-86DD-7B3C09B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397-C4C0-42F1-BE0E-B93C55EB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36D5C-5E31-4501-98AC-3AE84EC9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6197B-2850-4570-90DD-7E62D1D3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791DE-5377-4E2E-AF3B-77C05211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56CA3-A66E-4F7F-B672-84D81D90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5B309-BDFA-4DDC-B5FE-310929E5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0332B-2E64-41D8-9B36-863EF889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EF086-183C-41F9-8646-00D680B7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5B189-5808-4B4F-8584-07BB51F4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714B3-CC4B-4D6D-AB12-7159265F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C84BE-F746-4FD3-BC9E-AE806D04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D97-46E7-46E5-A91E-213881B1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DDBFC-71C0-49C7-98B8-C97384FC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1F464-0D16-4839-AA15-56EC399C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810EF-987E-4E52-BF62-A04B26E2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D3D20-8D22-4361-AE28-659B0FE1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E51D4-E5C9-4C1F-B927-BF25992C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F1EF4-38A6-45E0-88B7-140D29FF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290C7-4AAD-4D59-ACBC-DBA70C0E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19EF2-35D5-43BF-9ABC-CE79AC9B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33164-EEA5-4A95-AA4D-37099A65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EDA3B-E115-437F-B1A3-A10707D8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809-5BF6-4B3B-AB11-29143441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40677-7F22-4D4B-A3BF-59CA7466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5F501-F913-4854-A397-79B5EF3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BF9ED-EEEA-495C-8DCB-B6B8B364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8F0E0-95BC-4A21-BFC3-18297D73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5DC59-06AA-4B23-83CF-F17FDB29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38A07-9C7D-4CF1-8E25-72104D6B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035E-18B7-489A-BDA8-057D36A8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6BAA3-11B6-448B-BAFB-FFA47254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C22BC-7381-4117-8D6D-D9F9282A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0DBC0-BDBB-46BA-8FE6-7DC6169A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7C32-64B4-487B-ABD7-4EE35F8E287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0791-CD4F-40DF-A917-779DA92C10C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E300-AA6E-4054-A718-76C5B4E1F8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ABD2-EEAA-4DA0-85D5-6FCCB78EDA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1293-43F9-4070-AF17-A86E39D71B7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3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7568-6E08-4922-A3F8-11DBFAB2349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7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8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5D7-8774-4958-9AE4-DC4DC9E8D2D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2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F6B9-8CE2-4A3B-9C44-5B63376B08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7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560B-EF53-4077-A483-E1E1A2A4E3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C3C1-2532-42FF-AA15-3E55389BEC6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5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ADE1-823A-4AC0-A4A1-53AC49A9AB2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Заголовок 1" descr=""/>
          <p:cNvPicPr/>
          <p:nvPr/>
        </p:nvPicPr>
        <p:blipFill>
          <a:blip r:embed="rId1"/>
          <a:stretch/>
        </p:blipFill>
        <p:spPr>
          <a:xfrm>
            <a:off x="1189080" y="920880"/>
            <a:ext cx="6838920" cy="24987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071720" y="5143320"/>
            <a:ext cx="757224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Выполнила </a:t>
            </a: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учитель биологии</a:t>
            </a: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ПолубояроваЮлия Анатольевна</a:t>
            </a: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8560080" cy="187164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285480" y="1714680"/>
            <a:ext cx="69008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зуе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ной пигментацией кожи, волос и глаз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чавыми или широковолнистыми волосам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 широкий, маловыступающ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ается нижняя часть ли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2" descr="http://www.womeninthebible.net/images/Image6.jpg"/>
          <p:cNvPicPr/>
          <p:nvPr/>
        </p:nvPicPr>
        <p:blipFill>
          <a:blip r:embed="rId2"/>
          <a:stretch/>
        </p:blipFill>
        <p:spPr>
          <a:xfrm>
            <a:off x="1500120" y="4714920"/>
            <a:ext cx="2928960" cy="188748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4" descr="http://www.krasota.uz/images/comments/16259.jpg"/>
          <p:cNvPicPr/>
          <p:nvPr/>
        </p:nvPicPr>
        <p:blipFill>
          <a:blip r:embed="rId3"/>
          <a:stretch/>
        </p:blipFill>
        <p:spPr>
          <a:xfrm>
            <a:off x="7143840" y="2000160"/>
            <a:ext cx="1666800" cy="2249640"/>
          </a:xfrm>
          <a:prstGeom prst="rect">
            <a:avLst/>
          </a:prstGeom>
          <a:ln w="0">
            <a:noFill/>
          </a:ln>
        </p:spPr>
      </p:pic>
      <p:sp>
        <p:nvSpPr>
          <p:cNvPr id="533" name="Скругленный прямоугольник 5">
            <a:hlinkClick r:id="rId4" action="ppaction://hlinksldjump"/>
          </p:cNvPr>
          <p:cNvSpPr/>
          <p:nvPr/>
        </p:nvSpPr>
        <p:spPr>
          <a:xfrm>
            <a:off x="7786800" y="6000840"/>
            <a:ext cx="50004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встралоидные (океанические)  р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еддоид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Австралийц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Айн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апуасы и меланезийц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егритос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5500800" y="1285920"/>
            <a:ext cx="3394080" cy="26128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5"/>
          <p:cNvSpPr/>
          <p:nvPr/>
        </p:nvSpPr>
        <p:spPr>
          <a:xfrm>
            <a:off x="6227640" y="393372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апуасы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6" descr="Увеличенное изображение"/>
          <p:cNvPicPr/>
          <p:nvPr/>
        </p:nvPicPr>
        <p:blipFill>
          <a:blip r:embed="rId2"/>
          <a:stretch/>
        </p:blipFill>
        <p:spPr>
          <a:xfrm>
            <a:off x="3635280" y="4005360"/>
            <a:ext cx="3754440" cy="25002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7"/>
          <p:cNvSpPr/>
          <p:nvPr/>
        </p:nvSpPr>
        <p:spPr>
          <a:xfrm>
            <a:off x="684360" y="6165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встралийцы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кругленный прямоугольник 9">
            <a:hlinkClick r:id="rId3" action="ppaction://hlinksldjump"/>
          </p:cNvPr>
          <p:cNvSpPr/>
          <p:nvPr/>
        </p:nvSpPr>
        <p:spPr>
          <a:xfrm>
            <a:off x="8143920" y="6143760"/>
            <a:ext cx="500040" cy="357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417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Негроидные (африканские) р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417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егры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егрилли (пигмеи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Бушмены и готтент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5867280" y="6165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Негры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6" descr="Увеличенное изображение"/>
          <p:cNvPicPr/>
          <p:nvPr/>
        </p:nvPicPr>
        <p:blipFill>
          <a:blip r:embed="rId1"/>
          <a:stretch/>
        </p:blipFill>
        <p:spPr>
          <a:xfrm>
            <a:off x="571680" y="3716280"/>
            <a:ext cx="3816000" cy="240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5" name="Text Box 7"/>
          <p:cNvSpPr/>
          <p:nvPr/>
        </p:nvSpPr>
        <p:spPr>
          <a:xfrm>
            <a:off x="826920" y="616572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игмеи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8" descr="Эфиопия. Племя Мурзи (22 фото)"/>
          <p:cNvPicPr/>
          <p:nvPr/>
        </p:nvPicPr>
        <p:blipFill>
          <a:blip r:embed="rId2"/>
          <a:stretch/>
        </p:blipFill>
        <p:spPr>
          <a:xfrm>
            <a:off x="5611680" y="1341360"/>
            <a:ext cx="307656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Прямоугольник 1"/>
          <p:cNvSpPr/>
          <p:nvPr/>
        </p:nvSpPr>
        <p:spPr>
          <a:xfrm>
            <a:off x="428760" y="214200"/>
            <a:ext cx="81439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43466"/>
                </a:solidFill>
                <a:latin typeface="Times New Roman"/>
              </a:rPr>
              <a:t>Единство ра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биологическом единстве человеческих рас свидетельствует отсутствие генетической изоляции между ними, т.е. возможность плодовитых браков между представителями разных ра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полнительным доказательством единства человечества служит локализация на втором и третьем пальцах рук кожных узоров типа дуг у всех представителей рас, одинаковый характер расположения волос на голове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азличия между расами касаются только второстепенных признаков, обычно связанных с частными приспособлениями к условиям существ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8785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Смешанные расы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571680" y="1071720"/>
            <a:ext cx="14256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555480" y="3500280"/>
            <a:ext cx="1800360" cy="57636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вропей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555480" y="2276640"/>
            <a:ext cx="1800360" cy="57600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ей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2714760" y="3500280"/>
            <a:ext cx="1800000" cy="57636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7035840" y="2276640"/>
            <a:ext cx="1800360" cy="57600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голои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82760" y="4869000"/>
            <a:ext cx="1871640" cy="576000"/>
          </a:xfrm>
          <a:prstGeom prst="rect">
            <a:avLst/>
          </a:prstGeom>
          <a:solidFill>
            <a:srgbClr val="00b0f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и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11"/>
          <p:cNvSpPr/>
          <p:nvPr/>
        </p:nvSpPr>
        <p:spPr>
          <a:xfrm>
            <a:off x="2714760" y="4869000"/>
            <a:ext cx="1871640" cy="576000"/>
          </a:xfrm>
          <a:prstGeom prst="rect">
            <a:avLst/>
          </a:prstGeom>
          <a:solidFill>
            <a:srgbClr val="00b0f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у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6948360" y="4869000"/>
            <a:ext cx="1871640" cy="576000"/>
          </a:xfrm>
          <a:prstGeom prst="rect">
            <a:avLst/>
          </a:prstGeom>
          <a:solidFill>
            <a:srgbClr val="00b0f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льга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2643120" y="2276640"/>
            <a:ext cx="1800360" cy="57600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вропей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4875120" y="2276640"/>
            <a:ext cx="1800360" cy="57600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ей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6"/>
          <p:cNvSpPr/>
          <p:nvPr/>
        </p:nvSpPr>
        <p:spPr>
          <a:xfrm>
            <a:off x="7035840" y="3500280"/>
            <a:ext cx="1800360" cy="57636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4875120" y="3500280"/>
            <a:ext cx="1800360" cy="576360"/>
          </a:xfrm>
          <a:prstGeom prst="rect">
            <a:avLst/>
          </a:prstGeom>
          <a:solidFill>
            <a:srgbClr val="7030a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8"/>
          <p:cNvSpPr/>
          <p:nvPr/>
        </p:nvSpPr>
        <p:spPr>
          <a:xfrm>
            <a:off x="4788000" y="4869000"/>
            <a:ext cx="1871640" cy="576000"/>
          </a:xfrm>
          <a:prstGeom prst="rect">
            <a:avLst/>
          </a:prstGeom>
          <a:solidFill>
            <a:srgbClr val="00b0f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19"/>
          <p:cNvSpPr/>
          <p:nvPr/>
        </p:nvSpPr>
        <p:spPr>
          <a:xfrm>
            <a:off x="1419120" y="3068640"/>
            <a:ext cx="265320" cy="2890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AutoShape 20"/>
          <p:cNvSpPr/>
          <p:nvPr/>
        </p:nvSpPr>
        <p:spPr>
          <a:xfrm>
            <a:off x="3435480" y="3068640"/>
            <a:ext cx="264960" cy="2890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21"/>
          <p:cNvSpPr/>
          <p:nvPr/>
        </p:nvSpPr>
        <p:spPr>
          <a:xfrm>
            <a:off x="5667480" y="3068640"/>
            <a:ext cx="264960" cy="2890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AutoShape 22"/>
          <p:cNvSpPr/>
          <p:nvPr/>
        </p:nvSpPr>
        <p:spPr>
          <a:xfrm>
            <a:off x="7827840" y="3068640"/>
            <a:ext cx="265320" cy="28908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23"/>
          <p:cNvSpPr/>
          <p:nvPr/>
        </p:nvSpPr>
        <p:spPr>
          <a:xfrm rot="5400000">
            <a:off x="1168560" y="4255200"/>
            <a:ext cx="500400" cy="4316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 rot="5400000">
            <a:off x="7720560" y="4255200"/>
            <a:ext cx="500400" cy="432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utoShape 25"/>
          <p:cNvSpPr/>
          <p:nvPr/>
        </p:nvSpPr>
        <p:spPr>
          <a:xfrm rot="5400000">
            <a:off x="3256560" y="4255200"/>
            <a:ext cx="500400" cy="432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AutoShape 26"/>
          <p:cNvSpPr/>
          <p:nvPr/>
        </p:nvSpPr>
        <p:spPr>
          <a:xfrm rot="5400000">
            <a:off x="5561640" y="4255200"/>
            <a:ext cx="500400" cy="432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Заголовок 1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2425680"/>
          </a:xfrm>
          <a:prstGeom prst="rect">
            <a:avLst/>
          </a:prstGeom>
          <a:ln w="0">
            <a:noFill/>
          </a:ln>
        </p:spPr>
      </p:pic>
      <p:pic>
        <p:nvPicPr>
          <p:cNvPr id="491" name="Содержимое 6" descr="https://ds04.infourok.ru/uploads/ex/01a0/00060897-879ef840/img1.jpg"/>
          <p:cNvPicPr/>
          <p:nvPr/>
        </p:nvPicPr>
        <p:blipFill>
          <a:blip r:embed="rId2"/>
          <a:stretch/>
        </p:blipFill>
        <p:spPr>
          <a:xfrm>
            <a:off x="500040" y="2786040"/>
            <a:ext cx="8043840" cy="354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-360" y="-360"/>
            <a:ext cx="86439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итальянского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, порода, племя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HG明朝B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HG明朝B"/>
              </a:rPr>
              <a:t>Современное человечество представлено единым биологическим видом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MS PGothic"/>
              </a:rPr>
              <a:t>Homo sapien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HG明朝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состоит из 3 крупных рас, каждая из которых делится на несколько мал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HG明朝B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HG明朝B"/>
              </a:rPr>
              <a:t>Человеческие расы складывались в течение сотен тысяч лет под влиянием географических, климатических и социальных фактор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494" name="Скругленный прямоугольник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94440" y="1695600"/>
            <a:ext cx="3541680" cy="1322280"/>
          </a:xfrm>
          <a:prstGeom prst="rect">
            <a:avLst/>
          </a:prstGeom>
          <a:ln w="0">
            <a:noFill/>
          </a:ln>
        </p:spPr>
      </p:pic>
      <p:pic>
        <p:nvPicPr>
          <p:cNvPr id="495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1908000" y="3524400"/>
            <a:ext cx="3542040" cy="1425600"/>
          </a:xfrm>
          <a:prstGeom prst="rect">
            <a:avLst/>
          </a:prstGeom>
          <a:ln w="0">
            <a:noFill/>
          </a:ln>
        </p:spPr>
      </p:pic>
      <p:pic>
        <p:nvPicPr>
          <p:cNvPr id="496" name="Скругленный прямоугольник 7" descr=""/>
          <p:cNvPicPr/>
          <p:nvPr/>
        </p:nvPicPr>
        <p:blipFill>
          <a:blip r:embed="rId5"/>
          <a:stretch/>
        </p:blipFill>
        <p:spPr>
          <a:xfrm>
            <a:off x="2597040" y="5237280"/>
            <a:ext cx="3584520" cy="14256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европеиодная раса"/>
          <p:cNvPicPr/>
          <p:nvPr/>
        </p:nvPicPr>
        <p:blipFill>
          <a:blip r:embed="rId6"/>
          <a:stretch/>
        </p:blipFill>
        <p:spPr>
          <a:xfrm>
            <a:off x="2714760" y="1214280"/>
            <a:ext cx="1871640" cy="2428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моноголоидная раса"/>
          <p:cNvPicPr/>
          <p:nvPr/>
        </p:nvPicPr>
        <p:blipFill>
          <a:blip r:embed="rId7"/>
          <a:stretch/>
        </p:blipFill>
        <p:spPr>
          <a:xfrm>
            <a:off x="285840" y="2928960"/>
            <a:ext cx="1928880" cy="2462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негроидная раса"/>
          <p:cNvPicPr/>
          <p:nvPr/>
        </p:nvPicPr>
        <p:blipFill>
          <a:blip r:embed="rId8"/>
          <a:stretch/>
        </p:blipFill>
        <p:spPr>
          <a:xfrm>
            <a:off x="6500880" y="4214880"/>
            <a:ext cx="1841400" cy="247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зуе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лой кожей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гкими прямыми или волнистыми волосам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изонтальным разрезом глаз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ренно или сильно развитым волосяным покровом на лице и груди у мужчин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етно выступающим нос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ым или несколько наклонным лб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Picture 29" descr="e27c574b0d49"/>
          <p:cNvPicPr/>
          <p:nvPr/>
        </p:nvPicPr>
        <p:blipFill>
          <a:blip r:embed="rId2"/>
          <a:stretch/>
        </p:blipFill>
        <p:spPr>
          <a:xfrm>
            <a:off x="6929280" y="214200"/>
            <a:ext cx="1857600" cy="2428920"/>
          </a:xfrm>
          <a:prstGeom prst="rect">
            <a:avLst/>
          </a:prstGeom>
          <a:ln w="0">
            <a:noFill/>
          </a:ln>
        </p:spPr>
      </p:pic>
      <p:sp>
        <p:nvSpPr>
          <p:cNvPr id="503" name="Скругленный прямоугольник 6">
            <a:hlinkClick r:id="rId3" action="ppaction://hlinksldjump"/>
          </p:cNvPr>
          <p:cNvSpPr/>
          <p:nvPr/>
        </p:nvSpPr>
        <p:spPr>
          <a:xfrm>
            <a:off x="8001000" y="6000840"/>
            <a:ext cx="57168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42920" y="0"/>
            <a:ext cx="5500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Европеоидная рас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Северные формы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тланто-балтий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еломорско-балтийск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HG明朝B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ереходные (промежуточные) формы: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Альпий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Среднеевропей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Восточноевропейск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5" descr="5-3"/>
          <p:cNvPicPr/>
          <p:nvPr/>
        </p:nvPicPr>
        <p:blipFill>
          <a:blip r:embed="rId1"/>
          <a:stretch/>
        </p:blipFill>
        <p:spPr>
          <a:xfrm>
            <a:off x="5143680" y="642960"/>
            <a:ext cx="1579320" cy="19670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32"/>
          <p:cNvPicPr/>
          <p:nvPr/>
        </p:nvPicPr>
        <p:blipFill>
          <a:blip r:embed="rId2"/>
          <a:stretch/>
        </p:blipFill>
        <p:spPr>
          <a:xfrm>
            <a:off x="4857840" y="3714840"/>
            <a:ext cx="1638360" cy="238104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8"/>
          <p:cNvSpPr/>
          <p:nvPr/>
        </p:nvSpPr>
        <p:spPr>
          <a:xfrm>
            <a:off x="4929120" y="61437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льпий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11"/>
          <p:cNvSpPr/>
          <p:nvPr/>
        </p:nvSpPr>
        <p:spPr>
          <a:xfrm>
            <a:off x="5214960" y="25718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HG明朝B"/>
              </a:rPr>
              <a:t>Дало-фаль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HG明朝B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Скругленный прямоугольник 12">
            <a:hlinkClick r:id="rId3" action="ppaction://hlinksldjump"/>
          </p:cNvPr>
          <p:cNvSpPr/>
          <p:nvPr/>
        </p:nvSpPr>
        <p:spPr>
          <a:xfrm>
            <a:off x="8215200" y="6286680"/>
            <a:ext cx="500040" cy="357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457200" y="274680"/>
            <a:ext cx="61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Европеоидная рас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Южные формы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Средиземномор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Индо-афган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Балкано-кавказска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Переднеазиатская (арменоидная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Памиро-ферганска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4" descr="8"/>
          <p:cNvPicPr/>
          <p:nvPr/>
        </p:nvPicPr>
        <p:blipFill>
          <a:blip r:embed="rId1"/>
          <a:stretch/>
        </p:blipFill>
        <p:spPr>
          <a:xfrm>
            <a:off x="6516720" y="2857680"/>
            <a:ext cx="2259000" cy="217296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5"/>
          <p:cNvSpPr/>
          <p:nvPr/>
        </p:nvSpPr>
        <p:spPr>
          <a:xfrm>
            <a:off x="6410160" y="5157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Биска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6" descr="-1"/>
          <p:cNvPicPr/>
          <p:nvPr/>
        </p:nvPicPr>
        <p:blipFill>
          <a:blip r:embed="rId2"/>
          <a:stretch/>
        </p:blipFill>
        <p:spPr>
          <a:xfrm>
            <a:off x="7467480" y="333360"/>
            <a:ext cx="1486080" cy="23814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7"/>
          <p:cNvSpPr/>
          <p:nvPr/>
        </p:nvSpPr>
        <p:spPr>
          <a:xfrm>
            <a:off x="5114880" y="1341360"/>
            <a:ext cx="22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еверо-индий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8" descr="01"/>
          <p:cNvPicPr/>
          <p:nvPr/>
        </p:nvPicPr>
        <p:blipFill>
          <a:blip r:embed="rId3"/>
          <a:stretch/>
        </p:blipFill>
        <p:spPr>
          <a:xfrm>
            <a:off x="4500720" y="3867120"/>
            <a:ext cx="1828800" cy="2637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9"/>
          <p:cNvSpPr/>
          <p:nvPr/>
        </p:nvSpPr>
        <p:spPr>
          <a:xfrm>
            <a:off x="1979640" y="602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рменоидная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Скругленный прямоугольник 9">
            <a:hlinkClick r:id="rId4" action="ppaction://hlinksldjump"/>
          </p:cNvPr>
          <p:cNvSpPr/>
          <p:nvPr/>
        </p:nvSpPr>
        <p:spPr>
          <a:xfrm>
            <a:off x="8072280" y="6143760"/>
            <a:ext cx="571680" cy="428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6126120" cy="18097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28400" y="1785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 кожи от смуглого до светлог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осы темные, часто жесткие и прямы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ание носа  небольшо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зная щель имеет косой разрез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ительно развита складка верхнего века, есть складка, прикрывающая внутренний угол глаза(эпикантус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ый волосяной покров на те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2" name="Picture 2" descr="Картинка 65 из 730"/>
          <p:cNvPicPr/>
          <p:nvPr/>
        </p:nvPicPr>
        <p:blipFill>
          <a:blip r:embed="rId2"/>
          <a:stretch/>
        </p:blipFill>
        <p:spPr>
          <a:xfrm>
            <a:off x="6858000" y="357120"/>
            <a:ext cx="2000160" cy="2225880"/>
          </a:xfrm>
          <a:prstGeom prst="rect">
            <a:avLst/>
          </a:prstGeom>
          <a:ln w="0">
            <a:noFill/>
          </a:ln>
        </p:spPr>
      </p:pic>
      <p:sp>
        <p:nvSpPr>
          <p:cNvPr id="523" name="Скругленный прямоугольник 4">
            <a:hlinkClick r:id="rId3" action="ppaction://hlinksldjump"/>
          </p:cNvPr>
          <p:cNvSpPr/>
          <p:nvPr/>
        </p:nvSpPr>
        <p:spPr>
          <a:xfrm>
            <a:off x="7643880" y="6072120"/>
            <a:ext cx="50004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Монголоидная ра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Азиатская ветвь монголоидных рас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тинентальные монголоиды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Арктическая рас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Тихоокеанские монголои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Американские рас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ceb96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6" descr="e10e3f1480021972c435c0cd7dcdcad7_full"/>
          <p:cNvPicPr/>
          <p:nvPr/>
        </p:nvPicPr>
        <p:blipFill>
          <a:blip r:embed="rId1"/>
          <a:stretch/>
        </p:blipFill>
        <p:spPr>
          <a:xfrm>
            <a:off x="928800" y="3643200"/>
            <a:ext cx="2050920" cy="2637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asuka"/>
          <p:cNvPicPr/>
          <p:nvPr/>
        </p:nvPicPr>
        <p:blipFill>
          <a:blip r:embed="rId2"/>
          <a:stretch/>
        </p:blipFill>
        <p:spPr>
          <a:xfrm>
            <a:off x="5857920" y="1643040"/>
            <a:ext cx="1928880" cy="2879640"/>
          </a:xfrm>
          <a:prstGeom prst="rect">
            <a:avLst/>
          </a:prstGeom>
          <a:ln w="0">
            <a:noFill/>
          </a:ln>
        </p:spPr>
      </p:pic>
      <p:sp>
        <p:nvSpPr>
          <p:cNvPr id="528" name="Скругленный прямоугольник 7">
            <a:hlinkClick r:id="rId3" action="ppaction://hlinksldjump"/>
          </p:cNvPr>
          <p:cNvSpPr/>
          <p:nvPr/>
        </p:nvSpPr>
        <p:spPr>
          <a:xfrm>
            <a:off x="7643880" y="621504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2:29:20Z</dcterms:created>
  <dc:creator>Я</dc:creator>
  <dc:description/>
  <dc:language>en-US</dc:language>
  <cp:lastModifiedBy>User</cp:lastModifiedBy>
  <dcterms:modified xsi:type="dcterms:W3CDTF">2018-08-14T15:09:28Z</dcterms:modified>
  <cp:revision>37</cp:revision>
  <dc:subject/>
  <dc:title>Человеческие расы</dc:title>
</cp:coreProperties>
</file>