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26A1-D333-4469-890C-9E91DF510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3683-FC56-44A1-9C72-7AAF50CA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8794-C054-4007-912F-63D2EF0EB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7E11-2802-4F67-BAF5-2E220BE3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4DB-6D4B-4823-9710-A47AADBC3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CCE9-ABAC-4F23-9373-E09A7207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089E-731B-40BF-872D-2DEDA782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B14C-CB4E-4CF0-B9AA-275155C53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C02C-CA07-4820-893B-13A4C3F6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3A2-E607-4907-B2A7-BDA47C97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B60-CF7C-4E02-A12A-A17FFBE4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6CC7-AD30-46F7-8E2B-7692FBE1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665C-4B4B-4D10-AA5D-0C2E220780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ru.wikipedia.org/wiki/&#1043;&#1086;&#1088;&#1086;&#1076;" TargetMode="External"/><Relationship Id="rId3" Type="http://schemas.openxmlformats.org/officeDocument/2006/relationships/hyperlink" Target="https://ru.wikipedia.org/wiki/&#1045;&#1074;&#1088;&#1086;&#1087;&#1077;&#1081;&#1089;&#1082;&#1072;&#1103;_&#1095;&#1072;&#1089;&#1090;&#1100;_&#1056;&#1086;&#1089;&#1089;&#1080;&#1080;" TargetMode="External"/><Relationship Id="rId4" Type="http://schemas.openxmlformats.org/officeDocument/2006/relationships/hyperlink" Target="https://ru.wikipedia.org/wiki/&#1040;&#1076;&#1084;&#1080;&#1085;&#1080;&#1089;&#1090;&#1088;&#1072;&#1090;&#1080;&#1074;&#1085;&#1099;&#1081;_&#1094;&#1077;&#1085;&#1090;&#1088;" TargetMode="External"/><Relationship Id="rId5" Type="http://schemas.openxmlformats.org/officeDocument/2006/relationships/hyperlink" Target="https://ru.wikipedia.org/wiki/&#1059;&#1083;&#1100;&#1103;&#1085;&#1086;&#1074;&#1089;&#1082;&#1072;&#1103;_&#1086;&#1073;&#1083;&#1072;&#1089;&#1090;&#1100;" TargetMode="External"/><Relationship Id="rId6" Type="http://schemas.openxmlformats.org/officeDocument/2006/relationships/hyperlink" Target="https://ru.wikipedia.org/wiki/&#1040;&#1083;&#1077;&#1082;&#1089;&#1077;&#1081;_&#1052;&#1080;&#1093;&#1072;&#1081;&#1083;&#1086;&#1074;&#1080;&#1095;" TargetMode="External"/><Relationship Id="rId7" Type="http://schemas.openxmlformats.org/officeDocument/2006/relationships/hyperlink" Target="https://ru.wikipedia.org/wiki/&#1054;&#1082;&#1086;&#1083;&#1100;&#1085;&#1080;&#1095;&#1080;&#1081;" TargetMode="External"/><Relationship Id="rId8" Type="http://schemas.openxmlformats.org/officeDocument/2006/relationships/hyperlink" Target="https://ru.wikipedia.org/wiki/&#1061;&#1080;&#1090;&#1088;&#1086;&#1074;&#1086;,_&#1041;&#1086;&#1075;&#1076;&#1072;&#1085;_&#1052;&#1072;&#1090;&#1074;&#1077;&#1077;&#1074;&#1080;&#1095;" TargetMode="External"/><Relationship Id="rId9" Type="http://schemas.openxmlformats.org/officeDocument/2006/relationships/hyperlink" Target="https://ru.wikipedia.org/wiki/&#1050;&#1088;&#1077;&#1087;&#1086;&#1089;&#1090;&#1100;" TargetMode="External"/><Relationship Id="rId10" Type="http://schemas.openxmlformats.org/officeDocument/2006/relationships/hyperlink" Target="https://ru.wikipedia.org/wiki/&#1056;&#1091;&#1089;&#1089;&#1082;&#1086;&#1077;_&#1094;&#1072;&#1088;&#1089;&#1090;&#1074;&#1086;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198440" y="0"/>
            <a:ext cx="9867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Коллективный проект по математике «Ульяновск в цифрах и задачах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Выполнили: обучающиеся 6Б клас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Руководитель: Гаврилова Н.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1335240" y="378000"/>
            <a:ext cx="9032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Вывод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менение местного краеведческого материала для составления задач по математике успешно позволяет воспитывать у нас чувство гордости за нашу малую родину, знание и понимание её истории; способствует развитию творческого, логического, критического мышления, эрудиции, расширяет кругоз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2363760" y="316080"/>
            <a:ext cx="7974000" cy="51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3"/>
          <p:cNvSpPr/>
          <p:nvPr/>
        </p:nvSpPr>
        <p:spPr>
          <a:xfrm>
            <a:off x="239760" y="95400"/>
            <a:ext cx="11064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Проблема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можно ли изучая математику, знакомиться с историей родного края, ее географическим положением и культур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Гипотеза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 Составление и решение авторских задач способствует формированию умения  решать текстовые задачи, интереса к изучению истории своего кр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создать сборник задач по математике для обучающихся 6 классов с использованием исторических и географических сведений о городе Ульяновс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251240" y="4351320"/>
            <a:ext cx="27529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714240" y="573120"/>
            <a:ext cx="10522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рать материалы и изучить литературу по данной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еть виды текстовых задач и правила их сост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текстовые задачи, которые содержат исторические факты родном го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ъект  исследования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тория родного края, методы составления и решения текстовых задач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801800" y="208080"/>
            <a:ext cx="7819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горитм составления задачи на историческом матери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бор фактических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рическая справ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ор математического содержания и типа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ановление зависимости между чис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авление условия задачи, ее решение и оформ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"/>
          <p:cNvPicPr/>
          <p:nvPr/>
        </p:nvPicPr>
        <p:blipFill>
          <a:blip r:embed="rId1"/>
          <a:srcRect l="0" t="4946" r="0" b="26412"/>
          <a:stretch/>
        </p:blipFill>
        <p:spPr>
          <a:xfrm>
            <a:off x="7045200" y="206280"/>
            <a:ext cx="4403880" cy="28591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8"/>
          <p:cNvSpPr/>
          <p:nvPr/>
        </p:nvSpPr>
        <p:spPr>
          <a:xfrm>
            <a:off x="334800" y="706320"/>
            <a:ext cx="6504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Улья́новск</a:t>
            </a: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 —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город</a:t>
            </a: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 в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европейской части России</a:t>
            </a: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,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административный центр</a:t>
            </a: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Ульяновской области</a:t>
            </a: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ан по указу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царя Алексея Михайлович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окольничи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Богданом Хитро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как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крепос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инбирск с целью защиты восточных границ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Русского царст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от набега кочевых племён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Задача</a:t>
            </a: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MainSans"/>
              </a:rPr>
              <a:t>Расположи десятичные дроби в порядке возрастания и узнай в каком году был основан наш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ainSans"/>
              </a:rPr>
              <a:t>10,99          5,04               5,4               6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ainSan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MainSans"/>
              </a:rPr>
              <a:t>8               1                  6                   4      Ответ: 164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Симбирский кремль"/>
          <p:cNvPicPr/>
          <p:nvPr/>
        </p:nvPicPr>
        <p:blipFill>
          <a:blip r:embed="rId11"/>
          <a:stretch/>
        </p:blipFill>
        <p:spPr>
          <a:xfrm>
            <a:off x="7405560" y="3065400"/>
            <a:ext cx="4043520" cy="24908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7"/>
          <p:cNvSpPr/>
          <p:nvPr/>
        </p:nvSpPr>
        <p:spPr>
          <a:xfrm>
            <a:off x="1559880" y="206280"/>
            <a:ext cx="50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тория города в математических задач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546120" y="3710160"/>
            <a:ext cx="669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ainSans"/>
                <a:ea typeface="Arial"/>
              </a:rPr>
              <a:t>Задача</a:t>
            </a:r>
            <a:r>
              <a:rPr b="0" lang="ru-RU" sz="1800" spc="-1" strike="noStrike">
                <a:solidFill>
                  <a:srgbClr val="000000"/>
                </a:solidFill>
                <a:latin typeface="MainSans"/>
                <a:ea typeface="Arial"/>
              </a:rPr>
              <a:t>. По данным </a:t>
            </a:r>
            <a:r>
              <a:rPr b="0" lang="ru-RU" sz="1800" spc="-1" strike="noStrike">
                <a:solidFill>
                  <a:srgbClr val="0060b4"/>
                </a:solidFill>
                <a:latin typeface="MainSans"/>
                <a:ea typeface="Arial"/>
              </a:rPr>
              <a:t>переписи 1897 года</a:t>
            </a:r>
            <a:r>
              <a:rPr b="0" lang="ru-RU" sz="1800" spc="-1" strike="noStrike">
                <a:solidFill>
                  <a:srgbClr val="000000"/>
                </a:solidFill>
                <a:latin typeface="MainSans"/>
                <a:ea typeface="Arial"/>
              </a:rPr>
              <a:t> в Симбирском уезде проживало 225 873 чел. В городе </a:t>
            </a:r>
            <a:r>
              <a:rPr b="0" lang="ru-RU" sz="1800" spc="-1" strike="noStrike">
                <a:solidFill>
                  <a:srgbClr val="0060b4"/>
                </a:solidFill>
                <a:latin typeface="MainSans"/>
                <a:ea typeface="Arial"/>
              </a:rPr>
              <a:t>Симбирск</a:t>
            </a:r>
            <a:r>
              <a:rPr b="0" lang="ru-RU" sz="1800" spc="-1" strike="noStrike">
                <a:solidFill>
                  <a:srgbClr val="000000"/>
                </a:solidFill>
                <a:latin typeface="MainSans"/>
                <a:ea typeface="Arial"/>
              </a:rPr>
              <a:t> проживало 41 684 чел.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ainSans"/>
                <a:ea typeface="Arial"/>
              </a:rPr>
              <a:t>Какую часть жителей Симбирского уезда  составляли жители Симбирска? Ответ округлите до сот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ainSans"/>
                <a:ea typeface="Arial"/>
              </a:rPr>
              <a:t>41 684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MainSans"/>
                <a:ea typeface="Arial"/>
              </a:rPr>
              <a:t>225 873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=0,18(часть </a:t>
            </a:r>
            <a:r>
              <a:rPr b="0" lang="ru-RU" sz="1800" spc="-1" strike="noStrike">
                <a:solidFill>
                  <a:srgbClr val="000000"/>
                </a:solidFill>
                <a:latin typeface="MainSans"/>
                <a:ea typeface="Arial"/>
              </a:rPr>
              <a:t>жителей Симбирского уезд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) – составляли </a:t>
            </a:r>
            <a:r>
              <a:rPr b="0" lang="ru-RU" sz="1800" spc="-1" strike="noStrike">
                <a:solidFill>
                  <a:srgbClr val="000000"/>
                </a:solidFill>
                <a:latin typeface="MainSans"/>
                <a:ea typeface="Arial"/>
              </a:rPr>
              <a:t>жители Симбирс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,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3164040" y="398520"/>
            <a:ext cx="50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тория города в математических задач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677880" y="974880"/>
            <a:ext cx="10398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T Serif"/>
                <a:ea typeface="Arial"/>
              </a:rPr>
              <a:t>В XIX веке на Волге под Симбирском работала 300-тысячная «армия» бурлаков, тянувшая баржи с хлебом, солью, рыбой, нефтью и хлопком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PT Serif"/>
                <a:ea typeface="Arial"/>
              </a:rPr>
              <a:t>Бурла́к — наёмный рабочий в России XVI — начала XX веков, который, идя по берегу, тянул при помощи бечевы речное судно против т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T Serif"/>
                <a:ea typeface="Arial"/>
              </a:rPr>
              <a:t>Симбирск, расположенный на Приволжской возвышенности был виден издалека, о чём в 1898 году среди бурлаков была распространена поговорка «Симбирск видим, да 7 дней до него идё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6669000" y="2836800"/>
            <a:ext cx="5116680" cy="29973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625320" y="3213000"/>
            <a:ext cx="609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лга является одной из крупнейших рек на Земле и самой длинной в Европе. По соседству с Великой русской рекой Волгой протекает многоводная река Свияга. Текут они рядом, но — навстречу друг другу!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Зада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Длина реки Волга – 3530 км, а длина реки Свияга – 375 км. Во сколько раз Волга длиннее Свияги? Ответ округлить до десят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530: 375 =9,4 (р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: в 9,4 раза Вол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иннее Свия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73160" y="355680"/>
            <a:ext cx="5429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Ульяновск – самый многонациональный город Поволжья. Здесь проживают представители более 80 националь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Население Ульяновска в процентном соотношении распределяется таким образом: 77% населения называют себя русскими, 10% - татары, 7% - чуваши, по 1% украинцев и мордвы. Остальные национальности представлены группами менее 1%. Основной язык общения – рус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635040" y="4022640"/>
            <a:ext cx="496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ЗАДАЧ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Население Ульяновска 627425 человек, 77% населения называют себя русскими. Сколько русских проживает в Ульяновске?  РЕШЕНИЕ: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77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= 0,77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844640" y="51022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2737440" y="5286240"/>
            <a:ext cx="27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627425 *0,77=483117(че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3228840" y="62085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ВЕТ: 483117рус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236"/>
          <p:cNvPicPr/>
          <p:nvPr/>
        </p:nvPicPr>
        <p:blipFill>
          <a:blip r:embed="rId1"/>
          <a:stretch/>
        </p:blipFill>
        <p:spPr>
          <a:xfrm>
            <a:off x="5932440" y="355680"/>
            <a:ext cx="6070680" cy="4552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1080" y="274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641a14"/>
                </a:solidFill>
                <a:latin typeface="Calibri Light"/>
              </a:rPr>
              <a:t>                  </a:t>
            </a:r>
            <a:r>
              <a:rPr b="1" i="1" lang="ru-RU" sz="4200" spc="-1" strike="noStrike">
                <a:solidFill>
                  <a:srgbClr val="ff0000"/>
                </a:solidFill>
                <a:latin typeface="Calibri Light"/>
              </a:rPr>
              <a:t>Масштаб</a:t>
            </a: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90920" y="10666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ношение длины отрезка на карте к длине соответствующего отрезка на местности в действительности называют </a:t>
            </a: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масштабом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Untitled-Scanned-01"/>
          <p:cNvPicPr/>
          <p:nvPr/>
        </p:nvPicPr>
        <p:blipFill>
          <a:blip r:embed="rId1"/>
          <a:stretch/>
        </p:blipFill>
        <p:spPr>
          <a:xfrm>
            <a:off x="7635960" y="3060720"/>
            <a:ext cx="2133360" cy="2036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чертеж машины 2"/>
          <p:cNvPicPr/>
          <p:nvPr/>
        </p:nvPicPr>
        <p:blipFill>
          <a:blip r:embed="rId2"/>
          <a:stretch/>
        </p:blipFill>
        <p:spPr>
          <a:xfrm>
            <a:off x="2857680" y="2671920"/>
            <a:ext cx="3581280" cy="2809800"/>
          </a:xfrm>
          <a:prstGeom prst="rect">
            <a:avLst/>
          </a:prstGeom>
          <a:ln w="28440">
            <a:solidFill>
              <a:srgbClr val="969696"/>
            </a:solidFill>
            <a:miter/>
          </a:ln>
        </p:spPr>
      </p:pic>
      <p:sp>
        <p:nvSpPr>
          <p:cNvPr id="65" name="Rectangle 6"/>
          <p:cNvSpPr/>
          <p:nvPr/>
        </p:nvSpPr>
        <p:spPr>
          <a:xfrm>
            <a:off x="3213360" y="571500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e6e6"/>
                </a:solidFill>
                <a:latin typeface="Arial"/>
                <a:ea typeface="Arial"/>
              </a:rPr>
              <a:t>Масштаб 1: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6" name="Прямая со стрелкой 6"/>
          <p:cNvCxnSpPr/>
          <p:nvPr/>
        </p:nvCxnSpPr>
        <p:spPr>
          <a:xfrm flipH="1">
            <a:off x="7529040" y="2241720"/>
            <a:ext cx="1532880" cy="65160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67" name="TextBox 7"/>
          <p:cNvSpPr/>
          <p:nvPr/>
        </p:nvSpPr>
        <p:spPr>
          <a:xfrm>
            <a:off x="8074080" y="2241720"/>
            <a:ext cx="7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6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6935760" y="128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Масштаб 1:12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9" descr=""/>
          <p:cNvPicPr/>
          <p:nvPr/>
        </p:nvPicPr>
        <p:blipFill>
          <a:blip r:embed="rId1"/>
          <a:stretch/>
        </p:blipFill>
        <p:spPr>
          <a:xfrm>
            <a:off x="5578560" y="498600"/>
            <a:ext cx="6145200" cy="6359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70" name="Прямая со стрелкой 26"/>
          <p:cNvCxnSpPr/>
          <p:nvPr/>
        </p:nvCxnSpPr>
        <p:spPr>
          <a:xfrm flipH="1">
            <a:off x="7149240" y="2509560"/>
            <a:ext cx="924840" cy="3339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TextBox 27"/>
          <p:cNvSpPr/>
          <p:nvPr/>
        </p:nvSpPr>
        <p:spPr>
          <a:xfrm>
            <a:off x="7532280" y="4110120"/>
            <a:ext cx="47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11с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8"/>
          <p:cNvSpPr/>
          <p:nvPr/>
        </p:nvSpPr>
        <p:spPr>
          <a:xfrm>
            <a:off x="487440" y="314280"/>
            <a:ext cx="4876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дача: Определить расстояние от Ульяновска до границ с Саратовской областью, если расстояние на карте 11см , а масштаб карты 1:1200000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ШЕ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*1200000=13200000 см= 132км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ВЕТ: 132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8T11:20:54Z</dcterms:created>
  <dc:creator>User</dc:creator>
  <dc:description/>
  <dc:language>en-US</dc:language>
  <cp:lastModifiedBy>Наталья</cp:lastModifiedBy>
  <dcterms:modified xsi:type="dcterms:W3CDTF">2018-08-14T06:01:47Z</dcterms:modified>
  <cp:revision>50</cp:revision>
  <dc:subject/>
  <dc:title>Презентация PowerPoint</dc:title>
</cp:coreProperties>
</file>