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dt" idx="49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ftr" idx="50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 type="sldNum" idx="51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D7C52-919D-4260-986D-482B96F5CE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58C4C-35EF-4F5D-B568-0A369678F3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7378A-E76F-477F-90CC-8494823762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F1CF9-1DBB-424F-8629-1C8D22DF5F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046DE-4375-47CF-9C3B-8158BE7326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7A28D-98BC-46BA-9C17-5D74BE2E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2C723-E348-4FF7-9597-2C4E1A36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D1A3A-A34D-4986-8AE5-957F206E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A6292-CD05-48AC-9513-155E964E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809D1-6D99-40FE-8B57-B9EC8ED2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F2F76-5F33-4C39-8CEE-EFC12096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B70EB-DE13-4B1D-9203-34A462C3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2D4A0-83EE-419F-97BC-34D7BF99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8AA13-BD9D-480B-83E4-1E3F0E6F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814D7-8666-4E15-B6C5-96DEF2791B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F52E06-3AEF-4879-92EE-5347F14CDC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1DBD7-6D89-4520-ACC9-08C08875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B342C5-2D18-4C27-8C1E-33294774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DABA41-CC7A-41A6-BA9E-36134FED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3E5E5A-FC5D-4D7E-AB41-600E35EB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E13028-103C-444A-AB73-39BE6103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E3B83D-FDBA-4E57-8E05-E777A97D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C4DF9C-86CA-45D6-ADAE-F5F74194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08C22E-60A7-40D4-9AF5-184D8FF5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49C627-987D-40D3-81A4-AD6EE8D9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5D231F-0904-499A-9F7C-064137CC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E596BE-A2B5-4E4C-9EC9-EA4916D9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7F3FF-B9D4-4BD6-ABBC-8F3E5131D5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591F59-3550-4DC2-B003-AB49A634C3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0D28EC-02D3-4B25-A6E8-48BE32607D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F444B9-B1BE-4426-B104-85CAB797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A6F27F-9FE2-4FD8-978E-756E6574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0AC6FD-85C8-4214-832A-37128B2B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F35CFF-371C-4031-B1D7-2D145F51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A76658-39BB-4D45-8548-2D4751B6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E8AF5D-EA6C-4D5D-A80B-EDA540C1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FC832C-B0FF-41A3-9A01-D6152783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D29B5D-AFD5-4FF1-A9AA-45DA8FCF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84301-BA6C-4D45-8CDF-8B8E1B82F0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DFBF1A-05F7-4084-9CF6-52AD89B0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376119-AFA8-4259-A4D1-304F8839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C6472C-F937-4EE0-A85A-626250656F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E4CF2-2002-4257-8668-4E354AB25F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6CB26-E3E6-4F14-B9EF-F0156E35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E2864-A3CB-41A4-8C86-C2D6EED5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EDA36-8699-43BB-91C7-CFC8A5C6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420DC-25B5-482F-9D60-3ABFE21E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4A723-4AA7-4B3C-B899-1D285872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23DCD-6569-4DC5-AEDA-EC43A0A2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7AA67-499E-4D21-92CC-CB13A212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AA56E-634C-487F-AE7D-D2B4C154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4AA7C-BE00-4C9D-BD83-8588EB2B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0AC75-5A2C-4554-8DC2-3EA9553A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B93AA-68DC-49B0-97F1-3A3C7E84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772BF-C1FA-4F60-8A6E-2B34AE5642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5D2790-F067-442B-896A-77C7518D7B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7EC984-A56D-4C1E-9C45-1D47B85F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36F335-9E63-4BA5-A8B0-D8164DD1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8A6E2B-F8A5-44C0-804E-F0B9893A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3379F9-4E1B-440B-A4A7-D0A455C6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3101D-1208-4ED8-914C-15D090BE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141816-1119-4ED6-B436-3B5778B8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412F59-6C59-4136-AE0D-129C0F02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90A7BE-21C7-4283-8736-FA588AE8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7A442B-529A-4630-BAEA-CEA305A6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CECB80-057C-409B-A330-49D5D941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21C425-1C5A-479F-BC7D-3AFF096C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A23BB4-4E56-48BC-9DD4-7A65975B35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337A33-1834-4CAC-85AB-C199D4816E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4FCDB-2CD6-4536-9FEB-C7F9C6A0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B2CA7-0CB2-4088-A9EF-CE54259F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6FF0E-5057-4550-BE0E-D974ACE9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916AA-75D5-47C3-BC26-B2353CAC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D938B8-921A-45D9-A361-3F51FED1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55E4E3-45E8-4A63-A22B-EE9E22D5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416E74-8F3F-4D72-BBAA-BE160CE2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54A025-7456-469A-BDA7-CB94A465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05BBB7-3AB9-469C-957A-3C89E421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3B5332-3C31-4427-A90A-484A04F2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AECAAD-C361-4CA7-B79E-3F38A8A2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DD1E12-F529-4B9A-961D-E5EB467877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A7D1B-F416-4544-B713-D975338102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3DDE5-C2AB-477C-B48F-AD90243B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E5DA0-0E8D-4282-AEDB-475D44B3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BC27F-55E9-4914-A9CE-C0D9AAF0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58E47-50CE-431E-B194-2DB9F3C1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4D437-B7A0-4003-951C-86DECD95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6E700-DC9E-4407-83B1-13281E71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439A8-E953-496A-BCAD-6C1865D1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7C828-552B-4F43-9FDB-86BFA780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920B5-E950-48BE-90A8-C3AE70C5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DF079-8930-4662-A41D-A0703675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BEE3A-9A9E-4315-BCDD-C2E7C9AB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FDA60-62E2-454B-AEFB-3A3B218B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41025-39EB-4F13-B58C-6C0A198C22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A99276-B7AC-415B-91A3-8B0BFD8EBC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3F47A9-F46A-470A-856B-58E408E1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D4C3E5-1AC4-4BB9-BCC9-39DCC349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252CBF-96BF-4A28-8E2E-295B811D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402BD9-6B0A-4F63-B692-87EB0F99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4A9F4A-C00E-4F81-AA4D-F75427C5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CF0A79-222A-4C75-96C6-2A391BBD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5D1ABF-4959-4EC4-9294-A8C41EE4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AC5731-BFAF-4BFD-8692-D2AE444E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40DB2-C420-4BDC-A6BB-D06E402E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B80D4B-A9CF-4A30-9236-6132AFE5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466766-0560-447A-81E2-0EC5535D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FBF9CE-F92F-42D3-9426-27847B92D3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261CB-6354-44B5-8C63-3FDCBC43AC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61E948-0100-490A-8FCB-42D7118F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700346-DA24-4FB6-8B02-BF99CFDA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AADFDF-B500-489B-BA29-ABC393F5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CE4D0C-0010-4DA6-AF83-3C05E3AC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B6568E-AADC-43FD-9DF1-9F35813E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0B5030-49EA-4903-9F56-FED72501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85CB3-3DC1-4047-AD0A-E0EF873B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1CA8A-2634-4488-9FAB-C41D66E2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28B54A-930D-4495-A0E0-D5078306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1F5FC9-6950-4F29-8ACC-52FECBD5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7CA0A-6E4E-433C-BB04-4A5EC1A5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75C789-E6F9-4D57-BB20-F6EEA147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6FCFBF-7814-4561-888A-3EAE043FE7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C4E50-08FC-41B6-B6C5-6CDFAF611C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9C3A2-43BC-4710-A81E-24ADA78F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2CF73-B3D1-42B7-9057-4BA50A64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CD2D6-F4AA-4AEA-99B7-D93F63F7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01F3D-BD35-405F-A2E2-F0777106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EB999-54D7-4E94-A7F6-CD669765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7F430-55B2-4878-9C15-EEC411A3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EC360-5E66-433F-927E-072B0D9A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1B519-23F8-4578-86D3-7F1A4EBB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21293-434F-4462-A19E-ABE66072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391AC-04A5-417A-A0C2-D5D73BE6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D8FC1-DA13-459D-B003-012228BE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CF35B-C6A5-4B8F-8D19-A569ED7955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171A4F-30EA-4239-B69C-128CF3A820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4316F0-B039-453D-AA1D-C4A1C947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FCE1CF-EC28-4FED-A2F6-20084636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4569F-FFBE-40A8-8B46-2D646F0B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990C54-72EC-4039-8871-DD637447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2EB793-236A-4857-8851-3C9941F5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2A76D4-C77B-4DD2-BD69-2C547EA4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86A8E1-9B43-46FB-B0A9-BC488AF3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D579CD-09D9-4C37-8E2C-2E9CAB43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121057-9F87-47CA-879F-0769BB53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1AF42B-54CC-4436-8D1B-D363A24E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7856DA-3491-4F5D-88DA-02D6646C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C77E17-F95E-4E86-81BD-F6F6941B5E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D9F0755-43DF-4B7A-B7DB-AA52DF0008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1A58A-5930-49A7-A0E5-BE6B67DD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F4F4CE9-AA39-4A8D-9EEC-6D15E7F8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2B12FA-413D-4772-8045-4F2A3576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87F7BBD-1593-44A9-905A-725178D5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0918D7C-99FF-420D-98A7-A3D02803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FFDCC49-FBC9-44F2-A329-D0FD5029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5C61FEE-3F6F-43FC-88F8-6AC04886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D2DC07F-0F82-49CA-B346-82203BC3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4B0ECE1-85E6-427A-B752-182CAB80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8E2411-827B-4B9D-8CB0-6CB7B78C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D341E15-7943-4615-AAEA-21300021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BB91D-266E-4731-A4F1-065E3C8A07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F3B956E-0E95-4804-B426-D14F6BBE5B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19CC52-C3C3-454F-9B90-142A039FAB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583C1-53DF-497B-8126-375804F5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483423-FDB7-4703-B852-1AD32930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3DD441-B92A-46B8-8CA5-2CA453CC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108D10-43B8-4D1D-BDF3-8091D023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4FB22C-D7E7-415B-B567-AA4483EC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30EB1D-B723-4412-A2F4-0C21FCAE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9BF13E-695F-4A14-8362-3BBF4B75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2240C2-12BE-4C86-934C-76F2453F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FB78-05D6-462F-9F23-44D80443D5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4EC8B-E3B4-4645-9692-46E7FC9B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B439CB-4A46-47F6-8502-90DCFCF1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6ACEF7-1031-4A2D-9F29-9F3B05AE78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33B259-341E-445A-98BD-9BD75B6B0D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1E9406-21BA-4116-BE74-09898886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EA446B-0447-4014-AA34-63A7B618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11870A-C150-4BCE-A071-F6BE2FE5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3284252-17C0-4D5D-BD6C-01B34126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EB6FB1-D667-47D0-B8F0-7A35C99C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D6D7F3-423A-4C2C-8050-CE1C031A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D185-1E00-4631-8CB1-9615AF7E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230A613-7DB9-4C5C-8C61-C44DE621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2C4D7B-D791-489F-8AA1-7D01F685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D91D381-CFF0-4632-967D-CFBAE518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2B19FA-656A-4D97-81FE-AF2062F0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FA6A06-A60C-417C-8841-66A76E4AD4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10657AE-3247-46C0-A109-EC65C7A114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9498B19-C907-4D8A-922C-910A7BB9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B47E4CB-6C02-47BE-BDDE-69FF2894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1E7A2FA-22AC-45BA-A555-5CD6A3E7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1DAD4D2-DEDB-4667-9294-A8CEB5E6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325D-3588-4ABD-A2E2-A87AB437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C04399C-D1C4-4C76-9C5B-47715B87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FFF36CC-5ED3-4246-AA72-81B26D81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D0F2826-3B0F-40E5-8A86-438678EC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4659E46-7E8A-443A-B13B-067E0B25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96C5B24-3FDA-46BE-8A20-7DDF35C1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E147A8-1D95-488B-9F44-7FF7E112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D32C5A8-E347-4E39-A378-CF8B2B346B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B67599-4DE3-411A-85FA-E42779D920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478598-8C33-49FC-8090-BBAE9801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0CE820-22C5-49F9-ACEE-2BCCC9C0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292B-450E-4859-A22C-1B580AB6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9635BB-FB76-4FAF-A3FF-54635566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BD8F8A-2C3C-4E53-9F44-869128A5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5A9E4C-10A3-499B-AE5B-C5974FB5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4AEEDF-7E27-4906-A8FE-DC4EDA64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CE0F7A-F337-4C77-A2D4-2FB99A96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19C491-D239-40E6-B703-DEAE3D74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009DCD-90A6-48B1-9CCE-EE4915A8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CC5C5E-B241-4A41-BAAC-B261E0B6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D510C6-E5DD-49FD-BD54-F8B40B07AD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27CF-BE35-4590-8DFE-CED811E3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A8DA4-CE9A-4B63-9C34-9F0B4967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D486-9C64-4AAF-8DC0-3B313A25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CD84-A07A-478D-9236-BB03D278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989D-9061-4A2A-9402-C5A37398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120A-F70E-4D30-B183-3B1F9CA1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7D9F-C92B-475B-BEDC-94FCA399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A235-9B64-47E8-8BDD-F0D05D85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559A-EE35-4379-84B7-FCBF933DBB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D6463-8253-4E28-85E8-CD2E00F468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6A402-AC43-4D2C-9E3F-8E5AB649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10828-BDE3-484B-AA5B-2B5F20AC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16633-AD65-4E71-9210-361A62E8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903B4-5108-474A-805A-0BA0F126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55CC0-9057-4CB5-80E1-2876FF36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94053-854C-4E3B-968C-11F590F5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08277-7209-43B6-B3AF-E5BCAE54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3D801-3433-4447-8E77-A01CDC5F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AF3CA-B6B8-4B86-BBC2-5B8E094E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2A0C6-CCFF-49E5-A7FD-1D87F2E9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26299-EA67-4F4F-9933-C6A73E1D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C346B-5C9F-4043-9C53-22B72DB7C1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983773-B914-488F-B929-5B985D26DB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4D93C-B105-4B6A-A9BD-357E339F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5931BE-D642-4BCD-BEFA-CF7B4373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BA735A-D49F-482D-8A42-F19927FF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CAA66C-DFF9-472B-9FA7-E9905220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0FC3D6-CB8A-4C9D-8CBE-AFB4D9D2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E22833-2E2B-4FD1-B8F6-EDFDD823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BC8D4B-D4DC-44C6-B88C-09253BE7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52C932-06A6-425B-BCE8-806B0119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35714F-030D-4EEE-9732-2E5E5D36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F87189-BA7A-4D88-BA1B-23A2EE10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D7A1AD-4E58-4305-842E-FDC8CF35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30CA4-04E0-4DAE-8EB5-0C5133F1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051078-8388-472E-917C-8496ADE13E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2A315-F91A-4FF0-A7B6-BB41D52043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E3FA2-2665-4187-8B68-4770468C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A3FF2-C254-459F-ACD8-1119A727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07678-0F9C-4EBF-BC27-B11D9201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674AD-21F3-4708-809A-921F37BD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30EC3-A05C-42D4-BE8E-D4A8C6E0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72F1C-49B3-49BE-BD26-90329A40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935B5-D6AC-4812-B8B9-6E1BA629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DC4F5-1D0F-4C6B-9196-F79E74DD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1C0E6-2D43-47DF-A6C4-F7E99075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F03F6-BF00-4F0C-952C-70F27D66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F97DA-090F-4B7B-A11E-9521A85F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D547F-5606-4C8A-ADA5-D7F0FE5ECE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F531B-EFBB-448F-BCE2-AF749D6BDB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58683-FBE5-4BBE-85CA-5808DA4F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D67B21-C0F5-48EB-B782-F3075B02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044CF0-E21F-4B40-9FD9-D3D7E096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3055C2-1CF1-425C-A99C-7C782998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671B80-0E2D-4739-9DF9-737F71B0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560B3D-0A85-4CEE-AEF6-D5ACFF9A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30E9A-17EE-4D29-A960-18D11314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986EE0-2071-4EC1-BBDF-0CD407E7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C978C0-581F-47EC-8D83-F03DC526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87B430-1F93-4771-A3A6-120E2E8C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F39D33-90BE-4A4F-843A-6B65ADDD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26133-953A-48A5-BB03-9EA6A8B0D0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8D7CE7-76F4-44BB-86D1-71E8E679E5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1046DC-1338-4326-8BD0-71FF3CB1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AD10C9-D998-4925-AE8E-B6DA780A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EC31AF-3B25-4E78-AB78-583F1BFC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B18FE7-531D-42C5-8D62-3CA533B3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5814A-A47B-418A-A9C2-36F6DF09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9A2C4B-C6D7-4C73-AF1E-505C3174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50C49F-C03A-4666-9992-3B719383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2E718D-E11E-48CA-9E6F-8029D15F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C9CAA9-21B2-4992-BE89-5E8D4171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193EEB-B079-4550-9B3F-B2ECC4F3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D5C438-E006-424F-B95B-27CC2F94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7FAD0E-1611-4F9E-A1E3-F3B084733D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0C221-CD43-4F9B-889E-6111F73E57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E8026-B48F-48B0-8A09-68F06D03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97B6E-2C09-4BDC-A0CB-477C55F3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D0253E-1B8C-4C63-9EB8-3BF3624292A3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E09754-B0BE-4E24-87A4-2F0696534D04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4CD1A6-F0F8-418B-BC67-01639A01CE76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2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8DB34E-180B-4876-82F4-CB4269209A0A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2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ECAB59-E1E8-41FD-80DC-71FA4519B177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2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2008AA-917D-410C-9F39-C68F75FC1C4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2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sldNum" idx="3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5BFFCE-FA3E-4C0A-AED4-A9111F3BC870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3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3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AB8E31-F2D3-4835-9FB6-77C2E56BFFD0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3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sldNum" idx="3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454749-C193-4BDD-8673-0A1E46E338D1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3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sldNum" idx="3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ADFC55-F744-4A8E-8BF5-1024F6623AC8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A34CED-9C4A-459A-BFD7-7FD77B631113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3901D0-AD38-4561-92F5-012CF93F6FC3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3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4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ECA38B-CF7E-4FA0-811A-CEDDE1185CAE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4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sldNum" idx="4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09C549-656A-46AD-AEE2-FE89BC2E8D8E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4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sldNum" idx="4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FFB474-59B1-44F8-9CD9-3EB569FE1B59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4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sldNum" idx="4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A48BF2-2A8B-4BC1-907B-7AF23A4693F1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4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sldNum" idx="4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9D0223-117F-490A-8EFE-A4D1EFE953D7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78EF6D-9AEE-4D49-94CD-4831EB03D8F8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2084CA-B9C4-4700-A137-5BCB6A9717C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815D6B-6EC3-4B5B-8D0E-BC91E8EEE235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247910-A233-4AA2-BA7D-3FC6BCE09E96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9A35FA-11F3-4895-AD71-0C0ED34FEA08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B5DA27-5E58-413D-80ED-E6F492044AF1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4104CA-7507-4D1E-A386-89155F98918F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900000" y="1341360"/>
            <a:ext cx="7772400" cy="1470240"/>
          </a:xfrm>
          <a:prstGeom prst="rect">
            <a:avLst/>
          </a:prstGeom>
          <a:solidFill>
            <a:srgbClr val="799fc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80-летию Ростовской области      посвящается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1251000" y="378000"/>
            <a:ext cx="6400800" cy="458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0" rIns="0" tIns="68400" bIns="0" anchor="t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№7» г.Новочеркасс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3" name="Рисунок 1" descr=""/>
          <p:cNvPicPr/>
          <p:nvPr/>
        </p:nvPicPr>
        <p:blipFill>
          <a:blip r:embed="rId2"/>
          <a:stretch/>
        </p:blipFill>
        <p:spPr>
          <a:xfrm>
            <a:off x="1901880" y="3133800"/>
            <a:ext cx="5280120" cy="3522600"/>
          </a:xfrm>
          <a:prstGeom prst="rect">
            <a:avLst/>
          </a:prstGeom>
          <a:ln w="0">
            <a:noFill/>
          </a:ln>
        </p:spPr>
      </p:pic>
      <p:pic>
        <p:nvPicPr>
          <p:cNvPr id="994" name="gimn-rostovskoy-oblasti-pravoslavnyy-tihiy-don.mp3" descr=""/>
          <p:cNvPicPr/>
          <p:nvPr/>
        </p:nvPicPr>
        <p:blipFill>
          <a:blip r:embed="rId3"/>
          <a:stretch/>
        </p:blipFill>
        <p:spPr>
          <a:xfrm>
            <a:off x="468360" y="5977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3233520" cy="2500200"/>
          </a:xfrm>
          <a:prstGeom prst="rect">
            <a:avLst/>
          </a:prstGeom>
          <a:solidFill>
            <a:srgbClr val="ff0000">
              <a:alpha val="48000"/>
            </a:srgbClr>
          </a:solidFill>
          <a:ln w="9360">
            <a:solidFill>
              <a:srgbClr val="e83d30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графическое положение области очень удобно и недаром Ростов называют «воротами Кавказа»,через Азовское море есть выход в  В Черное море</a:t>
            </a:r>
            <a:br>
              <a:rPr sz="2000"/>
            </a:br>
            <a:br>
              <a:rPr sz="20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оронеж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олгоград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алмык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тавропольский кра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Краснодарский кра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Укра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6" name="Picture 2" descr=""/>
          <p:cNvPicPr/>
          <p:nvPr/>
        </p:nvPicPr>
        <p:blipFill>
          <a:blip r:embed="rId2"/>
          <a:stretch/>
        </p:blipFill>
        <p:spPr>
          <a:xfrm>
            <a:off x="3591000" y="549360"/>
            <a:ext cx="5553000" cy="6145200"/>
          </a:xfrm>
          <a:prstGeom prst="rect">
            <a:avLst/>
          </a:prstGeom>
          <a:ln w="0">
            <a:noFill/>
          </a:ln>
        </p:spPr>
      </p:pic>
      <p:sp>
        <p:nvSpPr>
          <p:cNvPr id="997" name="Rectangle 3"/>
          <p:cNvSpPr/>
          <p:nvPr/>
        </p:nvSpPr>
        <p:spPr>
          <a:xfrm>
            <a:off x="3811680" y="4186080"/>
            <a:ext cx="229068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остов - на- Д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AutoShape 4"/>
          <p:cNvSpPr/>
          <p:nvPr/>
        </p:nvSpPr>
        <p:spPr>
          <a:xfrm>
            <a:off x="5946840" y="828720"/>
            <a:ext cx="642960" cy="500040"/>
          </a:xfrm>
          <a:prstGeom prst="octagon">
            <a:avLst>
              <a:gd name="adj" fmla="val 23148"/>
            </a:avLst>
          </a:prstGeom>
          <a:solidFill>
            <a:srgbClr val="e6e0e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5"/>
          <p:cNvSpPr/>
          <p:nvPr/>
        </p:nvSpPr>
        <p:spPr>
          <a:xfrm>
            <a:off x="8501040" y="5929200"/>
            <a:ext cx="642960" cy="571680"/>
          </a:xfrm>
          <a:prstGeom prst="octagon">
            <a:avLst>
              <a:gd name="adj" fmla="val 23148"/>
            </a:avLst>
          </a:prstGeom>
          <a:solidFill>
            <a:srgbClr val="e6e0e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AutoShape 6"/>
          <p:cNvSpPr/>
          <p:nvPr/>
        </p:nvSpPr>
        <p:spPr>
          <a:xfrm>
            <a:off x="4714920" y="5572080"/>
            <a:ext cx="714240" cy="785880"/>
          </a:xfrm>
          <a:prstGeom prst="octagon">
            <a:avLst>
              <a:gd name="adj" fmla="val 23148"/>
            </a:avLst>
          </a:prstGeom>
          <a:solidFill>
            <a:srgbClr val="e6e0e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AutoShape 7"/>
          <p:cNvSpPr/>
          <p:nvPr/>
        </p:nvSpPr>
        <p:spPr>
          <a:xfrm>
            <a:off x="3857760" y="2643120"/>
            <a:ext cx="857160" cy="785880"/>
          </a:xfrm>
          <a:prstGeom prst="octagon">
            <a:avLst>
              <a:gd name="adj" fmla="val 23148"/>
            </a:avLst>
          </a:prstGeom>
          <a:solidFill>
            <a:srgbClr val="f2f2f2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8"/>
          <p:cNvSpPr/>
          <p:nvPr/>
        </p:nvSpPr>
        <p:spPr>
          <a:xfrm>
            <a:off x="7358040" y="1285920"/>
            <a:ext cx="1057320" cy="914400"/>
          </a:xfrm>
          <a:prstGeom prst="octagon">
            <a:avLst>
              <a:gd name="adj" fmla="val 23148"/>
            </a:avLst>
          </a:prstGeom>
          <a:solidFill>
            <a:srgbClr val="e6e0e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9"/>
          <p:cNvSpPr/>
          <p:nvPr/>
        </p:nvSpPr>
        <p:spPr>
          <a:xfrm>
            <a:off x="7072200" y="6000840"/>
            <a:ext cx="571680" cy="571320"/>
          </a:xfrm>
          <a:prstGeom prst="octagon">
            <a:avLst>
              <a:gd name="adj" fmla="val 23148"/>
            </a:avLst>
          </a:prstGeom>
          <a:solidFill>
            <a:srgbClr val="e6e0e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10"/>
          <p:cNvSpPr/>
          <p:nvPr/>
        </p:nvSpPr>
        <p:spPr>
          <a:xfrm flipH="1">
            <a:off x="6928560" y="4500720"/>
            <a:ext cx="142920" cy="1425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11"/>
          <p:cNvSpPr/>
          <p:nvPr/>
        </p:nvSpPr>
        <p:spPr>
          <a:xfrm>
            <a:off x="5000760" y="4714920"/>
            <a:ext cx="428400" cy="285840"/>
          </a:xfrm>
          <a:custGeom>
            <a:avLst/>
            <a:gdLst>
              <a:gd name="textAreaLeft" fmla="*/ 132480 w 428400"/>
              <a:gd name="textAreaRight" fmla="*/ 295920 w 42840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428625" h="285750">
                <a:moveTo>
                  <a:pt x="0" y="109146"/>
                </a:moveTo>
                <a:lnTo>
                  <a:pt x="163721" y="109147"/>
                </a:lnTo>
                <a:lnTo>
                  <a:pt x="214313" y="0"/>
                </a:lnTo>
                <a:lnTo>
                  <a:pt x="264904" y="109147"/>
                </a:lnTo>
                <a:lnTo>
                  <a:pt x="428625" y="109146"/>
                </a:lnTo>
                <a:lnTo>
                  <a:pt x="296171" y="176602"/>
                </a:lnTo>
                <a:lnTo>
                  <a:pt x="346765" y="285749"/>
                </a:lnTo>
                <a:lnTo>
                  <a:pt x="214313" y="218292"/>
                </a:lnTo>
                <a:lnTo>
                  <a:pt x="81860" y="285749"/>
                </a:lnTo>
                <a:lnTo>
                  <a:pt x="132454" y="1766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AutoShape 12"/>
          <p:cNvSpPr/>
          <p:nvPr/>
        </p:nvSpPr>
        <p:spPr>
          <a:xfrm>
            <a:off x="223920" y="2743200"/>
            <a:ext cx="3071880" cy="1928880"/>
          </a:xfrm>
          <a:prstGeom prst="flowChartOffpageConnector">
            <a:avLst/>
          </a:prstGeom>
          <a:solidFill>
            <a:srgbClr val="fc2b08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ши сосед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имволы Ростовской облас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Text Box 2"/>
          <p:cNvSpPr/>
          <p:nvPr/>
        </p:nvSpPr>
        <p:spPr>
          <a:xfrm>
            <a:off x="4678200" y="1214280"/>
            <a:ext cx="4000680" cy="2089440"/>
          </a:xfrm>
          <a:prstGeom prst="rect">
            <a:avLst/>
          </a:prstGeom>
          <a:solidFill>
            <a:srgbClr val="fcd5b5"/>
          </a:solidFill>
          <a:ln w="1260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Флаг принят в 1996 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н обозначает единство 3-х народов: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иний цвет-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казаки Дона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желты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калмыки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красный  цвет-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ус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Picture 4" descr=""/>
          <p:cNvPicPr/>
          <p:nvPr/>
        </p:nvPicPr>
        <p:blipFill>
          <a:blip r:embed="rId2"/>
          <a:stretch/>
        </p:blipFill>
        <p:spPr>
          <a:xfrm>
            <a:off x="4500720" y="3838680"/>
            <a:ext cx="4357440" cy="251784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1010" name="Rectangle 5"/>
          <p:cNvSpPr/>
          <p:nvPr/>
        </p:nvSpPr>
        <p:spPr>
          <a:xfrm>
            <a:off x="457200" y="1214280"/>
            <a:ext cx="3614760" cy="857520"/>
          </a:xfrm>
          <a:prstGeom prst="rect">
            <a:avLst/>
          </a:prstGeom>
          <a:solidFill>
            <a:srgbClr val="fcd5b5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Герб принят  в 1996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Рисунок 1" descr=""/>
          <p:cNvPicPr/>
          <p:nvPr/>
        </p:nvPicPr>
        <p:blipFill>
          <a:blip r:embed="rId3"/>
          <a:stretch/>
        </p:blipFill>
        <p:spPr>
          <a:xfrm>
            <a:off x="201600" y="2359080"/>
            <a:ext cx="4016520" cy="4022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7-08-31T10:21:22Z</dcterms:modified>
  <cp:revision>101</cp:revision>
  <dc:subject/>
  <dc:title>  «80-летию Ростовской области      посвящается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870000000000010261200207f7000400038000</vt:lpwstr>
  </property>
</Properties>
</file>