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dt" idx="4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5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5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2842A-F54C-4C5D-89A6-49610B0628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D94C3-474E-41E2-9E35-47CAD7C4A8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58CAF-81CB-49A7-8D07-C70C81073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BD35D-9AEC-41AF-B941-145970E8D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10CD-5125-44EA-8A7A-A6104A3CF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2295-E1BE-410B-B902-F1AB8620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5C2A-44E4-445E-9338-3AA4193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931DD-653E-4AA8-A143-1D5B4ED2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5E16-BD2B-413C-A580-1C6BEE22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5A74-C953-420D-9AF8-29C9AB9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976FF-0D50-49E0-ADCA-EEFEB5B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C0BA9-C369-4F16-AE5B-EFBFE66E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8856-B99F-4634-B74F-806C184A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56EE-DF13-4F07-860C-AE466A5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94349-860B-43D5-A5BF-22E7C2F15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41FD1-117E-4724-9D97-73123E22A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549F-3066-4826-9838-942BA1E4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8FE2D-3256-4818-83B7-52096B83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7E98F-C9F7-48B7-9B4B-E2B9B17D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73B03-981B-4EE7-A5C2-A5825E0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45BCD-DEF4-4EC1-8E5A-40B81826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BAD27-EC71-4CAC-A2B4-44FD3B08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01DC6-0AFA-49BF-81B4-0D6B5E99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DF0AE-CA01-43BC-8797-406C2DF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08F9D-64F8-4758-88DE-6F3EFDD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59DCE-5BFB-4C46-B6FC-8540392E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B5DD3-458D-4CBE-A75F-6DAB59E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2944-556B-473B-AE56-C3FD87CB8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DB861-B10C-4642-94A1-84D572888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7265E3-F354-4172-BA24-D5B4B2BA5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49A817-2100-4FDF-A204-0114D2B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14F21-8C5F-49A1-A6DB-A62B1EB8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B8E31-358A-4ED4-BB60-CA02173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278AF7-66C4-448A-973C-2B60DE9B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A5CA7E-130F-4297-ABA5-234DA4CD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92BF6-913B-4FD4-96E1-C0BDBF49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B87F10-671B-4E7C-BBB8-88ABB4C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8D207F-24C5-4E95-998B-12E445A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9AFFF-064F-4852-9150-DAEAF7573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308D3E-D638-484D-8DB1-250A6147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6E26E9-DE2C-4CAD-ACA1-A9D2527A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B4C732-F701-4F9E-BE6C-E5C1F4F1B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C5BE-DF8C-4590-8CF7-7ACFAE7D5D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6E3DA-07C3-4FA1-880D-3094BED1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1CF1-E609-4AB6-94AF-E035B532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3CAF-D417-4719-B9CC-E481772E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4813-6984-4857-87BD-637A3A84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02636-F176-4E71-8D28-E9EB8BAA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38FA-1F6F-42CA-A34B-8C62D7F3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C17C9-9228-423F-B5EA-34B5DA2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8F49-CB91-4985-B7F3-6F5CAD99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83FD-2C7E-4774-9157-8C627FD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A3FB-5A58-465B-B43B-F21FA07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2F1D5-2872-47BD-8900-4A27782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9B7D-1030-42B5-89A2-44D3AC51C3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65FE7-E231-44C6-AE59-460C9E82E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C7C51-48AB-43B5-AF6C-86A4E15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1B736D-FFB1-455F-9CFF-8B8A5575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66400F-70DC-4A7F-B2E6-DC54DAA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8CDEF1-7CC0-4EFB-A97C-9F541238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92D18-FA3E-462C-999F-18146AB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22F3A-32AE-4094-AC2E-22250B15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BFE0C4-7E3D-494F-99D8-2EE3FD4D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25D334-7DAE-4887-9DC4-A453520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47BC0-3AE7-47A1-BD56-39B8780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8693C0-0C39-476A-BFE2-02887CE5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6C0F6-DC75-4B2B-B21E-7C3E15B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86016F-C1C6-472D-AE50-56AA21B7C9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ADA8C-F74A-4FBE-99F6-DF7C462B8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23CFD-377C-4A09-BBB1-BF24431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EFC9F-1FB1-4DF4-B1A6-060835C6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1F281-54AB-491A-9892-B1022CC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047F9-A531-4C3E-81E6-3DDFC389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3D581-C75F-41E9-999F-AA8BC0B5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19E11-3A60-4452-89A7-AF42CEC3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D90E4-ACB5-4BF8-91FA-9CB2520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2DD7A-E2F9-4565-8D99-A67634AF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6EEAB-D74D-4677-8420-C2D4E81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F48DD-408A-4625-942E-B10614E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0EC6E-1AAB-431A-A83F-72BFF1B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245DF-DD9C-4D92-9571-56E34E8128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57287-3903-495E-A6DC-2445F55A55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8F52-DCB8-45C0-90D5-163DF8F5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DEB5A-983B-427A-B572-7871668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DA77-4561-4458-8223-84DBFB3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2203C-C911-4F50-9177-92550EAF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6F66E-BD8D-4033-ACCB-6F74C9B3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2740C-1BE7-4516-AD7D-0B39C450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8162B-9E7F-415A-AF09-2ACC066A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1ACCA-3264-4A1C-BDC4-42175B2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6EBEA-D057-4064-8A23-2F9D90BB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1F0F9-ACC6-4720-B682-9CE4F346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F91C6-B106-4B13-A160-14918F6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081A3-0969-40DC-A4DC-07C4D8B4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AD6C8-3C4B-48AB-935C-9427BDE24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16395-DE59-4985-8D37-D6D39029A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9EFA77-0BC0-4D3D-9EAC-E34E6E3F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FC6D2-3070-4C61-B581-3EBDDAAB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DCDB2C-42D9-4C72-BCC3-07DBD152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FEDE0-21F5-45A2-9BF1-41148194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7CD39B-9936-4529-B434-C65E73CB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7DAB70-08FA-4C75-BDDF-8FC59B41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BD4837-F12A-4D54-9FF3-9D9AEE6B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2DB546-7207-4097-83F2-512AC9F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D735F-0E43-4BEC-A247-3E66C0B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C6CAD3-D43C-464F-BEA6-981F0BFE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0333AE-888A-4B38-BAB4-436E041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D37DFF-5241-4A7A-904D-C1D665D6B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E04EC4-C838-4024-A197-4D65C7D9B8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05ABE-604F-45FD-9FAC-A3F69BF3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B0F9C-F497-4841-A95D-DE92DD2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F781F-412A-4FEC-8EDA-8EE6446B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C1B0C-90DA-48B0-9491-87F1C36C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9FC51-8357-4940-B927-1FE5E53C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CEB34-17F4-450D-A734-87C852D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12E8-1F1C-499E-B223-B105AB82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086F1-DB1C-4499-8F37-010BD493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FAE23-C783-4F80-9F04-9C418748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AAE81-CA2E-4FC7-AB14-D968100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596CB-F080-4D4C-939D-6EDB5B46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6EE2C-9E0B-42FC-958C-B29B44B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77763-E4F7-409D-981B-1010A1EC6B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7F071-0EA7-4296-9361-1AB951218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1F38-DE77-4216-A8D3-E02AE557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B95F4-7F50-4549-9577-C879A59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8F32D-9699-4D51-8D5C-8F3C9A15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DD930-262C-48C5-BA0F-7F9F33E2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5B868-4273-4424-96F3-45BF742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8CE48-FA7F-403B-9C9E-F790686D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56224-C370-4931-AB7F-52F95896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6D8E0-6357-482A-B829-3B3CAEA2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D6407-68E7-45D2-9273-2324FD55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D305B-D3C3-4288-BFB7-F025EBA3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1C1B4-7C55-48B5-A86E-3FC5E26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48614-52BA-4439-8698-58288364E9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01338B-857B-445C-8346-DE016CB42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E9A45-D6C9-42DB-9C25-4B64C701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F91CB2-3BDF-44E0-B5AC-3659C95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D074B-A38A-4860-A8B3-396FA0DE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9ED62C-7627-490F-8CDB-9B6275AE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B9C8CE-DB14-4BFE-A770-BC7573D3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DA2317-40E9-42F1-AB72-AF0FE599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840CE-67D6-40B9-97F3-6D45862D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45B745-0CE0-4B2C-BB5B-1B28FF4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016C3-84E2-4EE6-B202-8669707F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ED2FC8-789C-4F1C-9D5F-52C5E1D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240203-1A47-405A-849A-0D63606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EB2D1C-57F1-4277-941F-922388D9FF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E171D5-FCD5-46F9-BD4C-32EE382D0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5C2D-B13B-4DC2-BAA6-C9534CA4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EC2677-5DC6-40CA-810E-8B20AD92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935EAA-8FBB-4538-B9AE-C9B737B0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F31EF0-BADB-497B-B118-A08EC47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BEDC2D-AA6B-4A0A-AFA7-C40943A1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1A76DF-49D7-4166-8A8E-886CA3E4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EBB93C-9139-49C0-9FE9-D5918F4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A960DF2-0782-403C-B0A0-94802A8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4CC57F-5E7B-4415-AA00-A818ACB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30EA08-EE28-4E62-A28A-29EDCE95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D3BD76-96D3-4691-AC07-725E97B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5479F-F41F-433B-BA2E-8B189CCBA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86C6CC-BB18-4DF0-A78B-0D38926AE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D4851-A0E0-4DE3-89F0-75C92AD66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5F073-A105-46A2-8D55-D30E364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8284E-E18C-4D07-9079-0E1C4A27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141B0-94B3-4E1B-90CE-D7E6B917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8B33E-C556-4E45-9A9A-5EC44C78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32736-53D8-4619-AF95-59873651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8BE57-BE9C-4130-B848-6DE96242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1A48A-C82B-43F9-8891-9003CFB9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BD4A3-FF61-489D-A4C2-FECFA5E3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B50D-3127-4912-96EF-A14850286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E693C8-A2E5-4E56-AE4D-E414B09A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D4E81-6F98-4112-B939-951CF07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C69A3-5496-4B0C-ACE8-8ACABFFE9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31925B-E760-4B09-AE7B-882578630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86A488-BB23-4197-98BA-D108CDB4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6C4C43-C423-418C-97FE-18CB844B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9F2E85-1450-4C56-A3C0-DE5CA12A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CD27CD-AF23-484A-B464-FCD23F88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ADAAC4-0A71-4336-BC23-23FE9F00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216927-A1D6-47DB-876F-C10E094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7BC-C532-42BF-A7F9-621B3A3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D02D09-1562-40C3-80AD-8C688726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DF4B83-9298-4D7C-9AF1-06C1E24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FC702C-ABD5-49D4-8453-A53D6C4C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E7B45C-4CC4-40B0-83F7-BCCBC9D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A0AF81-E1F9-41DC-9E6D-1184EBC59F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32CF96-A573-4571-9CFF-FC5218C7AF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A0C299-C7B7-44F4-BA75-8E0F5DBC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3AF49B-47C1-4FC9-8E9F-80A82CC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2D415B-63CB-437D-BA31-2677116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81D12A7-4C18-44FD-B4A1-5982805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6CD-B45A-4824-AF11-53ECB6B7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070AFD-0E9A-4E0D-BA95-B41ED3E7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B7710C-4D17-4EF2-9532-19297E48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DEAAC9-27CF-4916-A243-DD3ED22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6E2940-7762-4527-B352-F3B5486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7DF966-038C-4715-9593-130E21F5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4B90C7-1226-4FAA-B651-5350E2A6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9E82F5-838D-47E4-9792-FA5596681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573B2-ECBC-40C4-ABDB-DEBC5357E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1A416-841D-483B-9435-39E0EB1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B12F1-FC61-41CC-AB1E-AB107A2B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A26-6255-469A-854C-9DC14AA7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65B45-024B-4648-A979-E866D6D4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6A53B-9A81-4E09-8ABA-7C241D5B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30D7C-8A13-4BAC-9D97-E8A2F664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0B0C13-6552-447B-80B5-D82F63D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EEC5A-D43B-415F-8B8E-B27115E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F07F1-EC1C-4A8B-B101-46D4C0D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120BFD-E659-41F2-A2B9-4C92051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919C5-A988-4054-B4F9-C9D4E43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79F1B-B927-4585-BB1D-B8BBD91753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7A0D-7055-4568-B3B8-4D53E5B6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48E1-7C73-4ADC-9DF3-97F7C52D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4FD1-ECE5-43ED-94D8-234D27C7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087-53BA-493E-9E36-F87E38D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1A88-63D4-49C2-9000-1056243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E457-21C1-481F-964D-BA387426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1D9-7F92-4C4F-8B17-8E4BEAA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6C25-4F29-4BDB-8081-65587FF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99D-5426-4440-8AAF-A3DD754C2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3AAA-362D-487B-90C8-1F845E5BE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1F015-66A2-4851-9709-5CD2283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84871-44FA-4BD7-852F-AC08DE9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9480-7CF8-492B-983E-609BAEB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AC97-9B9D-4335-8FD6-5F550712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89CA7-1462-4D26-B5BB-ADE92312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7777F-3941-48DE-847D-058CE5FB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F7E57-9F56-4F29-BAF2-0E82016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62F85-76C5-425A-98A1-F4A8116D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5EEF0-7E99-4868-A34E-F59D1C2B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831BF-F558-427B-8325-35F0417B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BA39A-F055-4DBE-A223-A66FF77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75BDC-11D3-4B26-8BD2-C7E1E86254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22180-A1D0-450E-B395-3A64AD1EFC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3A9F-F870-4DAD-B778-9541BB26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18D7F-0477-4D8C-8644-70F6DF0E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69A3E-E83E-4C96-846F-7F42CFA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98376-437B-47B8-AA15-D052629D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BA25E-2FE7-49D5-A991-344DCAF9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330EC-0C4A-4E09-B91A-65D4161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F87E3-2DAE-4C22-A4F9-8A6248A2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320FD-F959-4582-AC74-796F686F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0493F-E743-45D9-956E-D8A7722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8F9CA-9570-4D33-A3F8-97B2915E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EDA68-3F2D-470E-ACD2-1C03A3B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70D9-995F-46CA-A536-42A1BA8F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5A010-CA1F-47F0-9256-AD4BD63ED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1415-94E0-49D5-9530-9717B5050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ECC7D-DF18-46C5-84D9-D1B633E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AC54-9566-4409-AD87-9C269FB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4BDF-4EE9-411E-8992-4B53A124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EAED9-1E1D-4778-929F-3B0F21A9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9A98-C117-4BD2-8901-FB78761C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041B-A800-4EA2-806A-BF8F4B4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BF46-446A-42FF-AA8A-8836719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C901-FDC1-4B8B-AC9F-522D03A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C6E1-837C-4873-9AFD-81BECD0D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655C-B79A-4862-8081-AEB27D0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8234-794F-4099-BE36-A044C48E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EDD0-AB48-4E8E-AADC-51B4B2463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D3A57-7E2A-4E43-B6CE-4608348A97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669D4-654E-411D-BFF8-2735F106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BB9C5-3739-4DA8-BBAF-2ADDEE0B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C7A67-ED32-49F9-9D2C-0C543B6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E3809-E860-4F47-B8C4-F89ECB22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8FD59-12B4-4773-9CE7-B98A934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FA11E-1BED-4B96-AA7A-37511BC3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CC302-848E-4598-83E8-93935B5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2C498-301B-4724-88AC-9085EE6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69F32-86BA-48CF-8F91-EE32F864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E59A5-1244-4CB6-821E-471FB91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30A32-F91D-4D2B-9C87-D493C8EC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ABFD3-5F57-4FCD-81D3-D77F963AC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AC29AF-40BF-4DB8-B42E-20E2F60DB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AAC4D-0F43-42B9-BDF1-C42052D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0370D-06DC-42AC-A79E-AC417173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91B7A7-A33B-4786-874D-BFA346E8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DD6E1-3E63-402D-A5B2-835A44D2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2153-D37D-43F2-950F-5D564B6A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446ED-E9DA-4B81-BC89-FB45B8F8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C05E4-15C8-428C-AEF7-BEEF2FC8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228948-C60E-4B4E-8A58-BA4C3D6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E2167-5794-450B-BF79-5532115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DDE9C2-EDD6-4DBB-8D39-7936C0B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88F3EC-7664-464E-8B2D-E45D27E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D7E3A-2BE2-48D6-A954-703955949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5F78-7D6C-45C0-9C7F-9521F9E79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AE0AF-45E2-4236-BE7C-9161C41F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9C7F-2E52-4097-8CF0-315FAA5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E8E60B-57AD-4698-A175-CFCF6FB38B1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4E64BA-D3AF-4011-BF5C-17DF7A2AAA2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3594B4-C058-4CD3-B536-2CD34A0DE25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61353E-B5A8-4D8E-9489-14CA0C79B0E9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982B1C-871F-4D50-B3A5-8DC19ADC866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085463-E4B4-45F4-BF5E-BEEB994D81D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B25EB0-70E4-4E1B-9007-51598F6EDA1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3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EB6D36-FE58-4AF5-BE4E-C07B42300C8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DDAE05-23A1-4256-83B9-79D9EF2B3A1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3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FE5CBA-812C-41E2-9C79-4A8406384AA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39F93C-308A-4B3B-9449-952277E4602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7A081E-145C-4E45-8EC8-E1305F4C5C3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4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DCC0F7-57A9-4073-BC07-715A89C3DCA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4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3F7631-2215-49E1-8428-6EF677E6C49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4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16994D-9F95-4CF2-B2C8-C8AB1908A40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A9DB11-8180-48E0-B1FC-1D3035AFC08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262FCA-A2C5-44F3-8D2D-D8F32E49710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7A39B1-6F1F-4BD3-9501-EEE2A6519A1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BCDAE-A36D-4225-9924-46FF7AB07C4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820EC1-8A9C-4215-92AF-B4AB99DD0D6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52446D-D827-4E1E-91B0-D96981C52E0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45DB88-7695-40BF-9C26-8553E3F5AB6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C086BA-1ECD-4EEF-9F19-6D3A4A5D67D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5C9A69-EFE0-4F0A-8D49-D43D6E5048C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470240"/>
          </a:xfrm>
          <a:prstGeom prst="rect">
            <a:avLst/>
          </a:prstGeom>
          <a:solidFill>
            <a:srgbClr val="799fc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80-летию Ростовской области      посвящается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1251000" y="378000"/>
            <a:ext cx="6400800" cy="458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0" rIns="0" tIns="68400" bIns="0" anchor="t">
            <a:noAutofit/>
          </a:bodyPr>
          <a:p>
            <a:pPr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Лицей№7» г.Новочеркасс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Рисунок 1" descr=""/>
          <p:cNvPicPr/>
          <p:nvPr/>
        </p:nvPicPr>
        <p:blipFill>
          <a:blip r:embed="rId2"/>
          <a:stretch/>
        </p:blipFill>
        <p:spPr>
          <a:xfrm>
            <a:off x="1901880" y="3133800"/>
            <a:ext cx="5280120" cy="3522600"/>
          </a:xfrm>
          <a:prstGeom prst="rect">
            <a:avLst/>
          </a:prstGeom>
          <a:ln w="0">
            <a:noFill/>
          </a:ln>
        </p:spPr>
      </p:pic>
      <p:pic>
        <p:nvPicPr>
          <p:cNvPr id="994" name="gimn-rostovskoy-oblasti-pravoslavnyy-tihiy-don.mp3" descr=""/>
          <p:cNvPicPr/>
          <p:nvPr/>
        </p:nvPicPr>
        <p:blipFill>
          <a:blip r:embed="rId3"/>
          <a:stretch/>
        </p:blipFill>
        <p:spPr>
          <a:xfrm>
            <a:off x="468360" y="5977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3233520" cy="2500200"/>
          </a:xfrm>
          <a:prstGeom prst="rect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e83d30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графическое положение области очень удобно и недаром Ростов называют «воротами Кавказа»,через Азовское море есть выход в  В Черное море</a:t>
            </a:r>
            <a:br>
              <a:rPr sz="2000"/>
            </a:br>
            <a:br>
              <a:rPr sz="20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ронеж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лгоград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алмык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аврополь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раснодар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Укра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Picture 2" descr=""/>
          <p:cNvPicPr/>
          <p:nvPr/>
        </p:nvPicPr>
        <p:blipFill>
          <a:blip r:embed="rId2"/>
          <a:stretch/>
        </p:blipFill>
        <p:spPr>
          <a:xfrm>
            <a:off x="3591000" y="549360"/>
            <a:ext cx="5553000" cy="6145200"/>
          </a:xfrm>
          <a:prstGeom prst="rect">
            <a:avLst/>
          </a:prstGeom>
          <a:ln w="0">
            <a:noFill/>
          </a:ln>
        </p:spPr>
      </p:pic>
      <p:sp>
        <p:nvSpPr>
          <p:cNvPr id="997" name="Rectangle 3"/>
          <p:cNvSpPr/>
          <p:nvPr/>
        </p:nvSpPr>
        <p:spPr>
          <a:xfrm>
            <a:off x="3811680" y="4186080"/>
            <a:ext cx="229068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остов - на- 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"/>
          <p:cNvSpPr/>
          <p:nvPr/>
        </p:nvSpPr>
        <p:spPr>
          <a:xfrm>
            <a:off x="5946840" y="828720"/>
            <a:ext cx="642960" cy="50004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5"/>
          <p:cNvSpPr/>
          <p:nvPr/>
        </p:nvSpPr>
        <p:spPr>
          <a:xfrm>
            <a:off x="8501040" y="5929200"/>
            <a:ext cx="642960" cy="57168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6"/>
          <p:cNvSpPr/>
          <p:nvPr/>
        </p:nvSpPr>
        <p:spPr>
          <a:xfrm>
            <a:off x="4714920" y="5572080"/>
            <a:ext cx="714240" cy="78588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7"/>
          <p:cNvSpPr/>
          <p:nvPr/>
        </p:nvSpPr>
        <p:spPr>
          <a:xfrm>
            <a:off x="3857760" y="2643120"/>
            <a:ext cx="857160" cy="785880"/>
          </a:xfrm>
          <a:prstGeom prst="octagon">
            <a:avLst>
              <a:gd name="adj" fmla="val 23148"/>
            </a:avLst>
          </a:prstGeom>
          <a:solidFill>
            <a:srgbClr val="f2f2f2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8"/>
          <p:cNvSpPr/>
          <p:nvPr/>
        </p:nvSpPr>
        <p:spPr>
          <a:xfrm>
            <a:off x="7358040" y="1285920"/>
            <a:ext cx="1057320" cy="91440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9"/>
          <p:cNvSpPr/>
          <p:nvPr/>
        </p:nvSpPr>
        <p:spPr>
          <a:xfrm>
            <a:off x="7072200" y="6000840"/>
            <a:ext cx="571680" cy="571320"/>
          </a:xfrm>
          <a:prstGeom prst="octagon">
            <a:avLst>
              <a:gd name="adj" fmla="val 23148"/>
            </a:avLst>
          </a:prstGeom>
          <a:solidFill>
            <a:srgbClr val="e6e0e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10"/>
          <p:cNvSpPr/>
          <p:nvPr/>
        </p:nvSpPr>
        <p:spPr>
          <a:xfrm flipH="1">
            <a:off x="6928560" y="4500720"/>
            <a:ext cx="142920" cy="1425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11"/>
          <p:cNvSpPr/>
          <p:nvPr/>
        </p:nvSpPr>
        <p:spPr>
          <a:xfrm>
            <a:off x="5000760" y="4714920"/>
            <a:ext cx="428400" cy="285840"/>
          </a:xfrm>
          <a:custGeom>
            <a:avLst/>
            <a:gdLst>
              <a:gd name="textAreaLeft" fmla="*/ 132480 w 428400"/>
              <a:gd name="textAreaRight" fmla="*/ 295920 w 428400"/>
              <a:gd name="textAreaTop" fmla="*/ 109080 h 285840"/>
              <a:gd name="textAreaBottom" fmla="*/ 218520 h 285840"/>
            </a:gdLst>
            <a:ahLst/>
            <a:rect l="textAreaLeft" t="textAreaTop" r="textAreaRight" b="textAreaBottom"/>
            <a:pathLst>
              <a:path w="428625" h="285750">
                <a:moveTo>
                  <a:pt x="0" y="109146"/>
                </a:moveTo>
                <a:lnTo>
                  <a:pt x="163721" y="109147"/>
                </a:lnTo>
                <a:lnTo>
                  <a:pt x="214313" y="0"/>
                </a:lnTo>
                <a:lnTo>
                  <a:pt x="264904" y="109147"/>
                </a:lnTo>
                <a:lnTo>
                  <a:pt x="428625" y="109146"/>
                </a:lnTo>
                <a:lnTo>
                  <a:pt x="296171" y="176602"/>
                </a:lnTo>
                <a:lnTo>
                  <a:pt x="346765" y="285749"/>
                </a:lnTo>
                <a:lnTo>
                  <a:pt x="214313" y="218292"/>
                </a:lnTo>
                <a:lnTo>
                  <a:pt x="81860" y="285749"/>
                </a:lnTo>
                <a:lnTo>
                  <a:pt x="132454" y="1766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2"/>
          <p:cNvSpPr/>
          <p:nvPr/>
        </p:nvSpPr>
        <p:spPr>
          <a:xfrm>
            <a:off x="223920" y="2743200"/>
            <a:ext cx="3071880" cy="1928880"/>
          </a:xfrm>
          <a:prstGeom prst="flowChartOffpageConnector">
            <a:avLst/>
          </a:prstGeom>
          <a:solidFill>
            <a:srgbClr val="fc2b08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ши сосед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мволы Ростовской облас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 Box 2"/>
          <p:cNvSpPr/>
          <p:nvPr/>
        </p:nvSpPr>
        <p:spPr>
          <a:xfrm>
            <a:off x="4678200" y="1214280"/>
            <a:ext cx="4000680" cy="2089440"/>
          </a:xfrm>
          <a:prstGeom prst="rect">
            <a:avLst/>
          </a:prstGeom>
          <a:solidFill>
            <a:srgbClr val="fcd5b5"/>
          </a:solidFill>
          <a:ln w="126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Флаг принят в 1996 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обозначает единство 3-х народов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иний цвет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азаки Дон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желты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калмыки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расный  цвет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с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2"/>
          <a:stretch/>
        </p:blipFill>
        <p:spPr>
          <a:xfrm>
            <a:off x="4500720" y="3838680"/>
            <a:ext cx="4357440" cy="251784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1010" name="Rectangle 5"/>
          <p:cNvSpPr/>
          <p:nvPr/>
        </p:nvSpPr>
        <p:spPr>
          <a:xfrm>
            <a:off x="457200" y="1214280"/>
            <a:ext cx="3614760" cy="857520"/>
          </a:xfrm>
          <a:prstGeom prst="rect">
            <a:avLst/>
          </a:prstGeom>
          <a:solidFill>
            <a:srgbClr val="fcd5b5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ерб принят  в 1996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Рисунок 1" descr=""/>
          <p:cNvPicPr/>
          <p:nvPr/>
        </p:nvPicPr>
        <p:blipFill>
          <a:blip r:embed="rId3"/>
          <a:stretch/>
        </p:blipFill>
        <p:spPr>
          <a:xfrm>
            <a:off x="201600" y="2359080"/>
            <a:ext cx="4016520" cy="4022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7-08-31T10:21:22Z</dcterms:modified>
  <cp:revision>101</cp:revision>
  <dc:subject/>
  <dc:title>  «80-летию Ростовской области      посвящается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870000000000010261200207f7000400038000</vt:lpwstr>
  </property>
</Properties>
</file>