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39C-00D1-4105-85AC-0B1F00F9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AE8-737D-4642-9018-004359FC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A86-C4DF-4EA1-A767-28822669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42D-1C00-4CCC-A418-D3369AAF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1AB-3100-4140-97BD-C7DAA236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EF1-A3E5-4D86-9FF8-8F11440B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97E-5F9F-4698-8B09-AB5D8E43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7C0-4AF6-409D-9886-01C816AB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037-FA7B-42C8-8EE9-FB20FFAE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143-87F3-43BF-A6CD-5970013F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20B-0A20-4A5A-9DE5-A81911A0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6F1-A9C3-40C9-9AD9-A67F7B52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4F6B-7804-4F1C-A3EF-4DF33FBAF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роморфозы позвоночных живот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6429240" cy="45007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6786720" y="3214800"/>
            <a:ext cx="235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ч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убенцова Т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2638080" cy="56293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428760" y="50004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редстав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003760" y="2858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аруж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окро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71680" y="142884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класс Ры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578160" y="257184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 Земнов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582120" y="371484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 Пресмыкающие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578160" y="4929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 П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510120" y="60721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  Млекопит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3593160" y="2858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Ароморфозы покровов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929040" y="949320"/>
            <a:ext cx="47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71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У рыб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жа тонкая, имеет одноклеточные железы. Тело покрыто чешу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У земноводных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жа голая, содержит многоклеточные железы, вырабатывающие слизь. Кожа – орган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У пресмыкающихся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жа сухая, не имеет желез, покрыта роговыми чешуйками , щитками, пласт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У птиц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жа сухая, нет желез, кроме копчиковой, которая выделяет жир для смазки перьев. Тело покрыто перьевым покро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У млекопитающих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жа толстая, имеет много желез( потовых, сальных, пахучих). Тело покрыто волосяным покро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оговой покров, перья, волосы имеют сходный химический состав. Таким образом, в процессе эволюции происходило ороговение  покровов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500120" y="214200"/>
            <a:ext cx="636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Ароморфозы органов дых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F:\3.jpg"/>
          <p:cNvPicPr/>
          <p:nvPr/>
        </p:nvPicPr>
        <p:blipFill>
          <a:blip r:embed="rId1"/>
          <a:stretch/>
        </p:blipFill>
        <p:spPr>
          <a:xfrm>
            <a:off x="3571920" y="1785960"/>
            <a:ext cx="1214280" cy="110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:\4.jpg"/>
          <p:cNvPicPr/>
          <p:nvPr/>
        </p:nvPicPr>
        <p:blipFill>
          <a:blip r:embed="rId2"/>
          <a:stretch/>
        </p:blipFill>
        <p:spPr>
          <a:xfrm>
            <a:off x="5286240" y="1000080"/>
            <a:ext cx="1224000" cy="197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2000160" y="1643040"/>
            <a:ext cx="1071720" cy="1255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126216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5"/>
          <a:stretch/>
        </p:blipFill>
        <p:spPr>
          <a:xfrm>
            <a:off x="6929280" y="1571760"/>
            <a:ext cx="1514520" cy="1342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1"/>
          <p:cNvSpPr/>
          <p:nvPr/>
        </p:nvSpPr>
        <p:spPr>
          <a:xfrm>
            <a:off x="71424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7503480" y="3000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5788800" y="3000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4074480" y="3000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2359800" y="3000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6"/>
          <p:cNvSpPr/>
          <p:nvPr/>
        </p:nvSpPr>
        <p:spPr>
          <a:xfrm>
            <a:off x="172080" y="3357720"/>
            <a:ext cx="879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абры рыб – органы водного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гкие земноводных имеют гладкую внутреннюю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гкие пресмыкающихся имеют ячеистое строение, развиты воздухоносные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гкие птиц имеют пористое строение , есть воздушные меш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орошо развиты воздухоносные пути. У птиц двойное дых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гкие млекопитающих имеют альвеолярное строение. Хорошо 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здухоносные пути (трахея, бронхи). Вентиляцию легких обеспеч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иафрагма и межреберные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7"/>
          <p:cNvSpPr/>
          <p:nvPr/>
        </p:nvSpPr>
        <p:spPr>
          <a:xfrm>
            <a:off x="357120" y="565776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Эволюция органов дыхания ушла по пути увеличения площади газообмена легких, совершенствования транспортных систем доставки кислорода к клеткам и развития систем, обеспечивающих  вентиляцию органов дых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7989840" cy="25574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500040" y="3571920"/>
            <a:ext cx="8486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2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рыб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це двухкамерное , кровь в сердце веноз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земноводных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дце трехкамерное, в желудочке сердца кровь смеша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пресмыкающихся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дце трехкамерное с частичной перегородкой в желудочке, поэтому кровь частично смеш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птиц и млекопитающих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дце четырехкамер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вь в сердце не смеш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рыб один круг кровообращения,  у остальных – д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связано с развитием легоч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402840" y="214200"/>
            <a:ext cx="81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Ароморфозы  в кровеносной системе позвоноч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1.jpg"/>
          <p:cNvPicPr/>
          <p:nvPr/>
        </p:nvPicPr>
        <p:blipFill>
          <a:blip r:embed="rId1"/>
          <a:stretch/>
        </p:blipFill>
        <p:spPr>
          <a:xfrm>
            <a:off x="285840" y="1214280"/>
            <a:ext cx="664056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1946520" y="285840"/>
            <a:ext cx="55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Ароморфозы головного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6929280" y="4214880"/>
            <a:ext cx="2214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1 – передни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2 – средни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3 – мозжеч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4 – промежуточны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5 – продолговаты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2071800" y="4000680"/>
            <a:ext cx="13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2428920" cy="150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3500280" y="1000080"/>
            <a:ext cx="2322720" cy="15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6429240" y="1000080"/>
            <a:ext cx="2357640" cy="1571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1285920" y="3643200"/>
            <a:ext cx="2533680" cy="1719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8"/>
          <p:cNvSpPr/>
          <p:nvPr/>
        </p:nvSpPr>
        <p:spPr>
          <a:xfrm>
            <a:off x="500040" y="21420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Ароморфозы позвоночных в размн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0" y="2500200"/>
            <a:ext cx="31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ыбы выметывают икр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плодотворение  наруж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3143160" y="2571840"/>
            <a:ext cx="300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амки земновод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ыметывают  икр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плодотворение наруж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3"/>
          <p:cNvSpPr/>
          <p:nvPr/>
        </p:nvSpPr>
        <p:spPr>
          <a:xfrm>
            <a:off x="6072120" y="2571840"/>
            <a:ext cx="307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амки пресмык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ткладывают яйц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плодотворение внутрен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5"/>
          <p:cNvSpPr/>
          <p:nvPr/>
        </p:nvSpPr>
        <p:spPr>
          <a:xfrm>
            <a:off x="928800" y="535788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амки  пт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ткладывают яйц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плодотворение внутренне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есть забота о потом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6"/>
          <p:cNvSpPr/>
          <p:nvPr/>
        </p:nvSpPr>
        <p:spPr>
          <a:xfrm>
            <a:off x="4143240" y="535788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У плацентарных млекопитающих развитие плода происходит в мышечном органе – матке, питание его  идет через детское место – плацент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плодотворение внутренне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есть забота о потом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F:\5.jpg"/>
          <p:cNvPicPr/>
          <p:nvPr/>
        </p:nvPicPr>
        <p:blipFill>
          <a:blip r:embed="rId5"/>
          <a:stretch/>
        </p:blipFill>
        <p:spPr>
          <a:xfrm>
            <a:off x="5286240" y="371484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http://900igr.net/datai/biologija/Paleozojskaja-era/0017-020-Paleozojskaja-era.png"/>
          <p:cNvPicPr/>
          <p:nvPr/>
        </p:nvPicPr>
        <p:blipFill>
          <a:blip r:embed="rId1"/>
          <a:stretch/>
        </p:blipFill>
        <p:spPr>
          <a:xfrm>
            <a:off x="971640" y="1125360"/>
            <a:ext cx="4800600" cy="502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25810"/>
          <p:cNvPicPr/>
          <p:nvPr/>
        </p:nvPicPr>
        <p:blipFill>
          <a:blip r:embed="rId2"/>
          <a:stretch/>
        </p:blipFill>
        <p:spPr>
          <a:xfrm>
            <a:off x="5796000" y="2781360"/>
            <a:ext cx="2990880" cy="1724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ереходные фор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43:13Z</dcterms:created>
  <dc:creator>fender</dc:creator>
  <dc:description/>
  <dc:language>en-US</dc:language>
  <cp:lastModifiedBy>user</cp:lastModifiedBy>
  <dcterms:modified xsi:type="dcterms:W3CDTF">2017-01-22T12:12:15Z</dcterms:modified>
  <cp:revision>52</cp:revision>
  <dc:subject/>
  <dc:title>Слайд 1</dc:title>
</cp:coreProperties>
</file>