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9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2317-2254-483F-AD1D-19E25FE09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EFDC-7C17-4C2A-8BE5-B59C2A2B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E68F-E497-420F-8B3D-72DE15133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7D4F-0D63-4106-8C09-79174C48E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F572-B01D-4F52-8A1E-A7D1C35C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74EC-0878-483D-9AE9-E23A43AD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7A5B-C1F7-4C18-9703-C2A4BCD8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204A-2C37-43A9-81DC-2BEB180E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4D86-47FB-4ED3-9C28-59C7A3C7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092E-FBB1-4B4E-9982-1DEB7A87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7EB2-9549-42AB-9B1F-9E78D4B9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F498-B40C-4F91-A57C-2F24B3A0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97C3-404F-4D0C-AD67-79C7644D22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Ароморфозы позвоночных животны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85840" y="2000160"/>
            <a:ext cx="6429240" cy="450072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4"/>
          <p:cNvSpPr/>
          <p:nvPr/>
        </p:nvSpPr>
        <p:spPr>
          <a:xfrm>
            <a:off x="6786720" y="3214800"/>
            <a:ext cx="235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Учи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Бубенцова Т. 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71680" y="785880"/>
            <a:ext cx="2638080" cy="562932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428760" y="50004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Представи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2003760" y="28584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Наруж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покро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571680" y="142884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класс Ры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578160" y="2571840"/>
            <a:ext cx="14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 Земново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582120" y="3714840"/>
            <a:ext cx="175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 Пресмыкающие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8"/>
          <p:cNvSpPr/>
          <p:nvPr/>
        </p:nvSpPr>
        <p:spPr>
          <a:xfrm>
            <a:off x="578160" y="4929120"/>
            <a:ext cx="99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 П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9"/>
          <p:cNvSpPr/>
          <p:nvPr/>
        </p:nvSpPr>
        <p:spPr>
          <a:xfrm>
            <a:off x="510120" y="60721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  Млекопитающ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0"/>
          <p:cNvSpPr/>
          <p:nvPr/>
        </p:nvSpPr>
        <p:spPr>
          <a:xfrm>
            <a:off x="3593160" y="285840"/>
            <a:ext cx="53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Ароморфозы покровов т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3929040" y="949320"/>
            <a:ext cx="4786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5712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У рыб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ожа тонкая, имеет одноклеточные железы. Тело покрыто чешуё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У земноводных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ожа голая, содержит многоклеточные железы, вырабатывающие слизь. Кожа – орган дых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У пресмыкающихся 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ожа сухая, не имеет желез, покрыта роговыми чешуйками , щитками, пластин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У птиц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ожа сухая, нет желез, кроме копчиковой, которая выделяет жир для смазки перьев. Тело покрыто перьевым покров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У млекопитающих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ожа толстая, имеет много желез( потовых, сальных, пахучих). Тело покрыто волосяным покров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оговой покров, перья, волосы имеют сходный химический состав. Таким образом, в процессе эволюции происходило ороговение  покровов т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1500120" y="214200"/>
            <a:ext cx="636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Ароморфозы органов дых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F:\3.jpg"/>
          <p:cNvPicPr/>
          <p:nvPr/>
        </p:nvPicPr>
        <p:blipFill>
          <a:blip r:embed="rId1"/>
          <a:stretch/>
        </p:blipFill>
        <p:spPr>
          <a:xfrm>
            <a:off x="3571920" y="1785960"/>
            <a:ext cx="1214280" cy="1103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F:\4.jpg"/>
          <p:cNvPicPr/>
          <p:nvPr/>
        </p:nvPicPr>
        <p:blipFill>
          <a:blip r:embed="rId2"/>
          <a:stretch/>
        </p:blipFill>
        <p:spPr>
          <a:xfrm>
            <a:off x="5286240" y="1000080"/>
            <a:ext cx="1224000" cy="1976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3"/>
          <a:stretch/>
        </p:blipFill>
        <p:spPr>
          <a:xfrm>
            <a:off x="2000160" y="1643040"/>
            <a:ext cx="1071720" cy="1255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"/>
          <p:cNvPicPr/>
          <p:nvPr/>
        </p:nvPicPr>
        <p:blipFill>
          <a:blip r:embed="rId4"/>
          <a:stretch/>
        </p:blipFill>
        <p:spPr>
          <a:xfrm>
            <a:off x="357120" y="1714680"/>
            <a:ext cx="126216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"/>
          <p:cNvPicPr/>
          <p:nvPr/>
        </p:nvPicPr>
        <p:blipFill>
          <a:blip r:embed="rId5"/>
          <a:stretch/>
        </p:blipFill>
        <p:spPr>
          <a:xfrm>
            <a:off x="6929280" y="1571760"/>
            <a:ext cx="1514520" cy="1342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11"/>
          <p:cNvSpPr/>
          <p:nvPr/>
        </p:nvSpPr>
        <p:spPr>
          <a:xfrm>
            <a:off x="714240" y="30002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2"/>
          <p:cNvSpPr/>
          <p:nvPr/>
        </p:nvSpPr>
        <p:spPr>
          <a:xfrm>
            <a:off x="7503480" y="30002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3"/>
          <p:cNvSpPr/>
          <p:nvPr/>
        </p:nvSpPr>
        <p:spPr>
          <a:xfrm>
            <a:off x="5788800" y="30002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4"/>
          <p:cNvSpPr/>
          <p:nvPr/>
        </p:nvSpPr>
        <p:spPr>
          <a:xfrm>
            <a:off x="4074480" y="30002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5"/>
          <p:cNvSpPr/>
          <p:nvPr/>
        </p:nvSpPr>
        <p:spPr>
          <a:xfrm>
            <a:off x="2359800" y="30002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6"/>
          <p:cNvSpPr/>
          <p:nvPr/>
        </p:nvSpPr>
        <p:spPr>
          <a:xfrm>
            <a:off x="172080" y="3357720"/>
            <a:ext cx="8793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Жабры рыб – органы водного дых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Легкие земноводных имеют гладкую внутреннюю поверх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Легкие пресмыкающихся имеют ячеистое строение, развиты воздухоносные пу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Легкие птиц имеют пористое строение , есть воздушные мешк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Хорошо развиты воздухоносные пути. У птиц двойное дых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Легкие млекопитающих имеют альвеолярное строение. Хорошо разви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оздухоносные пути (трахея, бронхи). Вентиляцию легких обеспечи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иафрагма и межреберные мыш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7"/>
          <p:cNvSpPr/>
          <p:nvPr/>
        </p:nvSpPr>
        <p:spPr>
          <a:xfrm>
            <a:off x="357120" y="565776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Эволюция органов дыхания ушла по пути увеличения площади газообмена легких, совершенствования транспортных систем доставки кислорода к клеткам и развития систем, обеспечивающих  вентиляцию органов дых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571680" y="785880"/>
            <a:ext cx="7989840" cy="25574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4"/>
          <p:cNvSpPr/>
          <p:nvPr/>
        </p:nvSpPr>
        <p:spPr>
          <a:xfrm>
            <a:off x="500040" y="3571920"/>
            <a:ext cx="8486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252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 рыб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ердце двухкамерное , кровь в сердце веноз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252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 земноводных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дце трехкамерное, в желудочке сердца кровь смеша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252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 пресмыкающихся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дце трехкамерное с частичной перегородкой в желудочке, поэтому кровь частично смешив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252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 птиц и млекопитающих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дце четырехкамерно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овь в сердце не смешив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рыб один круг кровообращения,  у остальных – д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связано с развитием легочного дых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402840" y="214200"/>
            <a:ext cx="81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Ароморфозы  в кровеносной системе позвоноч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:\1.jpg"/>
          <p:cNvPicPr/>
          <p:nvPr/>
        </p:nvPicPr>
        <p:blipFill>
          <a:blip r:embed="rId1"/>
          <a:stretch/>
        </p:blipFill>
        <p:spPr>
          <a:xfrm>
            <a:off x="285840" y="1214280"/>
            <a:ext cx="6640560" cy="485784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4"/>
          <p:cNvSpPr/>
          <p:nvPr/>
        </p:nvSpPr>
        <p:spPr>
          <a:xfrm>
            <a:off x="1946520" y="285840"/>
            <a:ext cx="556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Ароморфозы головного моз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7"/>
          <p:cNvSpPr/>
          <p:nvPr/>
        </p:nvSpPr>
        <p:spPr>
          <a:xfrm>
            <a:off x="6929280" y="4214880"/>
            <a:ext cx="2214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1 – передний моз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2 – средний моз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3 – мозжеч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4 – промежуточный моз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5 – продолговатый моз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2"/>
          <p:cNvSpPr/>
          <p:nvPr/>
        </p:nvSpPr>
        <p:spPr>
          <a:xfrm>
            <a:off x="2071800" y="4000680"/>
            <a:ext cx="13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357120" y="1000080"/>
            <a:ext cx="2428920" cy="1508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3500280" y="1000080"/>
            <a:ext cx="2322720" cy="154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3"/>
          <a:stretch/>
        </p:blipFill>
        <p:spPr>
          <a:xfrm>
            <a:off x="6429240" y="1000080"/>
            <a:ext cx="2357640" cy="1571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4"/>
          <a:stretch/>
        </p:blipFill>
        <p:spPr>
          <a:xfrm>
            <a:off x="1285920" y="3643200"/>
            <a:ext cx="2533680" cy="17193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8"/>
          <p:cNvSpPr/>
          <p:nvPr/>
        </p:nvSpPr>
        <p:spPr>
          <a:xfrm>
            <a:off x="500040" y="214200"/>
            <a:ext cx="878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Ароморфозы позвоночных в размнож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9"/>
          <p:cNvSpPr/>
          <p:nvPr/>
        </p:nvSpPr>
        <p:spPr>
          <a:xfrm>
            <a:off x="0" y="2500200"/>
            <a:ext cx="314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Рыбы выметывают икр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оплодотворение  наруж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0"/>
          <p:cNvSpPr/>
          <p:nvPr/>
        </p:nvSpPr>
        <p:spPr>
          <a:xfrm>
            <a:off x="3143160" y="2571840"/>
            <a:ext cx="3000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Самки земновод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выметывают  икр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оплодотворение наруж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3"/>
          <p:cNvSpPr/>
          <p:nvPr/>
        </p:nvSpPr>
        <p:spPr>
          <a:xfrm>
            <a:off x="6072120" y="2571840"/>
            <a:ext cx="307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Самки пресмыкаю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откладывают яйц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оплодотворение внутренн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5"/>
          <p:cNvSpPr/>
          <p:nvPr/>
        </p:nvSpPr>
        <p:spPr>
          <a:xfrm>
            <a:off x="928800" y="5357880"/>
            <a:ext cx="342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Самки  пти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откладывают яйц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оплодотворение внутренне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есть забота о потомст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6"/>
          <p:cNvSpPr/>
          <p:nvPr/>
        </p:nvSpPr>
        <p:spPr>
          <a:xfrm>
            <a:off x="4143240" y="5357880"/>
            <a:ext cx="4714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У плацентарных млекопитающих развитие плода происходит в мышечном органе – матке, питание его  идет через детское место – плацент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оплодотворение внутренне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есть забота о потомст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F:\5.jpg"/>
          <p:cNvPicPr/>
          <p:nvPr/>
        </p:nvPicPr>
        <p:blipFill>
          <a:blip r:embed="rId5"/>
          <a:stretch/>
        </p:blipFill>
        <p:spPr>
          <a:xfrm>
            <a:off x="5286240" y="3714840"/>
            <a:ext cx="221472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http://900igr.net/datai/biologija/Paleozojskaja-era/0017-020-Paleozojskaja-era.png"/>
          <p:cNvPicPr/>
          <p:nvPr/>
        </p:nvPicPr>
        <p:blipFill>
          <a:blip r:embed="rId1"/>
          <a:stretch/>
        </p:blipFill>
        <p:spPr>
          <a:xfrm>
            <a:off x="971640" y="1125360"/>
            <a:ext cx="4800600" cy="5023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25810"/>
          <p:cNvPicPr/>
          <p:nvPr/>
        </p:nvPicPr>
        <p:blipFill>
          <a:blip r:embed="rId2"/>
          <a:stretch/>
        </p:blipFill>
        <p:spPr>
          <a:xfrm>
            <a:off x="5796000" y="2781360"/>
            <a:ext cx="2990880" cy="17240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ереходные фор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7:43:13Z</dcterms:created>
  <dc:creator>fender</dc:creator>
  <dc:description/>
  <dc:language>en-US</dc:language>
  <cp:lastModifiedBy>user</cp:lastModifiedBy>
  <dcterms:modified xsi:type="dcterms:W3CDTF">2017-01-22T12:12:15Z</dcterms:modified>
  <cp:revision>52</cp:revision>
  <dc:subject/>
  <dc:title>Слайд 1</dc:title>
</cp:coreProperties>
</file>