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F6B-27AD-4A57-9179-5F2A94EB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5E6-761D-46C0-94A1-AAC68957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358-81C3-418F-9904-E3F62AFE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65C-1768-47B6-86CF-6D128833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29C-CF16-4534-9D4D-5B809A59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646-919C-4BC6-B471-3759699C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7C1-E661-409E-9A3E-E0C8331A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487-4CB3-4B8A-8F66-BB866C8D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C7F-BCC5-4570-BE85-95D4B04E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44B-8DD7-4B3A-9FBC-DA63157A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894-F251-4AF5-A065-F3EC8253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E94-CCBD-472F-B7B2-C289C962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51E5-BD89-4810-BB83-F7BB87A7B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1631880" y="0"/>
            <a:ext cx="91202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4" descr=""/>
          <p:cNvPicPr/>
          <p:nvPr/>
        </p:nvPicPr>
        <p:blipFill>
          <a:blip r:embed="rId1"/>
          <a:stretch/>
        </p:blipFill>
        <p:spPr>
          <a:xfrm>
            <a:off x="137484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1415880" y="0"/>
            <a:ext cx="931716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1368360" y="0"/>
            <a:ext cx="90075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1635120" y="0"/>
            <a:ext cx="906300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1438200" y="0"/>
            <a:ext cx="924084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1484280" y="0"/>
            <a:ext cx="901692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"/>
          <p:cNvPicPr/>
          <p:nvPr/>
        </p:nvPicPr>
        <p:blipFill>
          <a:blip r:embed="rId1"/>
          <a:stretch/>
        </p:blipFill>
        <p:spPr>
          <a:xfrm>
            <a:off x="1298520" y="0"/>
            <a:ext cx="900612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903240" y="0"/>
            <a:ext cx="1029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7-12-25T04:54:42Z</dcterms:modified>
  <cp:revision>2</cp:revision>
  <dc:subject/>
  <dc:title>Презентация PowerPoint</dc:title>
</cp:coreProperties>
</file>