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2B5-1D84-44A7-8A45-E161C5CE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431-E9C2-4DD6-8C2D-4109732C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021-288F-4340-9FE9-5723A8BD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BE9-8922-4D53-8075-16FC77E7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577-0142-4506-A6FE-AE7EE1DB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4AB-C37F-493D-9317-03055622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0A2-40E6-4FCE-8992-9FA64FBB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634-83DA-4143-BD44-CCE71230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779-F259-428B-8CEB-86BAB1AB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5E5-9366-4094-B008-64FB74D3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917-7D90-475A-A417-81A93074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B28-1BFE-435E-BCEE-0027973D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0E58-940C-44AB-9EB9-666639B24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1631880" y="0"/>
            <a:ext cx="91202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4" descr=""/>
          <p:cNvPicPr/>
          <p:nvPr/>
        </p:nvPicPr>
        <p:blipFill>
          <a:blip r:embed="rId1"/>
          <a:stretch/>
        </p:blipFill>
        <p:spPr>
          <a:xfrm>
            <a:off x="137484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1415880" y="0"/>
            <a:ext cx="931716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1368360" y="0"/>
            <a:ext cx="90075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1635120" y="0"/>
            <a:ext cx="906300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"/>
          <p:cNvPicPr/>
          <p:nvPr/>
        </p:nvPicPr>
        <p:blipFill>
          <a:blip r:embed="rId1"/>
          <a:stretch/>
        </p:blipFill>
        <p:spPr>
          <a:xfrm>
            <a:off x="1438200" y="0"/>
            <a:ext cx="924084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1484280" y="0"/>
            <a:ext cx="901692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"/>
          <p:cNvPicPr/>
          <p:nvPr/>
        </p:nvPicPr>
        <p:blipFill>
          <a:blip r:embed="rId1"/>
          <a:stretch/>
        </p:blipFill>
        <p:spPr>
          <a:xfrm>
            <a:off x="1298520" y="0"/>
            <a:ext cx="900612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903240" y="0"/>
            <a:ext cx="1029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7-12-25T04:54:42Z</dcterms:modified>
  <cp:revision>2</cp:revision>
  <dc:subject/>
  <dc:title>Презентация PowerPoint</dc:title>
</cp:coreProperties>
</file>