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16C2-D58B-414D-BC7C-10788E31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944-96AF-454B-866B-D0AA1D84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AC1-9B81-4EFC-8D1B-8AD5851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03EC-976D-4328-9846-E3172F9A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3F2F-A4C8-447D-A453-DE52B6E9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7C509-4A92-4E64-9D3F-8C9C944B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C5BDA-C680-4063-8507-4A5D94E9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38821-EEA5-439E-85F8-CDEE3A39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61645F-045C-4DB0-8E51-55B32285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F0919-1CDB-4C65-9EE0-CA6A1705D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05CF3-2583-4F2B-B3AB-9381801C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E386-E74E-4653-9D74-B393F90D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F121F-E78D-4CFF-891B-F8D69481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AF384-D996-4343-B72C-362014F0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AE542-4F86-4E2F-8BFB-A3E5279D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4F349B-3B20-49C7-9385-94F74A6C6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51917-7B7B-45CD-80FA-C74FFB7C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EF413-BD1B-4FFB-A910-8AFECC1D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E0A749-3CBE-4D20-AC51-4930CF56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3390A-4258-4F18-9062-E92ACCEA1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EFA993-3B61-4967-9111-88EEB993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20955A-C0A3-44F9-8A02-420E4CC1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756-FAE4-43B2-A028-7316E46C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740E7-AD27-43D2-8426-E34EAA06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640B7-6462-4072-8E93-30E92A591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2CE91-00F2-4ACA-BD51-60B2A84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51E54-9AD5-469C-BA9C-4242773C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8C8D01-383F-409E-B552-F747781F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95472-8CC5-4079-8EA8-CA0AB7FA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250F3-6FF7-40D9-BFEA-327197BB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992BC7-A873-4040-A43F-505A4F0C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EAA514-8495-45F5-88B0-0EC5587F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79F867-02B9-481B-8E40-80B5C60C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9273-0ED6-45E5-A3CF-E1EAC042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ED5220-9B4A-4BB2-93AA-BBCB5A47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8D5FB-8B2F-423B-86C9-A7712B50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D35A2-3B09-486D-9A09-FDC3C80C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EC4FB9-7655-4FEB-B0EA-0B7A2308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B9C5D-EF90-42E7-A6D4-B3978227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F0F6D-2289-4316-8313-AE85E3A9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96C50-68D2-4590-83F6-9F37DD93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5648D-14DE-4027-95F3-15E8E064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53991D-28B0-4EC2-B133-2E78B49B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0B3BB8-B020-4C82-A7F0-61DD1784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FAB5-9B22-4DDB-BA94-628520DA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06C811-ABE2-415E-B101-7E03AA21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2D5245-B8BE-452B-A73B-7556887E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B2049D-9740-4D18-BBE1-EC9F6817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2DA23-3A99-44AD-B339-466AB3B7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894074-2C58-494E-BD3D-DD2179FD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9CC1DF-62BF-4246-841E-E8896DCE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245576-7F6B-405B-BFD1-A31B6220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7DC64A-4426-4D43-A67D-5D1348C7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C6B5A3-EE7D-4650-9495-A9148E8D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3FE9CB-19E2-414A-820C-BA61F9BCD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6981-EF91-44E1-93F0-32BF450A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CC6DF-9B87-4A35-B072-9F787206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46AC2-98C2-4E56-81AB-26A4D26E9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5F4FD-6C85-4DCA-939E-24FFF8DB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FCC76-2360-4D04-927D-F61DC63D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7C9D0-2988-45B4-8602-276E77D4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48FE29-60CE-402F-B64A-E75F3348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20DE95-BD9B-48D2-A393-E94A405B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8453E-3D25-4BDB-A6DD-998377C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E357D4-31E4-494F-A136-7D3B5D7A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E7E9D-ADA0-48EE-B1E6-29D85CF7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935E-3844-47B3-903C-DC4CD1AB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15928B-B6F2-4FAC-AC03-3ACA7839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5F965E-EE1E-469F-81E3-F0A5CB93B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4EB381-FFEA-4C14-AF9A-70B5F29F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9268-C8C4-4CB8-9834-983E383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48A2-24CD-49E2-A6D4-0E863CFE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0473-8D1E-4D22-98CA-B4DC226F5AE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4755-A149-4490-95E6-4EB1DC89AE4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58F0-2588-439D-A311-083116F328B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64FF-C53E-4834-8690-7F63F71A317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71FF2-D6D6-4DBB-AD8D-7D657E1018F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8E95-2221-430C-8451-8758F99EBE6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ЧТО ТАКОЕ ТЕАТР?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3" name="Picture 2" descr="C:\Users\Наталья\Desktop\Театральная неделя\оперный Ек-г.jpg"/>
          <p:cNvPicPr/>
          <p:nvPr/>
        </p:nvPicPr>
        <p:blipFill>
          <a:blip r:embed="rId1"/>
          <a:stretch/>
        </p:blipFill>
        <p:spPr>
          <a:xfrm>
            <a:off x="468360" y="985680"/>
            <a:ext cx="818028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9977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света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969080" cy="3097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4361040" y="115920"/>
            <a:ext cx="44305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59497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Уличный театр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070160" cy="3313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84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Users\Наталья\Desktop\Театральная неделя\теневой театр.jpg"/>
          <p:cNvPicPr/>
          <p:nvPr/>
        </p:nvPicPr>
        <p:blipFill>
          <a:blip r:embed="rId1"/>
          <a:stretch/>
        </p:blipFill>
        <p:spPr>
          <a:xfrm>
            <a:off x="395280" y="1197000"/>
            <a:ext cx="309708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атры в детском саду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3" descr="C:\Users\Наталья\Desktop\Театральная неделя\вязаный театр.jpg"/>
          <p:cNvPicPr/>
          <p:nvPr/>
        </p:nvPicPr>
        <p:blipFill>
          <a:blip r:embed="rId2"/>
          <a:stretch/>
        </p:blipFill>
        <p:spPr>
          <a:xfrm>
            <a:off x="5253120" y="1197000"/>
            <a:ext cx="2943000" cy="2160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Наталья\Desktop\i.jpg"/>
          <p:cNvPicPr/>
          <p:nvPr/>
        </p:nvPicPr>
        <p:blipFill>
          <a:blip r:embed="rId3"/>
          <a:stretch/>
        </p:blipFill>
        <p:spPr>
          <a:xfrm>
            <a:off x="179280" y="3670200"/>
            <a:ext cx="4127760" cy="2764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E:\Театр\IMG_0254.JPG"/>
          <p:cNvPicPr/>
          <p:nvPr/>
        </p:nvPicPr>
        <p:blipFill>
          <a:blip r:embed="rId4"/>
          <a:stretch/>
        </p:blipFill>
        <p:spPr>
          <a:xfrm>
            <a:off x="4648320" y="3670200"/>
            <a:ext cx="41529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0" name="Picture 2" descr="C:\Users\Наталья\Desktop\Театральная неделя\i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280" y="685800"/>
            <a:ext cx="76899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Презентацию подготовила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Зарубина-Линькова Анастасия Юрьевна,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музыкальный руководитель дошкольного отделения, а также педагог дополнительного образования –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художественный руководитель Детского театра мюзикла «Конфетти»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ГБОУ «Школа №2088 «Грайвороново»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Город Москва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2018 год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5" name="Picture 3" descr="C:\Users\Наталья\Desktop\Театральная неделя\Ек-г.jpg"/>
          <p:cNvPicPr/>
          <p:nvPr/>
        </p:nvPicPr>
        <p:blipFill>
          <a:blip r:embed="rId1"/>
          <a:stretch/>
        </p:blipFill>
        <p:spPr>
          <a:xfrm>
            <a:off x="343080" y="3357720"/>
            <a:ext cx="4249440" cy="3098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Наталья\Desktop\Театральная неделя\Большой театр России.jpg"/>
          <p:cNvPicPr/>
          <p:nvPr/>
        </p:nvPicPr>
        <p:blipFill>
          <a:blip r:embed="rId2"/>
          <a:stretch/>
        </p:blipFill>
        <p:spPr>
          <a:xfrm>
            <a:off x="293760" y="115920"/>
            <a:ext cx="4298760" cy="3097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C:\Users\Наталья\Desktop\Театральная неделя\17888088915534f4197b38e6.83580993.jpeg"/>
          <p:cNvPicPr/>
          <p:nvPr/>
        </p:nvPicPr>
        <p:blipFill>
          <a:blip r:embed="rId3"/>
          <a:stretch/>
        </p:blipFill>
        <p:spPr>
          <a:xfrm>
            <a:off x="4772160" y="3348000"/>
            <a:ext cx="4197240" cy="3108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E:\Театр\Театр.jpeg"/>
          <p:cNvPicPr/>
          <p:nvPr/>
        </p:nvPicPr>
        <p:blipFill>
          <a:blip r:embed="rId4"/>
          <a:stretch/>
        </p:blipFill>
        <p:spPr>
          <a:xfrm>
            <a:off x="4686480" y="142920"/>
            <a:ext cx="43686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6021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Какие бывают театры?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0" name="Picture 2" descr="C:\Users\Наталья\Desktop\Театральная неделя\i.jpg"/>
          <p:cNvPicPr/>
          <p:nvPr/>
        </p:nvPicPr>
        <p:blipFill>
          <a:blip r:embed="rId1"/>
          <a:stretch/>
        </p:blipFill>
        <p:spPr>
          <a:xfrm>
            <a:off x="1403280" y="260280"/>
            <a:ext cx="6408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566100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Драматический театр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3" descr="C:\Users\Наталья\Desktop\4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атр оперы и балета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Picture 5" descr="C:\Users\Наталья\Desktop\Театральная неделя\опера.jpg"/>
          <p:cNvPicPr/>
          <p:nvPr/>
        </p:nvPicPr>
        <p:blipFill>
          <a:blip r:embed="rId1"/>
          <a:stretch/>
        </p:blipFill>
        <p:spPr>
          <a:xfrm>
            <a:off x="4572000" y="3573360"/>
            <a:ext cx="4368960" cy="3170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E:\Театр\Балет.jpg"/>
          <p:cNvPicPr/>
          <p:nvPr/>
        </p:nvPicPr>
        <p:blipFill>
          <a:blip r:embed="rId2"/>
          <a:stretch/>
        </p:blipFill>
        <p:spPr>
          <a:xfrm>
            <a:off x="108000" y="1052640"/>
            <a:ext cx="4751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560" y="587700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музыкальной комеди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Picture 4" descr="C:\Users\user\Desktop\2015-2016\Зима\Андерсен презентация и фото, рисунки детей\06_2013_liga.jpg"/>
          <p:cNvPicPr/>
          <p:nvPr/>
        </p:nvPicPr>
        <p:blipFill>
          <a:blip r:embed="rId1"/>
          <a:stretch/>
        </p:blipFill>
        <p:spPr>
          <a:xfrm>
            <a:off x="311040" y="692280"/>
            <a:ext cx="85075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Users\Наталья\Desktop\Театральная неделя\Ек-г спектакль театр кукол.jpg"/>
          <p:cNvPicPr/>
          <p:nvPr/>
        </p:nvPicPr>
        <p:blipFill>
          <a:blip r:embed="rId1"/>
          <a:stretch/>
        </p:blipFill>
        <p:spPr>
          <a:xfrm>
            <a:off x="108000" y="3357720"/>
            <a:ext cx="4464000" cy="32810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410364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кукол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0" name="Picture 4" descr="E:\Новое  март 2016\Театральная неделя\Картинки\morozkoznakomstvo.jpg"/>
          <p:cNvPicPr/>
          <p:nvPr/>
        </p:nvPicPr>
        <p:blipFill>
          <a:blip r:embed="rId2"/>
          <a:stretch/>
        </p:blipFill>
        <p:spPr>
          <a:xfrm>
            <a:off x="4643280" y="189000"/>
            <a:ext cx="43610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365720"/>
            <a:ext cx="797076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зверей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Объект 3" descr="http://im5-tub-ru.yandex.net/i?id=9996973-60-72&amp;n=21"/>
          <p:cNvPicPr/>
          <p:nvPr/>
        </p:nvPicPr>
        <p:blipFill>
          <a:blip r:embed="rId1"/>
          <a:stretch/>
        </p:blipFill>
        <p:spPr>
          <a:xfrm>
            <a:off x="4427640" y="189000"/>
            <a:ext cx="4397400" cy="334476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http://www.circuses.su/img/durov/0.jpg"/>
          <p:cNvPicPr/>
          <p:nvPr/>
        </p:nvPicPr>
        <p:blipFill>
          <a:blip r:embed="rId2"/>
          <a:stretch/>
        </p:blipFill>
        <p:spPr>
          <a:xfrm>
            <a:off x="260280" y="2233440"/>
            <a:ext cx="43210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9977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теней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Содержимое 3" descr="http://www2.newsanons.ru/media/ni/7/b/1293c7f1b8e02f91ab3c1f736045c5f1057bbdaa.jpg"/>
          <p:cNvPicPr/>
          <p:nvPr/>
        </p:nvPicPr>
        <p:blipFill>
          <a:blip r:embed="rId1"/>
          <a:stretch/>
        </p:blipFill>
        <p:spPr>
          <a:xfrm>
            <a:off x="3276720" y="3357720"/>
            <a:ext cx="5619600" cy="32572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http://static.diary.ru/userdir/1/0/1/9/1019/54890927.jpg"/>
          <p:cNvPicPr/>
          <p:nvPr/>
        </p:nvPicPr>
        <p:blipFill>
          <a:blip r:embed="rId2"/>
          <a:stretch/>
        </p:blipFill>
        <p:spPr>
          <a:xfrm>
            <a:off x="324000" y="189000"/>
            <a:ext cx="33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2:30:48Z</dcterms:created>
  <dc:creator>Наталья</dc:creator>
  <dc:description/>
  <dc:language>en-US</dc:language>
  <cp:lastModifiedBy>воспитатели10к3</cp:lastModifiedBy>
  <dcterms:modified xsi:type="dcterms:W3CDTF">2018-08-15T11:11:11Z</dcterms:modified>
  <cp:revision>77</cp:revision>
  <dc:subject/>
  <dc:title>ЧТО ТАКОЕ ТЕАТР?</dc:title>
</cp:coreProperties>
</file>