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5F0-7D3A-4204-B4AE-0545290C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3DC2-9738-4919-9241-5D1F2CCA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F6D-7292-463C-8E4C-F9B56B05A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9A8-2E7A-4E75-BD6C-F8DBFF9F5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AF001-406F-438B-8F49-A1A92FC13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F275B-9B06-41C2-8D5B-FC035D62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69C85-5508-4947-AEAF-78C8D76F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84AB04-F949-4F39-A154-E9D253C7C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1FB101-4BA6-422E-AFB3-86ABB688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E2B9E-B27C-4FCA-897D-8F999B99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C933-AD27-453D-A300-51A7DE6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B316-D5F0-4EEE-A379-14E280009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6E59B-E2DB-4B4C-9610-73B9BEB7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81572C-58F7-4EFA-A214-FB8105928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3638-CF1E-4972-A08F-5F804091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6404B-AD56-4BFA-B3B5-2ACB068C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54DEE6-9CD7-4C59-9DD7-1497F8F5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E7EFB-65D9-4104-AEC2-A70E20FF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A2A969-F73D-4A56-BF78-AA27CB28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5C47C-4953-44CA-8B19-6ABB06C5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F4E32D-84EB-4FBA-8D76-EE817192D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099EC-0DFC-484A-B730-1C35C9E3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81F-F0C9-4175-9138-DB5F1C85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45978A-D36B-413E-A730-7347C3DB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FD5AB1-3BB4-4FFF-B1A9-A01D9F76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3E02E-C0FD-49F4-BF62-28E3AAE0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EDF0F-3A9B-4B91-B357-9A85546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B785D2-2C6A-405C-9269-B4117549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69CE38-4EA3-44BD-BF8B-41C1A128D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A209EB-A0E2-4AB5-A76F-D3C225669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F0102C-667D-419E-8E76-2DF371CA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74B59F-0871-451E-9F45-C3CFF31F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11BB8-14DE-4F2A-9190-4805C2A6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6D56-E1D0-49C7-BD21-08BA11737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361C08-B1C8-4B4A-8241-58124361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DA4D8A-D3B7-4A9E-9781-954AC4C4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6AAC54-E579-45F0-969A-60540384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C6390-7521-4286-AC56-CD017A2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16EE91-579A-491D-AB56-541B0387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99DA8-20B3-4AA2-A914-0D0027E7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CB517-18FC-476C-A417-9AB23E97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76D9C7-C7BC-45F1-A688-C7F5D4351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A28B6F-9975-4CF0-8546-AD4FDB67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FEDEC-EFCC-42ED-B166-0801DCD1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BDF2-A480-4ADF-8B34-2C1B41757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84F6F-14FC-4725-ABFA-BCC8D745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4D81D-FE34-4619-AA4F-49B12EF88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5848C-524C-45B6-B950-76436103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5FA5C-3A60-41B1-A8AC-F6FE3A31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3807FF-DB48-481D-A5F9-3CDBBDEBA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B1E3CC-761F-4483-8C08-F02CCF035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9ED5BD-BBCC-49CB-866C-DDA8F886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A5ADBF-3ADB-4A3B-983B-50E4E90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5A5722-5F16-4379-BF2A-A6BF8676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81109-FE54-4E58-829D-002A09FD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2F93-4E0C-4D01-ACE6-77350E86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6D4D32-3739-415A-B36F-6BCE84832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AB76DE-2C47-4FF3-BFCA-09A22F0F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C3699C-9084-4874-9663-056D09E6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60EEC6-3372-417A-9B92-DB1FFEA6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3F73BE-5D3A-46C8-936B-CF332580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33E34-F44E-4322-8DEE-99B5B0F6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5CF21D-6CCB-4DB4-BF5F-DF4833D5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8B0DF9-7F55-41A2-9C28-E9A8C6C6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75BE0D-55CC-424F-8565-9FFB03ED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C3C588-7598-49AE-997F-42FDE9C3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14B8-F43A-4074-8EA5-8BA089EF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26B787-80FD-4AB1-B5AA-AA5DCB594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2A0F1-C728-4DE3-8E41-2CC504DB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45E0F2-213A-4C52-B545-EB2875AC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C73-BB52-44DB-BC7C-EDEF8E6B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4CA9-070A-4EB5-AFE8-B6EC02D1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6D4D-767F-4F32-852C-E1594BB0622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7B1-ADEB-426E-A90B-3908AF6805C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5901-0D98-41F4-950F-CEB40DF9BE7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6BB-F228-4CCA-BDF4-895262D3C458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00E41-2926-479C-8B8D-9E01B7E863B5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F1E-EC72-41AC-AAD5-E21F647882B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Palatino Linotype"/>
              </a:rPr>
              <a:t>ЧТО ТАКОЕ ТЕАТР?</a:t>
            </a:r>
            <a:endParaRPr b="0" lang="en-US" sz="5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3" name="Picture 2" descr="C:\Users\Наталья\Desktop\Театральная неделя\оперный Ек-г.jpg"/>
          <p:cNvPicPr/>
          <p:nvPr/>
        </p:nvPicPr>
        <p:blipFill>
          <a:blip r:embed="rId1"/>
          <a:stretch/>
        </p:blipFill>
        <p:spPr>
          <a:xfrm>
            <a:off x="468360" y="985680"/>
            <a:ext cx="8180280" cy="53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9977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света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4969080" cy="30970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3" descr=""/>
          <p:cNvPicPr/>
          <p:nvPr/>
        </p:nvPicPr>
        <p:blipFill>
          <a:blip r:embed="rId2"/>
          <a:stretch/>
        </p:blipFill>
        <p:spPr>
          <a:xfrm>
            <a:off x="4361040" y="115920"/>
            <a:ext cx="443052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7600" y="594972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Уличный театр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1" name="Picture 4" descr=""/>
          <p:cNvPicPr/>
          <p:nvPr/>
        </p:nvPicPr>
        <p:blipFill>
          <a:blip r:embed="rId1"/>
          <a:stretch/>
        </p:blipFill>
        <p:spPr>
          <a:xfrm>
            <a:off x="250920" y="2492280"/>
            <a:ext cx="4070160" cy="331308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2"/>
          <a:stretch/>
        </p:blipFill>
        <p:spPr>
          <a:xfrm>
            <a:off x="4500720" y="260280"/>
            <a:ext cx="4384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C:\Users\Наталья\Desktop\Театральная неделя\теневой театр.jpg"/>
          <p:cNvPicPr/>
          <p:nvPr/>
        </p:nvPicPr>
        <p:blipFill>
          <a:blip r:embed="rId1"/>
          <a:stretch/>
        </p:blipFill>
        <p:spPr>
          <a:xfrm>
            <a:off x="395280" y="1197000"/>
            <a:ext cx="3097080" cy="216072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атры в детском саду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3" descr="C:\Users\Наталья\Desktop\Театральная неделя\вязаный театр.jpg"/>
          <p:cNvPicPr/>
          <p:nvPr/>
        </p:nvPicPr>
        <p:blipFill>
          <a:blip r:embed="rId2"/>
          <a:stretch/>
        </p:blipFill>
        <p:spPr>
          <a:xfrm>
            <a:off x="5253120" y="1197000"/>
            <a:ext cx="2943000" cy="216072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C:\Users\Наталья\Desktop\i.jpg"/>
          <p:cNvPicPr/>
          <p:nvPr/>
        </p:nvPicPr>
        <p:blipFill>
          <a:blip r:embed="rId3"/>
          <a:stretch/>
        </p:blipFill>
        <p:spPr>
          <a:xfrm>
            <a:off x="179280" y="3670200"/>
            <a:ext cx="4127760" cy="276408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8" descr="E:\Театр\IMG_0254.JPG"/>
          <p:cNvPicPr/>
          <p:nvPr/>
        </p:nvPicPr>
        <p:blipFill>
          <a:blip r:embed="rId4"/>
          <a:stretch/>
        </p:blipFill>
        <p:spPr>
          <a:xfrm>
            <a:off x="4648320" y="3670200"/>
            <a:ext cx="4152960" cy="27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0" name="Picture 2" descr="C:\Users\Наталья\Desktop\Театральная неделя\i.jpg"/>
          <p:cNvPicPr/>
          <p:nvPr/>
        </p:nvPicPr>
        <p:blipFill>
          <a:blip r:embed="rId1"/>
          <a:stretch/>
        </p:blipFill>
        <p:spPr>
          <a:xfrm>
            <a:off x="395280" y="333360"/>
            <a:ext cx="82803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539280" y="685800"/>
            <a:ext cx="76899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Презентацию подготовила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Зарубина-Линькова Анастасия Юрьевна,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музыкальный руководитель дошкольного отделения, а также педагог дополнительного образования –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художественный руководитель Детского театра мюзикла «Конфетти»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ГБОУ «Школа №2088 «Грайвороново»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Город Москва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2018 год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158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5" name="Picture 3" descr="C:\Users\Наталья\Desktop\Театральная неделя\Ек-г.jpg"/>
          <p:cNvPicPr/>
          <p:nvPr/>
        </p:nvPicPr>
        <p:blipFill>
          <a:blip r:embed="rId1"/>
          <a:stretch/>
        </p:blipFill>
        <p:spPr>
          <a:xfrm>
            <a:off x="343080" y="3357720"/>
            <a:ext cx="4249440" cy="3098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C:\Users\Наталья\Desktop\Театральная неделя\Большой театр России.jpg"/>
          <p:cNvPicPr/>
          <p:nvPr/>
        </p:nvPicPr>
        <p:blipFill>
          <a:blip r:embed="rId2"/>
          <a:stretch/>
        </p:blipFill>
        <p:spPr>
          <a:xfrm>
            <a:off x="293760" y="115920"/>
            <a:ext cx="4298760" cy="30970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C:\Users\Наталья\Desktop\Театральная неделя\17888088915534f4197b38e6.83580993.jpeg"/>
          <p:cNvPicPr/>
          <p:nvPr/>
        </p:nvPicPr>
        <p:blipFill>
          <a:blip r:embed="rId3"/>
          <a:stretch/>
        </p:blipFill>
        <p:spPr>
          <a:xfrm>
            <a:off x="4772160" y="3348000"/>
            <a:ext cx="4197240" cy="31082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E:\Театр\Театр.jpeg"/>
          <p:cNvPicPr/>
          <p:nvPr/>
        </p:nvPicPr>
        <p:blipFill>
          <a:blip r:embed="rId4"/>
          <a:stretch/>
        </p:blipFill>
        <p:spPr>
          <a:xfrm>
            <a:off x="4686480" y="142920"/>
            <a:ext cx="43686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77600" y="602100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Какие бывают театры?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0" name="Picture 2" descr="C:\Users\Наталья\Desktop\Театральная неделя\i.jpg"/>
          <p:cNvPicPr/>
          <p:nvPr/>
        </p:nvPicPr>
        <p:blipFill>
          <a:blip r:embed="rId1"/>
          <a:stretch/>
        </p:blipFill>
        <p:spPr>
          <a:xfrm>
            <a:off x="1403280" y="260280"/>
            <a:ext cx="640872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5661000"/>
            <a:ext cx="75438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Драматический театр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3" descr="C:\Users\Наталья\Desktop\4.jpg"/>
          <p:cNvPicPr/>
          <p:nvPr/>
        </p:nvPicPr>
        <p:blipFill>
          <a:blip r:embed="rId1"/>
          <a:stretch/>
        </p:blipFill>
        <p:spPr>
          <a:xfrm>
            <a:off x="826920" y="404640"/>
            <a:ext cx="770580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атр оперы и балета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4" name="Picture 5" descr="C:\Users\Наталья\Desktop\Театральная неделя\опера.jpg"/>
          <p:cNvPicPr/>
          <p:nvPr/>
        </p:nvPicPr>
        <p:blipFill>
          <a:blip r:embed="rId1"/>
          <a:stretch/>
        </p:blipFill>
        <p:spPr>
          <a:xfrm>
            <a:off x="4572000" y="3573360"/>
            <a:ext cx="4368960" cy="317052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5" descr="E:\Театр\Балет.jpg"/>
          <p:cNvPicPr/>
          <p:nvPr/>
        </p:nvPicPr>
        <p:blipFill>
          <a:blip r:embed="rId2"/>
          <a:stretch/>
        </p:blipFill>
        <p:spPr>
          <a:xfrm>
            <a:off x="108000" y="1052640"/>
            <a:ext cx="475128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50560" y="5877000"/>
            <a:ext cx="8497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музыкальной комедии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7" name="Picture 4" descr="C:\Users\user\Desktop\2015-2016\Зима\Андерсен презентация и фото, рисунки детей\06_2013_liga.jpg"/>
          <p:cNvPicPr/>
          <p:nvPr/>
        </p:nvPicPr>
        <p:blipFill>
          <a:blip r:embed="rId1"/>
          <a:stretch/>
        </p:blipFill>
        <p:spPr>
          <a:xfrm>
            <a:off x="311040" y="692280"/>
            <a:ext cx="85075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C:\Users\Наталья\Desktop\Театральная неделя\Ек-г спектакль театр кукол.jpg"/>
          <p:cNvPicPr/>
          <p:nvPr/>
        </p:nvPicPr>
        <p:blipFill>
          <a:blip r:embed="rId1"/>
          <a:stretch/>
        </p:blipFill>
        <p:spPr>
          <a:xfrm>
            <a:off x="108000" y="3357720"/>
            <a:ext cx="4464000" cy="32810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4103640" cy="20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кукол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0" name="Picture 4" descr="E:\Новое  март 2016\Театральная неделя\Картинки\morozkoznakomstvo.jpg"/>
          <p:cNvPicPr/>
          <p:nvPr/>
        </p:nvPicPr>
        <p:blipFill>
          <a:blip r:embed="rId2"/>
          <a:stretch/>
        </p:blipFill>
        <p:spPr>
          <a:xfrm>
            <a:off x="4643280" y="189000"/>
            <a:ext cx="436104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7600" y="4365720"/>
            <a:ext cx="7970760" cy="145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зверей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Объект 3" descr="http://im5-tub-ru.yandex.net/i?id=9996973-60-72&amp;n=21"/>
          <p:cNvPicPr/>
          <p:nvPr/>
        </p:nvPicPr>
        <p:blipFill>
          <a:blip r:embed="rId1"/>
          <a:stretch/>
        </p:blipFill>
        <p:spPr>
          <a:xfrm>
            <a:off x="4427640" y="189000"/>
            <a:ext cx="4397400" cy="3344760"/>
          </a:xfrm>
          <a:prstGeom prst="rect">
            <a:avLst/>
          </a:prstGeom>
          <a:ln w="0">
            <a:noFill/>
          </a:ln>
        </p:spPr>
      </p:pic>
      <p:pic>
        <p:nvPicPr>
          <p:cNvPr id="333" name="Содержимое 3" descr="http://www.circuses.su/img/durov/0.jpg"/>
          <p:cNvPicPr/>
          <p:nvPr/>
        </p:nvPicPr>
        <p:blipFill>
          <a:blip r:embed="rId2"/>
          <a:stretch/>
        </p:blipFill>
        <p:spPr>
          <a:xfrm>
            <a:off x="260280" y="2233440"/>
            <a:ext cx="432108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799776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Театр теней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Содержимое 3" descr="http://www2.newsanons.ru/media/ni/7/b/1293c7f1b8e02f91ab3c1f736045c5f1057bbdaa.jpg"/>
          <p:cNvPicPr/>
          <p:nvPr/>
        </p:nvPicPr>
        <p:blipFill>
          <a:blip r:embed="rId1"/>
          <a:stretch/>
        </p:blipFill>
        <p:spPr>
          <a:xfrm>
            <a:off x="3276720" y="3357720"/>
            <a:ext cx="5619600" cy="325728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4" descr="http://static.diary.ru/userdir/1/0/1/9/1019/54890927.jpg"/>
          <p:cNvPicPr/>
          <p:nvPr/>
        </p:nvPicPr>
        <p:blipFill>
          <a:blip r:embed="rId2"/>
          <a:stretch/>
        </p:blipFill>
        <p:spPr>
          <a:xfrm>
            <a:off x="324000" y="189000"/>
            <a:ext cx="3384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7T12:30:48Z</dcterms:created>
  <dc:creator>Наталья</dc:creator>
  <dc:description/>
  <dc:language>en-US</dc:language>
  <cp:lastModifiedBy>воспитатели10к3</cp:lastModifiedBy>
  <dcterms:modified xsi:type="dcterms:W3CDTF">2018-08-15T11:11:11Z</dcterms:modified>
  <cp:revision>77</cp:revision>
  <dc:subject/>
  <dc:title>ЧТО ТАКОЕ ТЕАТР?</dc:title>
</cp:coreProperties>
</file>