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wind.wav" ContentType="audio/x-wav"/>
  <Override PartName="/ppt/media/image6.png" ContentType="image/png"/>
  <Override PartName="/ppt/media/image1.png" ContentType="image/png"/>
  <Override PartName="/ppt/media/chimes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applaus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E1C-C96F-46B7-9379-455D6031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C7CE-084A-40C6-A2AB-738CC498C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C01-3B98-4E0F-B171-4E2B421B7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12D0-4D68-437B-902C-FABF9998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2A028-DD3D-4C8F-A4A3-5E5E5BD42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DCB8-C720-4DF8-B1DE-7AB159448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891E-DE55-41ED-9D60-C562D6AE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1291-DD39-4496-963B-8B36F76D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DE60-6586-4EFE-8E63-30E5F7CB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9FA8-00AF-4B96-97CD-7BAF0095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8C15-3488-4F05-B254-42426BC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FA4-8342-4717-9A1F-03DE4FCA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F660-F269-4C1B-9910-18E9DFE3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579-8E0A-42D1-B386-A2B8526A2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1E58C-2943-4A61-BB15-6DA702972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B9CAD-CF8A-40AC-8EFD-7E45C795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50A99-04F1-496A-B7FA-592BFD9C9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ECF58-4998-44C7-9C06-11389E1EB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E2567-EA6D-43C0-8C5E-2603B86F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B46E8-BE29-4077-A21C-6D3BF38E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0CF12-941C-46D9-BA79-BEDFE773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A27B6-10C0-4141-8E59-B401085D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E052-8458-49F2-B9A1-27742BE1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F9035-02B3-4F38-AE87-58549B5C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C10AD-E9DE-4707-AE7F-9835BEB2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97FA7-8BAD-4CCC-8B4D-B7BD5F1B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0A6F-6F85-4928-9C6D-B1BBACA7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F7EA2-4341-4CC6-9538-BF3DEACB9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FD4F4-2244-46E9-B470-B8F9AAEC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84FF2-83C6-4592-9410-49FB6276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60C28-976D-4594-B9A9-76AFE869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CE014-5CCD-4BE6-99CC-464C12C3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69DA-5FFD-4EAE-894D-6B1A805C9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224-99C5-4C93-BA2A-197711DCD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60671-1456-4F4E-A2F5-2F893F44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D4071-2880-4C50-A5AF-3C97A1D7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F3004-66B3-4161-B218-FBBC4235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94503-D8D7-4337-BD1F-7B08C635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F08CC-C742-4A41-AB81-0EDBA91F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2248-B13C-425B-BD7C-E7057363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419C5-F533-4662-B326-BF585A0F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4950F-560F-4604-9636-DC3440CAE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CCCCF-6F47-4B77-B010-6B85657FC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34FF3C-9B13-4341-B0FF-149AB7CD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3321-83E4-4394-A021-830DE01E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5DAF3-DABC-4D8C-8967-A47147D9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349FA-0C10-421C-8A9D-3762395F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9B8EB-FA14-4235-9E56-40CAB5CF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411E9-F9A3-4668-940B-93B6619F6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A1989-D7D6-480C-B86B-F02E811E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8C333-0A67-48A2-838F-C82D4B7B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9835E-98E7-4208-92E3-BD97A1EA4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3E42E-CD32-4F44-985E-285C0248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7E8D2-3898-45FE-BA8B-512C80DF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AF0E6-59FA-4A53-94AE-AC3A7D317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A974-2C5C-46B3-B23B-4E4AC917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0B279E-347F-404E-ABDD-E2C3CEC8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B4555-BF10-4FFC-B455-8D7136FB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C5BEB-852D-4E13-A817-D3FF14E52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21C74-D038-4797-B747-9363F80E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72343-A0ED-47FC-8D7C-3E130EC94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8C175-7956-4116-B359-70200684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CAD70-C4CC-4D29-B101-AED2DB80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9646C-918D-4A5C-BAC6-F405ED6F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D1C91-CB8B-4E97-A4EB-FDF15D67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3ABC1-D611-480D-825E-B9AA301F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51B2-71C8-409C-9A72-10EB99F0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D128D-7AF6-4D67-8648-E0632A1A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5EC2-3836-41D6-9726-F6BF0BE45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DD64F-4D3F-4C41-ACAD-BCD5C832B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61E-FC61-46CF-A1B7-DFB275F8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65EA-CB64-425F-9635-126DC434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5ECE-0C07-4A23-B20B-8FE488913AD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65E5-CB79-4E5C-9175-0A1BE366209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5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386F8-8F3B-4713-8201-6F6959A7EA3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233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2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23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AD31-C0BD-4255-B3D7-A06D5FDE3B4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2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3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32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896C-D972-4C83-820A-67A39925706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7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8C43-4FB3-4A65-82B2-5132CC3C834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920" y="1988640"/>
            <a:ext cx="7772400" cy="2592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Arial"/>
              </a:rPr>
              <a:t>ЭТИКЕТ</a:t>
            </a:r>
            <a:br>
              <a:rPr sz="8800"/>
            </a:br>
            <a:br>
              <a:rPr sz="8800"/>
            </a:b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за праздничным столом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7280" y="285480"/>
            <a:ext cx="61930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4807ff"/>
                </a:solidFill>
                <a:latin typeface="Arial"/>
              </a:rPr>
              <a:t>Что такое этикет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28440" y="1571400"/>
            <a:ext cx="78152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Слово «</a:t>
            </a: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этикет</a:t>
            </a: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» означает установленный порядо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поведения где-либо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(например за столом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Слово «</a:t>
            </a: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этикет</a:t>
            </a: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», а также многие современные правила учтивости и    вежливости пришли к нам из Франции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858920" y="692280"/>
            <a:ext cx="332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ена правл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ранцузск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рол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дови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IV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м королевским гостя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ручали небольшие карточки-этикет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них были записан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ила хорошего тон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достойного пове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 появилось сло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ике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8" name="Picture 4" descr="Image4"/>
          <p:cNvPicPr/>
          <p:nvPr/>
        </p:nvPicPr>
        <p:blipFill>
          <a:blip r:embed="rId1"/>
          <a:stretch/>
        </p:blipFill>
        <p:spPr>
          <a:xfrm>
            <a:off x="324000" y="115920"/>
            <a:ext cx="4335480" cy="547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Занимательная азбука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А – Я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500" spc="-1" strike="noStrike">
                <a:solidFill>
                  <a:srgbClr val="703dff"/>
                </a:solidFill>
                <a:latin typeface="Century Schoolbook"/>
              </a:rPr>
              <a:t>Л л</a:t>
            </a:r>
            <a:endParaRPr b="0" lang="en-US" sz="9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518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фавит продолжит на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ква Л – лесной шалаш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3" name="Object 6"/>
          <p:cNvGraphicFramePr/>
          <p:nvPr/>
        </p:nvGraphicFramePr>
        <p:xfrm>
          <a:off x="4859280" y="2513160"/>
          <a:ext cx="318600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13160"/>
                    <a:ext cx="31860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  <p:sndAc>
      <p:stSnd>
        <p:snd r:embed="rId3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C07D43B4"/>
          <p:cNvPicPr/>
          <p:nvPr/>
        </p:nvPicPr>
        <p:blipFill>
          <a:blip r:embed="rId1"/>
          <a:srcRect l="0" t="9466" r="50610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71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7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maple"/>
          <p:cNvPicPr/>
          <p:nvPr/>
        </p:nvPicPr>
        <p:blipFill>
          <a:blip r:embed="rId1">
            <a:lum bright="-6000"/>
          </a:blip>
          <a:stretch/>
        </p:blipFill>
        <p:spPr>
          <a:xfrm rot="20778000">
            <a:off x="5867280" y="764640"/>
            <a:ext cx="2241720" cy="2076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079513_337"/>
          <p:cNvPicPr/>
          <p:nvPr/>
        </p:nvPicPr>
        <p:blipFill>
          <a:blip r:embed="rId2"/>
          <a:srcRect l="0" t="58642" r="67529" b="0"/>
          <a:stretch/>
        </p:blipFill>
        <p:spPr>
          <a:xfrm rot="20596800">
            <a:off x="395280" y="475920"/>
            <a:ext cx="2013120" cy="2073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7" descr="079513_337"/>
          <p:cNvPicPr/>
          <p:nvPr/>
        </p:nvPicPr>
        <p:blipFill>
          <a:blip r:embed="rId3"/>
          <a:srcRect l="27721" t="0" r="48425" b="59862"/>
          <a:stretch/>
        </p:blipFill>
        <p:spPr>
          <a:xfrm rot="9734400">
            <a:off x="3708000" y="1556640"/>
            <a:ext cx="1557360" cy="2117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9" descr="079513_337"/>
          <p:cNvPicPr/>
          <p:nvPr/>
        </p:nvPicPr>
        <p:blipFill>
          <a:blip r:embed="rId4"/>
          <a:srcRect l="36625" t="63809" r="32495" b="0"/>
          <a:stretch/>
        </p:blipFill>
        <p:spPr>
          <a:xfrm>
            <a:off x="826920" y="2637000"/>
            <a:ext cx="1730520" cy="16398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079513_337"/>
          <p:cNvPicPr/>
          <p:nvPr/>
        </p:nvPicPr>
        <p:blipFill>
          <a:blip r:embed="rId5"/>
          <a:srcRect l="53199" t="0" r="24531" b="61811"/>
          <a:stretch/>
        </p:blipFill>
        <p:spPr>
          <a:xfrm rot="12037200">
            <a:off x="6443280" y="3644280"/>
            <a:ext cx="1663560" cy="2305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3" descr="079513_337"/>
          <p:cNvPicPr/>
          <p:nvPr/>
        </p:nvPicPr>
        <p:blipFill>
          <a:blip r:embed="rId6"/>
          <a:srcRect l="77061" t="0" r="0" b="59862"/>
          <a:stretch/>
        </p:blipFill>
        <p:spPr>
          <a:xfrm rot="9262200">
            <a:off x="3707640" y="4365000"/>
            <a:ext cx="1241640" cy="1755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5" descr="079513_337"/>
          <p:cNvPicPr/>
          <p:nvPr/>
        </p:nvPicPr>
        <p:blipFill>
          <a:blip r:embed="rId7"/>
          <a:srcRect l="36649" t="63809" r="32495" b="0"/>
          <a:stretch/>
        </p:blipFill>
        <p:spPr>
          <a:xfrm>
            <a:off x="6732720" y="119700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6" descr="079513_337"/>
          <p:cNvPicPr/>
          <p:nvPr/>
        </p:nvPicPr>
        <p:blipFill>
          <a:blip r:embed="rId8"/>
          <a:srcRect l="36649" t="63809" r="32495" b="0"/>
          <a:stretch/>
        </p:blipFill>
        <p:spPr>
          <a:xfrm>
            <a:off x="2627280" y="4724280"/>
            <a:ext cx="1728720" cy="16401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7" descr="079513_337"/>
          <p:cNvPicPr/>
          <p:nvPr/>
        </p:nvPicPr>
        <p:blipFill>
          <a:blip r:embed="rId9"/>
          <a:srcRect l="36649" t="63809" r="32495" b="0"/>
          <a:stretch/>
        </p:blipFill>
        <p:spPr>
          <a:xfrm>
            <a:off x="2124000" y="33336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8" descr="079513_337"/>
          <p:cNvPicPr/>
          <p:nvPr/>
        </p:nvPicPr>
        <p:blipFill>
          <a:blip r:embed="rId10"/>
          <a:srcRect l="36649" t="63809" r="32495" b="0"/>
          <a:stretch/>
        </p:blipFill>
        <p:spPr>
          <a:xfrm>
            <a:off x="4140360" y="242100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454" name="Лист366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2206 L -0.01563 0.96181 E">
                                      <p:cBhvr>
                                        <p:cTn id="87" dur="3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7 -0.38148 L 0.01736 0.76945 E">
                                      <p:cBhvr>
                                        <p:cTn id="94" dur="3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49 -0.26296 L 0.06649 0.96158 E">
                                      <p:cBhvr>
                                        <p:cTn id="101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УРО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7:08:28Z</dcterms:created>
  <dc:creator>Admin</dc:creator>
  <dc:description/>
  <dc:language>en-US</dc:language>
  <cp:lastModifiedBy>Admin</cp:lastModifiedBy>
  <dcterms:modified xsi:type="dcterms:W3CDTF">2017-02-13T14:14:51Z</dcterms:modified>
  <cp:revision>19</cp:revision>
  <dc:subject/>
  <dc:title>ЭТИКЕТ  за праздничным столом</dc:title>
</cp:coreProperties>
</file>