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wind.wav" ContentType="audio/x-wav"/>
  <Override PartName="/ppt/media/image6.png" ContentType="image/png"/>
  <Override PartName="/ppt/media/image1.png" ContentType="image/png"/>
  <Override PartName="/ppt/media/chimes.wav" ContentType="audio/x-wav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7.png" ContentType="image/png"/>
  <Override PartName="/ppt/media/applaus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A9D2-12AD-463C-8D20-41D497C9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8386-87C9-465E-934E-878152AC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6E2A-6380-43E8-AE91-FC945484D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925E-0564-4678-9F7A-8CA4EC85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5FF02-C25F-4519-9BA2-A97C0AC0A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0B584-CF74-4871-9268-A5AF5DE24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C273F-709F-456A-929D-5401B9B2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C57C3-70CD-470C-B8F1-7B71A589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1F4-4028-49B7-AA42-D1F656257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DCA7-D6F3-48D6-B1CC-10C96C07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D8B0-CEF0-4833-A47E-51439C72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2E0F-9AEA-4B01-8592-31812B18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5593-088B-4DA1-B973-F14AB331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12F5-550F-417E-9E97-E3443A889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43A3-8859-45AD-BF72-A6EF0F9C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9A48-8EAD-4114-AB86-3A9C999A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90B12-4A37-4AEB-A6F3-7DF73D86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7B07B-F833-49CC-8AB0-EE64E202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35BDB-AE4A-450F-B704-EB62031A4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F30E3-E633-4B24-BDB6-0BBFB2AE8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5DF3A-A14D-46B0-A119-016E44D1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9B7C-FA29-40B1-A447-AAD76F69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C9F-E84C-4016-8A8F-C67E7BDD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F64D8-6CF6-4191-9059-F7F480A7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BAF15-61F2-4EFE-97BE-5ED075BE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4A9CA-9E2E-4D2B-B1F1-E0677E40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F98FC-30AB-499A-A953-2E6CA905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34444-42A4-4782-B7E8-168C1FBF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91CD6E-DF83-4505-9627-D539F47A5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2DF79-6CB1-49AC-9EC8-9F76AF669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E96725-A7AF-4488-B957-CCC0DED1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46A4B-A233-4ED1-B224-B14699AF6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D07E1-C9B4-421D-A7DF-4DDB05038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0229-828C-48CC-95BF-CE4FBA7E8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7B3C4-69F7-4B64-86DA-EF05C4B1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FD88F-9E65-4908-9D1B-3C23C424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A1339-6C4A-4559-9182-2581BE98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3ED7F-FFA9-4D36-AD14-7A91706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AFE009-7972-4CF3-B27C-1AAC72D3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CDC26-C959-47FA-9C3F-DB254DC9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5C418-514B-4BFA-A1B3-8F3F8F57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DF480-96AA-4E2D-B923-7DA0369E2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8B840-CA2F-4C81-9958-0FC32A8D9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91429-2267-4149-9A93-2527C677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87F5-5F45-4975-AA1D-C0F990D4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7A669-2779-4707-A3D7-3F9DF6700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0D285-03B0-403E-ABAE-BA66A240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94B16-175C-4A59-B365-3A813E61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92C8D-D114-404B-8B28-AF59CF107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3E681-9BD7-4550-8A05-862DF241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8A159-7135-473B-AB30-A057AC9D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7C15C-AE5A-4794-90BB-78526D18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5F3C9-EB08-4133-BE74-A159342C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FE034-5E52-4612-97BA-AC7B45A7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6FEEA-A2A0-454E-8FF4-A0FA0B08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76A7-6F4A-49C1-ACC2-FF9BC5282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8BC6B-DD5E-4E90-9D47-2BEE6AE1D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77B7-FD48-4284-93C6-461DDFDD0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5F3C4-9285-4A68-8178-38265871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8B55D-4918-4320-887E-35B610BA8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5774-8D72-4B78-B112-D0F0BF63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0B68E-E118-4E98-A1F8-FFCE7AD8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30E43-F081-439C-9516-B924D329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C4145-DAFE-4BE5-BDBA-9FE7D3BF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524E6-08E4-4ECE-8C93-141F48D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72D4BE-93CF-4E8C-A189-7CA04442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66E5-602E-4C95-A0E6-6A1555D8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23C509-03ED-47DB-95F6-738F30E3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5CF66-E59A-4614-AB9E-37485FD9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0C8C2-3D2C-42A2-BC82-4BFB9652A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3CB0-9ACD-4E1D-AF76-5C38769F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BEB-23E9-4DB8-9F88-C0E2FDCE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855A-6300-49C0-B224-82ECC04E941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72FE-F058-4413-9036-F5CBD4CE0420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4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6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7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51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E75B-B85E-44FA-B957-9A08F3F0183C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0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21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1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2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23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233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23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236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8FEE6-4EE0-4572-83DA-AB8DE982A0F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29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0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0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0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1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Group 40"/>
          <p:cNvGrpSpPr/>
          <p:nvPr/>
        </p:nvGrpSpPr>
        <p:grpSpPr>
          <a:xfrm>
            <a:off x="7170120" y="-85320"/>
            <a:ext cx="2430360" cy="2250720"/>
            <a:chOff x="7170120" y="-85320"/>
            <a:chExt cx="2430360" cy="2250720"/>
          </a:xfrm>
        </p:grpSpPr>
        <p:grpSp>
          <p:nvGrpSpPr>
            <p:cNvPr id="320" name="Group 41"/>
            <p:cNvGrpSpPr/>
            <p:nvPr/>
          </p:nvGrpSpPr>
          <p:grpSpPr>
            <a:xfrm>
              <a:off x="7170120" y="-85320"/>
              <a:ext cx="2430360" cy="2250720"/>
              <a:chOff x="7170120" y="-85320"/>
              <a:chExt cx="2430360" cy="2250720"/>
            </a:xfrm>
          </p:grpSpPr>
          <p:sp>
            <p:nvSpPr>
              <p:cNvPr id="32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43"/>
              <p:cNvGrpSpPr/>
              <p:nvPr/>
            </p:nvGrpSpPr>
            <p:grpSpPr>
              <a:xfrm>
                <a:off x="7170120" y="-85320"/>
                <a:ext cx="2430360" cy="2250720"/>
                <a:chOff x="7170120" y="-85320"/>
                <a:chExt cx="2430360" cy="2250720"/>
              </a:xfrm>
            </p:grpSpPr>
            <p:sp>
              <p:nvSpPr>
                <p:cNvPr id="323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45"/>
                <p:cNvSpPr/>
                <p:nvPr/>
              </p:nvSpPr>
              <p:spPr>
                <a:xfrm rot="18427200">
                  <a:off x="8019720" y="522720"/>
                  <a:ext cx="42840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46"/>
                <p:cNvSpPr/>
                <p:nvPr/>
              </p:nvSpPr>
              <p:spPr>
                <a:xfrm rot="18427200">
                  <a:off x="7717680" y="285120"/>
                  <a:ext cx="80496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47"/>
                <p:cNvSpPr/>
                <p:nvPr/>
              </p:nvSpPr>
              <p:spPr>
                <a:xfrm rot="18427200">
                  <a:off x="7781040" y="-26280"/>
                  <a:ext cx="12081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48"/>
                <p:cNvSpPr/>
                <p:nvPr/>
              </p:nvSpPr>
              <p:spPr>
                <a:xfrm rot="18427200">
                  <a:off x="84157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49"/>
                <p:cNvSpPr/>
                <p:nvPr/>
              </p:nvSpPr>
              <p:spPr>
                <a:xfrm rot="18427200">
                  <a:off x="8339400" y="1277280"/>
                  <a:ext cx="28836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50"/>
                <p:cNvSpPr/>
                <p:nvPr/>
              </p:nvSpPr>
              <p:spPr>
                <a:xfrm rot="18427200">
                  <a:off x="7912800" y="333720"/>
                  <a:ext cx="28836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51"/>
                <p:cNvSpPr/>
                <p:nvPr/>
              </p:nvSpPr>
              <p:spPr>
                <a:xfrm rot="18427200">
                  <a:off x="7859880" y="218880"/>
                  <a:ext cx="28512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031E-0712-4595-9878-BA1FBDF8704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4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75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8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F8FA-0576-476E-A528-56538AD2B6D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42920" y="1988640"/>
            <a:ext cx="7772400" cy="2592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ff0000"/>
                </a:solidFill>
                <a:latin typeface="Arial"/>
              </a:rPr>
              <a:t>ЭТИКЕТ</a:t>
            </a:r>
            <a:br>
              <a:rPr sz="8800"/>
            </a:br>
            <a:br>
              <a:rPr sz="8800"/>
            </a:br>
            <a:r>
              <a:rPr b="1" i="1" lang="ru-RU" sz="7200" spc="-1" strike="noStrike">
                <a:solidFill>
                  <a:srgbClr val="ff0000"/>
                </a:solidFill>
                <a:latin typeface="Arial"/>
              </a:rPr>
              <a:t>за праздничным столом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47280" y="285480"/>
            <a:ext cx="6193080" cy="142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r>
              <a:rPr b="1" i="1" lang="ru-RU" sz="6000" spc="-1" strike="noStrike">
                <a:solidFill>
                  <a:srgbClr val="4807ff"/>
                </a:solidFill>
                <a:latin typeface="Arial"/>
              </a:rPr>
              <a:t>Что такое этикет?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928440" y="1571400"/>
            <a:ext cx="781524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Слово «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этикет</a:t>
            </a: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» означает установленный порядок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поведения где-либо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(например за столом)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Слово «</a:t>
            </a:r>
            <a:r>
              <a:rPr b="1" lang="ru-RU" sz="4000" spc="-1" strike="noStrike">
                <a:solidFill>
                  <a:srgbClr val="333399"/>
                </a:solidFill>
                <a:latin typeface="Comic Sans MS"/>
              </a:rPr>
              <a:t>этикет</a:t>
            </a:r>
            <a:r>
              <a:rPr b="0" lang="ru-RU" sz="4000" spc="-1" strike="noStrike">
                <a:solidFill>
                  <a:srgbClr val="333399"/>
                </a:solidFill>
                <a:latin typeface="Comic Sans MS"/>
              </a:rPr>
              <a:t>», а также многие современные правила учтивости и    вежливости пришли к нам из Франции</a:t>
            </a:r>
            <a:r>
              <a:rPr b="0" lang="ru-RU" sz="2000" spc="-1" strike="noStrike">
                <a:solidFill>
                  <a:srgbClr val="333399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/>
          </p:nvPr>
        </p:nvSpPr>
        <p:spPr>
          <a:xfrm>
            <a:off x="4858920" y="692280"/>
            <a:ext cx="3321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о времена правлени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ранцузск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роля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Людовик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IV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сем королевским гостям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ручали небольшие карточки-этикетк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 них были записаны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авила хорошего тона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и достойного поведен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ак появилось слов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«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Этикет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4" descr="Image4"/>
          <p:cNvPicPr/>
          <p:nvPr/>
        </p:nvPicPr>
        <p:blipFill>
          <a:blip r:embed="rId1"/>
          <a:stretch/>
        </p:blipFill>
        <p:spPr>
          <a:xfrm>
            <a:off x="324000" y="115920"/>
            <a:ext cx="4335480" cy="5473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omic Sans MS"/>
              </a:rPr>
              <a:t>Занимательная азбука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omic Sans MS"/>
              </a:rPr>
              <a:t>А – Я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500" spc="-1" strike="noStrike">
                <a:solidFill>
                  <a:srgbClr val="703dff"/>
                </a:solidFill>
                <a:latin typeface="Century Schoolbook"/>
              </a:rPr>
              <a:t>Л л</a:t>
            </a:r>
            <a:endParaRPr b="0" lang="en-US" sz="95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5183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фавит продолжит наш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Буква Л – лесной шалаш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33" name="Object 6"/>
          <p:cNvGraphicFramePr/>
          <p:nvPr/>
        </p:nvGraphicFramePr>
        <p:xfrm>
          <a:off x="4859280" y="2513160"/>
          <a:ext cx="3186000" cy="22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9280" y="2513160"/>
                    <a:ext cx="3186000" cy="22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heel spokes="8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C07D43B4"/>
          <p:cNvPicPr/>
          <p:nvPr/>
        </p:nvPicPr>
        <p:blipFill>
          <a:blip r:embed="rId1"/>
          <a:srcRect l="0" t="9466" r="50610" b="2110"/>
          <a:stretch/>
        </p:blipFill>
        <p:spPr>
          <a:xfrm>
            <a:off x="1547640" y="404640"/>
            <a:ext cx="5115240" cy="6048720"/>
          </a:xfrm>
          <a:prstGeom prst="rect">
            <a:avLst/>
          </a:prstGeom>
          <a:ln w="0">
            <a:noFill/>
          </a:ln>
        </p:spPr>
      </p:pic>
      <p:sp>
        <p:nvSpPr>
          <p:cNvPr id="436" name="AutoShape 5"/>
          <p:cNvSpPr/>
          <p:nvPr/>
        </p:nvSpPr>
        <p:spPr>
          <a:xfrm>
            <a:off x="1619280" y="5805360"/>
            <a:ext cx="357120" cy="358920"/>
          </a:xfrm>
          <a:custGeom>
            <a:avLst/>
            <a:gdLst>
              <a:gd name="textAreaLeft" fmla="*/ 81360 w 357120"/>
              <a:gd name="textAreaRight" fmla="*/ 275760 w 357120"/>
              <a:gd name="textAreaTop" fmla="*/ 81720 h 358920"/>
              <a:gd name="textAreaBottom" fmla="*/ 277200 h 358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7"/>
          <p:cNvSpPr/>
          <p:nvPr/>
        </p:nvSpPr>
        <p:spPr>
          <a:xfrm>
            <a:off x="468360" y="33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"/>
          <p:cNvSpPr/>
          <p:nvPr/>
        </p:nvSpPr>
        <p:spPr>
          <a:xfrm>
            <a:off x="539640" y="2349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9"/>
          <p:cNvSpPr/>
          <p:nvPr/>
        </p:nvSpPr>
        <p:spPr>
          <a:xfrm>
            <a:off x="395280" y="645336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0"/>
          <p:cNvSpPr/>
          <p:nvPr/>
        </p:nvSpPr>
        <p:spPr>
          <a:xfrm>
            <a:off x="395280" y="4437000"/>
            <a:ext cx="828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6" descr="karanda16"/>
          <p:cNvPicPr/>
          <p:nvPr/>
        </p:nvPicPr>
        <p:blipFill>
          <a:blip r:embed="rId2"/>
          <a:stretch/>
        </p:blipFill>
        <p:spPr>
          <a:xfrm flipH="1" rot="20610000">
            <a:off x="6443280" y="4581000"/>
            <a:ext cx="1944720" cy="51156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11">
            <a:hlinkClick r:id="rId3" action="ppaction://hlinksldjump"/>
          </p:cNvPr>
          <p:cNvSpPr/>
          <p:nvPr/>
        </p:nvSpPr>
        <p:spPr>
          <a:xfrm>
            <a:off x="8244000" y="6165720"/>
            <a:ext cx="576000" cy="50328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19" h="21600">
                <a:moveTo>
                  <a:pt x="0" y="0"/>
                </a:moveTo>
                <a:lnTo>
                  <a:pt x="24719" y="0"/>
                </a:lnTo>
                <a:lnTo>
                  <a:pt x="24719" y="21600"/>
                </a:lnTo>
                <a:lnTo>
                  <a:pt x="0" y="21600"/>
                </a:lnTo>
                <a:close/>
              </a:path>
              <a:path fill="lightenLess" w="24719" h="21600">
                <a:moveTo>
                  <a:pt x="0" y="0"/>
                </a:moveTo>
                <a:lnTo>
                  <a:pt x="24719" y="0"/>
                </a:lnTo>
                <a:lnTo>
                  <a:pt x="23319" y="1400"/>
                </a:lnTo>
                <a:lnTo>
                  <a:pt x="1400" y="1400"/>
                </a:lnTo>
                <a:close/>
              </a:path>
              <a:path fill="darken" w="24719" h="21600">
                <a:moveTo>
                  <a:pt x="24719" y="0"/>
                </a:moveTo>
                <a:lnTo>
                  <a:pt x="24719" y="21600"/>
                </a:lnTo>
                <a:lnTo>
                  <a:pt x="23319" y="20200"/>
                </a:lnTo>
                <a:lnTo>
                  <a:pt x="23319" y="1400"/>
                </a:lnTo>
                <a:close/>
              </a:path>
              <a:path fill="darkenLess" w="24719" h="21600">
                <a:moveTo>
                  <a:pt x="247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19" y="20200"/>
                </a:lnTo>
                <a:close/>
              </a:path>
              <a:path fill="lighten" w="247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19" h="21600">
                <a:moveTo>
                  <a:pt x="12359" y="3837"/>
                </a:moveTo>
                <a:lnTo>
                  <a:pt x="14936" y="6448"/>
                </a:ln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lnTo>
                  <a:pt x="19322" y="10800"/>
                </a:lnTo>
                <a:lnTo>
                  <a:pt x="17669" y="10800"/>
                </a:lnTo>
                <a:lnTo>
                  <a:pt x="17669" y="17989"/>
                </a:lnTo>
                <a:lnTo>
                  <a:pt x="7050" y="17989"/>
                </a:lnTo>
                <a:lnTo>
                  <a:pt x="7050" y="10800"/>
                </a:lnTo>
                <a:lnTo>
                  <a:pt x="5396" y="10800"/>
                </a:lnTo>
                <a:close/>
              </a:path>
              <a:path fill="darkenLess" w="24719" h="21600">
                <a:moveTo>
                  <a:pt x="14936" y="6448"/>
                </a:moveTo>
                <a:lnTo>
                  <a:pt x="14936" y="4707"/>
                </a:lnTo>
                <a:lnTo>
                  <a:pt x="16711" y="4707"/>
                </a:lnTo>
                <a:lnTo>
                  <a:pt x="16711" y="8224"/>
                </a:lnTo>
                <a:close/>
              </a:path>
              <a:path fill="darkenLess" w="24719" h="21600">
                <a:moveTo>
                  <a:pt x="11437" y="14299"/>
                </a:moveTo>
                <a:lnTo>
                  <a:pt x="13282" y="14299"/>
                </a:lnTo>
                <a:lnTo>
                  <a:pt x="13282" y="17989"/>
                </a:lnTo>
                <a:lnTo>
                  <a:pt x="17669" y="17989"/>
                </a:lnTo>
                <a:lnTo>
                  <a:pt x="17669" y="10800"/>
                </a:lnTo>
                <a:lnTo>
                  <a:pt x="7050" y="10800"/>
                </a:lnTo>
                <a:lnTo>
                  <a:pt x="7050" y="17989"/>
                </a:lnTo>
                <a:lnTo>
                  <a:pt x="11437" y="17989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12"/>
          <p:cNvSpPr/>
          <p:nvPr/>
        </p:nvSpPr>
        <p:spPr>
          <a:xfrm>
            <a:off x="7524720" y="6165720"/>
            <a:ext cx="576360" cy="503280"/>
          </a:xfrm>
          <a:custGeom>
            <a:avLst/>
            <a:gdLst>
              <a:gd name="textAreaLeft" fmla="*/ 32400 w 576360"/>
              <a:gd name="textAreaRight" fmla="*/ 543960 w 576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4734" h="21600">
                <a:moveTo>
                  <a:pt x="0" y="0"/>
                </a:moveTo>
                <a:lnTo>
                  <a:pt x="24734" y="0"/>
                </a:lnTo>
                <a:lnTo>
                  <a:pt x="24734" y="21600"/>
                </a:lnTo>
                <a:lnTo>
                  <a:pt x="0" y="21600"/>
                </a:lnTo>
                <a:close/>
              </a:path>
              <a:path fill="lightenLess" w="24734" h="21600">
                <a:moveTo>
                  <a:pt x="0" y="0"/>
                </a:moveTo>
                <a:lnTo>
                  <a:pt x="24734" y="0"/>
                </a:lnTo>
                <a:lnTo>
                  <a:pt x="23334" y="1400"/>
                </a:lnTo>
                <a:lnTo>
                  <a:pt x="1400" y="1400"/>
                </a:lnTo>
                <a:close/>
              </a:path>
              <a:path fill="darken" w="24734" h="21600">
                <a:moveTo>
                  <a:pt x="24734" y="0"/>
                </a:moveTo>
                <a:lnTo>
                  <a:pt x="24734" y="21600"/>
                </a:lnTo>
                <a:lnTo>
                  <a:pt x="23334" y="20200"/>
                </a:lnTo>
                <a:lnTo>
                  <a:pt x="23334" y="1400"/>
                </a:lnTo>
                <a:close/>
              </a:path>
              <a:path fill="darkenLess" w="24734" h="21600">
                <a:moveTo>
                  <a:pt x="247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334" y="20200"/>
                </a:lnTo>
                <a:close/>
              </a:path>
              <a:path fill="lighten" w="247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734" h="21600">
                <a:moveTo>
                  <a:pt x="5361" y="7493"/>
                </a:moveTo>
                <a:lnTo>
                  <a:pt x="8868" y="7493"/>
                </a:lnTo>
                <a:lnTo>
                  <a:pt x="8868" y="12828"/>
                </a:lnTo>
                <a:cubicBezTo>
                  <a:pt x="8868" y="13751"/>
                  <a:pt x="9669" y="14482"/>
                  <a:pt x="10705" y="14482"/>
                </a:cubicBezTo>
                <a:lnTo>
                  <a:pt x="12367" y="14482"/>
                </a:lnTo>
                <a:cubicBezTo>
                  <a:pt x="13403" y="14482"/>
                  <a:pt x="14204" y="13751"/>
                  <a:pt x="14204" y="12828"/>
                </a:cubicBezTo>
                <a:lnTo>
                  <a:pt x="14204" y="7493"/>
                </a:lnTo>
                <a:lnTo>
                  <a:pt x="12367" y="7493"/>
                </a:lnTo>
                <a:lnTo>
                  <a:pt x="15875" y="3985"/>
                </a:lnTo>
                <a:lnTo>
                  <a:pt x="19548" y="7493"/>
                </a:lnTo>
                <a:lnTo>
                  <a:pt x="17711" y="7493"/>
                </a:lnTo>
                <a:lnTo>
                  <a:pt x="17711" y="12828"/>
                </a:lnTo>
                <a:cubicBezTo>
                  <a:pt x="17711" y="15596"/>
                  <a:pt x="15135" y="18155"/>
                  <a:pt x="12367" y="18155"/>
                </a:cubicBezTo>
                <a:lnTo>
                  <a:pt x="10705" y="18155"/>
                </a:lnTo>
                <a:cubicBezTo>
                  <a:pt x="7937" y="18155"/>
                  <a:pt x="5361" y="15596"/>
                  <a:pt x="5361" y="12828"/>
                </a:cubicBez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68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96296E-006 L -0.51563 0.1412 E">
                                      <p:cBhvr>
                                        <p:cTn id="71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562 0.1412 C -0.51458 0.1456 -0.51337 0.15023 -0.51042 0.15671 C -0.50747 0.16319 -0.50295 0.17315 -0.49757 0.18055 C -0.49219 0.18796 -0.48507 0.19699 -0.47847 0.20116 C -0.47187 0.20509 -0.4651 0.20532 -0.45781 0.2044 C -0.45052 0.20347 -0.44375 0.20116 -0.43472 0.19606 C -0.42569 0.19097 -0.41406 0.18264 -0.40399 0.17384 C -0.39392 0.16504 -0.38941 0.15949 -0.37448 0.14305 C -0.35955 0.12662 -0.33299 0.09792 -0.31424 0.07454 C -0.29549 0.05116 -0.28351 0.03773 -0.26181 0.00278 C -0.2401 -0.03218 -0.20955 -0.08658 -0.18351 -0.13565 C -0.15747 -0.18472 -0.12778 -0.24283 -0.10538 -0.29121 C -0.08299 -0.33958 -0.06458 -0.38773 -0.04896 -0.42616 C -0.03351 -0.46458 -0.01493 -0.51921 -0.01319 -0.52199 C -0.01111 -0.52477 -0.02812 -0.47199 -0.0375 -0.44329 C -0.04653 -0.41458 -0.05608 -0.38773 -0.06806 -0.34931 C -0.08003 -0.31088 -0.09444 -0.26088 -0.1092 -0.2125 C -0.12396 -0.16412 -0.14028 -0.10996 -0.1566 -0.0588 C -0.17292 -0.00764 -0.19531 0.05787 -0.2066 0.09514 C -0.21788 0.13217 -0.22378 0.14514 -0.22448 0.16342 C -0.22517 0.18171 -0.21979 0.20046 -0.21042 0.2044 C -0.20104 0.20833 -0.18125 0.19537 -0.16806 0.1875 C -0.15486 0.17963 -0.14149 0.16528 -0.1309 0.15671 C -0.12031 0.14815 -0.11215 0.14213 -0.10399 0.13611 E">
                                      <p:cBhvr>
                                        <p:cTn id="75" dur="5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4" descr="maple"/>
          <p:cNvPicPr/>
          <p:nvPr/>
        </p:nvPicPr>
        <p:blipFill>
          <a:blip r:embed="rId1">
            <a:lum bright="-6000"/>
          </a:blip>
          <a:stretch/>
        </p:blipFill>
        <p:spPr>
          <a:xfrm rot="20778000">
            <a:off x="5867280" y="764640"/>
            <a:ext cx="2241720" cy="207648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5" descr="079513_337"/>
          <p:cNvPicPr/>
          <p:nvPr/>
        </p:nvPicPr>
        <p:blipFill>
          <a:blip r:embed="rId2"/>
          <a:srcRect l="0" t="58642" r="67529" b="0"/>
          <a:stretch/>
        </p:blipFill>
        <p:spPr>
          <a:xfrm rot="20596800">
            <a:off x="395280" y="475920"/>
            <a:ext cx="2013120" cy="207324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7" descr="079513_337"/>
          <p:cNvPicPr/>
          <p:nvPr/>
        </p:nvPicPr>
        <p:blipFill>
          <a:blip r:embed="rId3"/>
          <a:srcRect l="27721" t="0" r="48425" b="59862"/>
          <a:stretch/>
        </p:blipFill>
        <p:spPr>
          <a:xfrm rot="9734400">
            <a:off x="3708000" y="1556640"/>
            <a:ext cx="1557360" cy="21178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9" descr="079513_337"/>
          <p:cNvPicPr/>
          <p:nvPr/>
        </p:nvPicPr>
        <p:blipFill>
          <a:blip r:embed="rId4"/>
          <a:srcRect l="36625" t="63809" r="32495" b="0"/>
          <a:stretch/>
        </p:blipFill>
        <p:spPr>
          <a:xfrm>
            <a:off x="826920" y="2637000"/>
            <a:ext cx="1730520" cy="16398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21" descr="079513_337"/>
          <p:cNvPicPr/>
          <p:nvPr/>
        </p:nvPicPr>
        <p:blipFill>
          <a:blip r:embed="rId5"/>
          <a:srcRect l="53199" t="0" r="24531" b="61811"/>
          <a:stretch/>
        </p:blipFill>
        <p:spPr>
          <a:xfrm rot="12037200">
            <a:off x="6443280" y="3644280"/>
            <a:ext cx="1663560" cy="230508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3" descr="079513_337"/>
          <p:cNvPicPr/>
          <p:nvPr/>
        </p:nvPicPr>
        <p:blipFill>
          <a:blip r:embed="rId6"/>
          <a:srcRect l="77061" t="0" r="0" b="59862"/>
          <a:stretch/>
        </p:blipFill>
        <p:spPr>
          <a:xfrm rot="9262200">
            <a:off x="3707640" y="4365000"/>
            <a:ext cx="1241640" cy="1755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5" descr="079513_337"/>
          <p:cNvPicPr/>
          <p:nvPr/>
        </p:nvPicPr>
        <p:blipFill>
          <a:blip r:embed="rId7"/>
          <a:srcRect l="36649" t="63809" r="32495" b="0"/>
          <a:stretch/>
        </p:blipFill>
        <p:spPr>
          <a:xfrm>
            <a:off x="6732720" y="1197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6" descr="079513_337"/>
          <p:cNvPicPr/>
          <p:nvPr/>
        </p:nvPicPr>
        <p:blipFill>
          <a:blip r:embed="rId8"/>
          <a:srcRect l="36649" t="63809" r="32495" b="0"/>
          <a:stretch/>
        </p:blipFill>
        <p:spPr>
          <a:xfrm>
            <a:off x="2627280" y="4724280"/>
            <a:ext cx="1728720" cy="1640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7" descr="079513_337"/>
          <p:cNvPicPr/>
          <p:nvPr/>
        </p:nvPicPr>
        <p:blipFill>
          <a:blip r:embed="rId9"/>
          <a:srcRect l="36649" t="63809" r="32495" b="0"/>
          <a:stretch/>
        </p:blipFill>
        <p:spPr>
          <a:xfrm>
            <a:off x="2124000" y="33336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3" name="Picture 28" descr="079513_337"/>
          <p:cNvPicPr/>
          <p:nvPr/>
        </p:nvPicPr>
        <p:blipFill>
          <a:blip r:embed="rId10"/>
          <a:srcRect l="36649" t="63809" r="32495" b="0"/>
          <a:stretch/>
        </p:blipFill>
        <p:spPr>
          <a:xfrm>
            <a:off x="4140360" y="2421000"/>
            <a:ext cx="1728720" cy="1639800"/>
          </a:xfrm>
          <a:prstGeom prst="rect">
            <a:avLst/>
          </a:prstGeom>
          <a:ln w="0">
            <a:noFill/>
          </a:ln>
        </p:spPr>
      </p:pic>
      <p:pic>
        <p:nvPicPr>
          <p:cNvPr id="454" name="Лист3668.wav" descr=""/>
          <p:cNvPicPr/>
          <p:nvPr/>
        </p:nvPicPr>
        <p:blipFill>
          <a:blip r:embed="rId1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1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816 -0.2206 L -0.01563 0.96181 E">
                                      <p:cBhvr>
                                        <p:cTn id="87" dur="3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17 -0.38148 L 0.01736 0.76945 E">
                                      <p:cBhvr>
                                        <p:cTn id="94" dur="3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649 -0.26296 L 0.06649 0.96158 E">
                                      <p:cBhvr>
                                        <p:cTn id="101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2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3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14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1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1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МОЛОДЦЫ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АСИБО ЗА УРОК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1T17:08:28Z</dcterms:created>
  <dc:creator>Admin</dc:creator>
  <dc:description/>
  <dc:language>en-US</dc:language>
  <cp:lastModifiedBy>Admin</cp:lastModifiedBy>
  <dcterms:modified xsi:type="dcterms:W3CDTF">2017-02-13T14:14:51Z</dcterms:modified>
  <cp:revision>19</cp:revision>
  <dc:subject/>
  <dc:title>ЭТИКЕТ  за праздничным столом</dc:title>
</cp:coreProperties>
</file>