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FF3-4D6E-45EB-83D5-A8DA5257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8301-DD46-4047-A485-799D4FED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A61-A1DC-43FA-976B-4A31EA7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5B32-3A68-42F9-A6D0-53502220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2857-C44C-4920-BB3F-380482429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DD0C-532D-4EC6-8BDA-7AAA36AB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EB7D-5492-4422-B717-13E94C0A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E4FA-D43E-4E24-9BCF-52577039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DC63-F01C-48E1-95C2-2593212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4E88-54D9-404A-B2CB-92C2870D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1341-17FF-463E-A74D-B3BB22B0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3D4-40F7-445A-B88B-EBDCD83A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F5D1-44D3-4330-84E1-437805E2CF77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3995640" y="1268280"/>
            <a:ext cx="4392720" cy="2808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7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знавательные ум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Rectangle 5"/>
          <p:cNvSpPr/>
          <p:nvPr/>
        </p:nvSpPr>
        <p:spPr>
          <a:xfrm>
            <a:off x="4643280" y="494136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40d97"/>
                </a:solidFill>
                <a:latin typeface="Arial"/>
              </a:rPr>
              <a:t>Кафедра точных наук ГБОУ №586.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44035"/>
                </a:solidFill>
                <a:latin typeface="Arial"/>
              </a:rPr>
              <a:t>Неизбежная разнородность  состава  классов   требует, что для большинства  учащихся  надо  начинать  с простейших задач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MP900439493[1]"/>
          <p:cNvPicPr/>
          <p:nvPr/>
        </p:nvPicPr>
        <p:blipFill>
          <a:blip r:embed="rId1"/>
          <a:stretch/>
        </p:blipFill>
        <p:spPr>
          <a:xfrm>
            <a:off x="2195640" y="2133720"/>
            <a:ext cx="6408720" cy="42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d236a"/>
                </a:solidFill>
                <a:latin typeface="Arial"/>
              </a:rPr>
              <a:t>Непременное  условие  успешного  развития   творческого   мышления   –</a:t>
            </a:r>
            <a:br>
              <a:rPr sz="2600"/>
            </a:br>
            <a:r>
              <a:rPr b="1" lang="ru-RU" sz="2600" spc="-1" strike="noStrike">
                <a:solidFill>
                  <a:srgbClr val="8d236a"/>
                </a:solidFill>
                <a:latin typeface="Arial"/>
              </a:rPr>
              <a:t>постоянная требовательность к доказательности 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MP900438690[1]"/>
          <p:cNvPicPr/>
          <p:nvPr/>
        </p:nvPicPr>
        <p:blipFill>
          <a:blip r:embed="rId1"/>
          <a:stretch/>
        </p:blipFill>
        <p:spPr>
          <a:xfrm>
            <a:off x="2195640" y="1916280"/>
            <a:ext cx="6400800" cy="4419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ие познавательных задач отучает от механического заучивания текста, зубрёжки, вносит в учебную деятельность элемент творч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MP900439490[1]"/>
          <p:cNvPicPr/>
          <p:nvPr/>
        </p:nvPicPr>
        <p:blipFill>
          <a:blip r:embed="rId1"/>
          <a:stretch/>
        </p:blipFill>
        <p:spPr>
          <a:xfrm rot="21414600">
            <a:off x="2195640" y="2349360"/>
            <a:ext cx="582444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32000" y="1844640"/>
            <a:ext cx="7292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озможность эффективно выполнить действ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способы выполнения действий, предполагающие обязательные упражне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знания в действ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вид деятельности, выполняемый после определенного продумывани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м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это действие, идущее вслед за зн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539_1"/>
          <p:cNvPicPr/>
          <p:nvPr/>
        </p:nvPicPr>
        <p:blipFill>
          <a:blip r:embed="rId1"/>
          <a:stretch/>
        </p:blipFill>
        <p:spPr>
          <a:xfrm>
            <a:off x="1476360" y="476280"/>
            <a:ext cx="719928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028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02800"/>
                </a:solidFill>
                <a:latin typeface="Arial"/>
              </a:rPr>
              <a:t>Учение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— форма индивидуальной активности, направленная на усвоение знаний, формирование навыков и умений,   а  также  развитие  самого учащего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MP900439541[1]"/>
          <p:cNvPicPr/>
          <p:nvPr/>
        </p:nvPicPr>
        <p:blipFill>
          <a:blip r:embed="rId1"/>
          <a:stretch/>
        </p:blipFill>
        <p:spPr>
          <a:xfrm>
            <a:off x="1908000" y="2133720"/>
            <a:ext cx="6370920" cy="4190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Arial"/>
              </a:rPr>
              <a:t>Познавательными</a:t>
            </a:r>
            <a:r>
              <a:rPr b="0" lang="ru-RU" sz="3200" spc="-1" strike="noStrike">
                <a:solidFill>
                  <a:srgbClr val="660066"/>
                </a:solidFill>
                <a:latin typeface="Arial"/>
              </a:rPr>
              <a:t> называются умения, посредством которых человек приобретает знания самостоятель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MP900399789[1]"/>
          <p:cNvPicPr/>
          <p:nvPr/>
        </p:nvPicPr>
        <p:blipFill>
          <a:blip r:embed="rId1"/>
          <a:stretch/>
        </p:blipFill>
        <p:spPr>
          <a:xfrm>
            <a:off x="2050920" y="2349360"/>
            <a:ext cx="5688000" cy="3789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2b09"/>
                </a:solidFill>
                <a:latin typeface="Arial"/>
              </a:rPr>
              <a:t>Традиционное обучение — информационно-сообщающее, оно направлено на знания, а не на способы их пол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0005-005-Zadachi-uchitelja"/>
          <p:cNvPicPr/>
          <p:nvPr/>
        </p:nvPicPr>
        <p:blipFill>
          <a:blip r:embed="rId1"/>
          <a:stretch/>
        </p:blipFill>
        <p:spPr>
          <a:xfrm>
            <a:off x="2268360" y="170964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ec0"/>
                </a:solidFill>
                <a:latin typeface="Arial"/>
              </a:rPr>
              <a:t>Самый надежный и проверенный способ развития умений –  это</a:t>
            </a:r>
            <a:br>
              <a:rPr sz="3600"/>
            </a:br>
            <a:r>
              <a:rPr b="1" lang="ru-RU" sz="3600" spc="-1" strike="noStrike">
                <a:solidFill>
                  <a:srgbClr val="002ec0"/>
                </a:solidFill>
                <a:latin typeface="Arial"/>
              </a:rPr>
              <a:t>система  познавательных  задач  и  заданий.</a:t>
            </a:r>
            <a:r>
              <a:rPr b="0" lang="ru-RU" sz="2400" spc="-1" strike="noStrike">
                <a:solidFill>
                  <a:srgbClr val="002e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7 навыков высокоэффективных людей"/>
          <p:cNvPicPr/>
          <p:nvPr/>
        </p:nvPicPr>
        <p:blipFill>
          <a:blip r:embed="rId1"/>
          <a:stretch/>
        </p:blipFill>
        <p:spPr>
          <a:xfrm>
            <a:off x="1835280" y="2565360"/>
            <a:ext cx="6121440" cy="343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Навык - это пересечение знания, умения и желания"/>
          <p:cNvPicPr/>
          <p:nvPr/>
        </p:nvPicPr>
        <p:blipFill>
          <a:blip r:embed="rId1"/>
          <a:stretch/>
        </p:blipFill>
        <p:spPr>
          <a:xfrm>
            <a:off x="3348000" y="1916280"/>
            <a:ext cx="4876920" cy="4383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395280" y="602280"/>
            <a:ext cx="7777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Познавательная задача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– это  такие  условия  в  учебных  ситуациях, которые не только побуждают ученика к  оперированию  известными  знаниями  в новых  ситуациях,  но  и  ведут  к  открытию  новых  способов   действий   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учебным материал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ы решения познавательных задач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Сообщение способа решения конкретных  задач  с  последующим  составлением алгоритма, дающего  общую  ориентировку  решения  задач  данного  клас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ообщение способа решения с последующим  применением  его  в  вариативных ситуациях в пределах данного класса задач. Составление алгоритма, представляется учащим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амостоятельный поиск учащимися способа и пути решения  конкретных  задач с последующим определением алгоритма данного класса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Дмитрий Папшев</cp:lastModifiedBy>
  <dcterms:modified xsi:type="dcterms:W3CDTF">2018-08-15T13:52:13Z</dcterms:modified>
  <cp:revision>36</cp:revision>
  <dc:subject/>
  <dc:title>Diapositiva 1</dc:title>
</cp:coreProperties>
</file>