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1D39-587C-49CA-8B0B-B1FF6BC73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4B8-210F-44F0-A329-6FFB63079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011A-B8AA-447A-9B2E-D679557D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CBDA-9170-4683-89B3-DAFCF645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397-A8E9-4C84-B6A8-DB0893A1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3BF8-4791-48B5-AA25-F814FAC67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97A5-FFE3-4ACE-96DD-E718BB4D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9A76-6DD6-4CCF-A123-AFA2D5FB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9A8-BCFB-488F-905D-33D4C7CF3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98C-CB93-4D97-AF63-10139886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927-D0F3-4263-BC87-BA44FC13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F7EE-5D4A-4F09-841D-12148D5E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8D38-55B2-4852-B1EE-98BE284196E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95640" y="1268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7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навательные ум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43280" y="49413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d97"/>
                </a:solidFill>
                <a:latin typeface="Arial"/>
              </a:rPr>
              <a:t>Кафедра точных наук ГБОУ №586.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35"/>
                </a:solidFill>
                <a:latin typeface="Arial"/>
              </a:rPr>
              <a:t>Неизбежная разнородность  состава  классов   требует, что для большинства  учащихся  надо  начинать  с простейш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P900439493[1]"/>
          <p:cNvPicPr/>
          <p:nvPr/>
        </p:nvPicPr>
        <p:blipFill>
          <a:blip r:embed="rId1"/>
          <a:stretch/>
        </p:blipFill>
        <p:spPr>
          <a:xfrm>
            <a:off x="2195640" y="2133720"/>
            <a:ext cx="6408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d236a"/>
                </a:solidFill>
                <a:latin typeface="Arial"/>
              </a:rPr>
              <a:t>Непременное  условие  успешного  развития   творческого   мышления   –</a:t>
            </a:r>
            <a:br>
              <a:rPr sz="2600"/>
            </a:br>
            <a:r>
              <a:rPr b="1" lang="ru-RU" sz="2600" spc="-1" strike="noStrike">
                <a:solidFill>
                  <a:srgbClr val="8d236a"/>
                </a:solidFill>
                <a:latin typeface="Arial"/>
              </a:rPr>
              <a:t>постоянная требовательность к доказательности 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P900438690[1]"/>
          <p:cNvPicPr/>
          <p:nvPr/>
        </p:nvPicPr>
        <p:blipFill>
          <a:blip r:embed="rId1"/>
          <a:stretch/>
        </p:blipFill>
        <p:spPr>
          <a:xfrm>
            <a:off x="2195640" y="191628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ознавательных задач отучает от механического заучивания текста, зубрёжки, вносит в учебную деятельность элемент твор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P900439490[1]"/>
          <p:cNvPicPr/>
          <p:nvPr/>
        </p:nvPicPr>
        <p:blipFill>
          <a:blip r:embed="rId1"/>
          <a:stretch/>
        </p:blipFill>
        <p:spPr>
          <a:xfrm rot="21414600">
            <a:off x="2195640" y="2349360"/>
            <a:ext cx="5824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92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озможность эффективно выполнить действ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пособы выполнения действий, предполагающие обязательные упраж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знания в действ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ид деятельности, выполняемый после определенного продумы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действие, идущее вслед за зн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39_1"/>
          <p:cNvPicPr/>
          <p:nvPr/>
        </p:nvPicPr>
        <p:blipFill>
          <a:blip r:embed="rId1"/>
          <a:stretch/>
        </p:blipFill>
        <p:spPr>
          <a:xfrm>
            <a:off x="1476360" y="476280"/>
            <a:ext cx="7199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02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2800"/>
                </a:solidFill>
                <a:latin typeface="Arial"/>
              </a:rPr>
              <a:t>Учение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— форма индивидуальной активности, направленная на усвоение знаний, формирование навыков и умений,   а  также  развитие  самого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P900439541[1]"/>
          <p:cNvPicPr/>
          <p:nvPr/>
        </p:nvPicPr>
        <p:blipFill>
          <a:blip r:embed="rId1"/>
          <a:stretch/>
        </p:blipFill>
        <p:spPr>
          <a:xfrm>
            <a:off x="1908000" y="2133720"/>
            <a:ext cx="6370920" cy="4190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знавательными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называются умения, посредством которых человек приобретает знания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900399789[1]"/>
          <p:cNvPicPr/>
          <p:nvPr/>
        </p:nvPicPr>
        <p:blipFill>
          <a:blip r:embed="rId1"/>
          <a:stretch/>
        </p:blipFill>
        <p:spPr>
          <a:xfrm>
            <a:off x="2050920" y="2349360"/>
            <a:ext cx="5688000" cy="378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2b09"/>
                </a:solidFill>
                <a:latin typeface="Arial"/>
              </a:rPr>
              <a:t>Традиционное обучение — информационно-сообщающее, оно направлено на знания, а не на способы их пол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05-005-Zadachi-uchitelja"/>
          <p:cNvPicPr/>
          <p:nvPr/>
        </p:nvPicPr>
        <p:blipFill>
          <a:blip r:embed="rId1"/>
          <a:stretch/>
        </p:blipFill>
        <p:spPr>
          <a:xfrm>
            <a:off x="2268360" y="1709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ec0"/>
                </a:solidFill>
                <a:latin typeface="Arial"/>
              </a:rPr>
              <a:t>Самый надежный и проверенный способ развития умений –  это</a:t>
            </a:r>
            <a:br>
              <a:rPr sz="3600"/>
            </a:br>
            <a:r>
              <a:rPr b="1" lang="ru-RU" sz="3600" spc="-1" strike="noStrike">
                <a:solidFill>
                  <a:srgbClr val="002ec0"/>
                </a:solidFill>
                <a:latin typeface="Arial"/>
              </a:rPr>
              <a:t>система  познавательных  задач  и  заданий.</a:t>
            </a:r>
            <a:r>
              <a:rPr b="0" lang="ru-RU" sz="2400" spc="-1" strike="noStrike">
                <a:solidFill>
                  <a:srgbClr val="002e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7 навыков высокоэффективных людей"/>
          <p:cNvPicPr/>
          <p:nvPr/>
        </p:nvPicPr>
        <p:blipFill>
          <a:blip r:embed="rId1"/>
          <a:stretch/>
        </p:blipFill>
        <p:spPr>
          <a:xfrm>
            <a:off x="1835280" y="2565360"/>
            <a:ext cx="6121440" cy="343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Навык - это пересечение знания, умения и желания"/>
          <p:cNvPicPr/>
          <p:nvPr/>
        </p:nvPicPr>
        <p:blipFill>
          <a:blip r:embed="rId1"/>
          <a:stretch/>
        </p:blipFill>
        <p:spPr>
          <a:xfrm>
            <a:off x="3348000" y="1916280"/>
            <a:ext cx="4876920" cy="438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5280" y="60228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знавательная задача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– это  такие  условия  в  учебных  ситуациях, которые не только побуждают ученика к  оперированию  известными  знаниями  в новых  ситуациях,  но  и  ведут  к  открытию  новых  способов   действий  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учебным матер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ешения познавательны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общение способа решения конкретных  задач  с  последующим  составлением алгоритма, дающего  общую  ориентировку  решения  задач  данного 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общение способа решения с последующим  применением  его  в  вариативных ситуациях в пределах данного класса задач. Составление алгоритма, представляется уча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амостоятельный поиск учащимися способа и пути решения  конкретных  задач с последующим определением алгоритма данного класса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Дмитрий Папшев</cp:lastModifiedBy>
  <dcterms:modified xsi:type="dcterms:W3CDTF">2018-08-15T13:52:13Z</dcterms:modified>
  <cp:revision>36</cp:revision>
  <dc:subject/>
  <dc:title>Diapositiva 1</dc:title>
</cp:coreProperties>
</file>