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powerpointstyles.com/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34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9" descr="h rtrae gd jrt ujrt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7624440" y="623736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4a9337"/>
                </a:solidFill>
                <a:latin typeface="Arial"/>
              </a:rPr>
              <a:t>Page </a:t>
            </a:r>
            <a:fld id="{FB9D994C-E706-4EE3-B73B-73557B8DFFF8}" type="slidenum">
              <a:rPr b="1" lang="fr-FR" sz="1800" spc="-1" strike="noStrike">
                <a:solidFill>
                  <a:srgbClr val="4a9337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owerpointstyles.com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Text Box 29"/>
          <p:cNvSpPr/>
          <p:nvPr/>
        </p:nvSpPr>
        <p:spPr>
          <a:xfrm>
            <a:off x="3351600" y="623736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Powerpoint Templ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35" descr="jy tyjze yhj,gazh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6"/>
          <p:cNvSpPr/>
          <p:nvPr/>
        </p:nvSpPr>
        <p:spPr>
          <a:xfrm>
            <a:off x="2556000" y="260280"/>
            <a:ext cx="6480000" cy="73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2060"/>
                </a:solidFill>
                <a:uFillTx/>
                <a:latin typeface="Monotype Corsiva"/>
              </a:rPr>
              <a:t>Проектная деятельность на уроках английского языка как средство формирования метапредметных  результато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Monotype Corsiva"/>
              </a:rPr>
              <a:t>учителя английского язы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Monotype Corsiva"/>
              </a:rPr>
              <a:t>МБОУ СОШ №95 г.Кемер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Monotype Corsiva"/>
              </a:rPr>
              <a:t>Загжевская А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7030a0"/>
                </a:solidFill>
                <a:latin typeface="Arial"/>
              </a:rPr>
              <a:t>Достижение </a:t>
            </a:r>
            <a:r>
              <a:rPr b="0" i="1" lang="ru-RU" sz="3600" spc="-1" strike="noStrike" u="sng">
                <a:solidFill>
                  <a:srgbClr val="7030a0"/>
                </a:solidFill>
                <a:uFillTx/>
                <a:latin typeface="Arial"/>
              </a:rPr>
              <a:t>регулятивных </a:t>
            </a:r>
            <a:r>
              <a:rPr b="0" i="1" lang="ru-RU" sz="3600" spc="-1" strike="noStrike">
                <a:solidFill>
                  <a:srgbClr val="7030a0"/>
                </a:solidFill>
                <a:latin typeface="Arial"/>
              </a:rPr>
              <a:t>метапредметных результа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071360" y="1600200"/>
            <a:ext cx="761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определение целей деятельности, составление плана действий по достижению результата творческого характе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работа по составленному плану с сопоставлением получающегося результата с исходным замыслом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понимание причин возникающих затруднений и поиск способов выхода из ситу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Arial"/>
              </a:rPr>
              <a:t>Познавательные универсальные учебные действ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Работа над проектами позволяет осваивать </a:t>
            </a:r>
            <a:r>
              <a:rPr b="1" i="1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познавательные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универсальные учебные 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Освоение </a:t>
            </a:r>
            <a:r>
              <a:rPr b="1" i="1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познавательных 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универсальных учебных действий</a:t>
            </a: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142640" y="157176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предполагать, какая информация нуж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отбирать необходимые словари, энциклопедии, справочники, электронные диск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сопоставлять и отбирать информацию, полученную из различных источников (словари, энциклопедии, справочники, электронные диски, сеть Интерн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107172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умение вести дискуссию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слушать и слышать собеседни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отстаивать свою точку зрения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Формирование метапредметных </a:t>
            </a:r>
            <a:r>
              <a:rPr b="1" i="1" lang="ru-RU" sz="3200" spc="-1" strike="noStrike" u="sng">
                <a:solidFill>
                  <a:srgbClr val="7030a0"/>
                </a:solidFill>
                <a:uFillTx/>
                <a:latin typeface="Arial"/>
              </a:rPr>
              <a:t>коммуникативных</a:t>
            </a:r>
            <a:r>
              <a:rPr b="1" i="1" lang="ru-RU" sz="3200" spc="-1" strike="noStrike">
                <a:solidFill>
                  <a:srgbClr val="7030a0"/>
                </a:solidFill>
                <a:latin typeface="Arial"/>
              </a:rPr>
              <a:t> умен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1908000" y="248400"/>
            <a:ext cx="723600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00"/>
                </a:solidFill>
                <a:latin typeface="Monotype Corsiva"/>
              </a:rPr>
              <a:t>Этапы проекта 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a9337"/>
                </a:solidFill>
                <a:latin typeface="Monotype Corsiva"/>
              </a:rPr>
              <a:t>1.выбор те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a9337"/>
                </a:solidFill>
                <a:latin typeface="Monotype Corsiva"/>
              </a:rPr>
              <a:t> </a:t>
            </a:r>
            <a:r>
              <a:rPr b="0" i="1" lang="ru-RU" sz="3200" spc="-1" strike="noStrike">
                <a:solidFill>
                  <a:srgbClr val="4a9337"/>
                </a:solidFill>
                <a:latin typeface="Monotype Corsiva"/>
              </a:rPr>
              <a:t>2.анали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a9337"/>
                </a:solidFill>
                <a:latin typeface="Monotype Corsiva"/>
              </a:rPr>
              <a:t>3.практиче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a9337"/>
                </a:solidFill>
                <a:latin typeface="Monotype Corsiva"/>
              </a:rPr>
              <a:t>4.презентацио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a9337"/>
                </a:solidFill>
                <a:latin typeface="Monotype Corsiva"/>
              </a:rPr>
              <a:t>5.контроль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C:\Users\Саша\Pictures\проект\20170203_103555.jpg"/>
          <p:cNvPicPr/>
          <p:nvPr/>
        </p:nvPicPr>
        <p:blipFill>
          <a:blip r:embed="rId1"/>
          <a:stretch/>
        </p:blipFill>
        <p:spPr>
          <a:xfrm>
            <a:off x="2500200" y="3429000"/>
            <a:ext cx="6643800" cy="3429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Прямоугольник 1"/>
          <p:cNvSpPr/>
          <p:nvPr/>
        </p:nvSpPr>
        <p:spPr>
          <a:xfrm>
            <a:off x="1692360" y="189000"/>
            <a:ext cx="74516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4a9337"/>
                </a:solidFill>
                <a:uFillTx/>
                <a:latin typeface="Monotype Corsiva"/>
              </a:rPr>
              <a:t>Наиболее эффективными способами формирования метапредметных результатов при обучении  английскому языку явля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4a9337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a9337"/>
                </a:solidFill>
                <a:uFillTx/>
                <a:latin typeface="Monotype Corsiva"/>
              </a:rPr>
              <a:t>Проектная деятельность </a:t>
            </a:r>
            <a:r>
              <a:rPr b="0" i="1" lang="ru-RU" sz="2400" spc="-1" strike="noStrike">
                <a:solidFill>
                  <a:srgbClr val="4a9337"/>
                </a:solidFill>
                <a:latin typeface="Monotype Corsiva"/>
              </a:rPr>
              <a:t>помогает решить такие задачи, как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"/>
          <p:cNvSpPr/>
          <p:nvPr/>
        </p:nvSpPr>
        <p:spPr>
          <a:xfrm>
            <a:off x="1979640" y="1298880"/>
            <a:ext cx="71643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9337"/>
                </a:solidFill>
                <a:latin typeface="Monotype Corsiva"/>
                <a:ea typeface="Times New Roman"/>
              </a:rPr>
              <a:t>овладение учащимися навыками поисковой деятельности, умением работать с литературой, умением поиска необходимой информации в сети Интерне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a9337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9337"/>
                </a:solidFill>
                <a:latin typeface="Monotype Corsiva"/>
                <a:ea typeface="Times New Roman"/>
              </a:rPr>
              <a:t>выделение нужной информации, ее обобщ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a9337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9337"/>
                </a:solidFill>
                <a:latin typeface="Monotype Corsiva"/>
                <a:ea typeface="Times New Roman"/>
              </a:rPr>
              <a:t>формирование у участников проектной работы умения представлять свои проекты в виде презентации, готовить своё выступлени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a9337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9337"/>
                </a:solidFill>
                <a:latin typeface="Monotype Corsiva"/>
                <a:ea typeface="Times New Roman"/>
              </a:rPr>
              <a:t>овладение умением реагировать на вопросы, вступать в дискусс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a9337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9337"/>
                </a:solidFill>
                <a:latin typeface="Monotype Corsiva"/>
                <a:ea typeface="Times New Roman"/>
              </a:rPr>
              <a:t>развитие способности к самоанализу и самооцен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a9337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9337"/>
                </a:solidFill>
                <a:latin typeface="Monotype Corsiva"/>
                <a:ea typeface="Times New Roman"/>
              </a:rPr>
              <a:t>развитие творческих способнос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4a9337"/>
              </a:buClr>
              <a:buFont typeface="Monotype Corsiv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9337"/>
                </a:solidFill>
                <a:latin typeface="Monotype Corsiva"/>
                <a:ea typeface="Times New Roman"/>
              </a:rPr>
              <a:t>повышение интереса к изучаем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1428840" y="5400"/>
            <a:ext cx="720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a9337"/>
                </a:solidFill>
                <a:latin typeface="Monotype Corsiva"/>
              </a:rPr>
              <a:t>Мини проект « </a:t>
            </a:r>
            <a:r>
              <a:rPr b="0" i="1" lang="en-US" sz="4000" spc="-1" strike="noStrike">
                <a:solidFill>
                  <a:srgbClr val="4a9337"/>
                </a:solidFill>
                <a:latin typeface="Monotype Corsiva"/>
              </a:rPr>
              <a:t>Timetable</a:t>
            </a:r>
            <a:r>
              <a:rPr b="0" i="1" lang="ru-RU" sz="4000" spc="-1" strike="noStrike">
                <a:solidFill>
                  <a:srgbClr val="4a9337"/>
                </a:solidFill>
                <a:latin typeface="Monotype Corsiva"/>
              </a:rPr>
              <a:t>»-расписание  ( 5 класс 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6" descr="C:\Users\Саша\Pictures\проект\20170203_103721.jpg"/>
          <p:cNvPicPr/>
          <p:nvPr/>
        </p:nvPicPr>
        <p:blipFill>
          <a:blip r:embed="rId1"/>
          <a:stretch/>
        </p:blipFill>
        <p:spPr>
          <a:xfrm>
            <a:off x="2071800" y="1500120"/>
            <a:ext cx="6286320" cy="50007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1619280" y="68400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4a9337"/>
                </a:solidFill>
                <a:uFillTx/>
                <a:latin typeface="Monotype Corsiv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:\Users\Саша\Pictures\проект\20170203_103814.jpg"/>
          <p:cNvPicPr/>
          <p:nvPr/>
        </p:nvPicPr>
        <p:blipFill>
          <a:blip r:embed="rId1"/>
          <a:stretch/>
        </p:blipFill>
        <p:spPr>
          <a:xfrm>
            <a:off x="2643120" y="0"/>
            <a:ext cx="521496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3"/>
          <p:cNvSpPr/>
          <p:nvPr/>
        </p:nvSpPr>
        <p:spPr>
          <a:xfrm>
            <a:off x="1763640" y="549360"/>
            <a:ext cx="7201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a9337"/>
                </a:solidFill>
                <a:latin typeface="Monotype Corsiva"/>
              </a:rPr>
              <a:t>Проект « </a:t>
            </a:r>
            <a:r>
              <a:rPr b="0" i="1" lang="en-US" sz="2800" spc="-1" strike="noStrike">
                <a:solidFill>
                  <a:srgbClr val="4a9337"/>
                </a:solidFill>
                <a:latin typeface="Monotype Corsiva"/>
              </a:rPr>
              <a:t>My family</a:t>
            </a:r>
            <a:r>
              <a:rPr b="0" i="1" lang="ru-RU" sz="2800" spc="-1" strike="noStrike">
                <a:solidFill>
                  <a:srgbClr val="4a9337"/>
                </a:solidFill>
                <a:latin typeface="Monotype Corsiva"/>
              </a:rPr>
              <a:t> «- моя семья (3 класс, 5 клас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a9337"/>
                </a:solidFill>
                <a:latin typeface="Monotype Corsiva"/>
              </a:rPr>
              <a:t>(интеграция образовательных област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a9337"/>
                </a:solidFill>
                <a:latin typeface="Monotype Corsiva"/>
              </a:rPr>
              <a:t>«Английский язык», «Обществознание», «Психология»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:\Users\Саша\Pictures\проект\20170203_104841.jpg"/>
          <p:cNvPicPr/>
          <p:nvPr/>
        </p:nvPicPr>
        <p:blipFill>
          <a:blip r:embed="rId1"/>
          <a:stretch/>
        </p:blipFill>
        <p:spPr>
          <a:xfrm>
            <a:off x="2571840" y="2428920"/>
            <a:ext cx="5857920" cy="44290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1763640" y="-154440"/>
            <a:ext cx="7380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4a9337"/>
                </a:solidFill>
                <a:uFillTx/>
                <a:latin typeface="Monotype Corsiv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"/>
          <p:cNvSpPr/>
          <p:nvPr/>
        </p:nvSpPr>
        <p:spPr>
          <a:xfrm>
            <a:off x="1692360" y="1413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4a9337"/>
                </a:solidFill>
                <a:latin typeface="Monotype Corsiv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C:\Users\Саша\Pictures\проект\20170203_105055.jpg"/>
          <p:cNvPicPr/>
          <p:nvPr/>
        </p:nvPicPr>
        <p:blipFill>
          <a:blip r:embed="rId1"/>
          <a:stretch/>
        </p:blipFill>
        <p:spPr>
          <a:xfrm>
            <a:off x="1857240" y="0"/>
            <a:ext cx="607248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8"/>
          <p:cNvSpPr/>
          <p:nvPr/>
        </p:nvSpPr>
        <p:spPr>
          <a:xfrm>
            <a:off x="1979640" y="1341360"/>
            <a:ext cx="64800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2268360" y="260280"/>
            <a:ext cx="6607440" cy="75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Согласно </a:t>
            </a:r>
            <a:r>
              <a:rPr b="1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ФГОС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нового поколения </a:t>
            </a:r>
            <a:r>
              <a:rPr b="1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успешность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современного человека </a:t>
            </a:r>
            <a:r>
              <a:rPr b="1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пределяют: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риентированность на знания и использование новых технологи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активная жизненная пози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установка на рациональное исполь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   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своего времени и проектирование свое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    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будущег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активное пове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эффективное социальное сотрудничеств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здоровый и безопасный образ 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C:\Users\Саша\Pictures\проект\20170203_105616.jpg"/>
          <p:cNvPicPr/>
          <p:nvPr/>
        </p:nvPicPr>
        <p:blipFill>
          <a:blip r:embed="rId1"/>
          <a:stretch/>
        </p:blipFill>
        <p:spPr>
          <a:xfrm>
            <a:off x="1857240" y="0"/>
            <a:ext cx="557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Users\Саша\Pictures\проект\20170203_105641.jpg"/>
          <p:cNvPicPr/>
          <p:nvPr/>
        </p:nvPicPr>
        <p:blipFill>
          <a:blip r:embed="rId1"/>
          <a:stretch/>
        </p:blipFill>
        <p:spPr>
          <a:xfrm>
            <a:off x="178596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uslide.ru/images/21/28093/960/img14.jpg"/>
          <p:cNvPicPr/>
          <p:nvPr/>
        </p:nvPicPr>
        <p:blipFill>
          <a:blip r:embed="rId1"/>
          <a:stretch/>
        </p:blipFill>
        <p:spPr>
          <a:xfrm>
            <a:off x="0" y="-285840"/>
            <a:ext cx="9144000" cy="73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2124000" y="189000"/>
            <a:ext cx="6769080" cy="81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Приоритетная цель современного российского образования –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 не репродуктивная передача знаний, умений и навыков от учителя к ученику, а </a:t>
            </a:r>
            <a:r>
              <a:rPr b="1" i="1" lang="ru-RU" sz="28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полноценное формирование и развитие способностей ученика самостоятельно очерчивать учебную проблему, формулировать алгоритм её решения, контролировать процесс и оценивать полученный результат.</a:t>
            </a:r>
            <a:r>
              <a:rPr b="1" i="1" lang="ru-RU" sz="2800" spc="-1" strike="noStrike" u="sng">
                <a:solidFill>
                  <a:srgbClr val="002060"/>
                </a:solidFill>
                <a:uFillTx/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Monotype Corsiva"/>
              </a:rPr>
              <a:t>Метапредметные результаты обучения </a:t>
            </a:r>
            <a:r>
              <a:rPr b="0" i="1" lang="ru-RU" sz="2800" spc="-1" strike="noStrike">
                <a:solidFill>
                  <a:srgbClr val="002060"/>
                </a:solidFill>
                <a:latin typeface="Monotype Corsiva"/>
              </a:rPr>
              <a:t>– это результаты деятельности на разных учебных предметах, применяемые учащимися  в обучении, на практике и перенос во внеучебную (жизненную) деяте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2050920" y="260280"/>
            <a:ext cx="6913800" cy="59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тод проекта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мплексный обучающий метод, позволяющий учащимся проявлять самостоятельность в планировании, организации и контроле своей деятельности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3"/>
          <p:cNvSpPr/>
          <p:nvPr/>
        </p:nvSpPr>
        <p:spPr>
          <a:xfrm>
            <a:off x="2286000" y="571680"/>
            <a:ext cx="5715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проектной деятельности </a:t>
            </a:r>
            <a:r>
              <a:rPr b="1" i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лючается в том, чтобы каждый учащийся почувствовал себя более уверенно, смог проявить все свои способности и оценить данный вид деятельност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http://player.myshared.ru/10/972955/slides/slide_6.jpg"/>
          <p:cNvPicPr/>
          <p:nvPr/>
        </p:nvPicPr>
        <p:blipFill>
          <a:blip r:embed="rId1"/>
          <a:stretch/>
        </p:blipFill>
        <p:spPr>
          <a:xfrm>
            <a:off x="1357200" y="0"/>
            <a:ext cx="762012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2286000" y="500040"/>
            <a:ext cx="5572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Работа над проектами  дополняет в образовательном процессе классно-урочную деятельность и позволяет работать над получением личностных и метапредметных результатов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C:\Users\Саша\Pictures\проект\20170203_104022.jpg"/>
          <p:cNvPicPr/>
          <p:nvPr/>
        </p:nvPicPr>
        <p:blipFill>
          <a:blip r:embed="rId1"/>
          <a:stretch/>
        </p:blipFill>
        <p:spPr>
          <a:xfrm>
            <a:off x="2357280" y="3857760"/>
            <a:ext cx="60008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09800" y="115560"/>
            <a:ext cx="7124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Arial"/>
              </a:rPr>
              <a:t>Учит умениям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009800" y="1196640"/>
            <a:ext cx="7124400" cy="46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Организовывать взаимодействие в группе (распределять роли, договариваться друг с другом и т.д.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Предвидеть (прогнозировать) последствия коллективных решени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Оформлять свои мысли в устной и письменной речи с учётом своих учебных и жизненных речевых ситуаций, в том числе с применением средств ИК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Arial"/>
              </a:rPr>
              <a:t>При необходимости отстаивать свою точку зрения, аргументируя ее. Учиться подтверждать аргументы фак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Регулятивные метапредметные результа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071720" y="1428840"/>
            <a:ext cx="71244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030a0"/>
                </a:solidFill>
                <a:latin typeface="Arial"/>
              </a:rPr>
              <a:t>Работа над проектами позволяет работать над получением </a:t>
            </a:r>
            <a:r>
              <a:rPr b="0" i="1" lang="ru-RU" sz="4000" spc="-1" strike="noStrike" u="sng">
                <a:solidFill>
                  <a:srgbClr val="7030a0"/>
                </a:solidFill>
                <a:uFillTx/>
                <a:latin typeface="Arial"/>
              </a:rPr>
              <a:t>регулятивных</a:t>
            </a:r>
            <a:r>
              <a:rPr b="0" i="1" lang="ru-RU" sz="4000" spc="-1" strike="noStrike">
                <a:solidFill>
                  <a:srgbClr val="7030a0"/>
                </a:solidFill>
                <a:latin typeface="Arial"/>
              </a:rPr>
              <a:t> метапредметных результа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Саша</cp:lastModifiedBy>
  <dcterms:modified xsi:type="dcterms:W3CDTF">2018-08-14T22:23:02Z</dcterms:modified>
  <cp:revision>91</cp:revision>
  <dc:subject/>
  <dc:title>Формирование метапредметных результатов при обучении английскому языку обобщение опыта работы учителя английского языка МБОУ СОШ №36 с. Дефановка Сметаниной Юлии Владимировны</dc:title>
</cp:coreProperties>
</file>