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C71-1978-463B-9E2C-BC454A81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996D-5031-4839-B3CC-8B0ECB21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0A4C-644B-4137-B1E8-F32D3BBF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CB16-1F7F-4811-A52D-883B0563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728E-DC59-427A-916D-E01B4C3A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FB1B4-0204-493D-A8F3-D89821E0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4584-3E69-4932-9F49-8A9727CC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7EC7-AE65-4463-8015-4F1DCC69C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7514-DF47-4913-BD82-19A6792B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A3D1-59AB-4846-9362-204C25CD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A8574-9950-410A-B9FA-0A823150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420-7A85-4B59-AC9E-3CBA64EC8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ECB8-093C-4907-8616-1B7362F2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FA34-9CD2-40E8-A09E-A3D81ACF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1DAA-CD31-4240-A3AE-F944C797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B67D3-A1A3-45EF-B3F9-486CF267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C598-2C46-4912-803B-EDA2EFB5D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3561F-55AE-4006-BC61-2109C0F5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8A3E47-8C5C-4684-AC83-2CD1E369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FD5F23-1DF4-4234-B576-8B52CF27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ABDB72-BDBA-4500-9F6E-AB7170D5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C9EACC-B779-481D-ABCC-C1765485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039F-B482-4347-A5A3-ED5E1C4E0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87D9C9-C1BB-4FCB-83C8-29250C22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F9B7A5-3E45-4F03-829D-9678C90A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6AA3E-564B-4FD9-9EC8-34864BAB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D0A1A5-8E96-435D-A5A0-9D4F2A86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A18931-51C8-435E-B6C3-284E21C2E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7384C-ADB2-41B8-BEBE-7EADD796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57FEED-9B53-46F9-AA77-B8D442B5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4DD50-313A-4DCF-8CB4-E0E8F319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03DA7-B844-42EF-B71D-305CCBD6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6FE36-34AB-4F76-85BF-A06B46B8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4EE-AFD2-40A5-B781-A95613A24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7EB66-3C2B-4F37-A360-9E844B0D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F9DC7-ABC6-4159-9817-76E8FFE1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A0E9-0627-49B2-8906-CE6A8BE5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61D81-AC0B-45CC-B0D7-8C529FEF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D6C00-74BB-49D1-8101-974284E7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5E53F-0744-4E0D-A976-85AF3D7D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951A8-30C0-493D-B599-C2640086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7B209-C261-4D74-AB9D-1A4BC9AB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F92F1-FA93-4FB3-AE44-5A6FB3312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73224C-CC6D-484B-8AFA-17E348884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178-7617-4DC4-8C0D-48062CD9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BE10C-AFF9-4A33-B932-194981BD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2D3612-E7A8-4AAA-A1D8-7A5D7A92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5958E4-902B-4455-A5FA-71C36D10D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5D4F1-3453-43EA-BB8A-5A75E10D3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CD0506-BB6F-4B6F-B644-E38A522A6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891482-C693-42A3-B0DC-B065AEA0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889033-2B01-4DD3-8496-405107D7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AAF7AE-96FD-4CEE-BE50-3D2E6832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B90592-4911-4FC7-AC54-AD734110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F60330-7EC8-47F1-BD90-FD2B60C94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7FEB-2F7D-4AAA-8F0B-0D894203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75110-F73E-4D3F-9E78-DD0E73373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D47D6-48E7-4B2C-AE21-35F9E675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6C486B-1554-4E37-AF10-6CA6EE2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27465B-DFDF-4136-B2A4-137D556F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B7CEFA-C094-4AC9-A47F-97AEB5EC4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C72B6-C290-4D54-9B12-73B9CCD6B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E83617-A93A-42E8-8855-3834C17C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77435-3E8F-43B5-B6A5-C2831311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B4EE35-C277-4BD9-96D4-CE40F093D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EBD4D9-CD22-4A99-B2C9-4CC457F2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748-6488-449A-836A-25A8826B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26BA9A-FB78-419E-91FA-30FB23A8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74957D-59FE-4961-8BE9-0F43406F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F43A3D-B7DD-4C7A-9D94-1BC75925F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F4DC6F-C040-4FB6-B896-E47ED3703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715181-55EF-4305-B757-1A41EAFB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AFFC05-55F5-46D5-87F8-6E5881D6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12431-A14F-4E29-BCE8-E9C0BF2D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096EC-E8A9-4C6A-9D56-6D79FD4A2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04CD34-F2F7-4182-A9B9-F384FE32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650FE4-1258-4944-9993-42539417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BB4-0AE1-4F19-A7B9-F0A6A8BE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310EB6-FDF4-4984-94F7-85C497C7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28B8F0-D4C4-45D4-B172-6E9F0A92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8ED69F-3AAF-4AEE-8EBB-F8DEA4787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390D9D-5B59-42CD-B334-7DE5F9A3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F3D41-DF71-4B6D-A214-D770306EB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D7F0-9A8F-4991-90C0-1557D0DB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CE32-F110-453D-AB38-078E51DE3EA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67D6-A305-4DD9-B6F9-84119044D5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4DD4-BEAD-4B12-820E-628B9580DDE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8F5B-BD7A-470A-AE4C-02BAABB20A9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523A-39B2-402A-ADB5-B0FD9B314A0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A3F7-62C7-4339-8CDD-ECE24ED7E1A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82B3-C2B0-4D2F-897C-7A5DB055E51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7" descr="medium_20100123092115292393 (1).jpg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121932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medium_20100123092115292393 (1).jpg"/>
          <p:cNvPicPr/>
          <p:nvPr/>
        </p:nvPicPr>
        <p:blipFill>
          <a:blip r:embed="rId2"/>
          <a:stretch/>
        </p:blipFill>
        <p:spPr>
          <a:xfrm>
            <a:off x="0" y="0"/>
            <a:ext cx="213372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5" descr="medium_20100123092115292393.jpg"/>
          <p:cNvPicPr/>
          <p:nvPr/>
        </p:nvPicPr>
        <p:blipFill>
          <a:blip r:embed="rId3"/>
          <a:stretch/>
        </p:blipFill>
        <p:spPr>
          <a:xfrm>
            <a:off x="2130480" y="1219320"/>
            <a:ext cx="7013520" cy="56386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0" y="-360"/>
            <a:ext cx="8305920" cy="297180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5400" spc="-1" strike="noStrike">
                <a:solidFill>
                  <a:srgbClr val="800080"/>
                </a:solidFill>
                <a:latin typeface="Century Schoolbook"/>
              </a:rPr>
              <a:t>Spring, spring, spring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Century Schoolbook"/>
              </a:rPr>
              <a:t>The trees are green.</a:t>
            </a:r>
            <a:r>
              <a:rPr b="1" lang="en-US" sz="5400" spc="-1" strike="noStrike">
                <a:solidFill>
                  <a:srgbClr val="3333ff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3333ff"/>
                </a:solidFill>
                <a:latin typeface="Century Schoolbook"/>
              </a:rPr>
              <a:t>Blue skies are seen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entury Schoolbook"/>
              </a:rPr>
              <a:t>All the birds sing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3" descr="large.jpg"/>
          <p:cNvPicPr/>
          <p:nvPr/>
        </p:nvPicPr>
        <p:blipFill>
          <a:blip r:embed="rId1"/>
          <a:stretch/>
        </p:blipFill>
        <p:spPr>
          <a:xfrm>
            <a:off x="1295280" y="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1905120" y="53341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g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3" descr="090c6de3235439066ab58032837db0c9.jpg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48769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2362320" y="548640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ou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3" descr="102302834_1305027634_1030.jpg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48006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2057400" y="52578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3" descr="12477yd9.jpg"/>
          <p:cNvPicPr/>
          <p:nvPr/>
        </p:nvPicPr>
        <p:blipFill>
          <a:blip r:embed="rId1"/>
          <a:stretch/>
        </p:blipFill>
        <p:spPr>
          <a:xfrm>
            <a:off x="609480" y="38088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2133720" y="541008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ZVGsRIMn2Uo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3" descr="9ce4e561-cd29-11df-bb92-0017311b27c1_9ce4e564-cd29-11df-bb92-0017311b27c1.jpeg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2057400" y="533520"/>
            <a:ext cx="7086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ая температу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’s the temperatu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plus 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с) 2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minus 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йнэс)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5" descr="rNI3DgUG0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Schoolbook"/>
              </a:rPr>
              <a:t>WHAT SEASON IS IT?</a:t>
            </a:r>
            <a:endParaRPr b="0" lang="en-US" sz="4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295280"/>
            <a:ext cx="8458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33ff"/>
                </a:solidFill>
                <a:latin typeface="Century Schoolbook"/>
              </a:rPr>
              <a:t>This is a season when fruit is sweet,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33ff"/>
                </a:solidFill>
                <a:latin typeface="Century Schoolbook"/>
              </a:rPr>
              <a:t>This is a season when friends meet,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33ff"/>
                </a:solidFill>
                <a:latin typeface="Century Schoolbook"/>
              </a:rPr>
              <a:t>This is a season when leaves fall down</a:t>
            </a: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33ff"/>
                </a:solidFill>
                <a:latin typeface="Century Schoolbook"/>
              </a:rPr>
              <a:t>Red, orange, yellow, brown.</a:t>
            </a:r>
            <a:br>
              <a:rPr sz="3900"/>
            </a:br>
            <a:br>
              <a:rPr sz="2000"/>
            </a:b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4" descr="157880-foxixol"/>
          <p:cNvPicPr/>
          <p:nvPr/>
        </p:nvPicPr>
        <p:blipFill>
          <a:blip r:embed="rId1"/>
          <a:stretch/>
        </p:blipFill>
        <p:spPr>
          <a:xfrm>
            <a:off x="0" y="-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entury Schoolbook"/>
              </a:rPr>
              <a:t>WHAT SEASON IS IT?</a:t>
            </a:r>
            <a:endParaRPr b="0" lang="en-US" sz="4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440" y="13716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8000"/>
                </a:solidFill>
                <a:latin typeface="Century Schoolbook"/>
              </a:rPr>
              <a:t>   </a:t>
            </a: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This is the season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When mornings are dark,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And birds do not sing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In the forests and park. </a:t>
            </a: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8000"/>
                </a:solidFill>
                <a:latin typeface="Century Schoolbook"/>
              </a:rPr>
              <a:t>  </a:t>
            </a: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This is the season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When children ski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And Father Frost brings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The New Year Tree!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28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 OF APRI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MONDAY</a:t>
            </a:r>
            <a:endParaRPr b="0" lang="en-US" sz="4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99ff"/>
                </a:solidFill>
                <a:latin typeface="Century Schoolbook"/>
              </a:rPr>
              <a:t>Seasons and Weather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88" name="Picture 4" descr="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3"/>
          <p:cNvSpPr/>
          <p:nvPr/>
        </p:nvSpPr>
        <p:spPr>
          <a:xfrm>
            <a:off x="609480" y="380880"/>
            <a:ext cx="7696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urite season is _________ be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an ____________________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when the weather is ________________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33520" y="685800"/>
            <a:ext cx="73911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 учить (Раздел 9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92 в учебнике песню повтори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.т. с.64, упр.1,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5" descr="ok-iraq_1370362525_786.gif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7"/>
          <p:cNvSpPr/>
          <p:nvPr/>
        </p:nvSpPr>
        <p:spPr>
          <a:xfrm>
            <a:off x="-304920" y="182880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don (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андэ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1055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Рисунок 3" descr="uk_liverpool_1.jpg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5562720" y="15238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verpool (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вэпу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4"/>
          <p:cNvSpPr/>
          <p:nvPr/>
        </p:nvSpPr>
        <p:spPr>
          <a:xfrm>
            <a:off x="0" y="9907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Какая погода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Ливерпул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hat’s the weather lik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 Liverpoo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3" descr="uk_liverpool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"/>
          <p:cNvSpPr/>
          <p:nvPr/>
        </p:nvSpPr>
        <p:spPr>
          <a:xfrm>
            <a:off x="533520" y="762120"/>
            <a:ext cx="8305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Погод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дождлив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weather (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или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t) i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rainy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rain 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ждь) + 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838080" y="457200"/>
            <a:ext cx="7391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как по-английски будет «солнечная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n + -y = su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туманная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g + -y = fo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g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3" descr="yt40.jpg"/>
          <p:cNvPicPr/>
          <p:nvPr/>
        </p:nvPicPr>
        <p:blipFill>
          <a:blip r:embed="rId1"/>
          <a:stretch/>
        </p:blipFill>
        <p:spPr>
          <a:xfrm>
            <a:off x="1066680" y="304920"/>
            <a:ext cx="6977160" cy="46479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685800" y="51814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ow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ям</cp:lastModifiedBy>
  <dcterms:modified xsi:type="dcterms:W3CDTF">2014-04-27T12:34:2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