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19C7-A7EC-4DE4-82C7-3E2818E6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564D-5E3D-404E-B6B2-C9986B525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F0F0-6B54-4828-841E-887563372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B084-92C9-4492-9D15-9CE279B0E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4314-4476-45D0-BD36-F99A624B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E67CF-4C7B-49AC-9082-EA50C471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16E7-73F8-4753-831B-638D6F6DC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C3BB-D4F6-4960-B309-D62362CC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3320B-3905-496B-992A-C6E077F43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AB093-0A1D-468F-B80E-AB47BFEE8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9A57-7F09-4E33-B1D8-9653788DE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FD9A-C4A2-4182-A86D-4FA4481A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63A12-8A05-406B-8FBA-9F0C8507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E547E-8F8C-4EB6-8BC1-2EE41BEC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BC32-E656-40B7-A85A-6CC314C6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0CF2-A4E0-46C6-B2A8-0DDE2D794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620C-A896-49AA-81FE-F6CB938B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A3F0D0-6A62-4C05-AA5D-B4A2B3BD6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A1F52B-F7D8-4388-8A12-83B1BF88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33726F-4CDE-42C1-B599-70F94045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79B24-F736-40BC-9D74-3EA205386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2220CF-C225-4994-A9D6-8A7699A9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E86B-B778-487C-8443-6F804494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4B4875-71A7-4BF6-A7C6-3F6A44960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CDE2CC-F997-4EBA-BC5E-C3E68243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78CA9-540F-4FA1-959F-976D22F0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739CA5-6BC3-4238-9857-CB0D1F383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195ED8-2980-479C-8A4F-FA02654A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E1DD4-38B8-48A3-9F6E-01A8F43B1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CC77DC-9958-4D12-9915-2DCF2448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5BAEB-C907-419C-A6CA-F49E09FE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D2B37-2F47-44C4-9606-532913EC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F4C98-5345-48C9-ABC4-F9DE508E1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C75-2A57-4A10-80E3-3E0C1141C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6A7A86-D911-45E8-8DF4-37F030A1F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33FDD-68B0-4EE8-84B6-03EFC8EE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6BE8E-9E3F-4DFA-B41B-FBDC1361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A3BFE-5D7E-417F-AE1B-3568C670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C3D2AB-AB19-4BA5-BCF4-C5E4AE06B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E563D-8FD0-4553-9636-6DD234E8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C0E11-E2E4-448F-82D7-05AAC67A0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8B11C-821E-4E71-BA26-26E08B12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8CBEB-610A-4984-9A8F-413C633D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F8F21A-DC6C-4A25-A737-8CCD4AF73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B2A6-93B6-41E7-A967-2EBFDD8B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D26DCC-A0B4-40E0-9773-C234F26C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7788A1-4B62-4ACE-A7B0-6F3D0A3F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7F3D63-93A4-4494-813C-BA5015B9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DB5990-9983-4035-8D7B-E11454354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2A264-868C-41E9-995E-F9310BB2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5F727A-53ED-4FC4-A686-5090381F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60E0CC-54F7-4179-A036-77892AD8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4524C-1306-4EEF-95A8-A3CC8D84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7182F4-1013-41AF-969B-40ACC1AC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14C9EF-AB82-43F1-9D29-C11180794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DA2-ED21-488F-89B6-0F14F11F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7C212-045A-49C2-B325-09EB4B9F7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F6E636-7BBE-42EA-9BC0-C284226EE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55253F-5486-45D2-98DD-155BAEBA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CC47DC-078E-4614-B575-611A9D4A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885D6E-3841-4E86-92FC-26859615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8FAF2-633F-429E-A532-742BB403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ACA7F8-00D6-4ADF-A943-C22EFC4C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507EBA-966E-427D-BA73-2ED9E34D6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394056-5A26-4545-A71D-63DAA402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DEBE39-B8C6-4265-83E3-158BBEED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E9EE-C69C-4120-BC06-39B2151DC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C799F4-64B6-496A-88DE-8AF6455A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2F6E67-DC5C-4463-91C5-C01724CC2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F9D392-516F-4AF9-9C0E-4682C5929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D735C-BFE1-4063-826C-2486C00C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80764E-C376-40D7-8C8A-F5487078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686077-CCD5-48D9-BABA-66678542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B6175F-C227-43F3-8B28-0F56C225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5F048FD-BF4A-4013-A3E6-3583C65E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EC9A05-CA0E-4C82-83E1-F37D348F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0FD21F-ADB8-4918-8A09-FEE4EC789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723C-4365-4994-9563-89E565B5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27C842-2222-4A04-91D1-55C1699F1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8C917C-10E0-4962-AE0E-303E29CA3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C46339-259B-4AA4-A5B3-5A4839CB2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F13136-1063-4B6A-8442-C18AFD1BA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892934-E151-4075-B218-D991309B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E65-8DEA-40A9-B598-421AA5AC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FE17-A662-4739-B7A3-FD64DCD27F49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97BBC-A898-4293-A771-CCC3540276D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D95CB-2962-4C51-A7FD-F6CE248B141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c0e5af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d8ee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d8ee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ecf7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c0e5af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ecf7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c0e5af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c0e5a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955B-463C-434E-9C41-D9F5583FD0E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EC0F-6FDE-4BE6-BB94-6DE0CB187C0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1BC8-00BE-43EF-84AA-0EF10F38172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c0e5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c0e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e5b6f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7fd13b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6fb833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c0e5a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f3aabe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9EDC-D4B9-4CF0-9F82-849AE05F7E4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Рисунок 7" descr="medium_20100123092115292393 (1).jpg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121932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6" descr="medium_20100123092115292393 (1).jpg"/>
          <p:cNvPicPr/>
          <p:nvPr/>
        </p:nvPicPr>
        <p:blipFill>
          <a:blip r:embed="rId2"/>
          <a:stretch/>
        </p:blipFill>
        <p:spPr>
          <a:xfrm>
            <a:off x="0" y="0"/>
            <a:ext cx="2133720" cy="6858000"/>
          </a:xfrm>
          <a:prstGeom prst="rect">
            <a:avLst/>
          </a:prstGeom>
          <a:ln w="0">
            <a:noFill/>
          </a:ln>
        </p:spPr>
      </p:pic>
      <p:pic>
        <p:nvPicPr>
          <p:cNvPr id="353" name="Рисунок 5" descr="medium_20100123092115292393.jpg"/>
          <p:cNvPicPr/>
          <p:nvPr/>
        </p:nvPicPr>
        <p:blipFill>
          <a:blip r:embed="rId3"/>
          <a:stretch/>
        </p:blipFill>
        <p:spPr>
          <a:xfrm>
            <a:off x="2130480" y="1219320"/>
            <a:ext cx="7013520" cy="563868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0" y="-360"/>
            <a:ext cx="8305920" cy="2971800"/>
          </a:xfrm>
          <a:prstGeom prst="rect">
            <a:avLst/>
          </a:prstGeom>
          <a:solidFill>
            <a:srgbClr val="ccedb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en-US" sz="5400" spc="-1" strike="noStrike">
                <a:solidFill>
                  <a:srgbClr val="800080"/>
                </a:solidFill>
                <a:latin typeface="Century Schoolbook"/>
              </a:rPr>
              <a:t>Spring, spring, spring!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Century Schoolbook"/>
              </a:rPr>
              <a:t> </a:t>
            </a:r>
            <a:r>
              <a:rPr b="1" lang="en-US" sz="5400" spc="-1" strike="noStrike">
                <a:solidFill>
                  <a:srgbClr val="008000"/>
                </a:solidFill>
                <a:latin typeface="Century Schoolbook"/>
              </a:rPr>
              <a:t>The trees are green.</a:t>
            </a:r>
            <a:r>
              <a:rPr b="1" lang="en-US" sz="5400" spc="-1" strike="noStrike">
                <a:solidFill>
                  <a:srgbClr val="3333ff"/>
                </a:solidFill>
                <a:latin typeface="Century Schoolboo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ff"/>
                </a:solidFill>
                <a:latin typeface="Century Schoolbook"/>
              </a:rPr>
              <a:t> </a:t>
            </a:r>
            <a:r>
              <a:rPr b="1" lang="en-US" sz="5400" spc="-1" strike="noStrike">
                <a:solidFill>
                  <a:srgbClr val="3333ff"/>
                </a:solidFill>
                <a:latin typeface="Century Schoolbook"/>
              </a:rPr>
              <a:t>Blue skies are seen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3300"/>
                </a:solidFill>
                <a:latin typeface="Century Schoolbook"/>
              </a:rPr>
              <a:t>All the birds sing.</a:t>
            </a:r>
            <a:endParaRPr b="0" lang="en-US" sz="5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Рисунок 3" descr="large.jpg"/>
          <p:cNvPicPr/>
          <p:nvPr/>
        </p:nvPicPr>
        <p:blipFill>
          <a:blip r:embed="rId1"/>
          <a:stretch/>
        </p:blipFill>
        <p:spPr>
          <a:xfrm>
            <a:off x="1295280" y="0"/>
            <a:ext cx="6705720" cy="5029200"/>
          </a:xfrm>
          <a:prstGeom prst="rect">
            <a:avLst/>
          </a:prstGeom>
          <a:ln w="0">
            <a:noFill/>
          </a:ln>
        </p:spPr>
      </p:pic>
      <p:sp>
        <p:nvSpPr>
          <p:cNvPr id="369" name="TextBox 4"/>
          <p:cNvSpPr/>
          <p:nvPr/>
        </p:nvSpPr>
        <p:spPr>
          <a:xfrm>
            <a:off x="1905120" y="5334120"/>
            <a:ext cx="556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gg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Рисунок 3" descr="090c6de3235439066ab58032837db0c9.jpg"/>
          <p:cNvPicPr/>
          <p:nvPr/>
        </p:nvPicPr>
        <p:blipFill>
          <a:blip r:embed="rId1"/>
          <a:stretch/>
        </p:blipFill>
        <p:spPr>
          <a:xfrm>
            <a:off x="990720" y="609480"/>
            <a:ext cx="7391160" cy="4876920"/>
          </a:xfrm>
          <a:prstGeom prst="rect">
            <a:avLst/>
          </a:prstGeom>
          <a:ln w="0">
            <a:noFill/>
          </a:ln>
        </p:spPr>
      </p:pic>
      <p:sp>
        <p:nvSpPr>
          <p:cNvPr id="371" name="TextBox 4"/>
          <p:cNvSpPr/>
          <p:nvPr/>
        </p:nvSpPr>
        <p:spPr>
          <a:xfrm>
            <a:off x="2362320" y="5486400"/>
            <a:ext cx="441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oud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Рисунок 3" descr="102302834_1305027634_1030.jpg"/>
          <p:cNvPicPr/>
          <p:nvPr/>
        </p:nvPicPr>
        <p:blipFill>
          <a:blip r:embed="rId1"/>
          <a:stretch/>
        </p:blipFill>
        <p:spPr>
          <a:xfrm>
            <a:off x="914400" y="380880"/>
            <a:ext cx="7162920" cy="4800600"/>
          </a:xfrm>
          <a:prstGeom prst="rect">
            <a:avLst/>
          </a:prstGeom>
          <a:ln w="0">
            <a:noFill/>
          </a:ln>
        </p:spPr>
      </p:pic>
      <p:sp>
        <p:nvSpPr>
          <p:cNvPr id="373" name="TextBox 4"/>
          <p:cNvSpPr/>
          <p:nvPr/>
        </p:nvSpPr>
        <p:spPr>
          <a:xfrm>
            <a:off x="2057400" y="525780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nn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Рисунок 3" descr="12477yd9.jpg"/>
          <p:cNvPicPr/>
          <p:nvPr/>
        </p:nvPicPr>
        <p:blipFill>
          <a:blip r:embed="rId1"/>
          <a:stretch/>
        </p:blipFill>
        <p:spPr>
          <a:xfrm>
            <a:off x="609480" y="380880"/>
            <a:ext cx="7772400" cy="4876920"/>
          </a:xfrm>
          <a:prstGeom prst="rect">
            <a:avLst/>
          </a:prstGeom>
          <a:ln w="0">
            <a:noFill/>
          </a:ln>
        </p:spPr>
      </p:pic>
      <p:sp>
        <p:nvSpPr>
          <p:cNvPr id="375" name="TextBox 4"/>
          <p:cNvSpPr/>
          <p:nvPr/>
        </p:nvSpPr>
        <p:spPr>
          <a:xfrm>
            <a:off x="2133720" y="541008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ind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Рисунок 3" descr="ZVGsRIMn2Uo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Рисунок 3" descr="9ce4e561-cd29-11df-bb92-0017311b27c1_9ce4e564-cd29-11df-bb92-0017311b27c1.jpeg"/>
          <p:cNvPicPr/>
          <p:nvPr/>
        </p:nvPicPr>
        <p:blipFill>
          <a:blip r:embed="rId1"/>
          <a:stretch/>
        </p:blipFill>
        <p:spPr>
          <a:xfrm>
            <a:off x="0" y="0"/>
            <a:ext cx="220968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TextBox 4"/>
          <p:cNvSpPr/>
          <p:nvPr/>
        </p:nvSpPr>
        <p:spPr>
          <a:xfrm>
            <a:off x="2057400" y="533520"/>
            <a:ext cx="70866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Какая температура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hat’s the temperatur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plus (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плас) 2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t’s minus (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майнэс) 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5" descr="rNI3DgUG0g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Century Schoolbook"/>
              </a:rPr>
              <a:t>WHAT SEASON IS IT?</a:t>
            </a:r>
            <a:endParaRPr b="0" lang="en-US" sz="4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1295280"/>
            <a:ext cx="845820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33ff"/>
                </a:solidFill>
                <a:latin typeface="Century Schoolbook"/>
              </a:rPr>
              <a:t>This is a season when fruit is sweet,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33ff"/>
                </a:solidFill>
                <a:latin typeface="Century Schoolbook"/>
              </a:rPr>
              <a:t>This is a season when friends meet,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33ff"/>
                </a:solidFill>
                <a:latin typeface="Century Schoolbook"/>
              </a:rPr>
              <a:t>This is a season when leaves fall down</a:t>
            </a:r>
            <a:endParaRPr b="0" lang="en-US" sz="3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3333ff"/>
                </a:solidFill>
                <a:latin typeface="Century Schoolbook"/>
              </a:rPr>
              <a:t>Red, orange, yellow, brown.</a:t>
            </a:r>
            <a:br>
              <a:rPr sz="3900"/>
            </a:br>
            <a:br>
              <a:rPr sz="2000"/>
            </a:br>
            <a:endParaRPr b="0" lang="en-US" sz="39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4" descr="157880-foxixol"/>
          <p:cNvPicPr/>
          <p:nvPr/>
        </p:nvPicPr>
        <p:blipFill>
          <a:blip r:embed="rId1"/>
          <a:stretch/>
        </p:blipFill>
        <p:spPr>
          <a:xfrm>
            <a:off x="0" y="-15228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46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Century Schoolbook"/>
              </a:rPr>
              <a:t>WHAT SEASON IS IT?</a:t>
            </a:r>
            <a:endParaRPr b="0" lang="en-US" sz="40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685440" y="13716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8000"/>
                </a:solidFill>
                <a:latin typeface="Century Schoolbook"/>
              </a:rPr>
              <a:t>   </a:t>
            </a:r>
            <a:r>
              <a:rPr b="0" lang="ru-RU" sz="4100" spc="-1" strike="noStrike">
                <a:solidFill>
                  <a:srgbClr val="008000"/>
                </a:solidFill>
                <a:latin typeface="Century Schoolbook"/>
              </a:rPr>
              <a:t>This is the season</a:t>
            </a:r>
            <a:br>
              <a:rPr sz="4100"/>
            </a:br>
            <a:r>
              <a:rPr b="0" lang="ru-RU" sz="4100" spc="-1" strike="noStrike">
                <a:solidFill>
                  <a:srgbClr val="008000"/>
                </a:solidFill>
                <a:latin typeface="Century Schoolbook"/>
              </a:rPr>
              <a:t>When mornings are dark,</a:t>
            </a:r>
            <a:br>
              <a:rPr sz="4100"/>
            </a:br>
            <a:r>
              <a:rPr b="0" lang="ru-RU" sz="4100" spc="-1" strike="noStrike">
                <a:solidFill>
                  <a:srgbClr val="008000"/>
                </a:solidFill>
                <a:latin typeface="Century Schoolbook"/>
              </a:rPr>
              <a:t>And birds do not sing</a:t>
            </a:r>
            <a:br>
              <a:rPr sz="4100"/>
            </a:br>
            <a:r>
              <a:rPr b="0" lang="ru-RU" sz="4100" spc="-1" strike="noStrike">
                <a:solidFill>
                  <a:srgbClr val="008000"/>
                </a:solidFill>
                <a:latin typeface="Century Schoolbook"/>
              </a:rPr>
              <a:t>In the forests and park. </a:t>
            </a:r>
            <a:endParaRPr b="0" lang="en-US" sz="4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8000"/>
                </a:solidFill>
                <a:latin typeface="Century Schoolbook"/>
              </a:rPr>
              <a:t>  </a:t>
            </a:r>
            <a:r>
              <a:rPr b="0" lang="ru-RU" sz="4100" spc="-1" strike="noStrike">
                <a:solidFill>
                  <a:srgbClr val="008000"/>
                </a:solidFill>
                <a:latin typeface="Century Schoolbook"/>
              </a:rPr>
              <a:t>This is the season</a:t>
            </a:r>
            <a:br>
              <a:rPr sz="4100"/>
            </a:br>
            <a:r>
              <a:rPr b="0" lang="ru-RU" sz="4100" spc="-1" strike="noStrike">
                <a:solidFill>
                  <a:srgbClr val="008000"/>
                </a:solidFill>
                <a:latin typeface="Century Schoolbook"/>
              </a:rPr>
              <a:t>When children ski</a:t>
            </a:r>
            <a:br>
              <a:rPr sz="4100"/>
            </a:br>
            <a:r>
              <a:rPr b="0" lang="ru-RU" sz="4100" spc="-1" strike="noStrike">
                <a:solidFill>
                  <a:srgbClr val="008000"/>
                </a:solidFill>
                <a:latin typeface="Century Schoolbook"/>
              </a:rPr>
              <a:t>And Father Frost brings</a:t>
            </a:r>
            <a:br>
              <a:rPr sz="4100"/>
            </a:br>
            <a:r>
              <a:rPr b="0" lang="ru-RU" sz="4100" spc="-1" strike="noStrike">
                <a:solidFill>
                  <a:srgbClr val="008000"/>
                </a:solidFill>
                <a:latin typeface="Century Schoolbook"/>
              </a:rPr>
              <a:t>The New Year Tree!</a:t>
            </a:r>
            <a:br>
              <a:rPr sz="4100"/>
            </a:br>
            <a:endParaRPr b="0" lang="en-US" sz="4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7fd13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HE </a:t>
            </a: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28</a:t>
            </a: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TH OF APRI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entury Schoolbook"/>
              </a:rPr>
              <a:t>MONDAY</a:t>
            </a:r>
            <a:endParaRPr b="0" lang="en-US" sz="4400" spc="-1" strike="noStrike">
              <a:solidFill>
                <a:srgbClr val="4e5b6f"/>
              </a:solidFill>
              <a:latin typeface="Century Schoolboo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99ff"/>
                </a:solidFill>
                <a:latin typeface="Century Schoolbook"/>
              </a:rPr>
              <a:t>Seasons and Weather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5b6f"/>
              </a:solidFill>
              <a:latin typeface="Century Schoolbook"/>
            </a:endParaRPr>
          </a:p>
        </p:txBody>
      </p:sp>
      <p:pic>
        <p:nvPicPr>
          <p:cNvPr id="388" name="Picture 4" descr="1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3"/>
          <p:cNvSpPr/>
          <p:nvPr/>
        </p:nvSpPr>
        <p:spPr>
          <a:xfrm>
            <a:off x="609480" y="380880"/>
            <a:ext cx="7696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favourite season is _________ beca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can ____________________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like when the weather is ________________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Box 3"/>
          <p:cNvSpPr/>
          <p:nvPr/>
        </p:nvSpPr>
        <p:spPr>
          <a:xfrm>
            <a:off x="533520" y="685800"/>
            <a:ext cx="739116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Homework</a:t>
            </a:r>
            <a:r>
              <a:rPr b="0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лова учить (Раздел 9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.92 в учебнике песню повтори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р.т. с.64, упр.1,2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Рисунок 5" descr="ok-iraq_1370362525_786.gif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358" name="TextBox 7"/>
          <p:cNvSpPr/>
          <p:nvPr/>
        </p:nvSpPr>
        <p:spPr>
          <a:xfrm>
            <a:off x="-304920" y="1828800"/>
            <a:ext cx="3810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ondon (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андэн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51055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0" name="Рисунок 3" descr="uk_liverpool_1.jpg"/>
          <p:cNvPicPr/>
          <p:nvPr/>
        </p:nvPicPr>
        <p:blipFill>
          <a:blip r:embed="rId1"/>
          <a:stretch/>
        </p:blipFill>
        <p:spPr>
          <a:xfrm>
            <a:off x="0" y="0"/>
            <a:ext cx="601992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TextBox 4"/>
          <p:cNvSpPr/>
          <p:nvPr/>
        </p:nvSpPr>
        <p:spPr>
          <a:xfrm>
            <a:off x="5562720" y="1523880"/>
            <a:ext cx="3886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verpool (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ивэпул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Box 4"/>
          <p:cNvSpPr/>
          <p:nvPr/>
        </p:nvSpPr>
        <p:spPr>
          <a:xfrm>
            <a:off x="0" y="99072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 u="sng">
                <a:solidFill>
                  <a:srgbClr val="000000"/>
                </a:solidFill>
                <a:uFillTx/>
                <a:latin typeface="Arial"/>
              </a:rPr>
              <a:t>Какая погода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в Ливерпуле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What’s the weather lik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n Liverpool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Рисунок 3" descr="uk_liverpool_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3"/>
          <p:cNvSpPr/>
          <p:nvPr/>
        </p:nvSpPr>
        <p:spPr>
          <a:xfrm>
            <a:off x="533520" y="762120"/>
            <a:ext cx="830556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Погода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дождлива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The weather (</a:t>
            </a: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Arial"/>
              </a:rPr>
              <a:t>или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It) i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rainy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rain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= rain (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дождь) + -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Box 3"/>
          <p:cNvSpPr/>
          <p:nvPr/>
        </p:nvSpPr>
        <p:spPr>
          <a:xfrm>
            <a:off x="838080" y="457200"/>
            <a:ext cx="73915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А как по-английски будет «солнечная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n + -y = su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nn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«туманная»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g + -y = fo</a:t>
            </a:r>
            <a:r>
              <a:rPr b="0" lang="en-US" sz="4800" spc="-1" strike="noStrike" u="sng">
                <a:solidFill>
                  <a:srgbClr val="000000"/>
                </a:solidFill>
                <a:uFillTx/>
                <a:latin typeface="Arial"/>
              </a:rPr>
              <a:t>gg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3" descr="yt40.jpg"/>
          <p:cNvPicPr/>
          <p:nvPr/>
        </p:nvPicPr>
        <p:blipFill>
          <a:blip r:embed="rId1"/>
          <a:stretch/>
        </p:blipFill>
        <p:spPr>
          <a:xfrm>
            <a:off x="1066680" y="304920"/>
            <a:ext cx="6977160" cy="4647960"/>
          </a:xfrm>
          <a:prstGeom prst="rect">
            <a:avLst/>
          </a:prstGeom>
          <a:ln w="0">
            <a:noFill/>
          </a:ln>
        </p:spPr>
      </p:pic>
      <p:sp>
        <p:nvSpPr>
          <p:cNvPr id="367" name="TextBox 4"/>
          <p:cNvSpPr/>
          <p:nvPr/>
        </p:nvSpPr>
        <p:spPr>
          <a:xfrm>
            <a:off x="685800" y="518148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now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рям</cp:lastModifiedBy>
  <dcterms:modified xsi:type="dcterms:W3CDTF">2014-04-27T12:34:26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