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0.gif" ContentType="image/gif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22.gif" ContentType="image/gi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803-8CD2-4747-B5B0-357C2B577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61E0-22F8-48BC-A024-D36145B0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77EF-B783-4B66-903E-CEE90D177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1FF0-466F-41BA-B0F2-5F8D2CD08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A36C-F38B-4264-B02F-5ABA2679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6B4-9CB9-4A98-A32A-F06570FC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EBF-22F2-4A5C-90BC-72FB0DF2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6B0-A2CA-4E21-ACF6-9A969A80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1D91-3970-43CE-833C-30E49D020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FE10-D693-4B7B-B7B4-9AE446C22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5BC-14B8-4596-BD20-C59B21448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4FC3-CF33-44C9-86BB-0D4BE6A3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69F3-4E3E-47C1-993F-33CDDAE714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detishkam.appee.ru/media/vrem_goda3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3.xml"/><Relationship Id="rId3" Type="http://schemas.openxmlformats.org/officeDocument/2006/relationships/slide" Target="slide1.xml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hyperlink" Target="http://www.stihi.ru/pics/2009/07/21/4265.jpg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3.xml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" Target="slide4.xml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5.xml"/><Relationship Id="rId4" Type="http://schemas.openxmlformats.org/officeDocument/2006/relationships/hyperlink" Target="http://900igr.net/kartinki/priroda/0-Vremena-goda-1.files/072-Opredeli-po-kartinke-kakoe-sejchas-vremja-goda.html" TargetMode="External"/><Relationship Id="rId5" Type="http://schemas.openxmlformats.org/officeDocument/2006/relationships/image" Target="../media/image13.jpeg"/><Relationship Id="rId6" Type="http://schemas.openxmlformats.org/officeDocument/2006/relationships/hyperlink" Target="http://skyclipart.ru/uploads/posts/2011-01/1295846529_leto2.jpg" TargetMode="External"/><Relationship Id="rId7" Type="http://schemas.openxmlformats.org/officeDocument/2006/relationships/image" Target="../media/image14.jpeg"/><Relationship Id="rId8" Type="http://schemas.openxmlformats.org/officeDocument/2006/relationships/hyperlink" Target="http://www.mambulus.ru/prod7610" TargetMode="External"/><Relationship Id="rId9" Type="http://schemas.openxmlformats.org/officeDocument/2006/relationships/image" Target="../media/image15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s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Картинка 88 из 6058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268280"/>
            <a:ext cx="82072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spring month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20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268360" y="2708280"/>
            <a:ext cx="439128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December, January, 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2268360" y="4076640"/>
            <a:ext cx="439128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March, April,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268360" y="5229360"/>
            <a:ext cx="4391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June, July, Augu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i?id=292584346-08-24"/>
          <p:cNvPicPr/>
          <p:nvPr/>
        </p:nvPicPr>
        <p:blipFill>
          <a:blip r:embed="rId4"/>
          <a:stretch/>
        </p:blipFill>
        <p:spPr>
          <a:xfrm>
            <a:off x="539640" y="1989000"/>
            <a:ext cx="1511280" cy="1214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i?id=116898067-04-24"/>
          <p:cNvPicPr/>
          <p:nvPr/>
        </p:nvPicPr>
        <p:blipFill>
          <a:blip r:embed="rId5"/>
          <a:stretch/>
        </p:blipFill>
        <p:spPr>
          <a:xfrm>
            <a:off x="7093080" y="2060640"/>
            <a:ext cx="1582560" cy="12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Картинка 12 из 34199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5280" y="3933720"/>
            <a:ext cx="1657440" cy="144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i?id=19456611-01-24"/>
          <p:cNvPicPr/>
          <p:nvPr/>
        </p:nvPicPr>
        <p:blipFill>
          <a:blip r:embed="rId8"/>
          <a:stretch/>
        </p:blipFill>
        <p:spPr>
          <a:xfrm>
            <a:off x="7093080" y="4149720"/>
            <a:ext cx="15825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oes summer beg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268360" y="2060640"/>
            <a:ext cx="396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In Septe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2340000" y="3357720"/>
            <a:ext cx="3889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In Ju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411280" y="4797360"/>
            <a:ext cx="38894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n Janu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i?id=8934384-00-24"/>
          <p:cNvPicPr/>
          <p:nvPr/>
        </p:nvPicPr>
        <p:blipFill>
          <a:blip r:embed="rId4"/>
          <a:stretch/>
        </p:blipFill>
        <p:spPr>
          <a:xfrm>
            <a:off x="6948360" y="220500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i?id=10934685-18-24"/>
          <p:cNvPicPr/>
          <p:nvPr/>
        </p:nvPicPr>
        <p:blipFill>
          <a:blip r:embed="rId5"/>
          <a:stretch/>
        </p:blipFill>
        <p:spPr>
          <a:xfrm>
            <a:off x="539640" y="227664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6" descr="i?id=118242884-18-24"/>
          <p:cNvPicPr/>
          <p:nvPr/>
        </p:nvPicPr>
        <p:blipFill>
          <a:blip r:embed="rId6"/>
          <a:stretch/>
        </p:blipFill>
        <p:spPr>
          <a:xfrm>
            <a:off x="539640" y="407664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i?id=88165764-07-24"/>
          <p:cNvPicPr/>
          <p:nvPr/>
        </p:nvPicPr>
        <p:blipFill>
          <a:blip r:embed="rId7"/>
          <a:stretch/>
        </p:blipFill>
        <p:spPr>
          <a:xfrm>
            <a:off x="7020000" y="4076640"/>
            <a:ext cx="14288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’s the weather like in win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1341360"/>
            <a:ext cx="4319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It’s sunny and ho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286160" y="3143160"/>
            <a:ext cx="43927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It’s cold and snow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55640" y="5373720"/>
            <a:ext cx="4464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It’s rainy and warm</a:t>
            </a: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4" action="ppaction://hlinksldjump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времена года"/>
          <p:cNvPicPr/>
          <p:nvPr/>
        </p:nvPicPr>
        <p:blipFill>
          <a:blip r:embed="rId5"/>
          <a:stretch/>
        </p:blipFill>
        <p:spPr>
          <a:xfrm>
            <a:off x="971640" y="2637000"/>
            <a:ext cx="2665440" cy="2160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времена года"/>
          <p:cNvPicPr/>
          <p:nvPr/>
        </p:nvPicPr>
        <p:blipFill>
          <a:blip r:embed="rId6"/>
          <a:stretch/>
        </p:blipFill>
        <p:spPr>
          <a:xfrm>
            <a:off x="5508720" y="4292640"/>
            <a:ext cx="2950920" cy="2303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фотография"/>
          <p:cNvPicPr/>
          <p:nvPr/>
        </p:nvPicPr>
        <p:blipFill>
          <a:blip r:embed="rId7"/>
          <a:stretch/>
        </p:blipFill>
        <p:spPr>
          <a:xfrm>
            <a:off x="5148360" y="1197000"/>
            <a:ext cx="333360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children do in summ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843280" y="1989000"/>
            <a:ext cx="504036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make a snow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755640" y="3573360"/>
            <a:ext cx="4753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2" action="ppaction://hlinksldjump"/>
              </a:rPr>
              <a:t>sunbathe and sw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6"/>
          <p:cNvSpPr/>
          <p:nvPr/>
        </p:nvSpPr>
        <p:spPr>
          <a:xfrm>
            <a:off x="4284720" y="5157720"/>
            <a:ext cx="4105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3" action="ppaction://hlinksldjump"/>
              </a:rPr>
              <a:t>have a snowball f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8" descr="Зима, весна, лето, осень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32000" y="4724280"/>
            <a:ext cx="2160360" cy="144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Демонстрационный материал. Картинки для оформления стендов по временам года (Лето, Зима, Осень)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84360" y="1268280"/>
            <a:ext cx="1726920" cy="2089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atavars/seasons/summer055.jp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227640" y="3141720"/>
            <a:ext cx="172908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 you wear when it’s co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3564000" y="1628640"/>
            <a:ext cx="3887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66cc"/>
                </a:solidFill>
                <a:uFillTx/>
                <a:latin typeface="Arial"/>
                <a:hlinkClick r:id="rId1" action="ppaction://hlinksldjump"/>
              </a:rPr>
              <a:t>a T-shirt and sh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971640" y="3357720"/>
            <a:ext cx="3887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weater and a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4067280" y="5300640"/>
            <a:ext cx="3887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ress and sh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Картинка 35 из 923"/>
          <p:cNvPicPr/>
          <p:nvPr/>
        </p:nvPicPr>
        <p:blipFill>
          <a:blip r:embed="rId2"/>
          <a:stretch/>
        </p:blipFill>
        <p:spPr>
          <a:xfrm>
            <a:off x="900000" y="1268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Картинка 642 из 923"/>
          <p:cNvPicPr/>
          <p:nvPr/>
        </p:nvPicPr>
        <p:blipFill>
          <a:blip r:embed="rId3"/>
          <a:stretch/>
        </p:blipFill>
        <p:spPr>
          <a:xfrm>
            <a:off x="5580000" y="2708280"/>
            <a:ext cx="2597040" cy="24494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Картинка 156 из 923"/>
          <p:cNvPicPr/>
          <p:nvPr/>
        </p:nvPicPr>
        <p:blipFill>
          <a:blip r:embed="rId4"/>
          <a:stretch/>
        </p:blipFill>
        <p:spPr>
          <a:xfrm>
            <a:off x="1476360" y="4437000"/>
            <a:ext cx="15829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6600" spc="-1" strike="noStrike">
                <a:solidFill>
                  <a:srgbClr val="ff3399"/>
                </a:solidFill>
                <a:latin typeface="Arial"/>
              </a:rPr>
              <a:t>WELL DON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t117008"/>
          <p:cNvPicPr/>
          <p:nvPr/>
        </p:nvPicPr>
        <p:blipFill>
          <a:blip r:embed="rId1"/>
          <a:stretch/>
        </p:blipFill>
        <p:spPr>
          <a:xfrm>
            <a:off x="428760" y="1643040"/>
            <a:ext cx="2900160" cy="20718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t117020"/>
          <p:cNvPicPr/>
          <p:nvPr/>
        </p:nvPicPr>
        <p:blipFill>
          <a:blip r:embed="rId2"/>
          <a:stretch/>
        </p:blipFill>
        <p:spPr>
          <a:xfrm>
            <a:off x="6357960" y="1373040"/>
            <a:ext cx="2786040" cy="2637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1" descr="t117018"/>
          <p:cNvPicPr/>
          <p:nvPr/>
        </p:nvPicPr>
        <p:blipFill>
          <a:blip r:embed="rId3"/>
          <a:stretch/>
        </p:blipFill>
        <p:spPr>
          <a:xfrm>
            <a:off x="3851280" y="2000160"/>
            <a:ext cx="2220840" cy="2090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3" descr="t117019"/>
          <p:cNvPicPr/>
          <p:nvPr/>
        </p:nvPicPr>
        <p:blipFill>
          <a:blip r:embed="rId4"/>
          <a:stretch/>
        </p:blipFill>
        <p:spPr>
          <a:xfrm>
            <a:off x="5643720" y="4432320"/>
            <a:ext cx="2411280" cy="1782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5" descr="t117022"/>
          <p:cNvPicPr/>
          <p:nvPr/>
        </p:nvPicPr>
        <p:blipFill>
          <a:blip r:embed="rId5"/>
          <a:stretch/>
        </p:blipFill>
        <p:spPr>
          <a:xfrm>
            <a:off x="857160" y="4327560"/>
            <a:ext cx="249084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1T06:17:40Z</dcterms:created>
  <dc:creator>13</dc:creator>
  <dc:description/>
  <dc:language>en-US</dc:language>
  <cp:lastModifiedBy>Трям</cp:lastModifiedBy>
  <dcterms:modified xsi:type="dcterms:W3CDTF">2014-04-27T12:28:54Z</dcterms:modified>
  <cp:revision>13</cp:revision>
  <dc:subject/>
  <dc:title>What are spring months?</dc:title>
</cp:coreProperties>
</file>