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B4C-62AE-4453-BCA2-3CB3F3800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F7A8-D0C5-46BC-8F47-23226225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FC11-FF59-4CFC-8B64-06FB5935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673E-640A-4E0F-88DA-96FBC375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4C16-45D6-4CBA-B9F4-4F5FF33D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C0E-F633-45CD-9F18-B66D7C60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366-F45B-4CA2-8287-9ADFBB67E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95B5-7937-424C-9DB6-C9A2D1EB5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549-17AD-48B9-B7D7-C80CD431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E4A5-62BA-4CFE-B07F-426B9030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C9D-4D16-4819-BC5A-8806ECE3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B040-4F4D-43FA-8DC1-1824E73A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B39F-1110-4DC9-95D0-E976EA1B3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etishkam.appee.ru/media/vrem_goda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hyperlink" Target="http://www.stihi.ru/pics/2009/07/21/4265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hyperlink" Target="http://900igr.net/kartinki/priroda/0-Vremena-goda-1.files/072-Opredeli-po-kartinke-kakoe-sejchas-vremja-goda.html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skyclipart.ru/uploads/posts/2011-01/1295846529_leto2.jpg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mambulus.ru/prod7610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88 из 60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82072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pring mon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0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68360" y="2708280"/>
            <a:ext cx="43912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December, January, 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268360" y="4076640"/>
            <a:ext cx="4391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March, April, 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268360" y="5229360"/>
            <a:ext cx="43912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June, July, Aug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?id=292584346-08-24"/>
          <p:cNvPicPr/>
          <p:nvPr/>
        </p:nvPicPr>
        <p:blipFill>
          <a:blip r:embed="rId4"/>
          <a:stretch/>
        </p:blipFill>
        <p:spPr>
          <a:xfrm>
            <a:off x="539640" y="1989000"/>
            <a:ext cx="1511280" cy="121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i?id=116898067-04-24"/>
          <p:cNvPicPr/>
          <p:nvPr/>
        </p:nvPicPr>
        <p:blipFill>
          <a:blip r:embed="rId5"/>
          <a:stretch/>
        </p:blipFill>
        <p:spPr>
          <a:xfrm>
            <a:off x="7093080" y="2060640"/>
            <a:ext cx="158256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Картинка 12 из 3419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3933720"/>
            <a:ext cx="1657440" cy="144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i?id=19456611-01-24"/>
          <p:cNvPicPr/>
          <p:nvPr/>
        </p:nvPicPr>
        <p:blipFill>
          <a:blip r:embed="rId8"/>
          <a:stretch/>
        </p:blipFill>
        <p:spPr>
          <a:xfrm>
            <a:off x="7093080" y="4149720"/>
            <a:ext cx="15825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es summer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68360" y="2060640"/>
            <a:ext cx="396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In Sept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340000" y="3357720"/>
            <a:ext cx="3889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In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411280" y="4797360"/>
            <a:ext cx="3889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n 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i?id=8934384-00-24"/>
          <p:cNvPicPr/>
          <p:nvPr/>
        </p:nvPicPr>
        <p:blipFill>
          <a:blip r:embed="rId4"/>
          <a:stretch/>
        </p:blipFill>
        <p:spPr>
          <a:xfrm>
            <a:off x="6948360" y="2205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i?id=10934685-18-24"/>
          <p:cNvPicPr/>
          <p:nvPr/>
        </p:nvPicPr>
        <p:blipFill>
          <a:blip r:embed="rId5"/>
          <a:stretch/>
        </p:blipFill>
        <p:spPr>
          <a:xfrm>
            <a:off x="539640" y="2276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i?id=118242884-18-24"/>
          <p:cNvPicPr/>
          <p:nvPr/>
        </p:nvPicPr>
        <p:blipFill>
          <a:blip r:embed="rId6"/>
          <a:stretch/>
        </p:blipFill>
        <p:spPr>
          <a:xfrm>
            <a:off x="539640" y="40766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i?id=88165764-07-24"/>
          <p:cNvPicPr/>
          <p:nvPr/>
        </p:nvPicPr>
        <p:blipFill>
          <a:blip r:embed="rId7"/>
          <a:stretch/>
        </p:blipFill>
        <p:spPr>
          <a:xfrm>
            <a:off x="7020000" y="4076640"/>
            <a:ext cx="1428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weather like in w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68360" y="1341360"/>
            <a:ext cx="4319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It’s sunny and h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286160" y="3143160"/>
            <a:ext cx="4392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It’s cold and snow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55640" y="5373720"/>
            <a:ext cx="446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t’s rainy and warm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времена года"/>
          <p:cNvPicPr/>
          <p:nvPr/>
        </p:nvPicPr>
        <p:blipFill>
          <a:blip r:embed="rId5"/>
          <a:stretch/>
        </p:blipFill>
        <p:spPr>
          <a:xfrm>
            <a:off x="971640" y="2637000"/>
            <a:ext cx="2665440" cy="216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времена года"/>
          <p:cNvPicPr/>
          <p:nvPr/>
        </p:nvPicPr>
        <p:blipFill>
          <a:blip r:embed="rId6"/>
          <a:stretch/>
        </p:blipFill>
        <p:spPr>
          <a:xfrm>
            <a:off x="5508720" y="4292640"/>
            <a:ext cx="2950920" cy="230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фотография"/>
          <p:cNvPicPr/>
          <p:nvPr/>
        </p:nvPicPr>
        <p:blipFill>
          <a:blip r:embed="rId7"/>
          <a:stretch/>
        </p:blipFill>
        <p:spPr>
          <a:xfrm>
            <a:off x="5148360" y="1197000"/>
            <a:ext cx="33336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children do in su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843280" y="1989000"/>
            <a:ext cx="5040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make a snow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55640" y="3573360"/>
            <a:ext cx="4753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sunbathe and sw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284720" y="5157720"/>
            <a:ext cx="4105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have a snowball f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Зима, весна, лето, осень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4724280"/>
            <a:ext cx="2160360" cy="144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Демонстрационный материал. Картинки для оформления стендов по временам года (Лето, Зима, Осень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4360" y="1268280"/>
            <a:ext cx="1726920" cy="208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atavars/seasons/summer055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27640" y="3141720"/>
            <a:ext cx="17290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wear when it’s c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64000" y="1628640"/>
            <a:ext cx="3887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a T-shirt and 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971640" y="3357720"/>
            <a:ext cx="3887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weater and a 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067280" y="5300640"/>
            <a:ext cx="3887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ess and 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Картинка 35 из 923"/>
          <p:cNvPicPr/>
          <p:nvPr/>
        </p:nvPicPr>
        <p:blipFill>
          <a:blip r:embed="rId2"/>
          <a:stretch/>
        </p:blipFill>
        <p:spPr>
          <a:xfrm>
            <a:off x="900000" y="1268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Картинка 642 из 923"/>
          <p:cNvPicPr/>
          <p:nvPr/>
        </p:nvPicPr>
        <p:blipFill>
          <a:blip r:embed="rId3"/>
          <a:stretch/>
        </p:blipFill>
        <p:spPr>
          <a:xfrm>
            <a:off x="5580000" y="2708280"/>
            <a:ext cx="2597040" cy="2449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Картинка 156 из 923"/>
          <p:cNvPicPr/>
          <p:nvPr/>
        </p:nvPicPr>
        <p:blipFill>
          <a:blip r:embed="rId4"/>
          <a:stretch/>
        </p:blipFill>
        <p:spPr>
          <a:xfrm>
            <a:off x="1476360" y="4437000"/>
            <a:ext cx="1582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600" spc="-1" strike="noStrike">
                <a:solidFill>
                  <a:srgbClr val="ff3399"/>
                </a:solidFill>
                <a:latin typeface="Arial"/>
              </a:rPr>
              <a:t>WELL DON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t117008"/>
          <p:cNvPicPr/>
          <p:nvPr/>
        </p:nvPicPr>
        <p:blipFill>
          <a:blip r:embed="rId1"/>
          <a:stretch/>
        </p:blipFill>
        <p:spPr>
          <a:xfrm>
            <a:off x="428760" y="1643040"/>
            <a:ext cx="2900160" cy="207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t117020"/>
          <p:cNvPicPr/>
          <p:nvPr/>
        </p:nvPicPr>
        <p:blipFill>
          <a:blip r:embed="rId2"/>
          <a:stretch/>
        </p:blipFill>
        <p:spPr>
          <a:xfrm>
            <a:off x="6357960" y="1373040"/>
            <a:ext cx="2786040" cy="263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t117018"/>
          <p:cNvPicPr/>
          <p:nvPr/>
        </p:nvPicPr>
        <p:blipFill>
          <a:blip r:embed="rId3"/>
          <a:stretch/>
        </p:blipFill>
        <p:spPr>
          <a:xfrm>
            <a:off x="3851280" y="2000160"/>
            <a:ext cx="2220840" cy="2090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t117019"/>
          <p:cNvPicPr/>
          <p:nvPr/>
        </p:nvPicPr>
        <p:blipFill>
          <a:blip r:embed="rId4"/>
          <a:stretch/>
        </p:blipFill>
        <p:spPr>
          <a:xfrm>
            <a:off x="5643720" y="4432320"/>
            <a:ext cx="2411280" cy="178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t117022"/>
          <p:cNvPicPr/>
          <p:nvPr/>
        </p:nvPicPr>
        <p:blipFill>
          <a:blip r:embed="rId5"/>
          <a:stretch/>
        </p:blipFill>
        <p:spPr>
          <a:xfrm>
            <a:off x="857160" y="4327560"/>
            <a:ext cx="249084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6:17:40Z</dcterms:created>
  <dc:creator>13</dc:creator>
  <dc:description/>
  <dc:language>en-US</dc:language>
  <cp:lastModifiedBy>Трям</cp:lastModifiedBy>
  <dcterms:modified xsi:type="dcterms:W3CDTF">2014-04-27T12:28:54Z</dcterms:modified>
  <cp:revision>13</cp:revision>
  <dc:subject/>
  <dc:title>What are spring months?</dc:title>
</cp:coreProperties>
</file>