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203-6FB5-4D75-BF5C-FEE7EA96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63D-BB0A-4ECE-A155-CE3A1581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31B2A-A869-46A9-A54E-549AD857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E063B-BE5A-40E4-BEBE-F9F9CFB6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BBAAC-9350-40E0-A1E1-4E94D340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142A7-552E-46CB-9B38-3EE694A7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A3E49-6D45-4F13-81D0-4D37C4F9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D99D4-56D9-4462-BDE7-C642B47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C41D1-A88C-45B4-8988-9BE9A8D6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A1A9A-A4FA-4375-B9E3-96FDE013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73567-6739-462C-A6FF-0020E576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BFD-5BCD-45C2-AA8D-6C3A5574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ED8-9F3F-439C-AFB5-DCFBDEA4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0EAD-5DF6-400D-96F9-F1B801DE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0703-6C92-4D63-BED0-58CE1C35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3AA9-40D6-455C-881F-EF3A3755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E015-6D12-450E-A5BD-983608C0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1A0C-552B-4E0B-98FF-E8DAB4B4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B1D8-6732-428D-BC5E-527074BD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5CC6-CA1E-4BF3-8699-49808FE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8E9-86D6-408E-BAB2-4688FE6A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6319-52D0-44C6-828B-EBC2AD9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6C6C-38A1-455B-B8AA-06DA1F5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D6AC-F4B5-4154-A6C5-F642A86B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F013-C3A0-4907-AEA5-83B130BB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FA61-8390-4830-AE19-7EB9A470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9809-F914-44AA-8106-9B58982F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7A9F-181D-499A-AE34-EFE9BC9F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E037E-5FC0-4340-B5D0-AECE872F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08A8-C17C-4BD0-BDE4-BFDD09AF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35EE-5B11-4E6A-B257-497136B3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F6B-77E5-4465-A22A-7C204D36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86E10-7C39-4AAF-94F7-307889BB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B782-4FA0-459A-BF70-A1E0296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408F-28C8-416D-A3DF-770F30A5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D988-459D-48D9-9991-792AC0F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BC39-BEDB-4820-B766-7E3D18E1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3980-A04A-41EB-99AE-3B7269E1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7317-C1F9-4122-971D-1C16F3FD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6777-BB49-44F7-A655-3EAB43CA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95F84-3141-465D-B732-D1FC1918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52C48-B475-4C2D-9E38-AEBF2B60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038-287B-4587-88AC-644E5806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94985-186F-445B-BCD8-3907750D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96716-2DE7-43FA-87D7-5DE0738D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1A374-A083-4B79-AC0F-0ED56B48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47C4-D87B-488D-9325-D952BF30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2583A-6027-449A-9019-B98B9CC9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DF5AC-C770-4DB8-8DCE-D0640119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AFF3-C53A-4ED0-AFFB-AFBBF88C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20F5B-04C3-4D5C-A332-D329AF0E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A53A-89DC-462F-84A3-2CF30315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3D114-3949-4C4B-ABF9-A9567735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14C-5BB0-4BD7-8E40-758EBF57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C3F4F-E02E-4080-99CC-EF0DD0EC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A991C-5E26-4BC1-B3F2-A48131F2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FBEDE-D121-4C1E-AE62-846A40D8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6CCCE-9D92-4357-B592-F4282242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F70DB-6898-414D-8EC9-AB9FFC78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88078-9128-409E-BEBF-5EE997EB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43064-654B-49D6-B14A-15D7D7C6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7052B-F439-4FC6-BACF-95D40E88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B4A3-C9F6-4B97-B644-F77DB93A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959E1-EC81-40E1-9ECB-029FBAA3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C8E-205D-4C96-8C88-A1DEB104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C9BE0-AFED-419D-A6F1-1D759B09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F1F41-B8D1-44C0-BCB8-6BC3DF81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B1B05-5443-4617-B8AE-9F97DF9F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EFA30-C0E0-44DF-BB90-BA7A3035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A393A-223C-4B4B-A55C-8184F3C1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75580-C9B0-499F-A4F2-282DFBCD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D3111-1243-485D-8E08-0EC041BF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41859-1503-4FDF-8D16-21D45C4D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782D8-5C90-4961-B642-2D5F20A7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5E396-04B4-4290-B550-B78E679B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4EC-5809-4617-8444-E5C5F1A8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06582-02CE-48A3-9953-054BCCDF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40683-3D6E-48F1-BE1D-8487669B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535C5-21C7-4DB1-A49B-B14468CC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6CC03-B856-45D0-9385-DDE13F05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F862E-0EA0-4A93-BC49-D2888C8E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F6AD5-381E-4BC4-98AB-9480BAC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C7149-C23F-46EF-BD2D-7B878F09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A8E6C-2AD9-45CE-999F-D8CBD362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780B3-63DF-4539-8BDD-9D07F5BC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13A75-2D05-4923-B882-A6A1E8BC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8CB-F09B-4583-A22A-C0E06ACC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51ED0-7A18-482F-AB05-D1CC1191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71508-191C-4701-9630-74C3626A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59EA3-D336-44C1-A038-1DF815CD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A877D-5EB7-42CD-9A8E-27311EB1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35288-9437-4638-BBD4-35EA8567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97B61-F10A-4C33-A6B7-903C6390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4D85-7542-4CB1-A5E7-297FB536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EA56F-CA7E-4C3A-8598-41B6FF6D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AA1E2-7350-4AC0-A65E-8046496D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5397C-CF98-45B1-82A2-C8A112E9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D43-8783-41F6-84D3-70BAB093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7CE09-209A-4652-A0CE-9B80B1E3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CEE5F-B47C-4817-B788-B6C63E36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48E2F-028D-4AAF-BEF9-37609BAD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34349-1298-4925-A7DD-A1F1978A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0A8C5-0EEA-4F86-8017-3BDFA0D2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F9CBE-0946-4142-884F-DB05007C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C88F8-7195-4DA9-A5DE-16360A38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B1074-1F5A-4F79-9503-66552B1A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92E0D-1596-4435-9D98-0DEB9681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D319C-FEBA-4910-9A4B-A0AAA661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218F-50D2-45F7-92E4-535953468187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AF4F-ACA5-4B67-86D5-09397FD7E457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E00C-F882-433E-987C-2BAA4FFDD708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c2d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8945-AC4B-474B-A7F1-0BE03124860D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B209-FB54-449A-92CD-C6BD30BF26A2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A1F7-36D0-49E8-B30C-80B75BDB20F4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5C17-A198-4EE2-925B-196F0C433283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1DA7-D693-4A5D-8839-2080DE09DFE2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8E4A-D8B6-4694-BE2D-F7DA7FB10466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-36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 five o’clock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1"/>
          <a:stretch/>
        </p:blipFill>
        <p:spPr>
          <a:xfrm>
            <a:off x="4572000" y="1428840"/>
            <a:ext cx="3595680" cy="3500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6" descr=""/>
          <p:cNvPicPr/>
          <p:nvPr/>
        </p:nvPicPr>
        <p:blipFill>
          <a:blip r:embed="rId2"/>
          <a:stretch/>
        </p:blipFill>
        <p:spPr>
          <a:xfrm>
            <a:off x="500040" y="1428840"/>
            <a:ext cx="3524400" cy="3500280"/>
          </a:xfrm>
          <a:prstGeom prst="rect">
            <a:avLst/>
          </a:prstGeom>
          <a:ln w="0">
            <a:noFill/>
          </a:ln>
        </p:spPr>
      </p:pic>
      <p:sp>
        <p:nvSpPr>
          <p:cNvPr id="420" name="Line 19"/>
          <p:cNvSpPr/>
          <p:nvPr/>
        </p:nvSpPr>
        <p:spPr>
          <a:xfrm>
            <a:off x="4786200" y="5643720"/>
            <a:ext cx="3240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WordArt 9"/>
          <p:cNvSpPr txBox="1"/>
          <p:nvPr/>
        </p:nvSpPr>
        <p:spPr>
          <a:xfrm>
            <a:off x="1857240" y="42876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356760" y="2071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 half past  five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23" name="Picture 7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3571560" cy="3500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570480" cy="3500280"/>
          </a:xfrm>
          <a:prstGeom prst="rect">
            <a:avLst/>
          </a:prstGeom>
          <a:ln w="0">
            <a:noFill/>
          </a:ln>
        </p:spPr>
      </p:pic>
      <p:sp>
        <p:nvSpPr>
          <p:cNvPr id="425" name="Line 9"/>
          <p:cNvSpPr/>
          <p:nvPr/>
        </p:nvSpPr>
        <p:spPr>
          <a:xfrm>
            <a:off x="4786200" y="5643720"/>
            <a:ext cx="309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WordArt 9"/>
          <p:cNvSpPr txBox="1"/>
          <p:nvPr/>
        </p:nvSpPr>
        <p:spPr>
          <a:xfrm>
            <a:off x="1928880" y="42876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357360" cy="3402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473280" cy="3429000"/>
          </a:xfrm>
          <a:prstGeom prst="rect">
            <a:avLst/>
          </a:prstGeom>
          <a:ln w="0">
            <a:noFill/>
          </a:ln>
        </p:spPr>
      </p:pic>
      <p:sp>
        <p:nvSpPr>
          <p:cNvPr id="429" name="Line 8"/>
          <p:cNvSpPr/>
          <p:nvPr/>
        </p:nvSpPr>
        <p:spPr>
          <a:xfrm>
            <a:off x="5000760" y="5572080"/>
            <a:ext cx="3384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2000160" y="28584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571680" y="51436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t’s quarter past f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-360" y="19288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quarter to six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33" name="Picture 6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3450960" cy="3429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4500720" y="1428840"/>
            <a:ext cx="3541680" cy="3429000"/>
          </a:xfrm>
          <a:prstGeom prst="rect">
            <a:avLst/>
          </a:prstGeom>
          <a:ln w="0">
            <a:noFill/>
          </a:ln>
        </p:spPr>
      </p:pic>
      <p:sp>
        <p:nvSpPr>
          <p:cNvPr id="435" name="Line 8"/>
          <p:cNvSpPr/>
          <p:nvPr/>
        </p:nvSpPr>
        <p:spPr>
          <a:xfrm>
            <a:off x="4500720" y="5643720"/>
            <a:ext cx="3384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WordArt 10"/>
          <p:cNvSpPr txBox="1"/>
          <p:nvPr/>
        </p:nvSpPr>
        <p:spPr>
          <a:xfrm>
            <a:off x="2143080" y="35712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13840" y="2071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 five  past  five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38" name="Picture 6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3405240" cy="3429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"/>
          <p:cNvPicPr/>
          <p:nvPr/>
        </p:nvPicPr>
        <p:blipFill>
          <a:blip r:embed="rId2"/>
          <a:stretch/>
        </p:blipFill>
        <p:spPr>
          <a:xfrm>
            <a:off x="4714920" y="1500120"/>
            <a:ext cx="3470400" cy="3357720"/>
          </a:xfrm>
          <a:prstGeom prst="rect">
            <a:avLst/>
          </a:prstGeom>
          <a:ln w="0">
            <a:noFill/>
          </a:ln>
        </p:spPr>
      </p:pic>
      <p:sp>
        <p:nvSpPr>
          <p:cNvPr id="440" name="Line 8"/>
          <p:cNvSpPr/>
          <p:nvPr/>
        </p:nvSpPr>
        <p:spPr>
          <a:xfrm>
            <a:off x="5000760" y="5572080"/>
            <a:ext cx="302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WordArt 9"/>
          <p:cNvSpPr txBox="1"/>
          <p:nvPr/>
        </p:nvSpPr>
        <p:spPr>
          <a:xfrm>
            <a:off x="2000160" y="35712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4428720" y="23572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 twenty-five past five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1"/>
          <a:stretch/>
        </p:blipFill>
        <p:spPr>
          <a:xfrm>
            <a:off x="4572000" y="1500120"/>
            <a:ext cx="3452760" cy="3429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2"/>
          <a:stretch/>
        </p:blipFill>
        <p:spPr>
          <a:xfrm>
            <a:off x="357120" y="1500120"/>
            <a:ext cx="3429000" cy="3382920"/>
          </a:xfrm>
          <a:prstGeom prst="rect">
            <a:avLst/>
          </a:prstGeom>
          <a:ln w="0">
            <a:noFill/>
          </a:ln>
        </p:spPr>
      </p:pic>
      <p:sp>
        <p:nvSpPr>
          <p:cNvPr id="445" name="Line 10"/>
          <p:cNvSpPr/>
          <p:nvPr/>
        </p:nvSpPr>
        <p:spPr>
          <a:xfrm>
            <a:off x="214200" y="5643720"/>
            <a:ext cx="3529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WordArt 9"/>
          <p:cNvSpPr txBox="1"/>
          <p:nvPr/>
        </p:nvSpPr>
        <p:spPr>
          <a:xfrm>
            <a:off x="2000160" y="35712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42920" y="19288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twenty to six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3357720" cy="3335400"/>
          </a:xfrm>
          <a:prstGeom prst="rect">
            <a:avLst/>
          </a:prstGeom>
          <a:ln w="0">
            <a:noFill/>
          </a:ln>
        </p:spPr>
      </p:pic>
      <p:sp>
        <p:nvSpPr>
          <p:cNvPr id="449" name="Line 7"/>
          <p:cNvSpPr/>
          <p:nvPr/>
        </p:nvSpPr>
        <p:spPr>
          <a:xfrm>
            <a:off x="428760" y="5429160"/>
            <a:ext cx="309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0" name="Picture 8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308400" cy="3286080"/>
          </a:xfrm>
          <a:prstGeom prst="rect">
            <a:avLst/>
          </a:prstGeom>
          <a:ln w="0">
            <a:noFill/>
          </a:ln>
        </p:spPr>
      </p:pic>
      <p:sp>
        <p:nvSpPr>
          <p:cNvPr id="451" name="WordArt 9"/>
          <p:cNvSpPr txBox="1"/>
          <p:nvPr/>
        </p:nvSpPr>
        <p:spPr>
          <a:xfrm>
            <a:off x="1928880" y="35712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-36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Franklin Gothic Book"/>
              </a:rPr>
              <a:t>It’s ten to six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373560" cy="32860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"/>
          <p:cNvPicPr/>
          <p:nvPr/>
        </p:nvPicPr>
        <p:blipFill>
          <a:blip r:embed="rId2"/>
          <a:stretch/>
        </p:blipFill>
        <p:spPr>
          <a:xfrm>
            <a:off x="4500720" y="1428840"/>
            <a:ext cx="3306600" cy="3286080"/>
          </a:xfrm>
          <a:prstGeom prst="rect">
            <a:avLst/>
          </a:prstGeom>
          <a:ln w="0">
            <a:noFill/>
          </a:ln>
        </p:spPr>
      </p:pic>
      <p:sp>
        <p:nvSpPr>
          <p:cNvPr id="455" name="Line 8"/>
          <p:cNvSpPr/>
          <p:nvPr/>
        </p:nvSpPr>
        <p:spPr>
          <a:xfrm>
            <a:off x="4643280" y="5500800"/>
            <a:ext cx="2880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WordArt 9"/>
          <p:cNvSpPr txBox="1"/>
          <p:nvPr/>
        </p:nvSpPr>
        <p:spPr>
          <a:xfrm>
            <a:off x="2071800" y="357120"/>
            <a:ext cx="540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 time is it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1"/>
          <p:cNvSpPr/>
          <p:nvPr/>
        </p:nvSpPr>
        <p:spPr>
          <a:xfrm>
            <a:off x="571680" y="428760"/>
            <a:ext cx="81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plans for a da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-285840" y="2357280"/>
            <a:ext cx="18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я)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Box 4"/>
          <p:cNvSpPr/>
          <p:nvPr/>
        </p:nvSpPr>
        <p:spPr>
          <a:xfrm>
            <a:off x="1071720" y="157176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up 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осыпаюсь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reakfast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завтракаю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my homework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делать д/з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to school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иду в школу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 TV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смотрю ТВ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to bed 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ложусь спать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6429240" y="235728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Box 6"/>
          <p:cNvSpPr/>
          <p:nvPr/>
        </p:nvSpPr>
        <p:spPr>
          <a:xfrm>
            <a:off x="7858080" y="2500200"/>
            <a:ext cx="12859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Box 7"/>
          <p:cNvSpPr/>
          <p:nvPr/>
        </p:nvSpPr>
        <p:spPr>
          <a:xfrm>
            <a:off x="714240" y="535788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 go to school at half past twelve in the afterno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1"/>
          <p:cNvSpPr/>
          <p:nvPr/>
        </p:nvSpPr>
        <p:spPr>
          <a:xfrm>
            <a:off x="1214280" y="3571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: Ex. 3b, 4, P. 27 (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3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4, с. 27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" name="Рисунок 2" descr="smiley-write.jpg"/>
          <p:cNvPicPr/>
          <p:nvPr/>
        </p:nvPicPr>
        <p:blipFill>
          <a:blip r:embed="rId1"/>
          <a:stretch/>
        </p:blipFill>
        <p:spPr>
          <a:xfrm>
            <a:off x="2000160" y="2071800"/>
            <a:ext cx="535788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2"/>
          <p:cNvSpPr/>
          <p:nvPr/>
        </p:nvSpPr>
        <p:spPr>
          <a:xfrm>
            <a:off x="714240" y="45007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 is the        of Octob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Рисунок 3" descr="4e40eda2b175.jpg"/>
          <p:cNvPicPr/>
          <p:nvPr/>
        </p:nvPicPr>
        <p:blipFill>
          <a:blip r:embed="rId1"/>
          <a:stretch/>
        </p:blipFill>
        <p:spPr>
          <a:xfrm>
            <a:off x="1571760" y="285840"/>
            <a:ext cx="6095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642960" y="1571760"/>
            <a:ext cx="8286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m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пл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олодн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аркая)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года)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wy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нежн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y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трен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y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лачн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t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смурн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ny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лнечная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3" name="Рисунок 2" descr="640.jpg"/>
          <p:cNvPicPr/>
          <p:nvPr/>
        </p:nvPicPr>
        <p:blipFill>
          <a:blip r:embed="rId1"/>
          <a:stretch/>
        </p:blipFill>
        <p:spPr>
          <a:xfrm>
            <a:off x="0" y="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1420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vourite school subject is ________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vourite school subjects are_______________________________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5" name="Рисунок 2" descr="knfc336935cfd5dba67b18c2387b677a7bd_800.jpg"/>
          <p:cNvPicPr/>
          <p:nvPr/>
        </p:nvPicPr>
        <p:blipFill>
          <a:blip r:embed="rId1"/>
          <a:stretch/>
        </p:blipFill>
        <p:spPr>
          <a:xfrm>
            <a:off x="2428920" y="35002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642960" y="3571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  AND 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ILY ROUTIN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Рисунок 2" descr="muzykalnoe-vospitanie-rebenka-04.jpg"/>
          <p:cNvPicPr/>
          <p:nvPr/>
        </p:nvPicPr>
        <p:blipFill>
          <a:blip r:embed="rId1"/>
          <a:stretch/>
        </p:blipFill>
        <p:spPr>
          <a:xfrm>
            <a:off x="4572000" y="2857680"/>
            <a:ext cx="4351320" cy="32860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3" descr="1368011574_08_05_13_son1.jpeg"/>
          <p:cNvPicPr/>
          <p:nvPr/>
        </p:nvPicPr>
        <p:blipFill>
          <a:blip r:embed="rId2"/>
          <a:stretch/>
        </p:blipFill>
        <p:spPr>
          <a:xfrm>
            <a:off x="285840" y="2857680"/>
            <a:ext cx="4119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714240" y="121428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on time [bi ǝn taim]  -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вовремя, успевать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0" y="357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the time? [wɔts ðǝ taim]   -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олько времени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1" name="Рисунок 2" descr="230_snova-perevodim-strelki.jpg"/>
          <p:cNvPicPr/>
          <p:nvPr/>
        </p:nvPicPr>
        <p:blipFill>
          <a:blip r:embed="rId1"/>
          <a:stretch/>
        </p:blipFill>
        <p:spPr>
          <a:xfrm>
            <a:off x="1428840" y="2286000"/>
            <a:ext cx="6429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7" descr="clock"/>
          <p:cNvPicPr/>
          <p:nvPr/>
        </p:nvPicPr>
        <p:blipFill>
          <a:blip r:embed="rId1"/>
          <a:stretch/>
        </p:blipFill>
        <p:spPr>
          <a:xfrm>
            <a:off x="214200" y="1357200"/>
            <a:ext cx="8740800" cy="5500800"/>
          </a:xfrm>
          <a:prstGeom prst="rect">
            <a:avLst/>
          </a:prstGeom>
          <a:ln w="0">
            <a:noFill/>
          </a:ln>
        </p:spPr>
      </p:pic>
      <p:sp>
        <p:nvSpPr>
          <p:cNvPr id="413" name="WordArt 8"/>
          <p:cNvSpPr txBox="1"/>
          <p:nvPr/>
        </p:nvSpPr>
        <p:spPr>
          <a:xfrm>
            <a:off x="2071800" y="142920"/>
            <a:ext cx="539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e Time</a:t>
            </a:r>
            <a:endParaRPr b="1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8" descr=""/>
          <p:cNvPicPr/>
          <p:nvPr/>
        </p:nvPicPr>
        <p:blipFill>
          <a:blip r:embed="rId1"/>
          <a:stretch/>
        </p:blipFill>
        <p:spPr>
          <a:xfrm>
            <a:off x="0" y="1571760"/>
            <a:ext cx="4643280" cy="385740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  <p:pic>
        <p:nvPicPr>
          <p:cNvPr id="415" name="Picture 9" descr=""/>
          <p:cNvPicPr/>
          <p:nvPr/>
        </p:nvPicPr>
        <p:blipFill>
          <a:blip r:embed="rId2"/>
          <a:stretch/>
        </p:blipFill>
        <p:spPr>
          <a:xfrm>
            <a:off x="4643280" y="1571760"/>
            <a:ext cx="4472280" cy="3857400"/>
          </a:xfrm>
          <a:prstGeom prst="rect">
            <a:avLst/>
          </a:prstGeom>
          <a:ln w="19080">
            <a:solidFill>
              <a:srgbClr val="410082"/>
            </a:solidFill>
            <a:miter/>
          </a:ln>
        </p:spPr>
      </p:pic>
      <p:sp>
        <p:nvSpPr>
          <p:cNvPr id="416" name="WordArt 8"/>
          <p:cNvSpPr txBox="1"/>
          <p:nvPr/>
        </p:nvSpPr>
        <p:spPr>
          <a:xfrm>
            <a:off x="2143080" y="214200"/>
            <a:ext cx="539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e Time</a:t>
            </a:r>
            <a:endParaRPr b="1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4:39:35Z</dcterms:created>
  <dc:creator>Klass</dc:creator>
  <dc:description/>
  <dc:language>en-US</dc:language>
  <cp:lastModifiedBy>Трям</cp:lastModifiedBy>
  <dcterms:modified xsi:type="dcterms:W3CDTF">2014-10-21T18:53:32Z</dcterms:modified>
  <cp:revision>19</cp:revision>
  <dc:subject/>
  <dc:title>Слайд 1</dc:title>
</cp:coreProperties>
</file>