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29.jpeg" ContentType="image/jpeg"/>
  <Override PartName="/ppt/media/image8.jpeg" ContentType="image/jpeg"/>
  <Override PartName="/ppt/media/image30.jpeg" ContentType="image/jpeg"/>
  <Override PartName="/ppt/media/image20.jpeg" ContentType="image/jpeg"/>
  <Override PartName="/ppt/media/image23.jpeg" ContentType="image/jpeg"/>
  <Override PartName="/ppt/media/image12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3287-1897-4CD5-9148-5010C8F66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AF2A-E54A-48DA-B919-D5339158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E8390A-6CFE-4176-930C-D06542B7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E3A8F2-0567-4525-99AC-B74BAA9B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B7FD12-F6F7-4A99-90B4-1CF39682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BF582B-F563-4BE7-866E-B3825DE1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183132-8C88-4CC9-8A71-0E9A1748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AE337B-1804-4748-8F51-B3AB5F6D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E4135A-21B1-4173-A05E-7BC765B2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CBEDB6-FE6D-4A6C-A71F-BE56D63A5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7DB71B-7C27-4121-8539-08201B838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046A-9A0D-4A4D-81B6-C84627BBF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900C-BCB0-419E-A0E3-3E6CF8271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DA10-87AE-4E30-B373-1186C813C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1C23-DDAB-479C-A130-779FB8C5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704E-119A-47BD-AE01-BF164F8D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1DB0-9954-459D-AA3C-09EC22B3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18E4-A863-4C3E-AEEF-8F72C2B1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668B-CC85-4E39-BAF0-E4C095AD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EF3B-4B17-439B-A73D-5C5C0A26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77D2-2AD5-4197-A15A-58FA3279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CCA3D-1D60-4A24-8C51-63C9A0BE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C764-8B38-4F99-8DA2-E2087D63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4D1B-1653-4217-8EE7-C16D1E36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D555-D6FC-4C75-AD7F-0EB300BD3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FEDA-EAED-4DAE-8ED4-7D5D04FF9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18E7B-3532-41F1-86F3-85CA05DA3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873D8-5DF2-4383-91B5-B1CF2BC5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89919-0FDD-4AA5-AE44-E52D249B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FD0E2-D616-413D-B7C0-898F4B00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4CFEF-6932-4CEC-A4F2-B84AF6AE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8686-7926-4FCB-8E81-E350A208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01642-6FA6-480D-8D84-E39290EF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C9BC9-C79C-43B2-9CC4-89D65572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A019F-FEED-4F15-99C9-4CF2BECA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B8E60-695A-4DD1-AD40-19D20E33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290FE-CEB8-4F0B-8AC6-C29E4B1A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F1C5A-8B9A-42B5-BA17-480AC1273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19ECC-405B-4E67-948A-33A8B4050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469B3-F3FF-492F-BB51-569FD25DD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174E2-9900-42BC-B73E-337485A0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44611-C608-4360-8646-9CA2BB15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FE38-B98B-448B-89D2-D1F1CCCA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139FA-4F5E-4162-9B63-490DE813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110D4-FA5A-4EC3-9636-562748D7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9B06E-4F5B-478D-9FCA-DE65FD52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73329-62F7-4406-AFCA-BEE95A3E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7D88D-9078-42EE-B06E-4FE0BD43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14A7B-7941-407B-9694-3F2D8870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43E7F-895E-4C4F-B912-59047F9B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061F6-70CD-4386-9544-0C2FBEADD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438C0-C7C2-494D-BE2B-C5454F274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5E009-65C8-4CCC-8BBE-96170BC76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9DAB-23B4-47C5-8231-F6ADFD9C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E15A5-EF56-4651-BFAB-E0E455CB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FF690-DD85-4F25-9B69-E11E2EC3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04608-3807-4014-9DF4-19CD2578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820EC-9FF4-4300-B6EC-30057D4B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7D0F0-0642-40DD-9D9D-E2AEF39E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56067-6B0B-4AE0-88B7-9F94A356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136BC-F499-4EB9-B99B-2D6BBBF7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4A819-93B2-4CF1-9E46-777142F8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77EFC-141B-49B1-8110-3848E5FE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FCEAE-F281-4821-900D-E313CA5E0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7970-4F04-4A71-8236-CFFFD787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BC5DD-BE1E-415D-A7D3-D3A4B6A50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7B8DF-70C8-4BB7-B665-1D784F030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6138B-C76D-4683-A6A0-B2B6BE6C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3A3EA-25DE-479E-9E33-4D2BC74F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8DDB6-2C93-43AF-8B93-3E727083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C9F8F-3160-47CB-A697-372FA926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BCE51-DB9C-4AE7-A8C4-FF285B4C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88BC6-4B1A-4499-98F1-3A245268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2455A-18A2-47A4-9D7B-E4C01EC3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D986A-489F-4FB1-8C26-E261B62F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831A-DE65-4882-A2D6-4E42264F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857B7-5F02-440B-9C5E-6EB52FD7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C704F-2BB2-4D92-B420-A3841B23D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F9655-AB26-4815-8C2F-9B01FD1C8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5C159-02CD-4C7E-A787-57D7A89B9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5BC97-1BFD-4910-9F78-DFF28160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DF906-C388-4141-AECE-F9D330C9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BDF50-C18B-4112-8E8A-38B69CC9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5FF1D-A7CE-4E99-9F1D-F280B757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8F991-A2FB-4ED3-B8BC-EC05DD06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C062D-84C8-4A28-B7E9-E6D402E5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1401-EDDA-478D-A297-05B29E6C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3B4A7-46F5-4B00-9043-9849F664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D944F-8B6F-44F1-B9C2-BFDC3D68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B32A3-81CC-4468-B658-EF7B8980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39484-CF22-4273-85C7-0FF13A1C6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E5249-CA1C-4CFF-A836-53D28744E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D1C0F-2995-4A1D-86A7-2B1178D68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8D942-4E92-4132-83BE-A67E735D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322EF-F83E-4285-A2D9-14350C0B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DE5793-449F-4A1E-9728-3E6094D0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E7E60-D683-4ADC-BB51-32B4A640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F086-395B-4134-B7EA-956B1D25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BB3F7-4904-4275-9D09-096365DD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1B44F-6D23-49BB-A663-F2F2BC9B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39573-CE0E-42F3-B2C0-71113745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93444-2C2E-4630-9B6D-396A1BD2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FDDC4-27AC-457F-B038-295713C0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9DCF3-9AE2-4494-A905-7BBDF74A7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A1EA9-5F8D-4681-A0DD-C28475106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2F6BDC-4C43-4F6A-B5CE-769C06736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0E6590-09B3-47DE-BD65-C8703EE1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8DAC93-AB02-4F65-94F9-010C4752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33FA-31F2-4573-BFC6-89C6F4A87DE0}" type="slidenum"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7F6A-26C4-4B18-99EA-CE013E0845AC}" type="slidenum"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5454-6741-49E9-A850-6F855B885C73}" type="slidenum"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2d1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2d1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2d1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2d1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2d1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2d1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2d1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9c2d1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10C5-A24A-4502-AB6A-D9B43667BCB4}" type="slidenum"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054C-9745-4E55-97C9-D56F7F16B6AE}" type="slidenum"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B186-3832-4A24-8400-7779238DDA81}" type="slidenum"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2B22D-A91F-4AC7-8021-A6B331427050}" type="slidenum"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27E0-C7D4-4B40-A7D1-0C0FD3198910}" type="slidenum"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DE10-70A8-4CC9-BAB1-8C69ECADB57E}" type="slidenum"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-36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Franklin Gothic Book"/>
              </a:rPr>
              <a:t>It’s  five o’clock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pic>
        <p:nvPicPr>
          <p:cNvPr id="418" name="Picture 15" descr=""/>
          <p:cNvPicPr/>
          <p:nvPr/>
        </p:nvPicPr>
        <p:blipFill>
          <a:blip r:embed="rId1"/>
          <a:stretch/>
        </p:blipFill>
        <p:spPr>
          <a:xfrm>
            <a:off x="4572000" y="1428840"/>
            <a:ext cx="3595680" cy="35002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6" descr=""/>
          <p:cNvPicPr/>
          <p:nvPr/>
        </p:nvPicPr>
        <p:blipFill>
          <a:blip r:embed="rId2"/>
          <a:stretch/>
        </p:blipFill>
        <p:spPr>
          <a:xfrm>
            <a:off x="500040" y="1428840"/>
            <a:ext cx="3524400" cy="3500280"/>
          </a:xfrm>
          <a:prstGeom prst="rect">
            <a:avLst/>
          </a:prstGeom>
          <a:ln w="0">
            <a:noFill/>
          </a:ln>
        </p:spPr>
      </p:pic>
      <p:sp>
        <p:nvSpPr>
          <p:cNvPr id="420" name="Line 19"/>
          <p:cNvSpPr/>
          <p:nvPr/>
        </p:nvSpPr>
        <p:spPr>
          <a:xfrm>
            <a:off x="4786200" y="5643720"/>
            <a:ext cx="32403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WordArt 9"/>
          <p:cNvSpPr txBox="1"/>
          <p:nvPr/>
        </p:nvSpPr>
        <p:spPr>
          <a:xfrm>
            <a:off x="1857240" y="428760"/>
            <a:ext cx="540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hat  time is it?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356760" y="2071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Franklin Gothic Book"/>
              </a:rPr>
              <a:t>   </a:t>
            </a:r>
            <a:r>
              <a:rPr b="0" lang="en-US" sz="3200" spc="-1" strike="noStrike">
                <a:solidFill>
                  <a:srgbClr val="0000ff"/>
                </a:solidFill>
                <a:latin typeface="Franklin Gothic Book"/>
              </a:rPr>
              <a:t>It’s  half past  five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pic>
        <p:nvPicPr>
          <p:cNvPr id="423" name="Picture 7" descr=""/>
          <p:cNvPicPr/>
          <p:nvPr/>
        </p:nvPicPr>
        <p:blipFill>
          <a:blip r:embed="rId1"/>
          <a:stretch/>
        </p:blipFill>
        <p:spPr>
          <a:xfrm>
            <a:off x="571680" y="1500120"/>
            <a:ext cx="3571560" cy="35006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8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570480" cy="3500280"/>
          </a:xfrm>
          <a:prstGeom prst="rect">
            <a:avLst/>
          </a:prstGeom>
          <a:ln w="0">
            <a:noFill/>
          </a:ln>
        </p:spPr>
      </p:pic>
      <p:sp>
        <p:nvSpPr>
          <p:cNvPr id="425" name="Line 9"/>
          <p:cNvSpPr/>
          <p:nvPr/>
        </p:nvSpPr>
        <p:spPr>
          <a:xfrm>
            <a:off x="4786200" y="5643720"/>
            <a:ext cx="30956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WordArt 9"/>
          <p:cNvSpPr txBox="1"/>
          <p:nvPr/>
        </p:nvSpPr>
        <p:spPr>
          <a:xfrm>
            <a:off x="1928880" y="428760"/>
            <a:ext cx="540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hat  time is it?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6" descr=""/>
          <p:cNvPicPr/>
          <p:nvPr/>
        </p:nvPicPr>
        <p:blipFill>
          <a:blip r:embed="rId1"/>
          <a:stretch/>
        </p:blipFill>
        <p:spPr>
          <a:xfrm>
            <a:off x="571680" y="1428840"/>
            <a:ext cx="3357360" cy="34020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7" descr=""/>
          <p:cNvPicPr/>
          <p:nvPr/>
        </p:nvPicPr>
        <p:blipFill>
          <a:blip r:embed="rId2"/>
          <a:stretch/>
        </p:blipFill>
        <p:spPr>
          <a:xfrm>
            <a:off x="5000760" y="1428840"/>
            <a:ext cx="3473280" cy="3429000"/>
          </a:xfrm>
          <a:prstGeom prst="rect">
            <a:avLst/>
          </a:prstGeom>
          <a:ln w="0">
            <a:noFill/>
          </a:ln>
        </p:spPr>
      </p:pic>
      <p:sp>
        <p:nvSpPr>
          <p:cNvPr id="429" name="Line 8"/>
          <p:cNvSpPr/>
          <p:nvPr/>
        </p:nvSpPr>
        <p:spPr>
          <a:xfrm>
            <a:off x="5000760" y="5572080"/>
            <a:ext cx="33843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WordArt 9"/>
          <p:cNvSpPr txBox="1"/>
          <p:nvPr/>
        </p:nvSpPr>
        <p:spPr>
          <a:xfrm>
            <a:off x="2000160" y="285840"/>
            <a:ext cx="540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hat  time is it?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1" name="TextBox 6"/>
          <p:cNvSpPr/>
          <p:nvPr/>
        </p:nvSpPr>
        <p:spPr>
          <a:xfrm>
            <a:off x="571680" y="514368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t’s quarter past f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-360" y="19288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Franklin Gothic Book"/>
              </a:rPr>
              <a:t>   </a:t>
            </a:r>
            <a:r>
              <a:rPr b="0" lang="en-US" sz="3200" spc="-1" strike="noStrike">
                <a:solidFill>
                  <a:srgbClr val="0000ff"/>
                </a:solidFill>
                <a:latin typeface="Franklin Gothic Book"/>
              </a:rPr>
              <a:t>It’s quarter to six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pic>
        <p:nvPicPr>
          <p:cNvPr id="433" name="Picture 6" descr=""/>
          <p:cNvPicPr/>
          <p:nvPr/>
        </p:nvPicPr>
        <p:blipFill>
          <a:blip r:embed="rId1"/>
          <a:stretch/>
        </p:blipFill>
        <p:spPr>
          <a:xfrm>
            <a:off x="428760" y="1428840"/>
            <a:ext cx="3450960" cy="3429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7" descr=""/>
          <p:cNvPicPr/>
          <p:nvPr/>
        </p:nvPicPr>
        <p:blipFill>
          <a:blip r:embed="rId2"/>
          <a:stretch/>
        </p:blipFill>
        <p:spPr>
          <a:xfrm>
            <a:off x="4500720" y="1428840"/>
            <a:ext cx="3541680" cy="3429000"/>
          </a:xfrm>
          <a:prstGeom prst="rect">
            <a:avLst/>
          </a:prstGeom>
          <a:ln w="0">
            <a:noFill/>
          </a:ln>
        </p:spPr>
      </p:pic>
      <p:sp>
        <p:nvSpPr>
          <p:cNvPr id="435" name="Line 8"/>
          <p:cNvSpPr/>
          <p:nvPr/>
        </p:nvSpPr>
        <p:spPr>
          <a:xfrm>
            <a:off x="4500720" y="5643720"/>
            <a:ext cx="33843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WordArt 10"/>
          <p:cNvSpPr txBox="1"/>
          <p:nvPr/>
        </p:nvSpPr>
        <p:spPr>
          <a:xfrm>
            <a:off x="2143080" y="357120"/>
            <a:ext cx="540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hat  time is it?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213840" y="2071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Franklin Gothic Book"/>
              </a:rPr>
              <a:t>It’s  five  past  five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pic>
        <p:nvPicPr>
          <p:cNvPr id="438" name="Picture 6" descr=""/>
          <p:cNvPicPr/>
          <p:nvPr/>
        </p:nvPicPr>
        <p:blipFill>
          <a:blip r:embed="rId1"/>
          <a:stretch/>
        </p:blipFill>
        <p:spPr>
          <a:xfrm>
            <a:off x="357120" y="1500120"/>
            <a:ext cx="3405240" cy="34290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7" descr=""/>
          <p:cNvPicPr/>
          <p:nvPr/>
        </p:nvPicPr>
        <p:blipFill>
          <a:blip r:embed="rId2"/>
          <a:stretch/>
        </p:blipFill>
        <p:spPr>
          <a:xfrm>
            <a:off x="4714920" y="1500120"/>
            <a:ext cx="3470400" cy="3357720"/>
          </a:xfrm>
          <a:prstGeom prst="rect">
            <a:avLst/>
          </a:prstGeom>
          <a:ln w="0">
            <a:noFill/>
          </a:ln>
        </p:spPr>
      </p:pic>
      <p:sp>
        <p:nvSpPr>
          <p:cNvPr id="440" name="Line 8"/>
          <p:cNvSpPr/>
          <p:nvPr/>
        </p:nvSpPr>
        <p:spPr>
          <a:xfrm>
            <a:off x="5000760" y="5572080"/>
            <a:ext cx="3024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WordArt 9"/>
          <p:cNvSpPr txBox="1"/>
          <p:nvPr/>
        </p:nvSpPr>
        <p:spPr>
          <a:xfrm>
            <a:off x="2000160" y="357120"/>
            <a:ext cx="540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hat  time is it?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4428720" y="23572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Franklin Gothic Book"/>
              </a:rPr>
              <a:t>It’s  twenty-five past five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pic>
        <p:nvPicPr>
          <p:cNvPr id="443" name="Picture 8" descr=""/>
          <p:cNvPicPr/>
          <p:nvPr/>
        </p:nvPicPr>
        <p:blipFill>
          <a:blip r:embed="rId1"/>
          <a:stretch/>
        </p:blipFill>
        <p:spPr>
          <a:xfrm>
            <a:off x="4572000" y="1500120"/>
            <a:ext cx="3452760" cy="34290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2"/>
          <a:stretch/>
        </p:blipFill>
        <p:spPr>
          <a:xfrm>
            <a:off x="357120" y="1500120"/>
            <a:ext cx="3429000" cy="3382920"/>
          </a:xfrm>
          <a:prstGeom prst="rect">
            <a:avLst/>
          </a:prstGeom>
          <a:ln w="0">
            <a:noFill/>
          </a:ln>
        </p:spPr>
      </p:pic>
      <p:sp>
        <p:nvSpPr>
          <p:cNvPr id="445" name="Line 10"/>
          <p:cNvSpPr/>
          <p:nvPr/>
        </p:nvSpPr>
        <p:spPr>
          <a:xfrm>
            <a:off x="214200" y="5643720"/>
            <a:ext cx="35290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WordArt 9"/>
          <p:cNvSpPr txBox="1"/>
          <p:nvPr/>
        </p:nvSpPr>
        <p:spPr>
          <a:xfrm>
            <a:off x="2000160" y="357120"/>
            <a:ext cx="540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hat  time is it?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4642920" y="19288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Franklin Gothic Book"/>
              </a:rPr>
              <a:t>It’s twenty to six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pic>
        <p:nvPicPr>
          <p:cNvPr id="448" name="Picture 6" descr=""/>
          <p:cNvPicPr/>
          <p:nvPr/>
        </p:nvPicPr>
        <p:blipFill>
          <a:blip r:embed="rId1"/>
          <a:stretch/>
        </p:blipFill>
        <p:spPr>
          <a:xfrm>
            <a:off x="357120" y="1500120"/>
            <a:ext cx="3357720" cy="3335400"/>
          </a:xfrm>
          <a:prstGeom prst="rect">
            <a:avLst/>
          </a:prstGeom>
          <a:ln w="0">
            <a:noFill/>
          </a:ln>
        </p:spPr>
      </p:pic>
      <p:sp>
        <p:nvSpPr>
          <p:cNvPr id="449" name="Line 7"/>
          <p:cNvSpPr/>
          <p:nvPr/>
        </p:nvSpPr>
        <p:spPr>
          <a:xfrm>
            <a:off x="428760" y="5429160"/>
            <a:ext cx="30956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0" name="Picture 8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308400" cy="3286080"/>
          </a:xfrm>
          <a:prstGeom prst="rect">
            <a:avLst/>
          </a:prstGeom>
          <a:ln w="0">
            <a:noFill/>
          </a:ln>
        </p:spPr>
      </p:pic>
      <p:sp>
        <p:nvSpPr>
          <p:cNvPr id="451" name="WordArt 9"/>
          <p:cNvSpPr txBox="1"/>
          <p:nvPr/>
        </p:nvSpPr>
        <p:spPr>
          <a:xfrm>
            <a:off x="1928880" y="357120"/>
            <a:ext cx="540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hat  time is it?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-36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Franklin Gothic Book"/>
              </a:rPr>
              <a:t>It’s ten to six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pic>
        <p:nvPicPr>
          <p:cNvPr id="453" name="Picture 6" descr=""/>
          <p:cNvPicPr/>
          <p:nvPr/>
        </p:nvPicPr>
        <p:blipFill>
          <a:blip r:embed="rId1"/>
          <a:stretch/>
        </p:blipFill>
        <p:spPr>
          <a:xfrm>
            <a:off x="357120" y="1428840"/>
            <a:ext cx="3373560" cy="32860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7" descr=""/>
          <p:cNvPicPr/>
          <p:nvPr/>
        </p:nvPicPr>
        <p:blipFill>
          <a:blip r:embed="rId2"/>
          <a:stretch/>
        </p:blipFill>
        <p:spPr>
          <a:xfrm>
            <a:off x="4500720" y="1428840"/>
            <a:ext cx="3306600" cy="3286080"/>
          </a:xfrm>
          <a:prstGeom prst="rect">
            <a:avLst/>
          </a:prstGeom>
          <a:ln w="0">
            <a:noFill/>
          </a:ln>
        </p:spPr>
      </p:pic>
      <p:sp>
        <p:nvSpPr>
          <p:cNvPr id="455" name="Line 8"/>
          <p:cNvSpPr/>
          <p:nvPr/>
        </p:nvSpPr>
        <p:spPr>
          <a:xfrm>
            <a:off x="4643280" y="5500800"/>
            <a:ext cx="2880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WordArt 9"/>
          <p:cNvSpPr txBox="1"/>
          <p:nvPr/>
        </p:nvSpPr>
        <p:spPr>
          <a:xfrm>
            <a:off x="2071800" y="357120"/>
            <a:ext cx="540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hat  time is it?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Box 1"/>
          <p:cNvSpPr/>
          <p:nvPr/>
        </p:nvSpPr>
        <p:spPr>
          <a:xfrm>
            <a:off x="571680" y="428760"/>
            <a:ext cx="814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 plans for a da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TextBox 3"/>
          <p:cNvSpPr/>
          <p:nvPr/>
        </p:nvSpPr>
        <p:spPr>
          <a:xfrm>
            <a:off x="-285840" y="2357280"/>
            <a:ext cx="18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я)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TextBox 4"/>
          <p:cNvSpPr/>
          <p:nvPr/>
        </p:nvSpPr>
        <p:spPr>
          <a:xfrm>
            <a:off x="1071720" y="1571760"/>
            <a:ext cx="5929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up 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(</a:t>
            </a:r>
            <a:r>
              <a:rPr b="0" lang="ru-RU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просыпаюсь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breakfast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(завтракаю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my homework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(делать д/з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 to school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(иду в школу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ch TV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(смотрю ТВ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 to bed </a:t>
            </a:r>
            <a:r>
              <a:rPr b="0" lang="ru-RU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(ложусь спать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TextBox 5"/>
          <p:cNvSpPr/>
          <p:nvPr/>
        </p:nvSpPr>
        <p:spPr>
          <a:xfrm>
            <a:off x="6429240" y="2357280"/>
            <a:ext cx="171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TextBox 6"/>
          <p:cNvSpPr/>
          <p:nvPr/>
        </p:nvSpPr>
        <p:spPr>
          <a:xfrm>
            <a:off x="7858080" y="2500200"/>
            <a:ext cx="128592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TextBox 7"/>
          <p:cNvSpPr/>
          <p:nvPr/>
        </p:nvSpPr>
        <p:spPr>
          <a:xfrm>
            <a:off x="714240" y="5357880"/>
            <a:ext cx="77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 go to school at half past twelve in the afterno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Box 1"/>
          <p:cNvSpPr/>
          <p:nvPr/>
        </p:nvSpPr>
        <p:spPr>
          <a:xfrm>
            <a:off x="1214280" y="357120"/>
            <a:ext cx="68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work: Ex. 3b, 4, P. 27 (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.3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4, с. 27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4" name="Рисунок 2" descr="smiley-write.jpg"/>
          <p:cNvPicPr/>
          <p:nvPr/>
        </p:nvPicPr>
        <p:blipFill>
          <a:blip r:embed="rId1"/>
          <a:stretch/>
        </p:blipFill>
        <p:spPr>
          <a:xfrm>
            <a:off x="2000160" y="2071800"/>
            <a:ext cx="535788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Box 2"/>
          <p:cNvSpPr/>
          <p:nvPr/>
        </p:nvSpPr>
        <p:spPr>
          <a:xfrm>
            <a:off x="714240" y="45007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y is the        of October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1" name="Рисунок 3" descr="4e40eda2b175.jpg"/>
          <p:cNvPicPr/>
          <p:nvPr/>
        </p:nvPicPr>
        <p:blipFill>
          <a:blip r:embed="rId1"/>
          <a:stretch/>
        </p:blipFill>
        <p:spPr>
          <a:xfrm>
            <a:off x="1571760" y="285840"/>
            <a:ext cx="60958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Box 1"/>
          <p:cNvSpPr/>
          <p:nvPr/>
        </p:nvSpPr>
        <p:spPr>
          <a:xfrm>
            <a:off x="642960" y="1571760"/>
            <a:ext cx="82868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rm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еплая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d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олодная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t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жаркая)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года)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owy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нежная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y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етреная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udy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блачная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t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асмурная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nny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лнечная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3" name="Рисунок 2" descr="640.jpg"/>
          <p:cNvPicPr/>
          <p:nvPr/>
        </p:nvPicPr>
        <p:blipFill>
          <a:blip r:embed="rId1"/>
          <a:stretch/>
        </p:blipFill>
        <p:spPr>
          <a:xfrm>
            <a:off x="0" y="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Box 1"/>
          <p:cNvSpPr/>
          <p:nvPr/>
        </p:nvSpPr>
        <p:spPr>
          <a:xfrm>
            <a:off x="214200" y="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 favourite school subject is ________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 favourite school subjects are_______________________________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5" name="Рисунок 2" descr="knfc336935cfd5dba67b18c2387b677a7bd_800.jpg"/>
          <p:cNvPicPr/>
          <p:nvPr/>
        </p:nvPicPr>
        <p:blipFill>
          <a:blip r:embed="rId1"/>
          <a:stretch/>
        </p:blipFill>
        <p:spPr>
          <a:xfrm>
            <a:off x="2428920" y="3500280"/>
            <a:ext cx="41911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Box 1"/>
          <p:cNvSpPr/>
          <p:nvPr/>
        </p:nvSpPr>
        <p:spPr>
          <a:xfrm>
            <a:off x="642960" y="35712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OL  AND  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AILY ROUTINE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7" name="Рисунок 2" descr="muzykalnoe-vospitanie-rebenka-04.jpg"/>
          <p:cNvPicPr/>
          <p:nvPr/>
        </p:nvPicPr>
        <p:blipFill>
          <a:blip r:embed="rId1"/>
          <a:stretch/>
        </p:blipFill>
        <p:spPr>
          <a:xfrm>
            <a:off x="4572000" y="2857680"/>
            <a:ext cx="4351320" cy="328608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3" descr="1368011574_08_05_13_son1.jpeg"/>
          <p:cNvPicPr/>
          <p:nvPr/>
        </p:nvPicPr>
        <p:blipFill>
          <a:blip r:embed="rId2"/>
          <a:stretch/>
        </p:blipFill>
        <p:spPr>
          <a:xfrm>
            <a:off x="285840" y="2857680"/>
            <a:ext cx="41194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Box 1"/>
          <p:cNvSpPr/>
          <p:nvPr/>
        </p:nvSpPr>
        <p:spPr>
          <a:xfrm>
            <a:off x="714240" y="1214280"/>
            <a:ext cx="8001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on time [bi ǝn taim]  -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ь вовремя, успевать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Box 1"/>
          <p:cNvSpPr/>
          <p:nvPr/>
        </p:nvSpPr>
        <p:spPr>
          <a:xfrm>
            <a:off x="0" y="3571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’s the time? [wɔts ðǝ taim]   -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колько времени?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1" name="Рисунок 2" descr="230_snova-perevodim-strelki.jpg"/>
          <p:cNvPicPr/>
          <p:nvPr/>
        </p:nvPicPr>
        <p:blipFill>
          <a:blip r:embed="rId1"/>
          <a:stretch/>
        </p:blipFill>
        <p:spPr>
          <a:xfrm>
            <a:off x="1428840" y="2286000"/>
            <a:ext cx="64292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7" descr="clock"/>
          <p:cNvPicPr/>
          <p:nvPr/>
        </p:nvPicPr>
        <p:blipFill>
          <a:blip r:embed="rId1"/>
          <a:stretch/>
        </p:blipFill>
        <p:spPr>
          <a:xfrm>
            <a:off x="214200" y="1357200"/>
            <a:ext cx="8740800" cy="5500800"/>
          </a:xfrm>
          <a:prstGeom prst="rect">
            <a:avLst/>
          </a:prstGeom>
          <a:ln w="0">
            <a:noFill/>
          </a:ln>
        </p:spPr>
      </p:pic>
      <p:sp>
        <p:nvSpPr>
          <p:cNvPr id="413" name="WordArt 8"/>
          <p:cNvSpPr txBox="1"/>
          <p:nvPr/>
        </p:nvSpPr>
        <p:spPr>
          <a:xfrm>
            <a:off x="2071800" y="142920"/>
            <a:ext cx="53989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The Time</a:t>
            </a:r>
            <a:endParaRPr b="1" lang="en-US" sz="1800" spc="1" strike="noStrike">
              <a:ln w="2232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8" descr=""/>
          <p:cNvPicPr/>
          <p:nvPr/>
        </p:nvPicPr>
        <p:blipFill>
          <a:blip r:embed="rId1"/>
          <a:stretch/>
        </p:blipFill>
        <p:spPr>
          <a:xfrm>
            <a:off x="0" y="1571760"/>
            <a:ext cx="4643280" cy="3857400"/>
          </a:xfrm>
          <a:prstGeom prst="rect">
            <a:avLst/>
          </a:prstGeom>
          <a:ln w="9360">
            <a:solidFill>
              <a:srgbClr val="410082"/>
            </a:solidFill>
            <a:miter/>
          </a:ln>
        </p:spPr>
      </p:pic>
      <p:pic>
        <p:nvPicPr>
          <p:cNvPr id="415" name="Picture 9" descr=""/>
          <p:cNvPicPr/>
          <p:nvPr/>
        </p:nvPicPr>
        <p:blipFill>
          <a:blip r:embed="rId2"/>
          <a:stretch/>
        </p:blipFill>
        <p:spPr>
          <a:xfrm>
            <a:off x="4643280" y="1571760"/>
            <a:ext cx="4472280" cy="3857400"/>
          </a:xfrm>
          <a:prstGeom prst="rect">
            <a:avLst/>
          </a:prstGeom>
          <a:ln w="19080">
            <a:solidFill>
              <a:srgbClr val="410082"/>
            </a:solidFill>
            <a:miter/>
          </a:ln>
        </p:spPr>
      </p:pic>
      <p:sp>
        <p:nvSpPr>
          <p:cNvPr id="416" name="WordArt 8"/>
          <p:cNvSpPr txBox="1"/>
          <p:nvPr/>
        </p:nvSpPr>
        <p:spPr>
          <a:xfrm>
            <a:off x="2143080" y="214200"/>
            <a:ext cx="5399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The Time</a:t>
            </a:r>
            <a:endParaRPr b="1" lang="en-US" sz="1800" spc="1" strike="noStrike">
              <a:ln w="2232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04:39:35Z</dcterms:created>
  <dc:creator>Klass</dc:creator>
  <dc:description/>
  <dc:language>en-US</dc:language>
  <cp:lastModifiedBy>Трям</cp:lastModifiedBy>
  <dcterms:modified xsi:type="dcterms:W3CDTF">2014-10-21T18:53:32Z</dcterms:modified>
  <cp:revision>19</cp:revision>
  <dc:subject/>
  <dc:title>Слайд 1</dc:title>
</cp:coreProperties>
</file>