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69D-F4C5-4CAD-8F9A-5EA6F6B4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5F8-8539-4371-AD9F-100176D5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6DD-F4AD-4193-B879-CEABA623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7242-76D8-4780-9445-A5A488D7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D347-3653-4120-AE29-313A165E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D759-5A5F-494C-AA6D-4832382E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A763-9ABB-458B-A5D8-C74E83FA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C3C0-DE51-45B2-AE6D-D31B902F5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26EE-4ADE-4597-A2BB-2388855A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140E6-5529-4451-A732-5A552DE2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AFA1B-E53C-49E5-BF67-4A39C0CBF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E56A-7D22-46B2-93FA-D7C2E78D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01364-75B1-41EC-96FE-4E23BC159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6343-E86A-4E3E-BCBD-622440C5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2099E-B664-4C06-BD43-A0112D737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9647-C29E-4F57-AD74-69794606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7928-FF95-40F4-B302-2CBCFFC6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4C25F-1095-4E61-B4A2-C4F5ED9E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B6C63-B50E-4295-A1EC-408D33C38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A678B-BF6A-43ED-A12E-CE5674AE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9A8AA-38E7-4CB5-B296-9D6F8551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E185E-A819-4EF1-8573-14803AA36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9885-D282-4F87-BD82-0BACD685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0EF4F-52E2-439F-BB5A-CDC66058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EEBC8-E246-4433-A6D8-94643885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53FA8-E51A-4CF2-81C8-BA694BDB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EE9C3-B290-4147-BB9E-38312105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38589-12BB-4D22-9204-50FB6F05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0F1E-6A78-4A1E-92D8-45EC5D0F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FD002-0340-4660-A7D7-0F3FF0AB6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3ED00-204B-43ED-A7E0-BDAE52DFE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365D9-DD6C-4893-B14E-4BD195A4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D7AA4-CC7B-44C6-BA41-A7E8BF77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4D22-945A-416B-8EC6-72D53645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5AB1-6271-4333-996F-7B4A85A4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DACF7-8A23-4C88-A96B-9CCDC3C5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9EAD3-74FA-450C-BC9B-271490C50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28C3C-36DD-43B7-8139-5AA70C3A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87F2A-2AAF-4A6E-A915-D510341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410DC-9AEA-4E95-A636-A90AF8F0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DFA92-8855-42AA-8945-363D4470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6D994-CB7E-49D7-B2ED-E55D626B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5CBAB-1786-4EC0-9069-761A2941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C80-CFDE-44B0-A565-6034A88A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3A53-177B-48BD-8A91-F4398D88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D43F-2011-45DF-B8EF-DAE18DF6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B7BA-F802-4381-92EB-CFE6ABEF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B090-E88B-4191-BA1B-B9E2EE039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D6BE-8DEA-43B2-9F80-7B777D40E132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809B-B7CD-41A6-9DEE-30FBC84ACD90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9A65-FB64-4CA7-B35E-1E5DF875C04E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E595D-5B70-4FEC-A2E8-6E6E9E0D4980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Движ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Закалив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ит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ежи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ищевые добав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М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потребление алкогол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Кур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аркома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словиц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хорошего сна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н – лучшее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пишься -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пался – будто вновь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З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Д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О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Р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О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В -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Ь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Е -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Правила здорового образа жизни: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ьное пит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ктивная деятельность и активный отд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каз от вредных привыч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Как сберечь свое здоровье?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198" name="Picture 2" descr="https://ds04.infourok.ru/uploads/ex/039b/000e6f02-1ec3dad6/img10.jpg"/>
          <p:cNvPicPr/>
          <p:nvPr/>
        </p:nvPicPr>
        <p:blipFill>
          <a:blip r:embed="rId1"/>
          <a:stretch/>
        </p:blipFill>
        <p:spPr>
          <a:xfrm>
            <a:off x="1619280" y="1989000"/>
            <a:ext cx="569592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4040280" cy="9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лавные факторы здоровь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4720" y="1557000"/>
            <a:ext cx="4041720" cy="9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акторы, ухудшающие состояние здоров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Движ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Закалив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ит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ежи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ищевые добав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М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потребление алкогол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Кур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аркома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вестны коды пищевых добавок, которым по воздействию на организм человека можно дать следующие характеристики:</a:t>
            </a:r>
            <a:endParaRPr b="0" lang="en-US" sz="2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ые – Е103, Е105, Е111, Е121, Е123, Е125, Е126, Е130, Е152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 – Е102, Е110, Е120, Е124, Е127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зрительные – Е104, Е122, Е141, Е150, Е171, Е173, Е180, Е241, Е477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образующие – Е131, Е210-217, Е240, Е330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щие расстройство кишечника – Е221-226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для кожи – Е230-232, Е239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щие нарушение давления – Е250, Е251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ующие появление сыпи – Е311, Е312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щие холестерин – Е320, Е321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щие расстройство желудка – Е338-341, Е407, Е450, Е461-46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s://xn--90aexm.xn--80ag3aejvc.xn--p1ai/wp-content/uploads/2016/06/3-1.jpg"/>
          <p:cNvPicPr/>
          <p:nvPr/>
        </p:nvPicPr>
        <p:blipFill>
          <a:blip r:embed="rId1"/>
          <a:stretch/>
        </p:blipFill>
        <p:spPr>
          <a:xfrm>
            <a:off x="1692360" y="836640"/>
            <a:ext cx="585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s://ds03.infourok.ru/uploads/ex/02d4/0004aa3b-5efe3c60/640/img5.jpg"/>
          <p:cNvPicPr/>
          <p:nvPr/>
        </p:nvPicPr>
        <p:blipFill>
          <a:blip r:embed="rId1"/>
          <a:stretch/>
        </p:blipFill>
        <p:spPr>
          <a:xfrm>
            <a:off x="1116000" y="692280"/>
            <a:ext cx="7056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i.otzovik.com/2014/05/03/1011371/img/10028355.jpg"/>
          <p:cNvPicPr/>
          <p:nvPr/>
        </p:nvPicPr>
        <p:blipFill>
          <a:blip r:embed="rId1"/>
          <a:stretch/>
        </p:blipFill>
        <p:spPr>
          <a:xfrm>
            <a:off x="4500720" y="620640"/>
            <a:ext cx="4481280" cy="597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i.otzovik.com/2013/01/24/362282/img/88856512.jpg"/>
          <p:cNvPicPr/>
          <p:nvPr/>
        </p:nvPicPr>
        <p:blipFill>
          <a:blip r:embed="rId2"/>
          <a:stretch/>
        </p:blipFill>
        <p:spPr>
          <a:xfrm>
            <a:off x="250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://images.spasibovsem.ru/responses/original/img-14322929232312.jpg"/>
          <p:cNvPicPr/>
          <p:nvPr/>
        </p:nvPicPr>
        <p:blipFill>
          <a:blip r:embed="rId1"/>
          <a:stretch/>
        </p:blipFill>
        <p:spPr>
          <a:xfrm>
            <a:off x="250920" y="1341360"/>
            <a:ext cx="85392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48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5a6378"/>
                </a:solidFill>
                <a:latin typeface="Calibri"/>
              </a:rPr>
              <a:t>     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Конкурс эрудитов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.П. Чехов говорил: «Целовать курящую женщину все равно, что...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древние греки назвали бы человека, страдающего влечением к оцепенению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ончите английскую пословицу: «Курильщик впускает в свои уста врага, который похищает...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От курения тупеешь, оно несовместимо с …» И.Ге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вестный врач П. Брэгг говорил, что есть 9 докторов. Начиная с четвертого это естественное питание, голодание, спорт, отдых, хорошая осанка и разум. Назовите первых трех докторов, упомянутых Брэгг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5:21:13Z</dcterms:created>
  <dc:creator>Валерия</dc:creator>
  <dc:description/>
  <dc:language>en-US</dc:language>
  <cp:lastModifiedBy>Валерия</cp:lastModifiedBy>
  <dcterms:modified xsi:type="dcterms:W3CDTF">2018-08-15T15:54:35Z</dcterms:modified>
  <cp:revision>6</cp:revision>
  <dc:subject/>
  <dc:title>Слайд 1</dc:title>
</cp:coreProperties>
</file>