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D14C-B763-4AA8-A98F-1F7B864B0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24E1-E355-4835-A021-A9122B9C3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B1BA-E18E-43E0-BE4E-ADF6C99C6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3EB9-4240-4A01-AC9A-D0DDB311E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2612E-C875-4F83-A88B-E06421692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EFC49-0DFC-4659-8108-47E12B67A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46C17-C4EE-4E66-85C6-8B7BDA998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3CA03-5E44-4036-8DED-F5B20760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327CD-B189-4C04-8E64-0987E9DA2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91F21-16D4-4862-ABE0-C88073B1C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7E62C-A36B-4A62-A5C6-63F4E41D8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0EDF-A678-425F-BE48-E51A63240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DF3CA-BA5F-451B-9540-742A4EF69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F7547-1F56-42FD-A469-0B3967C6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9EA0A-AC09-404B-83F7-2A7D4217D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285F8-5623-4F7C-A7D5-180C332F2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3C81A-6F99-429D-973F-43C33A075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338CE-6D2A-445F-91D3-DB4D8A72F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31B06-F05A-4855-9364-61824F22D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31635-65EE-41C8-9186-37593774A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D22E0-05C1-44E0-988C-43FA4CB30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22759-E248-47BB-A553-598A6F174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E628-0B26-4566-AB03-E6D07CFB8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4CC5D-F9C0-47A7-A302-E556C4100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C4F99-5E7B-4EE1-92F5-A22EC524C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8273D-504F-4568-9BDC-7B9EAF3B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6E39A-9B1C-4FC5-9C3E-4127D60E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5BCCC-B4A3-49AE-ADC8-4B94B9CB2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3C31A-CB9C-4699-8510-B9FEA52FC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1F8C3-5241-4340-995A-E9E731DFA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B37CE4-388F-4AFC-84F7-672A1D4BD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74CEF-DF4B-4AAD-A950-0B9289FE2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3F81F-C9FC-46A4-AB0E-DB1C352E4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2F6C-44FB-422B-BAC9-315E4EF67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7614A-3E25-4F32-8BF1-93B7722ED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A00FC-7C90-4058-A3C8-179309C3D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1B99D-4AF6-47BC-9526-BD7EDE48D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88B9F-39DB-442B-BCAC-2627F788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EF4F97-D8AA-4C9E-B144-5BE449A4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2473A-90D6-436F-B45C-062E7682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281D8-5719-4CA2-B492-5F69070E5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CF238-4615-4AB7-B4BA-203F3F3EC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F1CD7-EEB3-430E-A498-6391AB5E6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4FF5-40A1-4777-809F-E37B387E2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C9A2-59E3-452F-8CCA-89DB374AC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A86D-565A-4127-8854-A5E9F61D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EA42-0A0C-445F-9484-C6AA9D36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9BF2-93D0-4ECB-B7C3-4C95A006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5e72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9D6BF-E10B-4C2F-B9EA-E4EC8FCD4597}" type="slidenum">
              <a:rPr b="0" lang="ru-RU" sz="1200" spc="-1" strike="noStrike">
                <a:solidFill>
                  <a:srgbClr val="565e7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acacc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F653D-1014-4C67-BA53-89C5EECD5FB4}" type="slidenum">
              <a:rPr b="0" lang="ru-RU" sz="1200" spc="-1" strike="noStrike">
                <a:solidFill>
                  <a:srgbClr val="cacacc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4d4d6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4d4d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acacc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cacacc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1F8E1-B96B-4BBB-97CB-C769877191CD}" type="slidenum">
              <a:rPr b="0" lang="ru-RU" sz="1200" spc="-1" strike="noStrike">
                <a:solidFill>
                  <a:srgbClr val="cacacc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3c899d">
                  <a:alpha val="45098"/>
                </a:srgbClr>
              </a:gs>
              <a:gs pos="100000">
                <a:srgbClr val="ef435b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b64050">
                  <a:alpha val="45098"/>
                </a:srgbClr>
              </a:gs>
              <a:gs pos="100000">
                <a:srgbClr val="40aac7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5a6378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d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60b5cc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e66c7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bb76d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65e72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65e72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9514F-F2E3-49FF-9240-868682049BED}" type="slidenum">
              <a:rPr b="0" lang="ru-RU" sz="1200" spc="-1" strike="noStrike">
                <a:solidFill>
                  <a:srgbClr val="565e72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Движение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Закаливание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Питание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Режим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Пищевые добавки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ГМО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Употребление алкоголя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Курение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Наркомания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Calibri"/>
              </a:rPr>
              <a:t>Пословицы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.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т хорошего сна 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2.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н – лучшее 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3.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спишься - 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4.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ыспался – будто вновь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spcBef>
                <a:spcPts val="751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nstantia"/>
              </a:rPr>
              <a:t>З -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51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nstantia"/>
              </a:rPr>
              <a:t>Д -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51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nstantia"/>
              </a:rPr>
              <a:t>О -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51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nstantia"/>
              </a:rPr>
              <a:t>Р -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51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nstantia"/>
              </a:rPr>
              <a:t>О -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51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nstantia"/>
              </a:rPr>
              <a:t>В -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51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nstantia"/>
              </a:rPr>
              <a:t>Ь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751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onstantia"/>
              </a:rPr>
              <a:t>Е -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00"/>
                </a:solidFill>
                <a:latin typeface="Calibri"/>
              </a:rPr>
              <a:t>Правила здорового образа жизни:</a:t>
            </a:r>
            <a:endParaRPr b="0" lang="en-US" sz="45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равильное питани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Сон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Активная деятельность и активный отдых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тказ от вредных привычек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Calibri"/>
              </a:rPr>
              <a:t>Как сберечь свое здоровье?</a:t>
            </a:r>
            <a:endParaRPr b="0" lang="en-US" sz="5000" spc="-1" strike="noStrike">
              <a:solidFill>
                <a:srgbClr val="5a6378"/>
              </a:solidFill>
              <a:latin typeface="Calibri"/>
            </a:endParaRPr>
          </a:p>
        </p:txBody>
      </p:sp>
      <p:pic>
        <p:nvPicPr>
          <p:cNvPr id="198" name="Picture 2" descr="https://ds04.infourok.ru/uploads/ex/039b/000e6f02-1ec3dad6/img10.jpg"/>
          <p:cNvPicPr/>
          <p:nvPr/>
        </p:nvPicPr>
        <p:blipFill>
          <a:blip r:embed="rId1"/>
          <a:stretch/>
        </p:blipFill>
        <p:spPr>
          <a:xfrm>
            <a:off x="1619280" y="1989000"/>
            <a:ext cx="5695920" cy="42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6840" y="1557000"/>
            <a:ext cx="4040280" cy="957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Главные факторы здоровья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44720" y="1557000"/>
            <a:ext cx="4041720" cy="957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89000"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Факторы, ухудшающие состояние здоровь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Движение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Закаливание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Питание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Режим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Пищевые добавки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ГМО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Употребление алкоголя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Курение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Наркомания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alibri"/>
              </a:rPr>
              <a:t>Известны коды пищевых добавок, которым по воздействию на организм человека можно дать следующие характеристики:</a:t>
            </a:r>
            <a:endParaRPr b="0" lang="en-US" sz="25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ещенные – Е103, Е105, Е111, Е121, Е123, Е125, Е126, Е130, Е152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асные – Е102, Е110, Е120, Е124, Е127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озрительные – Е104, Е122, Е141, Е150, Е171, Е173, Е180, Е241, Е477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кообразующие – Е131, Е210-217, Е240, Е330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зывающие расстройство кишечника – Е221-226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дные для кожи – Е230-232, Е239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зывающие нарушение давления – Е250, Е251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оцирующие появление сыпи – Е311, Е312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ающие холестерин – Е320, Е321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зывающие расстройство желудка – Е338-341, Е407, Е450, Е461-466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https://xn--90aexm.xn--80ag3aejvc.xn--p1ai/wp-content/uploads/2016/06/3-1.jpg"/>
          <p:cNvPicPr/>
          <p:nvPr/>
        </p:nvPicPr>
        <p:blipFill>
          <a:blip r:embed="rId1"/>
          <a:stretch/>
        </p:blipFill>
        <p:spPr>
          <a:xfrm>
            <a:off x="1692360" y="836640"/>
            <a:ext cx="5850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https://ds03.infourok.ru/uploads/ex/02d4/0004aa3b-5efe3c60/640/img5.jpg"/>
          <p:cNvPicPr/>
          <p:nvPr/>
        </p:nvPicPr>
        <p:blipFill>
          <a:blip r:embed="rId1"/>
          <a:stretch/>
        </p:blipFill>
        <p:spPr>
          <a:xfrm>
            <a:off x="1116000" y="692280"/>
            <a:ext cx="705636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http://i.otzovik.com/2014/05/03/1011371/img/10028355.jpg"/>
          <p:cNvPicPr/>
          <p:nvPr/>
        </p:nvPicPr>
        <p:blipFill>
          <a:blip r:embed="rId1"/>
          <a:stretch/>
        </p:blipFill>
        <p:spPr>
          <a:xfrm>
            <a:off x="4500720" y="620640"/>
            <a:ext cx="4481280" cy="59770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http://i.otzovik.com/2013/01/24/362282/img/88856512.jpg"/>
          <p:cNvPicPr/>
          <p:nvPr/>
        </p:nvPicPr>
        <p:blipFill>
          <a:blip r:embed="rId2"/>
          <a:stretch/>
        </p:blipFill>
        <p:spPr>
          <a:xfrm>
            <a:off x="250920" y="177336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http://images.spasibovsem.ru/responses/original/img-14322929232312.jpg"/>
          <p:cNvPicPr/>
          <p:nvPr/>
        </p:nvPicPr>
        <p:blipFill>
          <a:blip r:embed="rId1"/>
          <a:stretch/>
        </p:blipFill>
        <p:spPr>
          <a:xfrm>
            <a:off x="250920" y="1341360"/>
            <a:ext cx="853920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484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br>
              <a:rPr sz="4500"/>
            </a:br>
            <a:r>
              <a:rPr b="1" lang="ru-RU" sz="4500" spc="-1" strike="noStrike">
                <a:solidFill>
                  <a:srgbClr val="5a6378"/>
                </a:solidFill>
                <a:latin typeface="Calibri"/>
              </a:rPr>
              <a:t>     </a:t>
            </a:r>
            <a:r>
              <a:rPr b="1" lang="ru-RU" sz="4500" spc="-1" strike="noStrike">
                <a:solidFill>
                  <a:srgbClr val="000000"/>
                </a:solidFill>
                <a:latin typeface="Calibri"/>
              </a:rPr>
              <a:t>Конкурс эрудитов</a:t>
            </a:r>
            <a:br>
              <a:rPr sz="4500"/>
            </a:br>
            <a:endParaRPr b="0" lang="en-US" sz="4500" spc="-1" strike="noStrike">
              <a:solidFill>
                <a:srgbClr val="5a6378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.П. Чехов говорил: «Целовать курящую женщину все равно, что...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Как древние греки назвали бы человека, страдающего влечением к оцепенению?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Закончите английскую пословицу: «Курильщик впускает в свои уста врага, который похищает...»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«От курения тупеешь, оно несовместимо с …» И.Гет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90000"/>
              </a:lnSpc>
              <a:spcBef>
                <a:spcPts val="601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Известный врач П. Брэгг говорил, что есть 9 докторов. Начиная с четвертого это естественное питание, голодание, спорт, отдых, хорошая осанка и разум. Назовите первых трех докторов, упомянутых Брэггом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e66c7d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5T15:21:13Z</dcterms:created>
  <dc:creator>Валерия</dc:creator>
  <dc:description/>
  <dc:language>en-US</dc:language>
  <cp:lastModifiedBy>Валерия</cp:lastModifiedBy>
  <dcterms:modified xsi:type="dcterms:W3CDTF">2018-08-15T15:54:35Z</dcterms:modified>
  <cp:revision>6</cp:revision>
  <dc:subject/>
  <dc:title>Слайд 1</dc:title>
</cp:coreProperties>
</file>