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313-F4BE-4AF9-848F-F0FB2F2F9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E41B-C9E7-41B5-A08B-00EDA3BB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7295-8266-484D-83B9-DFC8C5B9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274D-4E90-4029-8F09-F44AA8EF9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8CC8-3A20-4055-83E5-A45825F75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A2D84-256E-42DA-83B9-59729CAA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52B1-ABC0-4706-97F2-7BD671C4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5D83-CAC6-4D17-B472-AE8E6001A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A191D-2C05-4C6B-B57D-924D10C5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09BDA-3E44-47DB-8928-358C45778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DD620-6BCE-43BF-AC8B-0E59B8B9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CEFD-B93A-450C-A2F1-9D18508D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F4844-307A-4702-8092-3B2EA099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D9DF5-233F-4813-B785-53D472FE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5E1D5-A394-42FC-AFE0-0A85C4B6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534DA-4DD6-426F-B56A-2E5D3D24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563E-DF92-43AA-BC7F-6562380F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9F68-AE7A-4EBB-A0F1-3DE31C5DE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F145-1FF1-455F-B7AA-B8453F95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8B96-1F7B-4B5D-AD14-19D3CF15F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B6A5-DF72-43C3-AFFD-AE7242C35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E53F-DFB3-4512-AB28-749C8CF8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E69-1712-4448-AE23-5AC4207F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0890-4830-4644-8CE2-0C4D3FA1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8F405-67B8-4D32-AAC2-19FE0CEBDA9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CAC5-6137-44E7-A135-E949DEDEB09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picasaweb.google.ru/seawave60/SgmNuD/photo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bookcase.kz/wp-content/uploads/2008/11/alienora2-2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51280" y="1523520"/>
            <a:ext cx="52927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6633"/>
                </a:solidFill>
                <a:latin typeface="Garamond"/>
              </a:rPr>
              <a:t>АЛЬЕНОРА АКВИТАНСКАЯ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akvitania1"/>
          <p:cNvPicPr/>
          <p:nvPr/>
        </p:nvPicPr>
        <p:blipFill>
          <a:blip r:embed="rId1"/>
          <a:stretch/>
        </p:blipFill>
        <p:spPr>
          <a:xfrm>
            <a:off x="179280" y="2781360"/>
            <a:ext cx="34578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6633"/>
                </a:solidFill>
                <a:latin typeface="Garamond"/>
              </a:rPr>
              <a:t>Mariage de Louis VII et d’Aliénor d’Aquitaine, Grandes chroniques de France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Picture 9" descr="bio2_mariag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femmesalienor"/>
          <p:cNvPicPr/>
          <p:nvPr/>
        </p:nvPicPr>
        <p:blipFill>
          <a:blip r:embed="rId1"/>
          <a:stretch/>
        </p:blipFill>
        <p:spPr>
          <a:xfrm>
            <a:off x="539640" y="333360"/>
            <a:ext cx="8425080" cy="51735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8"/>
          <p:cNvSpPr/>
          <p:nvPr/>
        </p:nvSpPr>
        <p:spPr>
          <a:xfrm>
            <a:off x="1042200" y="5516640"/>
            <a:ext cx="700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1137 году Алиенора, герцогиня Аквитании, выходит замуж з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овика VII. Венчание состоялось в Кафедральном собор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. Андрея города Борд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836640"/>
            <a:ext cx="3538440" cy="529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лиенора собрала вокруг себя куртуазный двор, поэты-трубадуры восхваляли ее красот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 ее дворе жила первая французская поэтесса Мария Французска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3" descr="Алиенора  Аквитанская"/>
          <p:cNvPicPr/>
          <p:nvPr/>
        </p:nvPicPr>
        <p:blipFill>
          <a:blip r:embed="rId1"/>
          <a:stretch/>
        </p:blipFill>
        <p:spPr>
          <a:xfrm>
            <a:off x="3924360" y="404640"/>
            <a:ext cx="487044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333000"/>
            <a:ext cx="325116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дростки Людовик и Элеонора стали правителями Франции. Брак получился не очень-то удачным, хотя они родили двух дочерей, собрали второй крестовый поход, вели мелкие войн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i_012"/>
          <p:cNvPicPr/>
          <p:nvPr/>
        </p:nvPicPr>
        <p:blipFill>
          <a:blip r:embed="rId1"/>
          <a:stretch/>
        </p:blipFill>
        <p:spPr>
          <a:xfrm>
            <a:off x="3873600" y="404640"/>
            <a:ext cx="4620960" cy="57261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"/>
          <p:cNvSpPr/>
          <p:nvPr/>
        </p:nvSpPr>
        <p:spPr>
          <a:xfrm>
            <a:off x="3352680" y="6161040"/>
            <a:ext cx="5357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той Бернар проповедует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рестов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хо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овику VI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Saint%20Bernard"/>
          <p:cNvPicPr/>
          <p:nvPr/>
        </p:nvPicPr>
        <p:blipFill>
          <a:blip r:embed="rId1"/>
          <a:stretch/>
        </p:blipFill>
        <p:spPr>
          <a:xfrm>
            <a:off x="2430360" y="333360"/>
            <a:ext cx="42451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 1147 году в поисках развлечений Алиенора отправилась вместе с мужем во II крестовый поход, поразив всех своей выдержкой и умением управляться с конем. Не раз она оказывалась в самой гуще сражения. Поход в шесть тысяч километров вовсе не был для нее скучным или утомительны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5" descr="Arriv%C3%A9e_des_crois%C3%A9s_%C3%A0_Constantinople"/>
          <p:cNvPicPr/>
          <p:nvPr/>
        </p:nvPicPr>
        <p:blipFill>
          <a:blip r:embed="rId1"/>
          <a:stretch/>
        </p:blipFill>
        <p:spPr>
          <a:xfrm>
            <a:off x="4648320" y="2209680"/>
            <a:ext cx="4038480" cy="3311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6"/>
          <p:cNvSpPr/>
          <p:nvPr/>
        </p:nvSpPr>
        <p:spPr>
          <a:xfrm>
            <a:off x="4291200" y="5661000"/>
            <a:ext cx="42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Arrivée_des_croisés_à_Constantinop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LouisVII at Vezelay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1" name="Picture 3" descr="LouisVIIatVezelay"/>
          <p:cNvPicPr/>
          <p:nvPr/>
        </p:nvPicPr>
        <p:blipFill>
          <a:blip r:embed="rId1"/>
          <a:stretch/>
        </p:blipFill>
        <p:spPr>
          <a:xfrm>
            <a:off x="457200" y="1325520"/>
            <a:ext cx="4906800" cy="4314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impuls30"/>
          <p:cNvPicPr/>
          <p:nvPr/>
        </p:nvPicPr>
        <p:blipFill>
          <a:blip r:embed="rId2"/>
          <a:stretch/>
        </p:blipFill>
        <p:spPr>
          <a:xfrm>
            <a:off x="5651640" y="1413000"/>
            <a:ext cx="3132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скоре после похода по настоянию Людовика VII церковь признала их брак недействительным и Алиенора к 30 годам становится свободной и богатой женщиной. земли «нежной Аквитании» существенно превышали по площади королевство самой Фран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SCAN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788000" y="1557360"/>
            <a:ext cx="3809880" cy="32097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9"/>
          <p:cNvSpPr/>
          <p:nvPr/>
        </p:nvSpPr>
        <p:spPr>
          <a:xfrm>
            <a:off x="2701080" y="6165720"/>
            <a:ext cx="608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Алиенора и Людовик VII молят Бога даровать им сы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сле развода бывшая королева Франции спешно отправилась в Пуатье. По пути в графство ее дважды пытались похитить феодалы, чтобы насильно заставить выйти за них замуж и завладеть ее огромными владениями. Но Алиенора благополучно добралась до намеченной цели, ускользнув от преследователей, а в 1152 году вышла замуж за Генриха Анжуйского. Было ему 19, а ей - 28 ле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5 октября 1154 года он стал королем Англ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1484280"/>
            <a:ext cx="3095640" cy="12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Генрих II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Плантагенет.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Picture 8" descr="481px-Henry_II_of_England_-_Illustration_from_Cassell%27s_History_of_England_-_Century_Edition_-_published_circa_1902"/>
          <p:cNvPicPr/>
          <p:nvPr/>
        </p:nvPicPr>
        <p:blipFill>
          <a:blip r:embed="rId1"/>
          <a:stretch/>
        </p:blipFill>
        <p:spPr>
          <a:xfrm>
            <a:off x="3924360" y="333360"/>
            <a:ext cx="47419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476280"/>
            <a:ext cx="40338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чь герцога, внучка первого трубадура Прованса, самая красивая женщина в Европе, жена двух королей, королева двух государств, участница II крестового похода, мать 11 дете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9" descr="Алиенора  Аквитанска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87680" y="404640"/>
            <a:ext cx="44262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8360" y="404280"/>
            <a:ext cx="4038480" cy="603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1154 году Элеоноре было уже за тридцать, но это не помешало ей родить впоследствии английскому королю четырех сыновей, один из которых, Ричард Львиное Сердце, стал самым знаменитым рыцарем Западной Европы. А ведь среди обвинений, высказанных Людовиком VII, говорилось о неспособности королевы родить сына, наследника престо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Ричард Львиное Сердце"/>
          <p:cNvPicPr/>
          <p:nvPr/>
        </p:nvPicPr>
        <p:blipFill>
          <a:blip r:embed="rId1"/>
          <a:stretch/>
        </p:blipFill>
        <p:spPr>
          <a:xfrm>
            <a:off x="4788000" y="333360"/>
            <a:ext cx="4086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ичард I Львиное Сердце - английский король из рода Плантагенетов, правивший в 1189—1199 гг. Сын Генриха II и Элеоноры Гиенско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7" descr="richard"/>
          <p:cNvPicPr/>
          <p:nvPr/>
        </p:nvPicPr>
        <p:blipFill>
          <a:blip r:embed="rId1"/>
          <a:stretch/>
        </p:blipFill>
        <p:spPr>
          <a:xfrm>
            <a:off x="4643280" y="333360"/>
            <a:ext cx="394344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00720" y="333000"/>
            <a:ext cx="41860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ичард был королем неважным, за 10 лет власти на престоле Англии он побывал меньше года. Остальное время шатался по Европе и Святой Земле в поисках рыцарской славы. Целый год Ричард просидел в плену у австрийского герцога. В Англии тем временем правил принц Джон, нелюбовь к которому пронесли англичане через век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2" descr="ltext_2106220817"/>
          <p:cNvPicPr/>
          <p:nvPr/>
        </p:nvPicPr>
        <p:blipFill>
          <a:blip r:embed="rId1"/>
          <a:stretch/>
        </p:blipFill>
        <p:spPr>
          <a:xfrm>
            <a:off x="1042920" y="981000"/>
            <a:ext cx="2808360" cy="2892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7" descr="richard_neustrashimiy_0"/>
          <p:cNvPicPr/>
          <p:nvPr/>
        </p:nvPicPr>
        <p:blipFill>
          <a:blip r:embed="rId2"/>
          <a:stretch/>
        </p:blipFill>
        <p:spPr>
          <a:xfrm>
            <a:off x="806400" y="260280"/>
            <a:ext cx="7547040" cy="586584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8"/>
          <p:cNvSpPr/>
          <p:nvPr/>
        </p:nvSpPr>
        <p:spPr>
          <a:xfrm>
            <a:off x="3997080" y="6237360"/>
            <a:ext cx="29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чард I Львиное Сердц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41148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олотая Орлица принимала участие в делах мужа, вместе отправлялась с ним и на войну, и на празднества. Разлаженное королевство вновь оживало: стали собираться налоги, границы с опасным соперником – Шотландией – вновь стали строго охраняться. Хронист писал об этом времени: «Весь народ полюбил короля, ибо он вершил справедливость и установил мир»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йская королева вновь собрала кружок своих обожателей – поэтов и рыцаре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6" descr="49693856"/>
          <p:cNvPicPr/>
          <p:nvPr/>
        </p:nvPicPr>
        <p:blipFill>
          <a:blip r:embed="rId1"/>
          <a:stretch/>
        </p:blipFill>
        <p:spPr>
          <a:xfrm>
            <a:off x="4978440" y="333360"/>
            <a:ext cx="4165560" cy="525636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7"/>
          <p:cNvSpPr/>
          <p:nvPr/>
        </p:nvSpPr>
        <p:spPr>
          <a:xfrm>
            <a:off x="4790520" y="5805360"/>
            <a:ext cx="395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олева Алиенора со сво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ладшим сыном, королем Джо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476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о время долгого правления Генриха II противоречия между королевскими домами Англии и Франции вспыхивали каждый год. Правда, они очень напоминали большую семейную ссору между двумя мужьями герцогини Актавианской. Большинство историков сходятся во мнении, что именно в истории супружества Алиеноры стоит искать причины Столетней войны.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1172 году Людовик VII встретился в Нормандии со своим семнадцатилетним зятем Генрихом, которого за два года до этого Генрих II короновал в качестве «молодого короля». Целью коронации было укрепить ситуацию в Англ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Честолюбивые устремления наследника умело поддерживал и направлял Людовик VII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ыновья неистовой Алиеноры захотели власти и устроили против отца бунт (1173г.), который, впрочем, провалился. Королеву, помогавшую сыновьям, Генрих посадил в крепость. Там и провела она 16 лет своей жизни 1173-1189 гг.) , была выпущена только в 1189г. своим сыном Ричардом I (IV) Львиное сердце. После этого Алиенора уехала во Францию, где провела остаток жизни. Привезла во Францию свою внучку Бланку Кастильскую (которая родила короля Людовика IX Святого…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3644640"/>
            <a:ext cx="8218440" cy="21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лиенора успела застать и смерть сына Ричарда апреле 1199 года, и начало царствования Принца Джона, (Иоанна Безземельного). Прозвище он получил благодаря тому, что восставшие бароны чуть не выгнали его из страны, а большую часть земель Англии успел завоевать король Франции Филипп еще при Ричард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рла королева 1 апреля 1204 года в Фонтевро. Было ей (невозможные в средние века) 82 го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Надгробие Алиеноры Аквитанской"/>
          <p:cNvPicPr/>
          <p:nvPr/>
        </p:nvPicPr>
        <p:blipFill>
          <a:blip r:embed="rId1"/>
          <a:stretch/>
        </p:blipFill>
        <p:spPr>
          <a:xfrm rot="5139000">
            <a:off x="2771280" y="-315720"/>
            <a:ext cx="316872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1249-87be8-30965005-m549x500"/>
          <p:cNvPicPr/>
          <p:nvPr/>
        </p:nvPicPr>
        <p:blipFill>
          <a:blip r:embed="rId1"/>
          <a:stretch/>
        </p:blipFill>
        <p:spPr>
          <a:xfrm>
            <a:off x="1084320" y="593640"/>
            <a:ext cx="6975360" cy="5221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Надгробие Алиеноры Аквитанской"/>
          <p:cNvPicPr/>
          <p:nvPr/>
        </p:nvPicPr>
        <p:blipFill>
          <a:blip r:embed="rId2"/>
          <a:stretch/>
        </p:blipFill>
        <p:spPr>
          <a:xfrm>
            <a:off x="755640" y="620640"/>
            <a:ext cx="7848720" cy="5200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Надгробие Алиеноры Аквитанской"/>
          <p:cNvPicPr/>
          <p:nvPr/>
        </p:nvPicPr>
        <p:blipFill>
          <a:blip r:embed="rId3"/>
          <a:stretch/>
        </p:blipFill>
        <p:spPr>
          <a:xfrm>
            <a:off x="722160" y="371520"/>
            <a:ext cx="5185080" cy="61992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0"/>
          <p:cNvSpPr/>
          <p:nvPr/>
        </p:nvSpPr>
        <p:spPr>
          <a:xfrm>
            <a:off x="1043640" y="6237360"/>
            <a:ext cx="42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дгробие Алиеноры Аквитан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9" descr="Алиенора  Аквитанская"/>
          <p:cNvPicPr/>
          <p:nvPr/>
        </p:nvPicPr>
        <p:blipFill>
          <a:blip r:embed="rId1"/>
          <a:stretch/>
        </p:blipFill>
        <p:spPr>
          <a:xfrm>
            <a:off x="5292720" y="333360"/>
            <a:ext cx="3672000" cy="37814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333360"/>
            <a:ext cx="52196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 короля Генриха с 1166 года появилась любовница – прекрасная Розамунда Клиффорд, английская роз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 1174 года Генрих, отправив некогда любимую жену в тюрьму за участие в восстании принцев, стал открыто демонстрировать свои отношения с Розмундой Клиффорд. Алиеноре предстояло провести в заключении долгих 16 лет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задолго до своей смерти в 1176 году Розамунда удалилась в монастырь Годстоу, в котором и была захоронена рядом с алтарем. История о лабиринте в Вудстоке, прозванным «Будуаром Розамунды», стала популярна в эпоху царствования Елизаветы I. </a:t>
            </a: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читается, что лабиринт в Вудстокском замке действительно существовал, но его появление связано с именем жены Генриха III Элеоноры. В годы Гражданской войны замок был разрушен, а на его месте ныне красуется знаменитый дворец Бленхейм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Романтичные англичане сочинили целую легенду о коварной Алиеноре и юной Розамунде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006633"/>
                </a:solidFill>
                <a:latin typeface="Garamond"/>
              </a:rPr>
              <a:t>Легенда</a:t>
            </a:r>
            <a:endParaRPr b="0" lang="en-US" sz="4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3640" y="1268280"/>
            <a:ext cx="367164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 короля Генриха II Плантагенета, правившего Англией в XII веке, была возлюбленная по имени Розамунда, происходившая из простой бедной семьи, но считавшаяся самой красивой женщиной в стран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. Хьюз. "Прекрасная Розамунда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5" descr=" (520x700, 111Kb)"/>
          <p:cNvPicPr/>
          <p:nvPr/>
        </p:nvPicPr>
        <p:blipFill>
          <a:blip r:embed="rId1"/>
          <a:stretch/>
        </p:blipFill>
        <p:spPr>
          <a:xfrm>
            <a:off x="4140360" y="260280"/>
            <a:ext cx="44910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38744122_alienor"/>
          <p:cNvPicPr/>
          <p:nvPr/>
        </p:nvPicPr>
        <p:blipFill>
          <a:blip r:embed="rId1"/>
          <a:stretch/>
        </p:blipFill>
        <p:spPr>
          <a:xfrm>
            <a:off x="541440" y="514440"/>
            <a:ext cx="81342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Генрих очень любил свою розу, но знал, что старая и злая жена не простит ему этой любви и очень боялся за свою фаворит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. Г. Россетти. «Прекрасная Розамунда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0" descr=" (413x532, 131Kb)"/>
          <p:cNvPicPr/>
          <p:nvPr/>
        </p:nvPicPr>
        <p:blipFill>
          <a:blip r:embed="rId1"/>
          <a:stretch/>
        </p:blipFill>
        <p:spPr>
          <a:xfrm>
            <a:off x="4500720" y="333360"/>
            <a:ext cx="4278240" cy="55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475920"/>
            <a:ext cx="41148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рих опасался козней своей коварной, жестокой и ревнивой жены королевы Алиеноры и приказал построить для Розамунды тайное убежище в Вудстоке, окружив его садом в виде непроходимого лабиринта, путь по которому знали только самые доверенные и преданные люд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и уехал на войну.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Д. У. Уотерхауз. "Честная Розамунда"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 (510x700, 61Kb)"/>
          <p:cNvPicPr/>
          <p:nvPr/>
        </p:nvPicPr>
        <p:blipFill>
          <a:blip r:embed="rId1"/>
          <a:stretch/>
        </p:blipFill>
        <p:spPr>
          <a:xfrm>
            <a:off x="4735440" y="333360"/>
            <a:ext cx="40370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38988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ако Алиенора узнала о тайной связи своего супруга и потратила немало сил, чтобы выведать путь к центру лабиринта. Следуя за шелковой нитью, она нашла Розамунду и предложила возлюбленной короля выбор - смерть от кинжала или я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Э. де Морган. "Королева Алиенора и Прекрасная Розамунда"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9" descr="эв2 (540x698, 91Kb)"/>
          <p:cNvPicPr/>
          <p:nvPr/>
        </p:nvPicPr>
        <p:blipFill>
          <a:blip r:embed="rId1"/>
          <a:stretch/>
        </p:blipFill>
        <p:spPr>
          <a:xfrm>
            <a:off x="4356000" y="333360"/>
            <a:ext cx="4484880" cy="57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000" y="5778000"/>
            <a:ext cx="849636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замунда предпочла яд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Ф. К. Купер. "Королева Алиенора и Розамунда" 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9" descr=" (680x532, 48Kb)"/>
          <p:cNvPicPr/>
          <p:nvPr/>
        </p:nvPicPr>
        <p:blipFill>
          <a:blip r:embed="rId1"/>
          <a:stretch/>
        </p:blipFill>
        <p:spPr>
          <a:xfrm>
            <a:off x="1619280" y="260280"/>
            <a:ext cx="699624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000" y="404640"/>
            <a:ext cx="30956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озамунда была похоронена на небольшом островке между двумя рукавами Исиса, в церковном приходе Вулверкот, близ Оксфорда. На ее надгробии выбита причудливая эпитафия по-латыни:</a:t>
            </a:r>
            <a:br>
              <a:rPr sz="1500"/>
            </a:br>
            <a:br>
              <a:rPr sz="1500"/>
            </a:b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Здесь покоится не Роза Целомудрия, а Роза Красоты,</a:t>
            </a:r>
            <a:br>
              <a:rPr sz="1500"/>
            </a:b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Но аромат ее испарился и сменился смрадом тления.</a:t>
            </a:r>
            <a:br>
              <a:rPr sz="1500"/>
            </a:br>
            <a:r>
              <a:rPr b="0" i="1" lang="ru-RU" sz="1500" spc="-1" strike="noStrike">
                <a:solidFill>
                  <a:srgbClr val="000000"/>
                </a:solidFill>
                <a:latin typeface="Arial"/>
              </a:rPr>
              <a:t>Дева умерла, но душа ее не обрела покой, и с тех пор бродит по вудстокскому замку, тревожа людей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Загубленная жизнь прекрасной женщины не могла не найти отклика у поэтов и художников, поэтому о ней не забыли.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Э. Берн-Джонс. "Прекрасная Розамунда и королева Алиенора" </a:t>
            </a:r>
            <a:br>
              <a:rPr sz="1500"/>
            </a:b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3" descr=" (537x700, 59Kb)"/>
          <p:cNvPicPr/>
          <p:nvPr/>
        </p:nvPicPr>
        <p:blipFill>
          <a:blip r:embed="rId1"/>
          <a:stretch/>
        </p:blipFill>
        <p:spPr>
          <a:xfrm>
            <a:off x="3898800" y="260280"/>
            <a:ext cx="44244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332280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олва же сделала из Алиеноры настоящую Мессалину, наделив ее множеством любовников. В их число попал и маршал Англии лорд Пемброк, герой известной баллады «Королева Элинор», переведенной на русский язык Самуилом Маршако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А. Ф. Сандис. "Королева Алиенора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 (522x700, 56Kb)"/>
          <p:cNvPicPr/>
          <p:nvPr/>
        </p:nvPicPr>
        <p:blipFill>
          <a:blip r:embed="rId1"/>
          <a:stretch/>
        </p:blipFill>
        <p:spPr>
          <a:xfrm>
            <a:off x="4033800" y="333360"/>
            <a:ext cx="4294080" cy="575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49068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0000"/>
                </a:solidFill>
                <a:latin typeface="Garamond"/>
              </a:rPr>
              <a:t>Гильом IX Трубадур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живой жене Филиппе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вшей ему двоих сыновей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льома X и Раймонда Антиохийского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убадур сделал хозяйкой в доме аквитанскую даму по имени Дангеро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ильом никого не боялся и не скрывал своей связи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даже поместил на щите изображение Дангеросы и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ловам хрониста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утил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хотел бы иметь ее при себе в битвах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был при ней на пирах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8" descr="William_IX_of_Aquitaine_-_BN_MS_fr_12473"/>
          <p:cNvPicPr/>
          <p:nvPr/>
        </p:nvPicPr>
        <p:blipFill>
          <a:blip r:embed="rId1"/>
          <a:stretch/>
        </p:blipFill>
        <p:spPr>
          <a:xfrm>
            <a:off x="4959360" y="404640"/>
            <a:ext cx="39258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Picture 6" descr="10"/>
          <p:cNvPicPr/>
          <p:nvPr/>
        </p:nvPicPr>
        <p:blipFill>
          <a:blip r:embed="rId1"/>
          <a:stretch/>
        </p:blipFill>
        <p:spPr>
          <a:xfrm>
            <a:off x="395280" y="260280"/>
            <a:ext cx="3541680" cy="65977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19640" y="333000"/>
            <a:ext cx="5473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арший сын Трубадура Гильом X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ступился за мать и но войну с отцом проиграл. Гильом IX захватил сына в плен и заставил его жениться на...17-летней дочери Дангеросы по имени Аэнор (Альенора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alienus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другой или особенный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)! 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див ему троих детей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героса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скоре умер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1137 году и Гильом Х умер из-за пищевого отравления во время паломничества, однако успел отдать распоряжения на случай смерти. В Аквитании хватало отчаянных феодалов, мало уступавших в беззаконии и беспутстве Гильому Трубадуру , и Алиенора в случае смерти отца оказывалась в опасном положен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404640"/>
            <a:ext cx="3970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этому опеку Гильом Х передал своему сюзерену, королю Франции Людовику VI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должен был заботиться о ней до тех пор, пока герцогиня не выйдет замуж. В то время король был тяжко болен дизентерией, но оставался в здравом рассудке. Он быстро подыскал подопечной выгодную партию: своего сына и наследника. По обычаю, невеста должна была увидеть жениха впервые в день свадьбы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9" descr="421px-Louis_VII_le_Jeune"/>
          <p:cNvPicPr/>
          <p:nvPr/>
        </p:nvPicPr>
        <p:blipFill>
          <a:blip r:embed="rId1"/>
          <a:stretch/>
        </p:blipFill>
        <p:spPr>
          <a:xfrm>
            <a:off x="4427640" y="333360"/>
            <a:ext cx="2906640" cy="41418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5"/>
          <p:cNvSpPr/>
          <p:nvPr/>
        </p:nvSpPr>
        <p:spPr>
          <a:xfrm>
            <a:off x="5509080" y="616572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дови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4" descr="Louis7lejeune"/>
          <p:cNvPicPr/>
          <p:nvPr/>
        </p:nvPicPr>
        <p:blipFill>
          <a:blip r:embed="rId2"/>
          <a:stretch/>
        </p:blipFill>
        <p:spPr>
          <a:xfrm>
            <a:off x="6877080" y="2133720"/>
            <a:ext cx="2108160" cy="38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40384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Таким образом, в возрасте 15 лет Альенора стала герцогиней Аквитании (1137-1204 гг.), графиней Пуатье (1137-1204 гг.) и самой желанной невестой Европы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Ей принадлежало герцогство Аквитания, или Гиень, занимавшее обширные территории на юго-западе Франции. Местные жители и не считали себя французами: у них был свой язык, своя культура, во многом перенятая из античных традиций, под итальянским, арабским и еврейским влиянием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XI веке все это породило изысканную культуру трубадуров, которые сочиняли стихи на родном языке, воспевая красоту прекрасных донн. Первым из трубадуров считался дед Алиеноры Гильом IX.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 этой девушке сочетались знатность, богатство, красота, мудрость и ум. 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Уже в пятнадцать лет о ее красоте распевали все придворные поэты, они называли ее «золотая орлица» («aigle en or» – очень созвучно с Алиенора)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По описаниям, Альенора Аквитанская имела густые волосы цвета медной проволоки, большие темные глаза, удлиненное лицо и стройную невысокую фигуру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Элеонора Аквитанская"/>
          <p:cNvPicPr/>
          <p:nvPr/>
        </p:nvPicPr>
        <p:blipFill>
          <a:blip r:embed="rId1"/>
          <a:stretch/>
        </p:blipFill>
        <p:spPr>
          <a:xfrm>
            <a:off x="4811760" y="333360"/>
            <a:ext cx="39402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8" name="Picture 9" descr="Louis_vii_and_alienor"/>
          <p:cNvPicPr/>
          <p:nvPr/>
        </p:nvPicPr>
        <p:blipFill>
          <a:blip r:embed="rId1"/>
          <a:stretch/>
        </p:blipFill>
        <p:spPr>
          <a:xfrm>
            <a:off x="471600" y="404640"/>
            <a:ext cx="5243400" cy="5604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Elen_ludvik7"/>
          <p:cNvPicPr/>
          <p:nvPr/>
        </p:nvPicPr>
        <p:blipFill>
          <a:blip r:embed="rId2"/>
          <a:stretch/>
        </p:blipFill>
        <p:spPr>
          <a:xfrm>
            <a:off x="5940360" y="476280"/>
            <a:ext cx="294948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259920"/>
            <a:ext cx="4537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 сравнению с блестящим аквитанским двором в Пуатье королевский Париж выглядел тогда серым и скучным. Династия Капетингов находилась на престоле уже полтора века, но до сих пор ничем не прославилась. Ее владения охватывали только Иль-де-Франс — «Французский остров» вокруг столицы, а на остальной территории хозяйничали крупные феодалы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 июле 1137 года в Бордо сыграли веселую свадьбу. Людовик был чуть старше, но казался совсем мальчишкой — худой, бледный, не по годам серьезный. Говорили, что он часами молится, носит под камзолом жесткую власяницу и мечтает отправиться в Святую Землю, чтобы воевать против неверных. 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После свадебной церемонии молодожены отправились в Париж, у ворот которого их встретило печальное известие: король Людовик неожиданно скончалс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Юному королю 17, прелестной королеве – 15…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eleanor-stand"/>
          <p:cNvPicPr/>
          <p:nvPr/>
        </p:nvPicPr>
        <p:blipFill>
          <a:blip r:embed="rId1"/>
          <a:stretch/>
        </p:blipFill>
        <p:spPr>
          <a:xfrm>
            <a:off x="4859280" y="2637000"/>
            <a:ext cx="2563920" cy="3962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Louis_VII_of_France"/>
          <p:cNvPicPr/>
          <p:nvPr/>
        </p:nvPicPr>
        <p:blipFill>
          <a:blip r:embed="rId2"/>
          <a:stretch/>
        </p:blipFill>
        <p:spPr>
          <a:xfrm>
            <a:off x="6659640" y="333360"/>
            <a:ext cx="21906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3T19:20:59Z</dcterms:created>
  <dc:creator>UserXP</dc:creator>
  <dc:description/>
  <dc:language>en-US</dc:language>
  <cp:lastModifiedBy>user15</cp:lastModifiedBy>
  <dcterms:modified xsi:type="dcterms:W3CDTF">2014-01-17T09:01:56Z</dcterms:modified>
  <cp:revision>6</cp:revision>
  <dc:subject/>
  <dc:title>Слайд 1</dc:title>
</cp:coreProperties>
</file>