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FC5E-8EB6-4FC8-8696-821A7579A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6B2-6F4B-4A39-998A-756BE2590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E4D-1E48-4CCF-B172-C9456C49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BA5C-4DF4-4560-80BB-3C08E511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4FDC-53E2-4FF3-9291-17C491E3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7E18-8832-4A36-AA2D-2882CCB53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90CA-AD1C-4040-B3B5-EA7630E3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C539D-5EBE-4973-8085-09AF7E7E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7CA5-402E-4DAB-9C27-8A70CD69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85623-93D9-4B20-B8F6-9532AA95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C675-CE01-4819-A9A0-00B3C003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E141-3AF6-4282-9033-2DC913D4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6CB13-2B7D-451A-B19B-B8D21755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D900-BFAD-4F2A-9E15-D22A7188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DFF08-7309-4ACD-A56F-D92A9FFB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C47F-143B-452C-8F7A-A0312213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66FE-55BE-409E-8657-93C9CD6D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8B43-A846-4D65-A8E3-EFE164A5C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E656-8C30-4315-A138-4150EB9C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976-0230-41F1-87D1-0A5415737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A8FA-9FE0-4234-B657-744EE980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3166-C337-4988-9630-D2252193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A7E-6F9F-4195-A15D-D177D56F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348C-0BE4-474C-88C6-CAE3A889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510E-8A4F-4D1C-9D7F-37643F17B7D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432B-6A64-4CFD-8583-7F6F770DF76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icasaweb.google.ru/seawave60/SgmNuD/photo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okcase.kz/wp-content/uploads/2008/11/alienora2-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1280" y="1523520"/>
            <a:ext cx="5292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АЛЬЕНОРА АКВИТАНСКА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akvitania1"/>
          <p:cNvPicPr/>
          <p:nvPr/>
        </p:nvPicPr>
        <p:blipFill>
          <a:blip r:embed="rId1"/>
          <a:stretch/>
        </p:blipFill>
        <p:spPr>
          <a:xfrm>
            <a:off x="179280" y="2781360"/>
            <a:ext cx="34578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Mariage de Louis VII et d’Aliénor d’Aquitaine, Grandes chroniques de France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9" descr="bio2_mari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femmesalienor"/>
          <p:cNvPicPr/>
          <p:nvPr/>
        </p:nvPicPr>
        <p:blipFill>
          <a:blip r:embed="rId1"/>
          <a:stretch/>
        </p:blipFill>
        <p:spPr>
          <a:xfrm>
            <a:off x="539640" y="333360"/>
            <a:ext cx="8425080" cy="5173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1042200" y="5516640"/>
            <a:ext cx="700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137 году Алиенора, герцогиня Аквитании, выходит замуж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овика VII. Венчание состоялось в Кафедральном собо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. Андрея города Борд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353844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лиенора собрала вокруг себя куртуазный двор, поэты-трубадуры восхваляли ее красот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ее дворе жила первая французская поэтесса Мария Французска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Алиенора  Аквитанская"/>
          <p:cNvPicPr/>
          <p:nvPr/>
        </p:nvPicPr>
        <p:blipFill>
          <a:blip r:embed="rId1"/>
          <a:stretch/>
        </p:blipFill>
        <p:spPr>
          <a:xfrm>
            <a:off x="3924360" y="404640"/>
            <a:ext cx="487044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32511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ростки Людовик и Элеонора стали правителями Франции. Брак получился не очень-то удачным, хотя они родили двух дочерей, собрали второй крестовый поход, вели мелкие вой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i_012"/>
          <p:cNvPicPr/>
          <p:nvPr/>
        </p:nvPicPr>
        <p:blipFill>
          <a:blip r:embed="rId1"/>
          <a:stretch/>
        </p:blipFill>
        <p:spPr>
          <a:xfrm>
            <a:off x="3873600" y="404640"/>
            <a:ext cx="4620960" cy="5726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3352680" y="6161040"/>
            <a:ext cx="5357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той Бернар проповеду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ст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овику VI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Saint%20Bernard"/>
          <p:cNvPicPr/>
          <p:nvPr/>
        </p:nvPicPr>
        <p:blipFill>
          <a:blip r:embed="rId1"/>
          <a:stretch/>
        </p:blipFill>
        <p:spPr>
          <a:xfrm>
            <a:off x="2430360" y="333360"/>
            <a:ext cx="42451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1147 году в поисках развлечений Алиенора отправилась вместе с мужем во II крестовый поход, поразив всех своей выдержкой и умением управляться с конем. Не раз она оказывалась в самой гуще сражения. Поход в шесть тысяч километров вовсе не был для нее скучным или утомительны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Arriv%C3%A9e_des_crois%C3%A9s_%C3%A0_Constantinople"/>
          <p:cNvPicPr/>
          <p:nvPr/>
        </p:nvPicPr>
        <p:blipFill>
          <a:blip r:embed="rId1"/>
          <a:stretch/>
        </p:blipFill>
        <p:spPr>
          <a:xfrm>
            <a:off x="4648320" y="2209680"/>
            <a:ext cx="4038480" cy="3311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6"/>
          <p:cNvSpPr/>
          <p:nvPr/>
        </p:nvSpPr>
        <p:spPr>
          <a:xfrm>
            <a:off x="4291200" y="5661000"/>
            <a:ext cx="42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rrivée_des_croisés_à_Constantin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LouisVII at Vezelay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Picture 3" descr="LouisVIIatVezelay"/>
          <p:cNvPicPr/>
          <p:nvPr/>
        </p:nvPicPr>
        <p:blipFill>
          <a:blip r:embed="rId1"/>
          <a:stretch/>
        </p:blipFill>
        <p:spPr>
          <a:xfrm>
            <a:off x="457200" y="1325520"/>
            <a:ext cx="4906800" cy="4314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impuls30"/>
          <p:cNvPicPr/>
          <p:nvPr/>
        </p:nvPicPr>
        <p:blipFill>
          <a:blip r:embed="rId2"/>
          <a:stretch/>
        </p:blipFill>
        <p:spPr>
          <a:xfrm>
            <a:off x="5651640" y="1413000"/>
            <a:ext cx="3132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коре после похода по настоянию Людовика VII церковь признала их брак недействительным и Алиенора к 30 годам становится свободной и богатой женщиной. земли «нежной Аквитании» существенно превышали по площади королевство самой Фран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SCAN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557360"/>
            <a:ext cx="3809880" cy="3209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2701080" y="6165720"/>
            <a:ext cx="60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Алиенора и Людовик VII молят Бога даровать им сы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ле развода бывшая королева Франции спешно отправилась в Пуатье. По пути в графство ее дважды пытались похитить феодалы, чтобы насильно заставить выйти за них замуж и завладеть ее огромными владениями. Но Алиенора благополучно добралась до намеченной цели, ускользнув от преследователей, а в 1152 году вышла замуж за Генриха Анжуйского. Было ему 19, а ей - 28 л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5 октября 1154 года он стал королем Англ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1484280"/>
            <a:ext cx="309564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Генрих II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лантагенет.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8" descr="481px-Henry_II_of_England_-_Illustration_from_Cassell%27s_History_of_England_-_Century_Edition_-_published_circa_1902"/>
          <p:cNvPicPr/>
          <p:nvPr/>
        </p:nvPicPr>
        <p:blipFill>
          <a:blip r:embed="rId1"/>
          <a:stretch/>
        </p:blipFill>
        <p:spPr>
          <a:xfrm>
            <a:off x="3924360" y="333360"/>
            <a:ext cx="47419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403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чь герцога, внучка первого трубадура Прованса, самая красивая женщина в Европе, жена двух королей, королева двух государств, участница II крестового похода, мать 11 дет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Алиенора  Аквитанска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87680" y="404640"/>
            <a:ext cx="44262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4038480" cy="603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1154 году Элеоноре было уже за тридцать, но это не помешало ей родить впоследствии английскому королю четырех сыновей, один из которых, Ричард Львиное Сердце, стал самым знаменитым рыцарем Западной Европы. А ведь среди обвинений, высказанных Людовиком VII, говорилось о неспособности королевы родить сына, наследника престо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Ричард Львиное Сердце"/>
          <p:cNvPicPr/>
          <p:nvPr/>
        </p:nvPicPr>
        <p:blipFill>
          <a:blip r:embed="rId1"/>
          <a:stretch/>
        </p:blipFill>
        <p:spPr>
          <a:xfrm>
            <a:off x="4788000" y="333360"/>
            <a:ext cx="408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ичард I Львиное Сердце - английский король из рода Плантагенетов, правивший в 1189—1199 гг. Сын Генриха II и Элеоноры Гиенско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richard"/>
          <p:cNvPicPr/>
          <p:nvPr/>
        </p:nvPicPr>
        <p:blipFill>
          <a:blip r:embed="rId1"/>
          <a:stretch/>
        </p:blipFill>
        <p:spPr>
          <a:xfrm>
            <a:off x="4643280" y="333360"/>
            <a:ext cx="3943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00720" y="333000"/>
            <a:ext cx="41860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ичард был королем неважным, за 10 лет власти на престоле Англии он побывал меньше года. Остальное время шатался по Европе и Святой Земле в поисках рыцарской славы. Целый год Ричард просидел в плену у австрийского герцога. В Англии тем временем правил принц Джон, нелюбовь к которому пронесли англичане через ве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ltext_2106220817"/>
          <p:cNvPicPr/>
          <p:nvPr/>
        </p:nvPicPr>
        <p:blipFill>
          <a:blip r:embed="rId1"/>
          <a:stretch/>
        </p:blipFill>
        <p:spPr>
          <a:xfrm>
            <a:off x="1042920" y="981000"/>
            <a:ext cx="2808360" cy="2892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richard_neustrashimiy_0"/>
          <p:cNvPicPr/>
          <p:nvPr/>
        </p:nvPicPr>
        <p:blipFill>
          <a:blip r:embed="rId2"/>
          <a:stretch/>
        </p:blipFill>
        <p:spPr>
          <a:xfrm>
            <a:off x="806400" y="260280"/>
            <a:ext cx="7547040" cy="58658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97080" y="623736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чард I Львиное Серд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114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ая Орлица принимала участие в делах мужа, вместе отправлялась с ним и на войну, и на празднества. Разлаженное королевство вновь оживало: стали собираться налоги, границы с опасным соперником – Шотландией – вновь стали строго охраняться. Хронист писал об этом времени: «Весь народ полюбил короля, ибо он вершил справедливость и установил мир»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ая королева вновь собрала кружок своих обожателей – поэтов и рыцаре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49693856"/>
          <p:cNvPicPr/>
          <p:nvPr/>
        </p:nvPicPr>
        <p:blipFill>
          <a:blip r:embed="rId1"/>
          <a:stretch/>
        </p:blipFill>
        <p:spPr>
          <a:xfrm>
            <a:off x="4978440" y="333360"/>
            <a:ext cx="4165560" cy="5256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4790520" y="5805360"/>
            <a:ext cx="39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лева Алиенора со сво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адшим сыном, королем Джо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о время долгого правления Генриха II противоречия между королевскими домами Англии и Франции вспыхивали каждый год. Правда, они очень напоминали большую семейную ссору между двумя мужьями герцогини Актавианской. Большинство историков сходятся во мнении, что именно в истории супружества Алиеноры стоит искать причины Столетней войны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1172 году Людовик VII встретился в Нормандии со своим семнадцатилетним зятем Генрихом, которого за два года до этого Генрих II короновал в качестве «молодого короля». Целью коронации было укрепить ситуацию в Англ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столюбивые устремления наследника умело поддерживал и направлял Людовик VII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ыновья неистовой Алиеноры захотели власти и устроили против отца бунт (1173г.), который, впрочем, провалился. Королеву, помогавшую сыновьям, Генрих посадил в крепость. Там и провела она 16 лет своей жизни 1173-1189 гг.) , была выпущена только в 1189г. своим сыном Ричардом I (IV) Львиное сердце. После этого Алиенора уехала во Францию, где провела остаток жизни. Привезла во Францию свою внучку Бланку Кастильскую (которая родила короля Людовика IX Святого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3644640"/>
            <a:ext cx="821844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иенора успела застать и смерть сына Ричарда апреле 1199 года, и начало царствования Принца Джона, (Иоанна Безземельного). Прозвище он получил благодаря тому, что восставшие бароны чуть не выгнали его из страны, а большую часть земель Англии успел завоевать король Франции Филипп еще при Ричар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рла королева 1 апреля 1204 года в Фонтевро. Было ей (невозможные в средние века) 82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Надгробие Алиеноры Аквитанской"/>
          <p:cNvPicPr/>
          <p:nvPr/>
        </p:nvPicPr>
        <p:blipFill>
          <a:blip r:embed="rId1"/>
          <a:stretch/>
        </p:blipFill>
        <p:spPr>
          <a:xfrm rot="5139000">
            <a:off x="2771280" y="-315720"/>
            <a:ext cx="3168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1249-87be8-30965005-m549x500"/>
          <p:cNvPicPr/>
          <p:nvPr/>
        </p:nvPicPr>
        <p:blipFill>
          <a:blip r:embed="rId1"/>
          <a:stretch/>
        </p:blipFill>
        <p:spPr>
          <a:xfrm>
            <a:off x="1084320" y="593640"/>
            <a:ext cx="6975360" cy="522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Надгробие Алиеноры Аквитанской"/>
          <p:cNvPicPr/>
          <p:nvPr/>
        </p:nvPicPr>
        <p:blipFill>
          <a:blip r:embed="rId2"/>
          <a:stretch/>
        </p:blipFill>
        <p:spPr>
          <a:xfrm>
            <a:off x="755640" y="620640"/>
            <a:ext cx="7848720" cy="5200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Надгробие Алиеноры Аквитанской"/>
          <p:cNvPicPr/>
          <p:nvPr/>
        </p:nvPicPr>
        <p:blipFill>
          <a:blip r:embed="rId3"/>
          <a:stretch/>
        </p:blipFill>
        <p:spPr>
          <a:xfrm>
            <a:off x="722160" y="371520"/>
            <a:ext cx="5185080" cy="6199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1043640" y="623736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дгробие Алиеноры Аквита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Алиенора  Аквитанская"/>
          <p:cNvPicPr/>
          <p:nvPr/>
        </p:nvPicPr>
        <p:blipFill>
          <a:blip r:embed="rId1"/>
          <a:stretch/>
        </p:blipFill>
        <p:spPr>
          <a:xfrm>
            <a:off x="5292720" y="333360"/>
            <a:ext cx="3672000" cy="3781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333360"/>
            <a:ext cx="5219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 короля Генриха с 1166 года появилась любовница – прекрасная Розамунда Клиффорд, английская роз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 1174 года Генрих, отправив некогда любимую жену в тюрьму за участие в восстании принцев, стал открыто демонстрировать свои отношения с Розмундой Клиффорд. Алиеноре предстояло провести в заключении долгих 16 лет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задолго до своей смерти в 1176 году Розамунда удалилась в монастырь Годстоу, в котором и была захоронена рядом с алтарем. История о лабиринте в Вудстоке, прозванным «Будуаром Розамунды», стала популярна в эпоху царствования Елизаветы I.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читается, что лабиринт в Вудстокском замке действительно существовал, но его появление связано с именем жены Генриха III Элеоноры. В годы Гражданской войны замок был разрушен, а на его месте ныне красуется знаменитый дворец Бленхей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омантичные англичане сочинили целую легенду о коварной Алиеноре и юной Розамунд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6633"/>
                </a:solidFill>
                <a:latin typeface="Garamond"/>
              </a:rPr>
              <a:t>Легенда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3671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короля Генриха II Плантагенета, правившего Англией в XII веке, была возлюбленная по имени Розамунда, происходившая из простой бедной семьи, но считавшаяся самой красивой женщиной в стра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Хьюз. "Прекрасная Розамунд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5" descr=" (520x700, 111Kb)"/>
          <p:cNvPicPr/>
          <p:nvPr/>
        </p:nvPicPr>
        <p:blipFill>
          <a:blip r:embed="rId1"/>
          <a:stretch/>
        </p:blipFill>
        <p:spPr>
          <a:xfrm>
            <a:off x="4140360" y="260280"/>
            <a:ext cx="4491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8744122_alienor"/>
          <p:cNvPicPr/>
          <p:nvPr/>
        </p:nvPicPr>
        <p:blipFill>
          <a:blip r:embed="rId1"/>
          <a:stretch/>
        </p:blipFill>
        <p:spPr>
          <a:xfrm>
            <a:off x="541440" y="514440"/>
            <a:ext cx="81342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енрих очень любил свою розу, но знал, что старая и злая жена не простит ему этой любви и очень боялся за свою фаворит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. Г. Россетти. «Прекрасная Розамунд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 (413x532, 131Kb)"/>
          <p:cNvPicPr/>
          <p:nvPr/>
        </p:nvPicPr>
        <p:blipFill>
          <a:blip r:embed="rId1"/>
          <a:stretch/>
        </p:blipFill>
        <p:spPr>
          <a:xfrm>
            <a:off x="4500720" y="333360"/>
            <a:ext cx="42782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41148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рих опасался козней своей коварной, жестокой и ревнивой жены королевы Алиеноры и приказал построить для Розамунды тайное убежище в Вудстоке, окружив его садом в виде непроходимого лабиринта, путь по которому знали только самые доверенные и преданные люд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уехал на войну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. У. Уотерхауз. "Честная Розамунда"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 (510x700, 61Kb)"/>
          <p:cNvPicPr/>
          <p:nvPr/>
        </p:nvPicPr>
        <p:blipFill>
          <a:blip r:embed="rId1"/>
          <a:stretch/>
        </p:blipFill>
        <p:spPr>
          <a:xfrm>
            <a:off x="4735440" y="333360"/>
            <a:ext cx="40370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38988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Алиенора узнала о тайной связи своего супруга и потратила немало сил, чтобы выведать путь к центру лабиринта. Следуя за шелковой нитью, она нашла Розамунду и предложила возлюбленной короля выбор - смерть от кинжала или я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. де Морган. "Королева Алиенора и Прекрасная Розамунда"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эв2 (540x698, 91Kb)"/>
          <p:cNvPicPr/>
          <p:nvPr/>
        </p:nvPicPr>
        <p:blipFill>
          <a:blip r:embed="rId1"/>
          <a:stretch/>
        </p:blipFill>
        <p:spPr>
          <a:xfrm>
            <a:off x="4356000" y="333360"/>
            <a:ext cx="448488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5778000"/>
            <a:ext cx="8496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амунда предпочла я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. К. Купер. "Королева Алиенора и Розамунда" 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 (680x532, 48Kb)"/>
          <p:cNvPicPr/>
          <p:nvPr/>
        </p:nvPicPr>
        <p:blipFill>
          <a:blip r:embed="rId1"/>
          <a:stretch/>
        </p:blipFill>
        <p:spPr>
          <a:xfrm>
            <a:off x="1619280" y="260280"/>
            <a:ext cx="69962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30956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озамунда была похоронена на небольшом островке между двумя рукавами Исиса, в церковном приходе Вулверкот, близ Оксфорда. На ее надгробии выбита причудливая эпитафия по-латыни:</a:t>
            </a:r>
            <a:br>
              <a:rPr sz="1500"/>
            </a:b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Здесь покоится не Роза Целомудрия, а Роза Красоты,</a:t>
            </a: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Но аромат ее испарился и сменился смрадом тления.</a:t>
            </a: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Дева умерла, но душа ее не обрела покой, и с тех пор бродит по вудстокскому замку, тревожа людей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губленная жизнь прекрасной женщины не могла не найти отклика у поэтов и художников, поэтому о ней не забыли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Э. Берн-Джонс. "Прекрасная Розамунда и королева Алиенора" 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3" descr=" (537x700, 59Kb)"/>
          <p:cNvPicPr/>
          <p:nvPr/>
        </p:nvPicPr>
        <p:blipFill>
          <a:blip r:embed="rId1"/>
          <a:stretch/>
        </p:blipFill>
        <p:spPr>
          <a:xfrm>
            <a:off x="3898800" y="260280"/>
            <a:ext cx="44244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33228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лва же сделала из Алиеноры настоящую Мессалину, наделив ее множеством любовников. В их число попал и маршал Англии лорд Пемброк, герой известной баллады «Королева Элинор», переведенной на русский язык Самуилом Маршак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 Ф. Сандис. "Королева Алиенора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 (522x700, 56Kb)"/>
          <p:cNvPicPr/>
          <p:nvPr/>
        </p:nvPicPr>
        <p:blipFill>
          <a:blip r:embed="rId1"/>
          <a:stretch/>
        </p:blipFill>
        <p:spPr>
          <a:xfrm>
            <a:off x="4033800" y="333360"/>
            <a:ext cx="42940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90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Гильом IX Трубаду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живой жене Филиппе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вшей ему двоих сыновей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льома X и Раймонда Антиохийского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бадур сделал хозяйкой в доме аквитанскую даму по имени Дангер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льом никого не боялся и не скрывал своей связ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даже поместил на щите изображение Дангеросы и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ловам хронист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тил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хотел бы иметь ее при себе в битвах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был при ней на пира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William_IX_of_Aquitaine_-_BN_MS_fr_12473"/>
          <p:cNvPicPr/>
          <p:nvPr/>
        </p:nvPicPr>
        <p:blipFill>
          <a:blip r:embed="rId1"/>
          <a:stretch/>
        </p:blipFill>
        <p:spPr>
          <a:xfrm>
            <a:off x="4959360" y="404640"/>
            <a:ext cx="39258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Picture 6" descr="10"/>
          <p:cNvPicPr/>
          <p:nvPr/>
        </p:nvPicPr>
        <p:blipFill>
          <a:blip r:embed="rId1"/>
          <a:stretch/>
        </p:blipFill>
        <p:spPr>
          <a:xfrm>
            <a:off x="395280" y="260280"/>
            <a:ext cx="3541680" cy="6597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19640" y="333000"/>
            <a:ext cx="547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рший сын Трубадура Гильом X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ступился за мать и но войну с отцом проиграл. Гильом IX захватил сына в плен и заставил его жениться на...17-летней дочери Дангеросы по имени Аэнор (Альенора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alienu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другой или особенны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!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див ему троих детей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герос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коре умер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1137 году и Гильом Х умер из-за пищевого отравления во время паломничества, однако успел отдать распоряжения на случай смерти. В Аквитании хватало отчаянных феодалов, мало уступавших в беззаконии и беспутстве Гильому Трубадуру , и Алиенора в случае смерти отца оказывалась в опасном положен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404640"/>
            <a:ext cx="3970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 опеку Гильом Х передал своему сюзерену, королю Франции Людовику VI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должен был заботиться о ней до тех пор, пока герцогиня не выйдет замуж. В то время король был тяжко болен дизентерией, но оставался в здравом рассудке. Он быстро подыскал подопечной выгодную партию: своего сына и наследника. По обычаю, невеста должна была увидеть жениха впервые в день свадьб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421px-Louis_VII_le_Jeune"/>
          <p:cNvPicPr/>
          <p:nvPr/>
        </p:nvPicPr>
        <p:blipFill>
          <a:blip r:embed="rId1"/>
          <a:stretch/>
        </p:blipFill>
        <p:spPr>
          <a:xfrm>
            <a:off x="4427640" y="333360"/>
            <a:ext cx="2906640" cy="4141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5"/>
          <p:cNvSpPr/>
          <p:nvPr/>
        </p:nvSpPr>
        <p:spPr>
          <a:xfrm>
            <a:off x="5509080" y="616572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ов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4" descr="Louis7lejeune"/>
          <p:cNvPicPr/>
          <p:nvPr/>
        </p:nvPicPr>
        <p:blipFill>
          <a:blip r:embed="rId2"/>
          <a:stretch/>
        </p:blipFill>
        <p:spPr>
          <a:xfrm>
            <a:off x="6877080" y="2133720"/>
            <a:ext cx="21081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Таким образом, в возрасте 15 лет Альенора стала герцогиней Аквитании (1137-1204 гг.), графиней Пуатье (1137-1204 гг.) и самой желанной невестой Европы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Ей принадлежало герцогство Аквитания, или Гиень, занимавшее обширные территории на юго-западе Франции. Местные жители и не считали себя французами: у них был свой язык, своя культура, во многом перенятая из античных традиций, под итальянским, арабским и еврейским влиянием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XI веке все это породило изысканную культуру трубадуров, которые сочиняли стихи на родном языке, воспевая красоту прекрасных донн. Первым из трубадуров считался дед Алиеноры Гильом IX.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этой девушке сочетались знатность, богатство, красота, мудрость и ум.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же в пятнадцать лет о ее красоте распевали все придворные поэты, они называли ее «золотая орлица» («aigle en or» – очень созвучно с Алиенора)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 описаниям, Альенора Аквитанская имела густые волосы цвета медной проволоки, большие темные глаза, удлиненное лицо и стройную невысокую фигуру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Элеонора Аквитанская"/>
          <p:cNvPicPr/>
          <p:nvPr/>
        </p:nvPicPr>
        <p:blipFill>
          <a:blip r:embed="rId1"/>
          <a:stretch/>
        </p:blipFill>
        <p:spPr>
          <a:xfrm>
            <a:off x="4811760" y="333360"/>
            <a:ext cx="3940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Picture 9" descr="Louis_vii_and_alienor"/>
          <p:cNvPicPr/>
          <p:nvPr/>
        </p:nvPicPr>
        <p:blipFill>
          <a:blip r:embed="rId1"/>
          <a:stretch/>
        </p:blipFill>
        <p:spPr>
          <a:xfrm>
            <a:off x="471600" y="404640"/>
            <a:ext cx="5243400" cy="560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Elen_ludvik7"/>
          <p:cNvPicPr/>
          <p:nvPr/>
        </p:nvPicPr>
        <p:blipFill>
          <a:blip r:embed="rId2"/>
          <a:stretch/>
        </p:blipFill>
        <p:spPr>
          <a:xfrm>
            <a:off x="5940360" y="476280"/>
            <a:ext cx="294948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4537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 сравнению с блестящим аквитанским двором в Пуатье королевский Париж выглядел тогда серым и скучным. Династия Капетингов находилась на престоле уже полтора века, но до сих пор ничем не прославилась. Ее владения охватывали только Иль-де-Франс — «Французский остров» вокруг столицы, а на остальной территории хозяйничали крупные феодал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июле 1137 года в Бордо сыграли веселую свадьбу. Людовик был чуть старше, но казался совсем мальчишкой — худой, бледный, не по годам серьезный. Говорили, что он часами молится, носит под камзолом жесткую власяницу и мечтает отправиться в Святую Землю, чтобы воевать против неверных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сле свадебной церемонии молодожены отправились в Париж, у ворот которого их встретило печальное известие: король Людовик неожиданно скончалс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Юному королю 17, прелестной королеве – 15…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eleanor-stand"/>
          <p:cNvPicPr/>
          <p:nvPr/>
        </p:nvPicPr>
        <p:blipFill>
          <a:blip r:embed="rId1"/>
          <a:stretch/>
        </p:blipFill>
        <p:spPr>
          <a:xfrm>
            <a:off x="4859280" y="2637000"/>
            <a:ext cx="2563920" cy="3962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Louis_VII_of_France"/>
          <p:cNvPicPr/>
          <p:nvPr/>
        </p:nvPicPr>
        <p:blipFill>
          <a:blip r:embed="rId2"/>
          <a:stretch/>
        </p:blipFill>
        <p:spPr>
          <a:xfrm>
            <a:off x="6659640" y="333360"/>
            <a:ext cx="21906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9:20:59Z</dcterms:created>
  <dc:creator>UserXP</dc:creator>
  <dc:description/>
  <dc:language>en-US</dc:language>
  <cp:lastModifiedBy>user15</cp:lastModifiedBy>
  <dcterms:modified xsi:type="dcterms:W3CDTF">2014-01-17T09:01:56Z</dcterms:modified>
  <cp:revision>6</cp:revision>
  <dc:subject/>
  <dc:title>Слайд 1</dc:title>
</cp:coreProperties>
</file>