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1E2C-ABE7-425F-9EE8-D7881B97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37B9-6EC8-4344-A80E-A1A4F811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D51-7724-454D-B3F0-BD4CC2418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5D4C-2448-4EF6-A8A7-13828778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04E-8101-4F97-90EA-8809E5827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0546-0CE1-4DF0-942B-2F2205D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1AE9-2A02-460F-89F6-DD85376B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C1A-25BB-4D3F-AF03-A83EAEF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567-975E-40BB-8D9C-39C4F779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39FC-D116-41F4-94DC-422AB385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92DB-B6DA-4083-9F76-40671939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7608-5DD3-40AD-AB00-0B183C86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DB52-D939-440E-B89D-47C5C5543D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храм"/>
          <p:cNvPicPr/>
          <p:nvPr/>
        </p:nvPicPr>
        <p:blipFill>
          <a:blip r:embed="rId1"/>
          <a:stretch/>
        </p:blipFill>
        <p:spPr>
          <a:xfrm>
            <a:off x="5651640" y="4149720"/>
            <a:ext cx="3168360" cy="2016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2" name="Picture 5" descr="Красная площадь"/>
          <p:cNvPicPr/>
          <p:nvPr/>
        </p:nvPicPr>
        <p:blipFill>
          <a:blip r:embed="rId2"/>
          <a:stretch/>
        </p:blipFill>
        <p:spPr>
          <a:xfrm>
            <a:off x="179280" y="3824280"/>
            <a:ext cx="5043600" cy="2666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2000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Государственного флага Российской Федер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ИМПЕРИИ В XVIII ве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43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I, уделявший немалое внимание геральдике, короны орла заменяет императорскими и дает орлу цепь ордена Святого Андрея Первозванног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727 всадник на щитке орла в государственных документах называется Георгием Победоносц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герб7"/>
          <p:cNvPicPr/>
          <p:nvPr/>
        </p:nvPicPr>
        <p:blipFill>
          <a:blip r:embed="rId1"/>
          <a:stretch/>
        </p:blipFill>
        <p:spPr>
          <a:xfrm>
            <a:off x="324000" y="148428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ff"/>
            </a:gs>
            <a:gs pos="100000">
              <a:srgbClr val="ff7c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ИМПЕРИИ ПРИ ПАВ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герб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605480" y="1844640"/>
            <a:ext cx="4535280" cy="4753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446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Екатерине I утверждаются цвета для изображения герба: орел должен быть черным на золотом поле, всадник красный на белом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 Анны Иоанновны орел приобретает особенно мощный, исполненный достоинства размах крыльев и оса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творцом на большой государственной печати был известный швейцарский гравер Иоганн Гендлингер, который как раз перед приездом в Россию выгравировал шведскую государственную печ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ь Гендлингера служила вплоть до Николая I. Но Павел I делал попытку видоизменить гер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вержденном им рисунке титульные гербы размещаются не на крыльях орла, а на большом щитке, разделенном на сорок три малых щитка. Появляется сень (мантия), щитодержатели в виде фигур ангелов и др., в символику вводится мальтийский крест (см. Иоанни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неосуществленный Павловский проект стал основой для видоизменений второй половины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1014480"/>
            <a:ext cx="4824360" cy="4784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ИМПЕРИИ В СЕРЕДИНЕ XIX 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88000" y="979560"/>
            <a:ext cx="435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лександре I было восстановлено петровское изображение орла, но с крыльями, не слегка приподнятыми кверху, а простертыми горизон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о воспринято отрицательно, как подражание всему французскому (подобного орла ввел в свой герб Наполеон Бонапа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овации допускались лишь при изображении на монетах, гербовой бумаге, мундирных пуговицах и др., а государственная печать оставалось неиз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79280" y="5796000"/>
            <a:ext cx="504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ередине XIX согласно европейским правилам геральдики «ездец» на щите был повернут влево, а на крыльях орла появились восемь титульных гер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И В 1917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537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Февральской революции в качестве герба был утвержден рисунок худож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Я. Билибина, на котором орел был лишен всех аксессуаров, в том числе и щитка с Георгием Победонос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547640" y="3373560"/>
            <a:ext cx="3600720" cy="3311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19640" y="5516640"/>
            <a:ext cx="316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Федерации в 199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герб2"/>
          <p:cNvPicPr/>
          <p:nvPr/>
        </p:nvPicPr>
        <p:blipFill>
          <a:blip r:embed="rId2"/>
          <a:stretch/>
        </p:blipFill>
        <p:spPr>
          <a:xfrm>
            <a:off x="7920" y="0"/>
            <a:ext cx="3240000" cy="295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герб3"/>
          <p:cNvPicPr/>
          <p:nvPr/>
        </p:nvPicPr>
        <p:blipFill>
          <a:blip r:embed="rId3"/>
          <a:stretch/>
        </p:blipFill>
        <p:spPr>
          <a:xfrm>
            <a:off x="5398920" y="-23760"/>
            <a:ext cx="3745080" cy="3510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3203640" y="189000"/>
            <a:ext cx="2987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СФ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443640" y="3573360"/>
            <a:ext cx="23050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40360" y="333360"/>
            <a:ext cx="4773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851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временной России в качестве герба с изменениями принято изображение времен Александра 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Федеральном конституционном законе «О государственном гербе Российской Федерации», принятом Государственной думой 8 декабря 2000, дается следующее описание государственного герб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ел увенчан двумя малыми коронами и — над ними — одной большой короной, соединенными лен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авой лапе орла — скипетр, в левой — держ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груди орла, в красном щите, — серебряный всадник в синем плаще на серебряном коне, поражающий серебряным копьем черного опрокинутого навзничь и попранного конем драко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герб12"/>
          <p:cNvPicPr/>
          <p:nvPr/>
        </p:nvPicPr>
        <p:blipFill>
          <a:blip r:embed="rId1"/>
          <a:stretch/>
        </p:blipFill>
        <p:spPr>
          <a:xfrm>
            <a:off x="3924360" y="112536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720" y="4221000"/>
            <a:ext cx="260352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Владимирович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26920" y="404280"/>
            <a:ext cx="36068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2000 государственная комиссия рекомендовала утвердить в качестве гимна России мелодию Александрова А.В. на слова С. В. Михал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декабря 2000 президент В. В. Путин подписал закон о Государственном гимне, а 30 декабря утвердил своим указом новый тек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. Михалкова (автор трех текстов гимнов — 1944, 1977, 200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новый гимн прозвучал 1 января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2001 текст утвержден Государственной Ду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Путин В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43640" y="1413000"/>
            <a:ext cx="2448000" cy="2593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>
            <a:grayscl/>
            <a:lum contrast="24000"/>
          </a:blip>
          <a:stretch/>
        </p:blipFill>
        <p:spPr>
          <a:xfrm>
            <a:off x="611280" y="350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1280" y="549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/>
          <p:cNvSpPr/>
          <p:nvPr/>
        </p:nvSpPr>
        <p:spPr>
          <a:xfrm>
            <a:off x="546480" y="2708280"/>
            <a:ext cx="202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658800" y="56134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90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имн  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– священная наша дер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– любимая наша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чая воля, великая сла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ё достоянье на все време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2"/>
          <p:cNvSpPr/>
          <p:nvPr/>
        </p:nvSpPr>
        <p:spPr>
          <a:xfrm>
            <a:off x="179280" y="260280"/>
            <a:ext cx="8785440" cy="20372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179280" y="692280"/>
            <a:ext cx="878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Россия - Родина моя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флаг"/>
          <p:cNvPicPr/>
          <p:nvPr/>
        </p:nvPicPr>
        <p:blipFill>
          <a:blip r:embed="rId2"/>
          <a:srcRect l="8474" t="22421" r="7051" b="27606"/>
          <a:stretch/>
        </p:blipFill>
        <p:spPr>
          <a:xfrm>
            <a:off x="1835280" y="3284640"/>
            <a:ext cx="5472000" cy="2808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ГОСУД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имвол государственной власти, олицетворяет суверенитет государства. Описание государственного флага, как правило, фиксируется в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оссийской Федерации представляет собой прямоугольное полотнище из трех равновеликих полос: верхняя — белого, средняя — синего и нижняя — красного цв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оссийской Федерации поднимается на зданиях верховных органов государственной власти и управления, посольств, консульств Российской Федерации за рубежом, судах, плавающих в открытом море и в территориальных водах иностранных государств,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ГОСУД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5d210герб1"/>
          <p:cNvPicPr/>
          <p:nvPr/>
        </p:nvPicPr>
        <p:blipFill>
          <a:blip r:embed="rId1"/>
          <a:stretch/>
        </p:blipFill>
        <p:spPr>
          <a:xfrm>
            <a:off x="285840" y="2637000"/>
            <a:ext cx="5753160" cy="3816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2202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ая эмблема государства, изображаемая на печатях, бланках государственных органов, денежных знаках и т. п. Часто является составной частью государственного фл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ерб принимается особым законом или описывается в конституци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084720" y="5443560"/>
            <a:ext cx="295128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 anchorCtr="1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х монархи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е XX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2276280"/>
            <a:ext cx="2556000" cy="37875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1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ербе         Российской империи рубежа XIX и XX веков представлены почти все элементы полного гер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герб"/>
          <p:cNvPicPr/>
          <p:nvPr/>
        </p:nvPicPr>
        <p:blipFill>
          <a:blip r:embed="rId1"/>
          <a:stretch/>
        </p:blipFill>
        <p:spPr>
          <a:xfrm>
            <a:off x="2701800" y="4680"/>
            <a:ext cx="64422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ГОСУДАРСТВЕННЫЙ ГЕР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17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м государстве герб появился после избавления от монголо-татарского ига и принятия Иваном III титула «Государя Всея Рус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двуглавого орла на государственной печати впервые появляется в 1497, но канон его изображения не был отработ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асилии III у орла меняется форма корон — они теперь не западные, королевские, а русские, цар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герб4"/>
          <p:cNvPicPr/>
          <p:nvPr/>
        </p:nvPicPr>
        <p:blipFill>
          <a:blip r:embed="rId1"/>
          <a:stretch/>
        </p:blipFill>
        <p:spPr>
          <a:xfrm>
            <a:off x="4535640" y="2681280"/>
            <a:ext cx="4608360" cy="4176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4859280" y="2276640"/>
            <a:ext cx="4105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Московского царства при Иване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50000">
              <a:srgbClr val="ffffff"/>
            </a:gs>
            <a:gs pos="100000">
              <a:srgbClr val="d6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8567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ГО ГОСУДАРСТВА В ЦАРСТВОВАНИЕ ИВАНА IV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4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39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ване Грозном на печатях изображение двуглавого орла соединяется с древним княжеским символом Москвы — всадником, поражающим зм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а печатях Ивана IV на оборотной стороне печатей часто изображается единорог, который, видимо, был личным символом или гербом ц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льшой государственной печати Ивана IV изображение орла окружают фигуры, символизирующие русские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ГО ГОСУДАРСТВА В НАЧАЛЕ XVII 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475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ление царя Федора Ивановича между коронованными головами двуглавого орла появляется знак страстей Христовых: так называемый голгофский 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ГО ГОСУДАРСТВА В ЦАРСТВОВАНИЕ  АЛЕКСЕЯ МИХАЙЛОВИЧ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68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ая разработка канона герба начинается при Алексее Михайлови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ерб были введены три короны, представляющие три покоренных царства — Казанское, Астраханское и Сибирское, с 1654 у орла в лапах появляются скипетр и держ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арствование Алексея Михайловича орел стал изображаться с распростертыми крыл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40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28:31Z</dcterms:created>
  <dc:creator>User</dc:creator>
  <dc:description/>
  <dc:language>en-US</dc:language>
  <cp:lastModifiedBy>1</cp:lastModifiedBy>
  <dcterms:modified xsi:type="dcterms:W3CDTF">2018-08-14T22:26:28Z</dcterms:modified>
  <cp:revision>30</cp:revision>
  <dc:subject/>
  <dc:title>День российского флага и герба</dc:title>
</cp:coreProperties>
</file>