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5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A525-2D40-4527-8D52-7BE60B09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8596-819D-48F8-AF68-CC90CAD7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6964-7145-4699-A571-B1DCBF160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AB28-DFD9-4554-B49F-34AF224F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2028-87AF-4748-ADDB-502E1CBCE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FA4F-F768-4762-8F23-36CDFF48D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FAFA-0BB7-4117-8626-39DDF3D4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ED4F-237D-4C95-AED5-A9FD63C7E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EDF8-26C9-4927-B044-472E985C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D771-0E06-4180-B199-9B28BA1E2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495-5BFB-4410-8DC1-D1CE12C5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E280-D4E0-4912-8E57-719BDB1B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86727-27AE-4F02-9DBF-CB13E09950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храм"/>
          <p:cNvPicPr/>
          <p:nvPr/>
        </p:nvPicPr>
        <p:blipFill>
          <a:blip r:embed="rId1"/>
          <a:stretch/>
        </p:blipFill>
        <p:spPr>
          <a:xfrm>
            <a:off x="5651640" y="4149720"/>
            <a:ext cx="3168360" cy="2016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pic>
        <p:nvPicPr>
          <p:cNvPr id="42" name="Picture 5" descr="Красная площадь"/>
          <p:cNvPicPr/>
          <p:nvPr/>
        </p:nvPicPr>
        <p:blipFill>
          <a:blip r:embed="rId2"/>
          <a:stretch/>
        </p:blipFill>
        <p:spPr>
          <a:xfrm>
            <a:off x="179280" y="3824280"/>
            <a:ext cx="5043600" cy="26668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920000" cy="29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Государственного флага Российской Федерац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РОССИЙСКОЙ ИМПЕРИИ В XVIII век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716000" y="1483920"/>
            <a:ext cx="42433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р I, уделявший немалое внимание геральдике, короны орла заменяет императорскими и дает орлу цепь ордена Святого Андрея Первозванного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1727 всадник на щитке орла в государственных документах называется Георгием Победоносце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герб7"/>
          <p:cNvPicPr/>
          <p:nvPr/>
        </p:nvPicPr>
        <p:blipFill>
          <a:blip r:embed="rId1"/>
          <a:stretch/>
        </p:blipFill>
        <p:spPr>
          <a:xfrm>
            <a:off x="324000" y="1484280"/>
            <a:ext cx="4248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50000">
              <a:srgbClr val="ffffff"/>
            </a:gs>
            <a:gs pos="100000">
              <a:srgbClr val="ff7c8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569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РОССИЙСКОЙ ИМПЕРИИ ПРИ ПАВЛЕ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герб8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4605480" y="1844640"/>
            <a:ext cx="4535280" cy="47530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620640"/>
            <a:ext cx="446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Екатерине I утверждаются цвета для изображения герба: орел должен быть черным на золотом поле, всадник красный на белом по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времен Анны Иоанновны орел приобретает особенно мощный, исполненный достоинства размах крыльев и осанк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творцом на большой государственной печати был известный швейцарский гравер Иоганн Гендлингер, который как раз перед приездом в Россию выгравировал шведскую государственную печ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чать Гендлингера служила вплоть до Николая I. Но Павел I делал попытку видоизменить гер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твержденном им рисунке титульные гербы размещаются не на крыльях орла, а на большом щитке, разделенном на сорок три малых щитка. Появляется сень (мантия), щитодержатели в виде фигур ангелов и др., в символику вводится мальтийский крест (см. Иоанниты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0760" indent="-3207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неосуществленный Павловский проект стал основой для видоизменений второй половины 19 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0" y="1014480"/>
            <a:ext cx="4824360" cy="478476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РОССИЙСКОЙ ИМПЕРИИ В СЕРЕДИНЕ XIX ве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88000" y="979560"/>
            <a:ext cx="4356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Александре I было восстановлено петровское изображение орла, но с крыльями, не слегка приподнятыми кверху, а простертыми горизонталь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было воспринято отрицательно, как подражание всему французскому (подобного орла ввел в свой герб Наполеон Бонапарт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новации допускались лишь при изображении на монетах, гербовой бумаге, мундирных пуговицах и др., а государственная печать оставалось неизмен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179280" y="5796000"/>
            <a:ext cx="504036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середине XIX согласно европейским правилам геральдики «ездец» на щите был повернут влево, а на крыльях орла появились восемь титульных герб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cc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50560" y="115920"/>
            <a:ext cx="8713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РОССИИ В 1917 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1052640"/>
            <a:ext cx="453708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Февральской революции в качестве герба был утвержден рисунок художн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. Я. Билибина, на котором орел был лишен всех аксессуаров, в том числе и щитка с Георгием Победоносц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4859280" y="12682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5e9e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1547640" y="3373560"/>
            <a:ext cx="3600720" cy="3311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219640" y="5516640"/>
            <a:ext cx="3168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Российской Федерации в 1993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9" descr="герб2"/>
          <p:cNvPicPr/>
          <p:nvPr/>
        </p:nvPicPr>
        <p:blipFill>
          <a:blip r:embed="rId2"/>
          <a:stretch/>
        </p:blipFill>
        <p:spPr>
          <a:xfrm>
            <a:off x="7920" y="0"/>
            <a:ext cx="3240000" cy="2951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герб3"/>
          <p:cNvPicPr/>
          <p:nvPr/>
        </p:nvPicPr>
        <p:blipFill>
          <a:blip r:embed="rId3"/>
          <a:stretch/>
        </p:blipFill>
        <p:spPr>
          <a:xfrm>
            <a:off x="5398920" y="-23760"/>
            <a:ext cx="3745080" cy="3510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1"/>
          <p:cNvSpPr/>
          <p:nvPr/>
        </p:nvSpPr>
        <p:spPr>
          <a:xfrm>
            <a:off x="3203640" y="189000"/>
            <a:ext cx="2987640" cy="6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РСФС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6443640" y="3573360"/>
            <a:ext cx="2305080" cy="7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ССС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8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50000">
              <a:srgbClr val="ffffcc"/>
            </a:gs>
            <a:gs pos="100000">
              <a:srgbClr val="cc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140360" y="333360"/>
            <a:ext cx="4773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-360"/>
            <a:ext cx="38512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>
              <a:lnSpc>
                <a:spcPct val="80000"/>
              </a:lnSpc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Century Schoolbook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современной России в качестве герба с изменениями принято изображение времен Александра I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Федеральном конституционном законе «О государственном гербе Российской Федерации», принятом Государственной думой 8 декабря 2000, дается следующее описание государственного герба РФ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Государственный герб Российской Федерации представляет собой четырехугольный, с закругленными нижними углами, заостренный в оконечности красный геральдический щит с золотым двуглавым орлом, поднявшим вверх распущенные крыль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рел увенчан двумя малыми коронами и — над ними — одной большой короной, соединенными лент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правой лапе орла — скипетр, в левой — держа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груди орла, в красном щите, — серебряный всадник в синем плаще на серебряном коне, поражающий серебряным копьем черного опрокинутого навзничь и попранного конем дракон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герб12"/>
          <p:cNvPicPr/>
          <p:nvPr/>
        </p:nvPicPr>
        <p:blipFill>
          <a:blip r:embed="rId1"/>
          <a:stretch/>
        </p:blipFill>
        <p:spPr>
          <a:xfrm>
            <a:off x="3924360" y="1125360"/>
            <a:ext cx="50418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ccffff"/>
            </a:gs>
            <a:gs pos="100000">
              <a:srgbClr val="ff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00720" y="4221000"/>
            <a:ext cx="2603520" cy="7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ИН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Владимирович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26920" y="404280"/>
            <a:ext cx="360684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декабре 2000 государственная комиссия рекомендовала утвердить в качестве гимна России мелодию Александрова А.В. на слова С. В. Михалко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декабря 2000 президент В. В. Путин подписал закон о Государственном гимне, а 30 декабря утвердил своим указом новый текс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В. Михалкова (автор трех текстов гимнов — 1944, 1977, 200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первые новый гимн прозвучал 1 января 200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арте 2001 текст утвержден Государственной Ду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Путин В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443640" y="1413000"/>
            <a:ext cx="2448000" cy="2593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9" descr=""/>
          <p:cNvPicPr/>
          <p:nvPr/>
        </p:nvPicPr>
        <p:blipFill>
          <a:blip r:embed="rId2">
            <a:grayscl/>
            <a:lum contrast="24000"/>
          </a:blip>
          <a:stretch/>
        </p:blipFill>
        <p:spPr>
          <a:xfrm>
            <a:off x="611280" y="350028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0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611280" y="54936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2"/>
          <p:cNvSpPr/>
          <p:nvPr/>
        </p:nvSpPr>
        <p:spPr>
          <a:xfrm>
            <a:off x="546480" y="2708280"/>
            <a:ext cx="2024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андров А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658800" y="561348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халков С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90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гимн   Росс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8930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пев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– священная наша держ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я – любимая наша стра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чая воля, великая слава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ё достоянье на все времен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пл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ься, Отечество наше свободно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атских народов союз веково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ками данная мудрость народная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ься, страна! Мы гордимся тобой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2"/>
          <p:cNvSpPr/>
          <p:nvPr/>
        </p:nvSpPr>
        <p:spPr>
          <a:xfrm>
            <a:off x="179280" y="260280"/>
            <a:ext cx="8785440" cy="203724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WordArt 8"/>
          <p:cNvSpPr txBox="1"/>
          <p:nvPr/>
        </p:nvSpPr>
        <p:spPr>
          <a:xfrm>
            <a:off x="179280" y="692280"/>
            <a:ext cx="8785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Россия - Родина моя!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6" descr="флаг"/>
          <p:cNvPicPr/>
          <p:nvPr/>
        </p:nvPicPr>
        <p:blipFill>
          <a:blip r:embed="rId2"/>
          <a:srcRect l="8474" t="22421" r="7051" b="27606"/>
          <a:stretch/>
        </p:blipFill>
        <p:spPr>
          <a:xfrm>
            <a:off x="1835280" y="3284640"/>
            <a:ext cx="5472000" cy="28083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6280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флаг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Г ГОСУДАРСТВ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785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lnSpc>
                <a:spcPct val="130000"/>
              </a:lnSpc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альный символ государственной власти, олицетворяет суверенитет государства. Описание государственного флага, как правило, фиксируется в Конститу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130000"/>
              </a:lnSpc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флаг Российской Федерации представляет собой прямоугольное полотнище из трех равновеликих полос: верхняя — белого, средняя — синего и нижняя — красного цве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4440" indent="-334440">
              <a:lnSpc>
                <a:spcPct val="130000"/>
              </a:lnSpc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флаг Российской Федерации поднимается на зданиях верховных органов государственной власти и управления, посольств, консульств Российской Федерации за рубежом, судах, плавающих в открытом море и в территориальных водах иностранных государств,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ГОСУДАРСТВ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b5d210герб1"/>
          <p:cNvPicPr/>
          <p:nvPr/>
        </p:nvPicPr>
        <p:blipFill>
          <a:blip r:embed="rId1"/>
          <a:stretch/>
        </p:blipFill>
        <p:spPr>
          <a:xfrm>
            <a:off x="285840" y="2637000"/>
            <a:ext cx="5753160" cy="3816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2202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ициальная эмблема государства, изображаемая на печатях, бланках государственных органов, денежных знаках и т. п. Часто является составной частью государственного фла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ый герб принимается особым законом или описывается в конституции государ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6084720" y="5443560"/>
            <a:ext cx="2951280" cy="13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 anchorCtr="1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вропейских монархий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е XX 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08000" y="2276280"/>
            <a:ext cx="2556000" cy="37875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3412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гербе         Российской империи рубежа XIX и XX веков представлены почти все элементы полного гер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герб"/>
          <p:cNvPicPr/>
          <p:nvPr/>
        </p:nvPicPr>
        <p:blipFill>
          <a:blip r:embed="rId1"/>
          <a:stretch/>
        </p:blipFill>
        <p:spPr>
          <a:xfrm>
            <a:off x="2701800" y="4680"/>
            <a:ext cx="644220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50000">
              <a:srgbClr val="ffffff"/>
            </a:gs>
            <a:gs pos="100000">
              <a:srgbClr val="00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360" y="475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ИЙ ГОСУДАРСТВЕННЫЙ ГЕРБ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125360"/>
            <a:ext cx="417672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осковском государстве герб появился после избавления от монголо-татарского ига и принятия Иваном III титула «Государя Всея Рус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е двуглавого орла на государственной печати впервые появляется в 1497, но канон его изображения не был отработа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1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7160" indent="-31716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асилии III у орла меняется форма корон — они теперь не западные, королевские, а русские, царск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герб4"/>
          <p:cNvPicPr/>
          <p:nvPr/>
        </p:nvPicPr>
        <p:blipFill>
          <a:blip r:embed="rId1"/>
          <a:stretch/>
        </p:blipFill>
        <p:spPr>
          <a:xfrm>
            <a:off x="4535640" y="2681280"/>
            <a:ext cx="4608360" cy="41767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9"/>
          <p:cNvSpPr/>
          <p:nvPr/>
        </p:nvSpPr>
        <p:spPr>
          <a:xfrm>
            <a:off x="4859280" y="2276640"/>
            <a:ext cx="4105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Московского царства при Иване I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0093"/>
            </a:gs>
            <a:gs pos="50000">
              <a:srgbClr val="ffffff"/>
            </a:gs>
            <a:gs pos="100000">
              <a:srgbClr val="d6009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333360"/>
            <a:ext cx="885672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РОССИЙСКОГО ГОСУДАРСТВА В ЦАРСТВОВАНИЕ ИВАНА IV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417492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0" y="1125000"/>
            <a:ext cx="4392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Иване Грозном на печатях изображение двуглавого орла соединяется с древним княжеским символом Москвы — всадником, поражающим зме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на печатях Ивана IV на оборотной стороне печатей часто изображается единорог, который, видимо, был личным символом или гербом цар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6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7600" indent="-327600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ольшой государственной печати Ивана IV изображение орла окружают фигуры, символизирующие русские зем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РОССИЙСКОГО ГОСУДАРСТВА В НАЧАЛЕ XVII ве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4038480" cy="475308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439236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вление царя Федора Ивановича между коронованными головами двуглавого орла появляется знак страстей Христовых: так называемый голгофский кре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fffff"/>
            </a:gs>
            <a:gs pos="100000">
              <a:srgbClr val="008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РОССИЙСКОГО ГОСУДАРСТВА В ЦАРСТВОВАНИЕ  АЛЕКСЕЯ МИХАЙЛОВИЧ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46800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ьезная разработка канона герба начинается при Алексее Михайлович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ерб были введены три короны, представляющие три покоренных царства — Казанское, Астраханское и Сибирское, с 1654 у орла в лапах появляются скипетр и держа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царствование Алексея Михайловича орел стал изображаться с распростертыми крылья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42400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2:28:31Z</dcterms:created>
  <dc:creator>User</dc:creator>
  <dc:description/>
  <dc:language>en-US</dc:language>
  <cp:lastModifiedBy>1</cp:lastModifiedBy>
  <dcterms:modified xsi:type="dcterms:W3CDTF">2018-08-14T22:26:28Z</dcterms:modified>
  <cp:revision>30</cp:revision>
  <dc:subject/>
  <dc:title>День российского флага и герба</dc:title>
</cp:coreProperties>
</file>