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gif" ContentType="image/gif"/>
  <Override PartName="/ppt/media/image19.gif" ContentType="image/gi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1F7-7D33-4D89-AB69-5F500850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D00-8905-4F82-A065-3D00007B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CDD-E05C-4201-AC47-B19FFA7F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7F1-F788-452C-93D7-0D40A57F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F9B-371E-4EEB-95F3-D7305EEF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F65-D2BF-4516-8496-677ABB4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BCC-48B7-4772-8E96-2B08C2D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964-0931-4E98-83DB-28C9803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6CA-F5BA-4A99-9008-B9B28F77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115-DABB-43E2-82F4-FA1D751A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4F6-8AC3-4BC3-893F-13A243B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F76-D672-4AD9-B187-C389E30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A6A-6ABF-40F4-857F-0245B6DB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100000">
              <a:srgbClr val="deee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Гербы городов Саратовской обла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р презентации проекта для учащихся 5 – 6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ы: Демортыно Ирина Виталь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рмолаева Алла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ос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заренко Елена Александ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52560" cy="1152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7143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85080" y="33336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836640"/>
            <a:ext cx="826920" cy="122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050920" y="907920"/>
            <a:ext cx="107820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менения гер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 мая 1998 года Решением Саратовской городской Думы №5-51 "О внесении изменений и дополнений в "Положение о гербе города Саратова" от 28 мая 1997 года ( за подписью заместителя главы городского самоуправления - секретаря городской Думы Н.Косова). Исправленное Положение теперь гласил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1766880" cy="238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93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a2f1a"/>
                </a:solidFill>
                <a:latin typeface="Times New Roman"/>
              </a:rPr>
              <a:t>Изменения в жизни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2557800" cy="198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301644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301644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16000" y="1341360"/>
            <a:ext cx="30164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640" y="5950080"/>
            <a:ext cx="686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грязнение Волги привело к исчезновению осетра, котор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бражён на гер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Наш эскиз герб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71640" y="1341360"/>
            <a:ext cx="3510000" cy="41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120024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059280" y="3933720"/>
            <a:ext cx="1199880" cy="107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851280" y="1557360"/>
            <a:ext cx="1297080" cy="99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90680" y="5805360"/>
            <a:ext cx="86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б Сарат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 должен отражать произошедш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окружающ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50000">
              <a:srgbClr val="deeeaa"/>
            </a:gs>
            <a:gs pos="100000">
              <a:srgbClr val="666d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новополагающий вопрос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989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ответствует ли символика городов современност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4760" y="2565360"/>
            <a:ext cx="2562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100000">
              <a:srgbClr val="deee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блемные 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акие гербы у городов области и их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Изменялся ли герб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Что изменилось в жизни горо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Что бы вы изменили в герб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aa"/>
            </a:gs>
            <a:gs pos="100000">
              <a:srgbClr val="666d4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Каждый город на Руси имел свой герб. Герб отражал историческую судьбу местности, в нём подчёркивались важнейшие особенности местности и занятия людей. По гербу можно было прочитать об истории гор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ся с гербами городов Саратовской области и их знач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яснить, какие изменения произошли в жизни горо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эскиз герба с учётом этих измен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eaa"/>
            </a:gs>
            <a:gs pos="100000">
              <a:srgbClr val="666d4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чебные дисциплины, близкие к изучаемому вопрос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эк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краевед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100000">
              <a:srgbClr val="deeea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тапы и сроки проведения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Найти изображение гербов и информацию об их значении (3 д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Выяснить, изменялся ли герб и почему? (3 д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Узнать, что изменилось в экономике и природной среде городов?(5 дне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V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этап. Создать эскиз герба с учётом этих изменений. (3 д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d4e"/>
            </a:gs>
            <a:gs pos="50000">
              <a:srgbClr val="deeeaa"/>
            </a:gs>
            <a:gs pos="100000">
              <a:srgbClr val="666d4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езультаты деятельности учащих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17179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8360" y="1125360"/>
            <a:ext cx="4572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Эск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герба и его       презент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1657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1856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Герб города Сарато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у выполнили учащиеся 5 «а» класса: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нов 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тров Пёт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доров Сид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то значит герб Саратов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6920" y="1628640"/>
            <a:ext cx="4537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б города Саратова представляет собой традиционный геральдический щит. На нем изображены три серебряные стерляди, означающие "великое сей страны изобилие таковыми рыбами". Стерляди ориентированы от верхних углов щита и середины нижней грани головами к центру композиции, образуя собой греческую букву "ипсилон", символизирующую "выбор достойного пути на перекрестке жизненных дорог". Стерляди, расположенные в верхней части щита, изображены спинами друг к другу, а стерлядь, находящаяся в нижней части, изображена спиной влево от зрителя. Геральдическое описание герба города Саратова гласит: "В лазоревом (синем, голубом) поле три серебряные стерляди головами к сердцу щита; нижняя стерлядь обращена спиной вправо" (геральдически правая сторона располагается слева от зрителя)"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02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5:25:25Z</dcterms:created>
  <dc:creator>Бем Наталья Александрвна</dc:creator>
  <dc:description/>
  <dc:language>en-US</dc:language>
  <cp:lastModifiedBy>_</cp:lastModifiedBy>
  <dcterms:modified xsi:type="dcterms:W3CDTF">2004-04-24T10:27:25Z</dcterms:modified>
  <cp:revision>6</cp:revision>
  <dc:subject/>
  <dc:title>Тема проекта</dc:title>
</cp:coreProperties>
</file>