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gif" ContentType="image/gif"/>
  <Override PartName="/ppt/media/image19.gif" ContentType="image/gi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690-82C2-44AB-897C-1E108800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674-6339-4E04-BC7E-2E8341B3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0E4-CA98-43D9-9BE7-5ABBC7A4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3DD-60AE-46B3-AE14-CF28CD89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C39-901C-421E-92F9-875FE272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0CF-7B98-4D08-AED0-0A22205F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A7D-DA43-4762-A800-AB72473D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0B4-064E-4295-8B7D-D834284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358-C211-4111-8BC7-EDB212E6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12E-B4CB-4D28-A45B-BB7101A8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3BA-57E2-48D3-B8D2-547C104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988-32D3-4B44-8464-230D395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E968-89D6-41B7-A92A-4EF169FB6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100000">
              <a:srgbClr val="deee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Гербы городов Саратовской обла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 презентации проекта для учащихся 5 – 6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ы: Демортыно Ирина Виталь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рмолаева Алла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осов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заренко Елена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52560" cy="115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85080" y="33336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836640"/>
            <a:ext cx="826920" cy="122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050920" y="907920"/>
            <a:ext cx="107820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менения гер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мая 1998 года Решением Саратовской городской Думы №5-51 "О внесении изменений и дополнений в "Положение о гербе города Саратова" от 28 мая 1997 года ( за подписью заместителя главы городского самоуправления - секретаря городской Думы Н.Косова). Исправленное Положение теперь гласило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1766880" cy="238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93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f1a"/>
                </a:solidFill>
                <a:latin typeface="Times New Roman"/>
              </a:rPr>
              <a:t>Изменения в жизн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255780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30164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30164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16000" y="1341360"/>
            <a:ext cx="30164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03640" y="5950080"/>
            <a:ext cx="686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грязнение Волги привело к исчезновению осетра, котор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бражён на гер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Наш эскиз гер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3510000" cy="41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120024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059280" y="3933720"/>
            <a:ext cx="1199880" cy="107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851280" y="1557360"/>
            <a:ext cx="1297080" cy="99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90680" y="5805360"/>
            <a:ext cx="86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б Сарат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 должен отражать произошедш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окружающ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50000">
              <a:srgbClr val="deeeaa"/>
            </a:gs>
            <a:gs pos="100000">
              <a:srgbClr val="666d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989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ответствует ли символика городов современност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4760" y="2565360"/>
            <a:ext cx="2562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100000">
              <a:srgbClr val="deee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акие гербы у городов области и их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Изменялся ли герб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Что изменилось в жизни гор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Что бы вы изменили в герб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aa"/>
            </a:gs>
            <a:gs pos="100000">
              <a:srgbClr val="666d4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0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Каждый город на Руси имел свой герб. Герб отражал историческую судьбу местности, в нём подчёркивались важнейшие особенности местности и занятия людей. По гербу можно было прочитать об истории гор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комиться с гербами городов Саратовской области и их знач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яснить, какие изменения произошли в жизни гор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эскиз герба с учётом этих измен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aa"/>
            </a:gs>
            <a:gs pos="100000">
              <a:srgbClr val="666d4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чебные дисциплины, близкие к изучаемому вопрос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эк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раеве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100000">
              <a:srgbClr val="deeea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тапы и сроки проведения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Найти изображение гербов и информацию об их значении (3 д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Выяснить, изменялся ли герб и почему? (3 д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Узнать, что изменилось в экономике и природной среде городов?(5 дн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V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Создать эскиз герба с учётом этих изменений. (3 д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50000">
              <a:srgbClr val="deeeaa"/>
            </a:gs>
            <a:gs pos="100000">
              <a:srgbClr val="666d4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зультаты деятельности учащих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17179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8360" y="1125360"/>
            <a:ext cx="4572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Эск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герба и его       презент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1657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185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Герб города Сарато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ту выполнили учащиеся 5 «а» класса: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нов 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тров Пёт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доров Сид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значит герб Саратов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66920" y="1628640"/>
            <a:ext cx="4537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б города Саратова представляет собой традиционный геральдический щит. На нем изображены три серебряные стерляди, означающие "великое сей страны изобилие таковыми рыбами". Стерляди ориентированы от верхних углов щита и середины нижней грани головами к центру композиции, образуя собой греческую букву "ипсилон", символизирующую "выбор достойного пути на перекрестке жизненных дорог". Стерляди, расположенные в верхней части щита, изображены спинами друг к другу, а стерлядь, находящаяся в нижней части, изображена спиной влево от зрителя. Геральдическое описание герба города Саратова гласит: "В лазоревом (синем, голубом) поле три серебряные стерляди головами к сердцу щита; нижняя стерлядь обращена спиной вправо" (геральдически правая сторона располагается слева от зрителя)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302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5:25:25Z</dcterms:created>
  <dc:creator>Бем Наталья Александрвна</dc:creator>
  <dc:description/>
  <dc:language>en-US</dc:language>
  <cp:lastModifiedBy>_</cp:lastModifiedBy>
  <dcterms:modified xsi:type="dcterms:W3CDTF">2004-04-24T10:27:25Z</dcterms:modified>
  <cp:revision>6</cp:revision>
  <dc:subject/>
  <dc:title>Тема проекта</dc:title>
</cp:coreProperties>
</file>