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9AD1-085E-493D-B8B1-ADBCFBA4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E9D-C11A-4FD0-9D36-D2C35B82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F449-AFE7-4B97-B634-C18DF881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EEE6-FF1A-4266-A260-90086771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ED7-5944-481C-89A7-85642AB1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1500-ADA4-4517-8762-DDF5F62F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52B-A1DF-460A-A65F-9857C2A04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7F33-8823-480E-997F-18BBB948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14E3-DC9C-42DC-8D9E-E294D89E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0B3-CD82-45F3-A5CE-A250A3FD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9EA9-D25A-4079-833B-3A1511B1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9D9C-9043-4417-BF1C-8B809E9E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04142-8A4A-44CC-8D28-B89683AA8A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видеофильм\2.jpg"/>
          <p:cNvPicPr/>
          <p:nvPr/>
        </p:nvPicPr>
        <p:blipFill>
          <a:blip r:embed="rId1"/>
          <a:stretch/>
        </p:blipFill>
        <p:spPr>
          <a:xfrm>
            <a:off x="2043000" y="2193840"/>
            <a:ext cx="6411960" cy="360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6320" y="514440"/>
            <a:ext cx="7886520" cy="1325520"/>
          </a:xfrm>
          <a:prstGeom prst="rect">
            <a:avLst/>
          </a:prstGeom>
          <a:noFill/>
          <a:ln w="12600">
            <a:solidFill>
              <a:srgbClr val="5b9bd5">
                <a:alpha val="0"/>
              </a:srgbClr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5597"/>
                </a:solidFill>
                <a:latin typeface="Book Antiqua"/>
              </a:rPr>
              <a:t>МКДОУ детский сад № 5 </a:t>
            </a:r>
            <a:br>
              <a:rPr sz="4400"/>
            </a:br>
            <a:r>
              <a:rPr b="1" i="1" lang="ru-RU" sz="4400" spc="-1" strike="noStrike">
                <a:solidFill>
                  <a:srgbClr val="2f5597"/>
                </a:solidFill>
                <a:latin typeface="Book Antiqua"/>
              </a:rPr>
              <a:t>г. Тайше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8260542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\видеофильм\1.jpg"/>
          <p:cNvPicPr/>
          <p:nvPr/>
        </p:nvPicPr>
        <p:blipFill>
          <a:blip r:embed="rId1"/>
          <a:stretch/>
        </p:blipFill>
        <p:spPr>
          <a:xfrm>
            <a:off x="4702320" y="291960"/>
            <a:ext cx="4236840" cy="5864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-36360" y="2779560"/>
            <a:ext cx="479736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6" descr=""/>
          <p:cNvPicPr/>
          <p:nvPr/>
        </p:nvPicPr>
        <p:blipFill>
          <a:blip r:embed="rId1"/>
          <a:stretch/>
        </p:blipFill>
        <p:spPr>
          <a:xfrm>
            <a:off x="-433440" y="1865160"/>
            <a:ext cx="9875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й класс субъективных психологических состояний, отражающих в форме непосредственных переживаний, ощущений приятного или неприятного, отношения человека к миру и людя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476280" y="1523880"/>
            <a:ext cx="327816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видеофильм\DSCN0899.JPG"/>
          <p:cNvPicPr/>
          <p:nvPr/>
        </p:nvPicPr>
        <p:blipFill>
          <a:blip r:embed="rId1"/>
          <a:stretch/>
        </p:blipFill>
        <p:spPr>
          <a:xfrm>
            <a:off x="2649600" y="1898640"/>
            <a:ext cx="4802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Новая папка\20180205_161112.jpg"/>
          <p:cNvPicPr/>
          <p:nvPr/>
        </p:nvPicPr>
        <p:blipFill>
          <a:blip r:embed="rId1"/>
          <a:stretch/>
        </p:blipFill>
        <p:spPr>
          <a:xfrm>
            <a:off x="-14630400" y="-10972800"/>
            <a:ext cx="4805280" cy="360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F:\Новая папка\20180205_161112.jpg"/>
          <p:cNvPicPr/>
          <p:nvPr/>
        </p:nvPicPr>
        <p:blipFill>
          <a:blip r:embed="rId2"/>
          <a:stretch/>
        </p:blipFill>
        <p:spPr>
          <a:xfrm>
            <a:off x="2003400" y="1477800"/>
            <a:ext cx="4799160" cy="360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F:\Новая папка\20180205_161334.jpg"/>
          <p:cNvPicPr/>
          <p:nvPr/>
        </p:nvPicPr>
        <p:blipFill>
          <a:blip r:embed="rId3"/>
          <a:stretch/>
        </p:blipFill>
        <p:spPr>
          <a:xfrm>
            <a:off x="965160" y="480996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:\Новая папка\20180205_161557.jpg"/>
          <p:cNvPicPr/>
          <p:nvPr/>
        </p:nvPicPr>
        <p:blipFill>
          <a:blip r:embed="rId4"/>
          <a:stretch/>
        </p:blipFill>
        <p:spPr>
          <a:xfrm rot="1230000">
            <a:off x="7267320" y="512280"/>
            <a:ext cx="135072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F:\Новая папка\20180205_161242.jpg"/>
          <p:cNvPicPr/>
          <p:nvPr/>
        </p:nvPicPr>
        <p:blipFill>
          <a:blip r:embed="rId5"/>
          <a:stretch/>
        </p:blipFill>
        <p:spPr>
          <a:xfrm rot="20617800">
            <a:off x="226800" y="2152800"/>
            <a:ext cx="134928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F:\Новая папка\20180205_161418.jpg"/>
          <p:cNvPicPr/>
          <p:nvPr/>
        </p:nvPicPr>
        <p:blipFill>
          <a:blip r:embed="rId6"/>
          <a:stretch/>
        </p:blipFill>
        <p:spPr>
          <a:xfrm rot="910800">
            <a:off x="6926400" y="4756320"/>
            <a:ext cx="10778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эмоций и чувств у дошкольников зависит от ряда условий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8240" y="25063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щение со сверст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ециально организованная деятель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вместные трудовые заня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Новая папка\2018-02-01-12-49-43.jpg"/>
          <p:cNvPicPr/>
          <p:nvPr/>
        </p:nvPicPr>
        <p:blipFill>
          <a:blip r:embed="rId1"/>
          <a:stretch/>
        </p:blipFill>
        <p:spPr>
          <a:xfrm>
            <a:off x="0" y="0"/>
            <a:ext cx="4943520" cy="329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:\Новая папка\2018-02-01-12-51-22.jpg"/>
          <p:cNvPicPr/>
          <p:nvPr/>
        </p:nvPicPr>
        <p:blipFill>
          <a:blip r:embed="rId2"/>
          <a:stretch/>
        </p:blipFill>
        <p:spPr>
          <a:xfrm rot="21150600">
            <a:off x="4614840" y="423360"/>
            <a:ext cx="4432320" cy="295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Новая папка\2018-02-01-13-04-32.jpg"/>
          <p:cNvPicPr/>
          <p:nvPr/>
        </p:nvPicPr>
        <p:blipFill>
          <a:blip r:embed="rId3"/>
          <a:stretch/>
        </p:blipFill>
        <p:spPr>
          <a:xfrm rot="282000">
            <a:off x="5599080" y="3402000"/>
            <a:ext cx="3484440" cy="348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Новая папка\2018-02-01-12-50-24.jpg"/>
          <p:cNvPicPr/>
          <p:nvPr/>
        </p:nvPicPr>
        <p:blipFill>
          <a:blip r:embed="rId4"/>
          <a:stretch/>
        </p:blipFill>
        <p:spPr>
          <a:xfrm>
            <a:off x="398520" y="3265560"/>
            <a:ext cx="48578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96680" y="154584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начать развивать эмоциональную сферу в детстве, развивать и тренировать способности предвидеть, брать на себя ответственность и руководить своими действиями, то в зрелом возрасте можно достичь большего согласия и совершенства в управлении самим собой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admin</cp:lastModifiedBy>
  <dcterms:modified xsi:type="dcterms:W3CDTF">2018-08-16T14:06:10Z</dcterms:modified>
  <cp:revision>16</cp:revision>
  <dc:subject/>
  <dc:title>Название презентации</dc:title>
</cp:coreProperties>
</file>