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7EDF-06EE-4A39-AD97-042B4D5D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34FA-3BB0-40A5-9C08-9BE90CFAD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21C-D2B5-41FA-8F87-221E6CD77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727F-CD4A-48BB-9AF8-CCEE3EC3D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F8E7-DD01-47C0-95A9-1DD5A536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8ACF-F4C3-488F-9264-B8B460AE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A01DC-F966-4409-9127-5E8A0494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A0B6-C089-4071-BFE9-4AB703F9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B4A9-3009-48E1-A98D-D1BB90125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B89F-BCD4-43D8-B6DA-DD156427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C3A5-56CF-443D-A114-BC9EFEFA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B22D-A7EF-49B2-AC5C-10820A15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A2EBC-FE02-423F-BA66-2814AE33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E913-D83D-45F9-B33E-22C94314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2627-7319-4054-894A-8B463B682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4484A-3C45-44EB-B65B-04F7E183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C80B5-FEEC-44EA-B947-95D05705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DD3F-71B5-45AA-999D-7D643C4F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2E93-3A7E-46A4-B40D-D1A27552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10C1-D634-4A8D-A0CA-B281E2CD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A5D0-D37D-45F2-A084-DF8B1A42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11D-8FBA-4417-846D-B4FA44C3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409F-8582-4F93-956A-0A509BC8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83EC-B5F7-4C36-8094-5C5CEAFEA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2145-8DE3-442A-92EA-DDAF84C7D7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514C-23CA-4388-9457-44D04F79E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701"/>
                </a:solidFill>
                <a:latin typeface="Tahoma"/>
              </a:rPr>
              <a:t>ГАУ ДПО «Волгоградская государственная академия последипломного образования»</a:t>
            </a:r>
            <a:br>
              <a:rPr sz="2400"/>
            </a:br>
            <a:r>
              <a:rPr b="0" lang="en-US" sz="2000" spc="-1" strike="noStrike">
                <a:solidFill>
                  <a:srgbClr val="1d4701"/>
                </a:solidFill>
                <a:latin typeface="Tahoma"/>
              </a:rPr>
              <a:t>Кафедра филологических дисциплин и методики их преподава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77336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1240" y="1628640"/>
            <a:ext cx="88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701"/>
                </a:solidFill>
                <a:latin typeface="Tahoma"/>
              </a:rPr>
              <a:t>Контрольная работа по методике преподавания русского язы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4701"/>
                </a:solidFill>
                <a:latin typeface="Tahoma"/>
              </a:rPr>
              <a:t>«Система коммуникативных заданий для развития монологической реч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4701"/>
                </a:solidFill>
                <a:latin typeface="Tahoma"/>
              </a:rPr>
              <a:t>обучающихся 6 класса (на примере типа речи описан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4701"/>
                </a:solidFill>
                <a:latin typeface="Tahoma"/>
              </a:rPr>
              <a:t>в соответствии с КИМ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лгоград  2017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3933720"/>
            <a:ext cx="4679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Работу выполнила: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етрова Наталья Николаев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 МОУ СШ №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Центрального района г. Волгогра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Работу проверила: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ернова Татьяна Анатольев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оцент кафедры филологическ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исциплин и методики их препода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читайте тексты. Определите способы и средства связи предлож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ЯЗЫКОВЫЕ СРЕДСТВА ДЛЯ ОБОЗНАЧЕНИЯ МЕСТОПОЛОЖЕНИЯ ПРЕДМЕТ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едующая группа заданий предполагает обучение шестиклассников использованию языковых средств для обозначения местоположения предмета. Они направлены на предупреждение речевых повтор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МАТЕРИАЛ К ЗАДАНИЮ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Затем, близко, недалеко, после этого, невдалеке, позднее, поблизости, через некоторое время, через час, вблизи, возле, справа, немного позже, около, дальше, в нескольких шагах, наконец, на окне, около двери, тут 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пределите помещённые выше слова в два столбика. В один - те слова, которые могут быть использованы в описании места, в другой - те, которые могут быть употреблены в повествов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ТЕКС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ядом с высоким мужчиной сидит маленький мальчик. Рядом с ними лежит их верный пёс Храбрый. Рядом стоят корзина и ведро, полные грибов, и кувшин с ягодам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ЗАДАН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читайте текст. Определите тип речи. Найдите и устраните речевые недочёты (повторы), используя синони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Много есть озёр на свете больших и малых, глубоких и мелких, суровых и живописных, но ни одно из них не может сравниться с Байкалом, и нет другого такого водоёма в мире, который бы мог соперничать с ним столь широкой известностью и громкой славой. И ни о каком другом озере не сложено так много легенд и сказаний, песен и стихов, поэм и рассказов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ЗА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читайте текст, выделите ключевые слова. Обратите внимание на их частеречную принадлеж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ажите, что этот текст – описание, используя памят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должите предложение: На мой взгляд, данный текст принадлежит к типу речи описание, потому чт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амятка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Нет динамики; действия или признаки постоянные или одновременные, не изменяющиеся во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Можно изменить порядок перечисления действий или признаков, поменяв местами фрагменты тек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«Новое» в описании - это свойства предмета. Отсюда - обилие прилагательных и причаст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052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Особенности описания как типа речи.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УПОТРЕБЛЕНИЕ В ОПИСАНИИ ГЛАГОЛОВ СО ЗНАЧЕНИЕМ НАЛИЧ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Опасным» местом с точки зрения появления речевых недочётов в описании места могут быть глаголы со значением наличия. Они не несут в себе основной информации, а являются связующим звеном между сведениями о предмете и о месте его расположения. Поэтому текст – описание  часто содержит безглагольные предложения. Предлагаются задания на нахождение таких особенностей текс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765000"/>
            <a:ext cx="856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очу представить коллегам систему заданий, которая поможет подготовить к написанию сжатого изложения и сочинения, а особенно - к устному собеседованию выпускников основной школы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5 классе учащиеся знакомятся с основным понятием - «текст» и его признаками. В 6, 7 классах ученики закрепляют эти понятия и знакомятся с новыми стилистическими особенностями текстов. Также создают собственные тексты с учётом их стилистической принадлежности. Я остановлюсь на заданиях, развивающих монологическую речь шестиклассников, на примере типа речи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9880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1700" spc="-1" strike="noStrike">
                <a:solidFill>
                  <a:srgbClr val="ffffff"/>
                </a:solidFill>
                <a:latin typeface="Tahoma"/>
              </a:rPr>
              <a:t>Тарас повёл сыновей своих в светлицу, откуда проворно выбежали две красивые девки-прислужницы…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700" spc="-1" strike="noStrike">
                <a:solidFill>
                  <a:srgbClr val="ffffff"/>
                </a:solidFill>
                <a:latin typeface="Tahoma"/>
              </a:rPr>
              <a:t>Светлица была убрана во вкусе времени, о котором живые намёки остались только в песнях да народных думах, уже не поющихся более на Украине бородатыми старцами-слепцами; во вкусе того бранного, трудного времени, когда начались разыгрываться схватки и битвы на Украине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700" spc="-1" strike="noStrike">
                <a:solidFill>
                  <a:srgbClr val="ffffff"/>
                </a:solidFill>
                <a:latin typeface="Tahoma"/>
              </a:rPr>
              <a:t>Всё было чисто вымазано цветной глиной. На стенах - сабли, нагайки, сетки для птиц, невода и ружья, хитро обделанный рог для пороху, золотая уздечка на коня и путы с серебряными бляхами. Окна были маленькие, с круглыми тусклыми стёклами, которые встречаются ныне только в старинных церквах. Вокруг окон и дверей были украшения из дерева. На полках по углам стояла разная утварь: кувшины, бутылки и фляжки зелёного и синего стекла, разные серебряные кубки, позолоченные чарки всякой работы: венецианской, турецкой, черкесской, зашедшие в светлицу Бульбы всякими путями через третьи и четвёртые руки, что было весьма обыкновенно в те удалые времена. Берестовые скамьи вокруг всей комнаты; огромный стол под образами в парадном углу; широкая печь с запечьями, уступами и выступами, покрытая пёстрыми изразцами,- всё это было очень знакомо нашим двум молодцам, приходившим каждый год на каникулярное время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765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В качестве текста - описания интерьера мною использован отрывок из повести Н.В. Гоголя  «Тарас Бульба» (глава 1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Задания к тексту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кажите, что этот текст относится к описанию. Выделите части в соответствии со схемой строения текста – описания (схема прилагаетс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хема строения текста-опис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. Общее впечатление о предмете опис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. Признаки 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). Отношение к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метьт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лаголы налич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тексте. Объясните их роль в текс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делите в текст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езглагольные предложе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Проведите с ними лингвистический эксперимент: вставьте (где возможно) глаголы наличия. Пронаблюдайте, как изменился текст. Улучшился или ухудшил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ексическая работ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Отметьте в тексте слова, значения которых вам непонятны. Проведите работу с «Толковым словарём» Ожегова по выяснению значений с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Ы-ОПИСАНИЯ РАЗНОЙ СТИЛИСТИЧЕСКОЙ ПРИНАДЛЕЖНОСТ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я часто встречаются в текстах разной стилистической принадлежности. 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учно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описание включаются существенные, точные признаки, которые названы прилагательными и существительными. В описании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художественного стил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ыделяются самые яркие признаки, создающие образ; они могут передаваться сравнениями, словами в переносном значении, словами с оценочными суффиксами. Предлагаются задания на понимание особенностей описаний разной стилистической принадлеж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.  Яблоня – ранет пурпурный - морозостойкий сорт. Плоды округлой формы, диаметром 2,5-3 сантиметра. Вес плода- 17-23 грамма. Сочность средняя, с характерным сладким, слегка вяжущим вкус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.  Липовые яблоки были крупные и прозрачно-жёлтые. Если посмотреть сквозь яблоко на солнце, то оно просвечивалось, как стакан свежего липового мёда. В середине чернели зёрнышки. Потрясёшь, бывало, спелым яблоком около уха, слышно, как гремят семечки. (В. Солоух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различаются эти описания? В чём их особенности с точки зрения лексики, синтаксиса? К каким стилям речи они принадлежат? Где могут употреблять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йдите в своих учебниках тексты, подобные тексту А. Объясните их назнач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основе найденных текстов типа А создайте собственный художественный текст типа 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ОПИСАНИЕ ВНЕШНОСТИ ЧЕЛОВЕ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отя описание внешности человека в соответствии с программой изучается только в 7 классе, считаю целесообразным уже шестиклассникам давать задания на узнавание  и нахождение характеристик-описаний в прочитанных ими текстах художественных произведени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В качестве примера текста - описания внешности человека взят отрывок из повести А.С. Пушкина «Капитанская дочка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аружность его показалась мне замечательна: он был лет сорока, росту среднего, худощав и широкоплеч. В чёрной бороде его показалась проседь; живые большие глаза так и бегали. Лицо его имело выражение довольно приятное, но плутовское. Волоса были острижены в кружок; на нём  был оборванный армяк и татарские шаровар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ексическая работа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тметьте в тексте слова, значения которых вам непонятны. Проведите работу с «Толковым словарём» Ожегова по выяснению значений с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йдите в текстах прочитанных вами произведений подобные опис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аствуйте в проведении игры - викторины «Узнай меня». По представленному тексту - описанию узнайте литературный персонаж, укажите название произведения и его ав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ПРЕДМЕТ И МЕСТО ЕГО НАХОЖДЕНИЯ.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6 классе в соответствии с программой должно проводиться обучение сочинениям - описаниям природы и помещения. Составной частью таких текстов часто бывает описание места - фрагмент со значением « предмет и место его нахождени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комя обучающихся с новой разновидностью описания, следует разграничить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исание места  и описание предмет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т.к. в описании места предметы только называются, а в описании предмета они характеризуются, называются их призна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. В лесу, на траве, на дорожках уже виднелось много опавших листьев. На полянах ярко краснели гроздьями ягод стройные рябины. (Г. Скребицкий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Б. Кругом деревни поля ещё голые. А одно поле  будто зелёной краской залито. Такое яркое, такое весёлое, такое праздничное! Зелёные ростки, одинаковые, как родные братцы, кустиками, кустиками торчат. (Э. Шим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Я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авните тексты. Какой из них содержит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писание мес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а какой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писание предме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маркируйте те слова, которые помогли вам сделать выв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 сочинения учени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я комна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очень люблю свою комнату. Особенно зимой, рано утром, когда встаёт красное от мороза солнце. Оно отражается в окнах соседнего дома и попадает ко мне в комнату. Комната заливается ровным розовым светом. От него становится радостно и спокойно на душе. Вся комната становится как будто волшебной и ещё более уютн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оей комнате много разных предметов, но я хочу сказать только об одном. Это мой любимый компьютер! Он стоит на моём рабочем столе. Это самая важная вещь в моей комнате, потому что за ним я провожу много времени. Он помогает мне в учёбе и отды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очень люблю свою просторную и уютную комнату. Мне хорошо жить в не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делите в прочитанном тексте части: описание предмета и описание его местопо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данному образцу создайте собственный текст-описание предмета и его местоположения на тему «Моя школ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e5ffff"/>
                </a:solidFill>
                <a:latin typeface="Calibri"/>
              </a:rPr>
              <a:t>Следующая группа заданий направлена на наблюдение над способами  и средствами связи предложений в текстах этого тип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ТЕКСТ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. Шумит над головой лес. Мягко похлюпывает под ногою карельский мох. Рдяно алеют в своей нержавеющей зелени крупные бусины брусники. Косо, невпопад лежит рыжий, поникший папоротник. И никаких звуков – ничего, кроме шума дождя и шорохов леса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 Способы _______________________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редства _________________________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. Клевер – один из самых надёжных барометров. Он заранее знает о том, что погода изменится. Достаточно посмотреть на него перед дождём, чтобы убедиться в этом. Перед ненастьем клевер сближает листочки, цветок его на тонкой ножке поникает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пособы _______________________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редства _________________________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9T11:47:15Z</dcterms:created>
  <dc:creator>oleg</dc:creator>
  <dc:description/>
  <dc:language>en-US</dc:language>
  <cp:lastModifiedBy>oleg</cp:lastModifiedBy>
  <dcterms:modified xsi:type="dcterms:W3CDTF">2017-11-29T17:09:52Z</dcterms:modified>
  <cp:revision>5</cp:revision>
  <dc:subject/>
  <dc:title>Петрова Наталья Николаевна</dc:title>
</cp:coreProperties>
</file>