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3E45-E2F9-4C4B-A096-A39B960E2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C64D-995F-4A9D-B7E3-F1354CEB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862A-7BF3-4936-AA9F-FF69FD5C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DF2A-96B3-4678-B49A-9C9D44AC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032E-6390-40BD-849F-678841383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6A59-D431-4750-BF51-F7F493E93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CD17-095F-435D-8930-B8003F5D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96939-919B-49C5-B134-68193FBF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88AB-AA75-453E-8D7C-01AB0A3B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8DAE-F18E-4784-8CE7-1C1BFDA0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C7463-E8EE-42B0-861C-686F682B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0FEB-9461-4D59-9146-6FB978E53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87BF-7E35-45DB-9936-E7D0B2D8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D733-7151-4CBB-B9AB-BB27F9AE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A59BB-98BB-49C2-B525-1F0D4566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E7E6-01CE-4E18-9FA8-952DFBB9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3C43-1615-4160-AD36-DF93E61F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202D-75D9-4568-A8FD-505B7919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8B92-7875-402B-B943-BA3FE3669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D01F-586F-4F58-BA7F-54747C32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C2A7-3EFD-4199-8AF2-9B2AF4F76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50B9-C59C-44BD-B80A-A1AF7330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EBA0-0569-40E8-B5CD-EB31F840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954D-561B-4F18-B5EF-7CAA6101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6B445-6788-441B-87D8-F7FC43E3D5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03DD-AA73-47F1-998B-113D85D2FD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66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7138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4701"/>
                </a:solidFill>
                <a:latin typeface="Tahoma"/>
              </a:rPr>
              <a:t>ГАУ ДПО «Волгоградская государственная академия последипломного образования»</a:t>
            </a:r>
            <a:br>
              <a:rPr sz="2400"/>
            </a:br>
            <a:r>
              <a:rPr b="0" lang="en-US" sz="2000" spc="-1" strike="noStrike">
                <a:solidFill>
                  <a:srgbClr val="1d4701"/>
                </a:solidFill>
                <a:latin typeface="Tahoma"/>
              </a:rPr>
              <a:t>Кафедра филологических дисциплин и методики их преподавания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1773360"/>
            <a:ext cx="79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01240" y="1628640"/>
            <a:ext cx="8890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d4701"/>
                </a:solidFill>
                <a:latin typeface="Tahoma"/>
              </a:rPr>
              <a:t>Контрольная работа по методике преподавания русского языка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d4701"/>
                </a:solidFill>
                <a:latin typeface="Tahoma"/>
              </a:rPr>
              <a:t>«Система коммуникативных заданий для развития монологической реч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d4701"/>
                </a:solidFill>
                <a:latin typeface="Tahoma"/>
              </a:rPr>
              <a:t>обучающихся 6 класса (на примере типа речи описания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d4701"/>
                </a:solidFill>
                <a:latin typeface="Tahoma"/>
              </a:rPr>
              <a:t>в соответствии с КИМами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6093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олгоград  2017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40360" y="3933720"/>
            <a:ext cx="46796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Работу выполнила: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Петрова Наталья Николаевн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учитель русского языка и литературы МОУ СШ № 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Центрального района г. Волгоград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Работу проверила: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Чернова Татьяна Анатольевна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доцент кафедры филологически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дисциплин и методики их преподава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ЗАДАН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читайте тексты. Определите способы и средства связи предложени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ЯЗЫКОВЫЕ СРЕДСТВА ДЛЯ ОБОЗНАЧЕНИЯ МЕСТОПОЛОЖЕНИЯ ПРЕДМЕТ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ледующая группа заданий предполагает обучение шестиклассников использованию языковых средств для обозначения местоположения предмета. Они направлены на предупреждение речевых повтор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Calibri"/>
              </a:rPr>
              <a:t>МАТЕРИАЛ К ЗАДАНИЮ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Затем, близко, недалеко, после этого, невдалеке, позднее, поблизости, через некоторое время, через час, вблизи, возле, справа, немного позже, около, дальше, в нескольких шагах, наконец, на окне, около двери, тут ж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ЗАДАН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Распределите помещённые выше слова в два столбика. В один - те слова, которые могут быть использованы в описании места, в другой - те, которые могут быть употреблены в повествован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Calibri"/>
              </a:rPr>
              <a:t>ТЕКСТ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Рядом с высоким мужчиной сидит маленький мальчик. Рядом с ними лежит их верный пёс Храбрый. Рядом стоят корзина и ведро, полные грибов, и кувшин с ягодами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Calibri"/>
              </a:rPr>
              <a:t>ЗАДАНИЕ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читайте текст. Определите тип речи. Найдите и устраните речевые недочёты (повторы), используя синоним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ТЕКСТ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Много есть озёр на свете больших и малых, глубоких и мелких, суровых и живописных, но ни одно из них не может сравниться с Байкалом, и нет другого такого водоёма в мире, который бы мог соперничать с ним столь широкой известностью и громкой славой. И ни о каком другом озере не сложено так много легенд и сказаний, песен и стихов, поэм и рассказов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Calibri"/>
              </a:rPr>
              <a:t>ЗАДАН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читайте текст, выделите ключевые слова. Обратите внимание на их частеречную принадлежност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окажите, что этот текст – описание, используя памятк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должите предложение: На мой взгляд, данный текст принадлежит к типу речи описание, потому что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Памятка.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) Нет динамики; действия или признаки постоянные или одновременные, не изменяющиеся во време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) Можно изменить порядок перечисления действий или признаков, поменяв местами фрагменты текст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) «Новое» в описании - это свойства предмета. Отсюда - обилие прилагательных и причаст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105264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Особенности описания как типа речи.</a:t>
            </a: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Calibri"/>
              </a:rPr>
              <a:t>УПОТРЕБЛЕНИЕ В ОПИСАНИИ ГЛАГОЛОВ СО ЗНАЧЕНИЕМ НАЛИЧ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Опасным» местом с точки зрения появления речевых недочётов в описании места могут быть глаголы со значением наличия. Они не несут в себе основной информации, а являются связующим звеном между сведениями о предмете и о месте его расположения. Поэтому текст – описание  часто содержит безглагольные предложения. Предлагаются задания на нахождение таких особенностей текст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765000"/>
            <a:ext cx="8569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Хочу представить коллегам систему заданий, которая поможет подготовить к написанию сжатого изложения и сочинения, а особенно - к устному собеседованию выпускников основной школы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 5 классе учащиеся знакомятся с основным понятием - «текст» и его признаками. В 6, 7 классах ученики закрепляют эти понятия и знакомятся с новыми стилистическими особенностями текстов. Также создают собственные тексты с учётом их стилистической принадлежности. Я остановлюсь на заданиях, развивающих монологическую речь шестиклассников, на примере типа речи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описани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9880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ТЕКСТ</a:t>
            </a:r>
            <a:br>
              <a:rPr sz="3200"/>
            </a:b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1" i="1" lang="ru-RU" sz="1700" spc="-1" strike="noStrike">
                <a:solidFill>
                  <a:srgbClr val="ffffff"/>
                </a:solidFill>
                <a:latin typeface="Tahoma"/>
              </a:rPr>
              <a:t>Тарас повёл сыновей своих в светлицу, откуда проворно выбежали две красивые девки-прислужницы…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ru-RU" sz="1700" spc="-1" strike="noStrike">
                <a:solidFill>
                  <a:srgbClr val="ffffff"/>
                </a:solidFill>
                <a:latin typeface="Tahoma"/>
              </a:rPr>
              <a:t>Светлица была убрана во вкусе времени, о котором живые намёки остались только в песнях да народных думах, уже не поющихся более на Украине бородатыми старцами-слепцами; во вкусе того бранного, трудного времени, когда начались разыгрываться схватки и битвы на Украине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i="1" lang="ru-RU" sz="1700" spc="-1" strike="noStrike">
                <a:solidFill>
                  <a:srgbClr val="ffffff"/>
                </a:solidFill>
                <a:latin typeface="Tahoma"/>
              </a:rPr>
              <a:t>Всё было чисто вымазано цветной глиной. На стенах - сабли, нагайки, сетки для птиц, невода и ружья, хитро обделанный рог для пороху, золотая уздечка на коня и путы с серебряными бляхами. Окна были маленькие, с круглыми тусклыми стёклами, которые встречаются ныне только в старинных церквах. Вокруг окон и дверей были украшения из дерева. На полках по углам стояла разная утварь: кувшины, бутылки и фляжки зелёного и синего стекла, разные серебряные кубки, позолоченные чарки всякой работы: венецианской, турецкой, черкесской, зашедшие в светлицу Бульбы всякими путями через третьи и четвёртые руки, что было весьма обыкновенно в те удалые времена. Берестовые скамьи вокруг всей комнаты; огромный стол под образами в парадном углу; широкая печь с запечьями, уступами и выступами, покрытая пёстрыми изразцами,- всё это было очень знакомо нашим двум молодцам, приходившим каждый год на каникулярное время</a:t>
            </a:r>
            <a:r>
              <a:rPr b="0" lang="ru-RU" sz="17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765000"/>
            <a:ext cx="842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В качестве текста - описания интерьера мною использован отрывок из повести Н.В. Гоголя  «Тарас Бульба» (глава 1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Задания к тексту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Докажите, что этот текст относится к описанию. Выделите части в соответствии со схемой строения текста – описания (схема прилагается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Схема строения текста-описания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). Общее впечатление о предмете описа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2). Признаки предмет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). Отношение к предм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тметьте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глаголы налич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в тексте. Объясните их роль в текст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делите в тексте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безглагольные предложени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Проведите с ними лингвистический эксперимент: вставьте (где возможно) глаголы наличия. Пронаблюдайте, как изменился текст. Улучшился или ухудшился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Лексическая работа.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Отметьте в тексте слова, значения которых вам непонятны. Проведите работу с «Толковым словарём» Ожегова по выяснению значений сл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ТЕКСТЫ-ОПИСАНИЯ РАЗНОЙ СТИЛИСТИЧЕСКОЙ ПРИНАДЛЕЖНОСТИ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Описания часто встречаются в текстах разной стилистической принадлежности. В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научное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описание включаются существенные, точные признаки, которые названы прилагательными и существительными. В описании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художественного стиля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выделяются самые яркие признаки, создающие образ; они могут передаваться сравнениями, словами в переносном значении, словами с оценочными суффиксами. Предлагаются задания на понимание особенностей описаний разной стилистической принадлежно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74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ТЕКСТ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А.  Яблоня – ранет пурпурный - морозостойкий сорт. Плоды округлой формы, диаметром 2,5-3 сантиметра. Вес плода- 17-23 грамма. Сочность средняя, с характерным сладким, слегка вяжущим вкусо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ahoma"/>
              </a:rPr>
              <a:t>Б.  Липовые яблоки были крупные и прозрачно-жёлтые. Если посмотреть сквозь яблоко на солнце, то оно просвечивалось, как стакан свежего липового мёда. В середине чернели зёрнышки. Потрясёшь, бывало, спелым яблоком около уха, слышно, как гремят семечки. (В. Солоухин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ЗАДАН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Чем различаются эти описания? В чём их особенности с точки зрения лексики, синтаксиса? К каким стилям речи они принадлежат? Где могут употреблятьс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йдите в своих учебниках тексты, подобные тексту А. Объясните их назнач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 основе найденных текстов типа А создайте собственный художественный текст типа Б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ОПИСАНИЕ ВНЕШНОСТИ ЧЕЛОВЕК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Хотя описание внешности человека в соответствии с программой изучается только в 7 классе, считаю целесообразным уже шестиклассникам давать задания на узнавание  и нахождение характеристик-описаний в прочитанных ими текстах художественных произведения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В качестве примера текста - описания внешности человека взят отрывок из повести А.С. Пушкина «Капитанская дочка»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Наружность его показалась мне замечательна: он был лет сорока, росту среднего, худощав и широкоплеч. В чёрной бороде его показалась проседь; живые большие глаза так и бегали. Лицо его имело выражение довольно приятное, но плутовское. Волоса были острижены в кружок; на нём  был оборванный армяк и татарские шаровары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ЗАДАН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ексическая работа.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Отметьте в тексте слова, значения которых вам непонятны. Проведите работу с «Толковым словарём» Ожегова по выяснению значений сл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Найдите в текстах прочитанных вами произведений подобные опис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частвуйте в проведении игры - викторины «Узнай меня». По представленному тексту - описанию узнайте литературный персонаж, укажите название произведения и его автор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3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ffff"/>
                </a:solidFill>
                <a:latin typeface="Tahoma"/>
              </a:rPr>
              <a:t>ПРЕДМЕТ И МЕСТО ЕГО НАХОЖДЕНИЯ.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 6 классе в соответствии с программой должно проводиться обучение сочинениям - описаниям природы и помещения. Составной частью таких текстов часто бывает описание места - фрагмент со значением « предмет и место его нахождения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Знакомя обучающихся с новой разновидностью описания, следует разграничить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писание места  и описание предмета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т.к. в описании места предметы только называются, а в описании предмета они характеризуются, называются их призна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ТЕКСТ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А. В лесу, на траве, на дорожках уже виднелось много опавших листьев. На полянах ярко краснели гроздьями ягод стройные рябины. (Г. Скребицкий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Б. Кругом деревни поля ещё голые. А одно поле  будто зелёной краской залито. Такое яркое, такое весёлое, такое праздничное! Зелёные ростки, одинаковые, как родные братцы, кустиками, кустиками торчат. (Э. Шим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ЗАДАНИЯ</a:t>
            </a: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Сравните тексты. Какой из них содержит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писание мес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а какой –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описание предмета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омаркируйте те слова, которые помогли вам сделать выво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Текст сочинения ученика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Моя комнат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очень люблю свою комнату. Особенно зимой, рано утром, когда встаёт красное от мороза солнце. Оно отражается в окнах соседнего дома и попадает ко мне в комнату. Комната заливается ровным розовым светом. От него становится радостно и спокойно на душе. Вся комната становится как будто волшебной и ещё более уютной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моей комнате много разных предметов, но я хочу сказать только об одном. Это мой любимый компьютер! Он стоит на моём рабочем столе. Это самая важная вещь в моей комнате, потому что за ним я провожу много времени. Он помогает мне в учёбе и отдых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Я очень люблю свою просторную и уютную комнату. Мне хорошо жить в ней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ЗАДАН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ыделите в прочитанном тексте части: описание предмета и описание его местоположен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 данному образцу создайте собственный текст-описание предмета и его местоположения на тему «Моя школа»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e5ffff"/>
                </a:solidFill>
                <a:latin typeface="Calibri"/>
              </a:rPr>
              <a:t>Следующая группа заданий направлена на наблюдение над способами  и средствами связи предложений в текстах этого тип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Calibri"/>
              </a:rPr>
              <a:t>ТЕКСТЫ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. Шумит над головой лес. Мягко похлюпывает под ногою карельский мох. Рдяно алеют в своей нержавеющей зелени крупные бусины брусники. Косо, невпопад лежит рыжий, поникший папоротник. И никаких звуков – ничего, кроме шума дождя и шорохов леса.</a:t>
            </a: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 Способы _______________________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редства _________________________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Б. Клевер – один из самых надёжных барометров. Он заранее знает о том, что погода изменится. Достаточно посмотреть на него перед дождём, чтобы убедиться в этом. Перед ненастьем клевер сближает листочки, цветок его на тонкой ножке поникает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пособы _______________________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Средства _________________________ 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9T11:47:15Z</dcterms:created>
  <dc:creator>oleg</dc:creator>
  <dc:description/>
  <dc:language>en-US</dc:language>
  <cp:lastModifiedBy>oleg</cp:lastModifiedBy>
  <dcterms:modified xsi:type="dcterms:W3CDTF">2017-11-29T17:09:52Z</dcterms:modified>
  <cp:revision>5</cp:revision>
  <dc:subject/>
  <dc:title>Петрова Наталья Николаевна</dc:title>
</cp:coreProperties>
</file>