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8C1F-0EEF-403B-A605-49F46F79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310-DC2E-4F06-B752-6E5B4303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FBB9-085B-42E0-BFE0-06EB1389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D9B-B850-4E71-81F6-DA3F3C8B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CBE8-E1D5-4D88-B2B7-E533F6DC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B245-3210-4EC3-9430-16C73CCD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AA8E-5BB5-4909-8D4B-4CF668D5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EAA2-43EE-4465-B54C-7D9594B9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0CAF-FFBB-48D6-A21A-89A42B70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B33F-44E5-4E14-B703-00B36BC7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C304-C69A-4C98-92E9-BA6FDCEB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088-AC87-49A8-99D7-858EAE06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BD79-4001-4410-AED1-1A2DE112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EFBC-DA7B-48C1-B5CE-DF1D9B64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FF75-44A6-43BA-AB02-BAAF0D9C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6A9C-02C1-4717-9A1B-4895BBDD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50FF-4C5D-44B8-9C19-AB4FC6B3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3E0-50CF-46A3-B9B1-7C6D76EA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2D6-5597-4770-9548-102A290D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73F4-AF65-42C8-B6E1-1B29E05D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E2EA-921F-4ED4-BBE2-1A730E15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2F56-8823-4153-A4DF-D5B477E8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9DF-2829-4FC4-9ADA-0EE1B33E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A2B-D498-4834-B8E1-5B55F0FD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05BC-F3ED-4AB5-8DEC-8BAA426AC9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5320-8018-46E0-B3C2-E7B68DACA8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4275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ы и формы работы с различными источниками информации на уроках технологии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Линии чертежа, используемые при составлении схем и инструкционных карт:</a:t>
            </a: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8" name="Picture 4" descr="http://www.vgf.ru/images/lut1.jpg"/>
          <p:cNvPicPr/>
          <p:nvPr/>
        </p:nvPicPr>
        <p:blipFill>
          <a:blip r:embed="rId1"/>
          <a:stretch/>
        </p:blipFill>
        <p:spPr>
          <a:xfrm>
            <a:off x="2700360" y="1628640"/>
            <a:ext cx="5761080" cy="3959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3420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27280" y="260280"/>
            <a:ext cx="6121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иния видимого контур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лошная, толстая. Обозначает контур изделия или заготовки, а также надрезы, вырезы, разре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е остальные линии на чертеже примерно в два раза тон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инию сгиб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стоящее время принято изобража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штрих-пунктиром с двумя т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севая, центровая ли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ужит для обозначения оси симметрии в симметричных деталях; обозначаетс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штрих-пункти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68000" y="259920"/>
            <a:ext cx="6875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носная и размерная лини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сплошные тонкие - являются вспомогательными. Они служат для обозначения размеров детали или изделия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мерная ли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граничена с обеих сторон стрелками, которые острыми концами упираются в размерные линии. Размеры обозначаются над серединой размерной линии. Размеры круглых деталей или отверстий обозначают с помощью ради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мерные чис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ычно указывают в миллиметрах. В начальной школе допустимо все размеры обозначать в сантиметрах, но в этом случае - с обязательным указанием наимен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еста нанесения кле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это особое условное обозначение. Участки, на которые наносится клей, обозначают штриховкой. При этом иногда различают нанесение клея с лицевой стороны (сплошные линии штриховки) и с изнаночной стороны детали (штриховка прерывистыми линия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dc5b84b25b3da2ad812a98806a148ff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img8"/>
          <p:cNvPicPr/>
          <p:nvPr/>
        </p:nvPicPr>
        <p:blipFill>
          <a:blip r:embed="rId1"/>
          <a:stretch/>
        </p:blipFill>
        <p:spPr>
          <a:xfrm>
            <a:off x="2268360" y="0"/>
            <a:ext cx="687564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08-5"/>
          <p:cNvPicPr/>
          <p:nvPr/>
        </p:nvPicPr>
        <p:blipFill>
          <a:blip r:embed="rId1"/>
          <a:stretch/>
        </p:blipFill>
        <p:spPr>
          <a:xfrm>
            <a:off x="2268360" y="0"/>
            <a:ext cx="669636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img9"/>
          <p:cNvPicPr/>
          <p:nvPr/>
        </p:nvPicPr>
        <p:blipFill>
          <a:blip r:embed="rId1"/>
          <a:stretch/>
        </p:blipFill>
        <p:spPr>
          <a:xfrm>
            <a:off x="2195640" y="0"/>
            <a:ext cx="694836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img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0"/>
          <p:cNvPicPr/>
          <p:nvPr/>
        </p:nvPicPr>
        <p:blipFill>
          <a:blip r:embed="rId1"/>
          <a:stretch/>
        </p:blipFill>
        <p:spPr>
          <a:xfrm>
            <a:off x="2214720" y="142920"/>
            <a:ext cx="6929280" cy="63579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1"/>
          <p:cNvPicPr/>
          <p:nvPr/>
        </p:nvPicPr>
        <p:blipFill>
          <a:blip r:embed="rId1"/>
          <a:stretch/>
        </p:blipFill>
        <p:spPr>
          <a:xfrm>
            <a:off x="2214720" y="500040"/>
            <a:ext cx="6572160" cy="6000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340000" y="333000"/>
            <a:ext cx="6408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лассификация методов по источнику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ловесный метод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сска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с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ъясн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нструктаж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глядные методы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учения в начальной школ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емонстр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2"/>
          <p:cNvPicPr/>
          <p:nvPr/>
        </p:nvPicPr>
        <p:blipFill>
          <a:blip r:embed="rId1"/>
          <a:stretch/>
        </p:blipFill>
        <p:spPr>
          <a:xfrm>
            <a:off x="2286000" y="214200"/>
            <a:ext cx="3929040" cy="29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3"/>
          <p:cNvPicPr/>
          <p:nvPr/>
        </p:nvPicPr>
        <p:blipFill>
          <a:blip r:embed="rId2"/>
          <a:stretch/>
        </p:blipFill>
        <p:spPr>
          <a:xfrm>
            <a:off x="2214720" y="3214800"/>
            <a:ext cx="6500520" cy="3500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4"/>
          <p:cNvPicPr/>
          <p:nvPr/>
        </p:nvPicPr>
        <p:blipFill>
          <a:blip r:embed="rId1"/>
          <a:stretch/>
        </p:blipFill>
        <p:spPr>
          <a:xfrm>
            <a:off x="2214720" y="571680"/>
            <a:ext cx="6929280" cy="5786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5"/>
          <p:cNvPicPr/>
          <p:nvPr/>
        </p:nvPicPr>
        <p:blipFill>
          <a:blip r:embed="rId1"/>
          <a:stretch/>
        </p:blipFill>
        <p:spPr>
          <a:xfrm>
            <a:off x="2286000" y="285840"/>
            <a:ext cx="6715080" cy="63579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6"/>
          <p:cNvPicPr/>
          <p:nvPr/>
        </p:nvPicPr>
        <p:blipFill>
          <a:blip r:embed="rId1"/>
          <a:stretch/>
        </p:blipFill>
        <p:spPr>
          <a:xfrm>
            <a:off x="2214720" y="500040"/>
            <a:ext cx="6643440" cy="6143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15640" y="404640"/>
            <a:ext cx="72658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монстр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демонстрация опытов по изучению свойств материалов, операций, действий по выполнению изделий, различных образцов изделий, декоративно-прикладного искусств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Bumaga2_3"/>
          <p:cNvPicPr/>
          <p:nvPr/>
        </p:nvPicPr>
        <p:blipFill>
          <a:blip r:embed="rId1"/>
          <a:stretch/>
        </p:blipFill>
        <p:spPr>
          <a:xfrm>
            <a:off x="2340000" y="1700280"/>
            <a:ext cx="5975280" cy="4895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6840" y="25668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Образцы издели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slide_16"/>
          <p:cNvPicPr/>
          <p:nvPr/>
        </p:nvPicPr>
        <p:blipFill>
          <a:blip r:embed="rId1"/>
          <a:stretch/>
        </p:blipFill>
        <p:spPr>
          <a:xfrm>
            <a:off x="2195640" y="907920"/>
            <a:ext cx="6769080" cy="5726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420480"/>
            <a:ext cx="640080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хемы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4" name="Picture 4" descr="6"/>
          <p:cNvPicPr/>
          <p:nvPr/>
        </p:nvPicPr>
        <p:blipFill>
          <a:blip r:embed="rId1"/>
          <a:stretch/>
        </p:blipFill>
        <p:spPr>
          <a:xfrm>
            <a:off x="2195640" y="1295280"/>
            <a:ext cx="6553080" cy="4726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Инструкционные карты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78"/>
          <p:cNvPicPr/>
          <p:nvPr/>
        </p:nvPicPr>
        <p:blipFill>
          <a:blip r:embed="rId1"/>
          <a:stretch/>
        </p:blipFill>
        <p:spPr>
          <a:xfrm>
            <a:off x="2195640" y="1125360"/>
            <a:ext cx="6696000" cy="532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Комбинированная инструкционная карта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Bumaga_6"/>
          <p:cNvPicPr/>
          <p:nvPr/>
        </p:nvPicPr>
        <p:blipFill>
          <a:blip r:embed="rId1"/>
          <a:stretch/>
        </p:blipFill>
        <p:spPr>
          <a:xfrm>
            <a:off x="2195640" y="765000"/>
            <a:ext cx="6767280" cy="5832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Графическая инструкционная карта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Bumaga_4"/>
          <p:cNvPicPr/>
          <p:nvPr/>
        </p:nvPicPr>
        <p:blipFill>
          <a:blip r:embed="rId1"/>
          <a:stretch/>
        </p:blipFill>
        <p:spPr>
          <a:xfrm>
            <a:off x="2340000" y="981000"/>
            <a:ext cx="6408720" cy="54738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6840" y="474480"/>
            <a:ext cx="6400800" cy="33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наглядная инструкционная карта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67080" y="1652760"/>
            <a:ext cx="63482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Bumaga_1"/>
          <p:cNvPicPr/>
          <p:nvPr/>
        </p:nvPicPr>
        <p:blipFill>
          <a:blip r:embed="rId1"/>
          <a:stretch/>
        </p:blipFill>
        <p:spPr>
          <a:xfrm>
            <a:off x="2340000" y="836640"/>
            <a:ext cx="6480000" cy="5761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7T03:29:24Z</dcterms:created>
  <dc:creator>win7</dc:creator>
  <dc:description/>
  <dc:language>en-US</dc:language>
  <cp:lastModifiedBy>win7</cp:lastModifiedBy>
  <dcterms:modified xsi:type="dcterms:W3CDTF">2018-05-12T12:11:50Z</dcterms:modified>
  <cp:revision>7</cp:revision>
  <dc:subject/>
  <dc:title>Слайд 1</dc:title>
</cp:coreProperties>
</file>