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B70-D35A-4BD3-918D-06CA8DEF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C15-F921-423D-AE8B-0D7920C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A0E-1925-490A-8C8E-E9756A3C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C33-D1AB-4365-9925-EC2E3F42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4E8C-9B06-4F78-AD4B-C39807E1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EB71-D1D5-4EE2-BA71-A5BE6D0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8F03-A1B7-4DCB-8B92-E15C80D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476-AA74-4757-8948-4F6CC9DD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68DF-B1E0-4211-B43F-381E7BFF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C507-8CEE-4EB3-8C3B-5B0EA48F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AEB-0FFA-47F5-972E-12869ED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6AD-9A2F-4151-A3B3-078EB0E7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A367-7CFB-4200-BEEA-3628FB8A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AF91-CE73-4766-8919-BD7CFA3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8AD7-9DCD-4660-B79A-B3F08FC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21A-D0E6-4AC5-A840-3430040D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92F-5AD5-4050-91FE-80FCAE93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1C4-3F47-4465-B65E-206C6629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99F-4C40-439A-9D0F-7EAC31D3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815-983B-496B-ABE9-2C2309CB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CA7-FF58-4367-9E1E-8C79631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6D6-9FDD-4CF3-AFB2-C209D4E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2C5-1938-4C73-B32A-BD323B3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7CC-CCDF-495B-A285-C906AD1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94B-BDCD-4DEF-A4D5-9DA5A8A684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922-AD95-4213-AD57-AD95097E40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4275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 и формы работы с различными источниками информации на уроках технологии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Линии чертежа, используемые при составлении схем и инструкционных карт: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Picture 4" descr="http://www.vgf.ru/images/lut1.jpg"/>
          <p:cNvPicPr/>
          <p:nvPr/>
        </p:nvPicPr>
        <p:blipFill>
          <a:blip r:embed="rId1"/>
          <a:stretch/>
        </p:blipFill>
        <p:spPr>
          <a:xfrm>
            <a:off x="2700360" y="1628640"/>
            <a:ext cx="5761080" cy="395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34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27280" y="260280"/>
            <a:ext cx="612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ния видимого контур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лошная, толстая. Обозначает контур изделия или заготовки, а также надрезы, вырезы, разре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остальные линии на чертеже примерно в два раза то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нию сгиб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принято изобража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штрих-пунктиром с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евая, центровая ли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жит для обозначения оси симметрии в симметричных деталях; обознач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штрих-пункт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68000" y="259920"/>
            <a:ext cx="6875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носная и размерная лини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плошные тонкие - являются вспомогательными. Они служат для обозначения размеров детали или издели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ная ли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граничена с обеих сторон стрелками, которые острыми концами упираются в размерные линии. Размеры обозначаются над серединой размерной линии. Размеры круглых деталей или отверстий обозначают с помощью рад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ные чис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ычно указывают в миллиметрах. В начальной школе допустимо все размеры обозначать в сантиметрах, но в этом случае - с обязательным указанием наиме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еста нанесения кле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особое условное обозначение. Участки, на которые наносится клей, обозначают штриховкой. При этом иногда различают нанесение клея с лицевой стороны (сплошные линии штриховки) и с изнаночной стороны детали (штриховка прерывистыми лин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c5b84b25b3da2ad812a98806a148f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g8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08-5"/>
          <p:cNvPicPr/>
          <p:nvPr/>
        </p:nvPicPr>
        <p:blipFill>
          <a:blip r:embed="rId1"/>
          <a:stretch/>
        </p:blipFill>
        <p:spPr>
          <a:xfrm>
            <a:off x="2268360" y="0"/>
            <a:ext cx="66963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9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mg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0"/>
          <p:cNvPicPr/>
          <p:nvPr/>
        </p:nvPicPr>
        <p:blipFill>
          <a:blip r:embed="rId1"/>
          <a:stretch/>
        </p:blipFill>
        <p:spPr>
          <a:xfrm>
            <a:off x="2214720" y="142920"/>
            <a:ext cx="6929280" cy="635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1"/>
          <p:cNvPicPr/>
          <p:nvPr/>
        </p:nvPicPr>
        <p:blipFill>
          <a:blip r:embed="rId1"/>
          <a:stretch/>
        </p:blipFill>
        <p:spPr>
          <a:xfrm>
            <a:off x="2214720" y="500040"/>
            <a:ext cx="6572160" cy="600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40000" y="333000"/>
            <a:ext cx="6408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ификация методов по источнику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есный метод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структа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глядные метод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я в начальной школ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монст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2"/>
          <p:cNvPicPr/>
          <p:nvPr/>
        </p:nvPicPr>
        <p:blipFill>
          <a:blip r:embed="rId1"/>
          <a:stretch/>
        </p:blipFill>
        <p:spPr>
          <a:xfrm>
            <a:off x="2286000" y="21420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3"/>
          <p:cNvPicPr/>
          <p:nvPr/>
        </p:nvPicPr>
        <p:blipFill>
          <a:blip r:embed="rId2"/>
          <a:stretch/>
        </p:blipFill>
        <p:spPr>
          <a:xfrm>
            <a:off x="2214720" y="3214800"/>
            <a:ext cx="6500520" cy="35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4"/>
          <p:cNvPicPr/>
          <p:nvPr/>
        </p:nvPicPr>
        <p:blipFill>
          <a:blip r:embed="rId1"/>
          <a:stretch/>
        </p:blipFill>
        <p:spPr>
          <a:xfrm>
            <a:off x="2214720" y="571680"/>
            <a:ext cx="6929280" cy="5786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5"/>
          <p:cNvPicPr/>
          <p:nvPr/>
        </p:nvPicPr>
        <p:blipFill>
          <a:blip r:embed="rId1"/>
          <a:stretch/>
        </p:blipFill>
        <p:spPr>
          <a:xfrm>
            <a:off x="2286000" y="285840"/>
            <a:ext cx="6715080" cy="635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6"/>
          <p:cNvPicPr/>
          <p:nvPr/>
        </p:nvPicPr>
        <p:blipFill>
          <a:blip r:embed="rId1"/>
          <a:stretch/>
        </p:blipFill>
        <p:spPr>
          <a:xfrm>
            <a:off x="2214720" y="500040"/>
            <a:ext cx="6643440" cy="6143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265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монст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емонстрация опытов по изучению свойств материалов, операций, действий по выполнению изделий, различных образцов изделий, декоративно-прикладного искус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Bumaga2_3"/>
          <p:cNvPicPr/>
          <p:nvPr/>
        </p:nvPicPr>
        <p:blipFill>
          <a:blip r:embed="rId1"/>
          <a:stretch/>
        </p:blipFill>
        <p:spPr>
          <a:xfrm>
            <a:off x="2340000" y="1700280"/>
            <a:ext cx="5975280" cy="4895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6840" y="25668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Образцы издели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lide_16"/>
          <p:cNvPicPr/>
          <p:nvPr/>
        </p:nvPicPr>
        <p:blipFill>
          <a:blip r:embed="rId1"/>
          <a:stretch/>
        </p:blipFill>
        <p:spPr>
          <a:xfrm>
            <a:off x="2195640" y="907920"/>
            <a:ext cx="6769080" cy="5726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420480"/>
            <a:ext cx="64008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хемы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Picture 4" descr="6"/>
          <p:cNvPicPr/>
          <p:nvPr/>
        </p:nvPicPr>
        <p:blipFill>
          <a:blip r:embed="rId1"/>
          <a:stretch/>
        </p:blipFill>
        <p:spPr>
          <a:xfrm>
            <a:off x="2195640" y="129528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Инструкционные карты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78"/>
          <p:cNvPicPr/>
          <p:nvPr/>
        </p:nvPicPr>
        <p:blipFill>
          <a:blip r:embed="rId1"/>
          <a:stretch/>
        </p:blipFill>
        <p:spPr>
          <a:xfrm>
            <a:off x="2195640" y="1125360"/>
            <a:ext cx="6696000" cy="532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Комбинированн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umaga_6"/>
          <p:cNvPicPr/>
          <p:nvPr/>
        </p:nvPicPr>
        <p:blipFill>
          <a:blip r:embed="rId1"/>
          <a:stretch/>
        </p:blipFill>
        <p:spPr>
          <a:xfrm>
            <a:off x="2195640" y="765000"/>
            <a:ext cx="6767280" cy="5832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Графическ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umaga_4"/>
          <p:cNvPicPr/>
          <p:nvPr/>
        </p:nvPicPr>
        <p:blipFill>
          <a:blip r:embed="rId1"/>
          <a:stretch/>
        </p:blipFill>
        <p:spPr>
          <a:xfrm>
            <a:off x="2340000" y="981000"/>
            <a:ext cx="6408720" cy="5473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6840" y="474480"/>
            <a:ext cx="640080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наглядн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67080" y="1652760"/>
            <a:ext cx="6348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Bumaga_1"/>
          <p:cNvPicPr/>
          <p:nvPr/>
        </p:nvPicPr>
        <p:blipFill>
          <a:blip r:embed="rId1"/>
          <a:stretch/>
        </p:blipFill>
        <p:spPr>
          <a:xfrm>
            <a:off x="2340000" y="836640"/>
            <a:ext cx="6480000" cy="5761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03:29:24Z</dcterms:created>
  <dc:creator>win7</dc:creator>
  <dc:description/>
  <dc:language>en-US</dc:language>
  <cp:lastModifiedBy>win7</cp:lastModifiedBy>
  <dcterms:modified xsi:type="dcterms:W3CDTF">2018-05-12T12:11:50Z</dcterms:modified>
  <cp:revision>7</cp:revision>
  <dc:subject/>
  <dc:title>Слайд 1</dc:title>
</cp:coreProperties>
</file>