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63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6375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37560"/>
              <a:gd name="textAreaBottom" fmla="*/ 9637200 h 9637560"/>
            </a:gdLst>
            <a:ahLst/>
            <a:rect l="textAreaLeft" t="textAreaTop" r="textAreaRight" b="textAreaBottom"/>
            <a:pathLst>
              <a:path w="21600" h="30354">
                <a:moveTo>
                  <a:pt x="5" y="0"/>
                </a:moveTo>
                <a:arcTo wR="5" hR="5" stAng="16200000" swAng="-5400000"/>
                <a:lnTo>
                  <a:pt x="0" y="30349"/>
                </a:lnTo>
                <a:arcTo wR="5" hR="5" stAng="10800000" swAng="-5400000"/>
                <a:lnTo>
                  <a:pt x="21595" y="303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6375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37560"/>
              <a:gd name="textAreaBottom" fmla="*/ 9637200 h 9637560"/>
            </a:gdLst>
            <a:ahLst/>
            <a:rect l="textAreaLeft" t="textAreaTop" r="textAreaRight" b="textAreaBottom"/>
            <a:pathLst>
              <a:path w="21600" h="30354">
                <a:moveTo>
                  <a:pt x="5" y="0"/>
                </a:moveTo>
                <a:arcTo wR="5" hR="5" stAng="16200000" swAng="-5400000"/>
                <a:lnTo>
                  <a:pt x="0" y="30349"/>
                </a:lnTo>
                <a:arcTo wR="5" hR="5" stAng="10800000" swAng="-5400000"/>
                <a:lnTo>
                  <a:pt x="21595" y="303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20600" y="721800"/>
            <a:ext cx="4816800" cy="36118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Lucida Sans Unicode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440" y="4578480"/>
            <a:ext cx="548316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3"/>
          </p:nvPr>
        </p:nvSpPr>
        <p:spPr>
          <a:xfrm>
            <a:off x="3884760" y="9153360"/>
            <a:ext cx="2968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756718-15B0-48AB-B187-1D41F73E233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750AE-5CA5-4C6E-9A99-E416EE67DFB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2060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2060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DDB54-061A-4836-B7B2-477FCEB356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0222A-5301-4518-B4C2-15D3FE2CD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C82CF-9253-4DC9-9D2F-D77D434EF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A33E-8F69-4189-A988-8003609F81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63D6-4195-4E18-94A7-805503A16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BB4CD-A66D-49BF-B8D7-F866E3BC71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9778B-116C-44DD-93EF-F6515E0F5C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216ED-706F-47C4-9BCC-AC5B57EA71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94898-4B87-4AC1-8AA8-3750BF59DE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249E7-3743-4D4B-AF95-2FDD2EB93F5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8EE57-EBB2-4561-9055-06301242FB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50B70-7580-44E0-A944-2859EC0A64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77A09-BA22-4588-ABF9-8541EFA9F8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A2152-C302-4F57-A2A5-9797E02726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F0B59-DAB4-4523-8830-661D9EC7C1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5E11-5266-4A4F-87CE-3C437033F5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ABC81-D318-4504-91C9-D0DF05C14CD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B2B41-EBCE-4E9A-AE71-EEAE415F4C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D6FFE-9196-4936-A78F-2EB342458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8D2A-5055-41B2-AA85-C5073F702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D1B8-B09F-4755-8DB6-C34BCCB4C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FEBD-B775-4059-AFF5-CE7C3E2C88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417F5-A5BA-4AED-93AC-A32855BDB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8845E-DDFF-4EC8-9BF6-64C583C1E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8035-6F31-4588-8118-A2C3A250A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0F506-B3DD-40D8-8C20-F6BBDC5ED0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C14A9-3325-442B-B1E0-67516E665CA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8458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Lucida Sans Unicode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Lucida Sans Unicode"/>
              </a:rPr>
              <a:t>Квалификационная работа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Lucida Sans Unicode"/>
              </a:rPr>
              <a:t> Тема: «Специфика работы в интегрированном классе на уроках русского языка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Lucida Sans Unicode"/>
              </a:rPr>
              <a:t>Структура ошибок стартового уровн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04800" y="1600200"/>
          <a:ext cx="61344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600200"/>
                    <a:ext cx="6134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fill="hold">
                      <p:stCondLst>
                        <p:cond delay="0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04920"/>
            <a:ext cx="822960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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группа – дети с высоким уровнем усво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учебного материала (без ошибок)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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группа – дети, показавшие средний уровен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усвоения учебного материа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(1-2 ошиб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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группа – ниже среднего уровня (3-5 ошибо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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V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группа – дети с низким уровнем, показавш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низкие орфографическ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способности (более 6 ошибо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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группа – дети с ЗПР, показавшие низкий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уровень усвоения учебного материа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0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609480"/>
            <a:ext cx="4039920" cy="685800"/>
          </a:xfrm>
          <a:prstGeom prst="rect">
            <a:avLst/>
          </a:prstGeom>
          <a:noFill/>
          <a:ln cap="sq" w="9360">
            <a:solidFill>
              <a:srgbClr val="fdd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Диаграмма 3 «А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1981080"/>
            <a:ext cx="4041720" cy="762120"/>
          </a:xfrm>
          <a:prstGeom prst="rect">
            <a:avLst/>
          </a:prstGeom>
          <a:noFill/>
          <a:ln cap="sq" w="9360">
            <a:solidFill>
              <a:srgbClr val="ffc2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Диаграмма 3 «Б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1523880"/>
          <a:ext cx="426708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42670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800600" y="3395520"/>
          <a:ext cx="4114800" cy="24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395520"/>
                    <a:ext cx="411480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Lucida Sans Unicode"/>
              </a:rPr>
              <a:t>Обучающий этап эксперим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209680"/>
            <a:ext cx="3733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d1900"/>
                </a:solidFill>
                <a:latin typeface="Lucida Sans Unicode"/>
              </a:rPr>
              <a:t> </a:t>
            </a:r>
            <a:r>
              <a:rPr b="0" lang="ru-RU" sz="3200" spc="-1" strike="noStrike">
                <a:solidFill>
                  <a:srgbClr val="4d1900"/>
                </a:solidFill>
                <a:latin typeface="Lucida Sans Unicode"/>
              </a:rPr>
              <a:t>3 </a:t>
            </a:r>
            <a:r>
              <a:rPr b="0" lang="ru-RU" sz="3200" spc="-1" strike="noStrike">
                <a:solidFill>
                  <a:srgbClr val="993300"/>
                </a:solidFill>
                <a:latin typeface="Lucida Sans Unicode"/>
              </a:rPr>
              <a:t>«А» класс – эксперимен-тальная груп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2209680"/>
            <a:ext cx="388620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Lucida Sans Unicode"/>
              </a:rPr>
              <a:t>3 «Б» класс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Lucida Sans Unicode"/>
              </a:rPr>
              <a:t>контрольная груп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1143000"/>
            <a:ext cx="484200" cy="749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9900"/>
          </a:solidFill>
          <a:ln cap="sq"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1143000"/>
            <a:ext cx="484200" cy="749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9900"/>
          </a:solidFill>
          <a:ln cap="sq"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524880" cy="68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5248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380880"/>
            <a:ext cx="8229600" cy="58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а) упражнения с отдельными слов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пишите слова, поставьте ударение, вставьте пропущенную       букву. Какие слова будут проверочными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Шаг, шаговый – ш…ги; мостик, мост – м…сты; дом, домик – д…ма; поле, полюшко – п…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пиши, вставляя пропущенные буквы. Припишите из скобок нужное проверочное слово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М…рщина (морщины, сморщенный); зв…зда (звёздный, звёзды); п..тёрки (пятёрочка, пять, пятый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Выберите из слов проверочные и запишите их к данному корню (слова диктует учитель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- мест-  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Местечко, местный, место, вместить, разместил, вместительный, предместь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371600"/>
            <a:ext cx="228600" cy="228600"/>
          </a:xfrm>
          <a:prstGeom prst="ellipse">
            <a:avLst/>
          </a:prstGeom>
          <a:solidFill>
            <a:srgbClr val="92d050"/>
          </a:solidFill>
          <a:ln cap="sq"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743200"/>
            <a:ext cx="228600" cy="228600"/>
          </a:xfrm>
          <a:prstGeom prst="ellipse">
            <a:avLst/>
          </a:prstGeom>
          <a:solidFill>
            <a:srgbClr val="0070c0"/>
          </a:solidFill>
          <a:ln cap="sq"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4114800"/>
            <a:ext cx="228600" cy="22860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б) упражнения с предложения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Вставь пропущенную букву, поставь ударение. Подчеркни проверочные слова. 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Варят в…ренье в таз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                                     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ад   осмотрел с…довни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К выделенным словам подберите однокоренные. Выделите корень. Какой является в корне гласная? Подчеркни её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Часики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чинит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…                        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часовщик, сторож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Лес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охраняет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…                          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адовник, мастер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За садом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ухаживает…                    ле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о словосочетаниями составьте предложения. Подчеркните из родственных слов – проверочны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Лесная дорога; лес расположил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Хитрая лиса; лисья но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219320"/>
            <a:ext cx="228600" cy="2286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286000"/>
            <a:ext cx="228600" cy="2286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0384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Ос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Осень. Над лесом взошло солнце. Лучи осветили вершины деревьев. Кругом тишина и прохлада. Только птицы хлопочут около ягод ряб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По полю по узкой дорожке идёт группа детей с Верой Ивановной. Это ребята из села Дубки. Они спешат на поезд в город. Там дети пойдут в кукольный теат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Грамматическое зад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Подчеркнуть орфограммы в корне слов: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вершины, тишина, поезд, дорож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Для сильных учащихся  – выписать из текста 3 слова с проверяемой безударной гласной, через тире написать проверочные сло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533520"/>
            <a:ext cx="4040280" cy="639720"/>
          </a:xfrm>
          <a:prstGeom prst="rect">
            <a:avLst/>
          </a:prstGeom>
          <a:noFill/>
          <a:ln cap="sq" w="9360">
            <a:solidFill>
              <a:srgbClr val="fdd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Результаты 3 «А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1600200"/>
          <a:ext cx="403884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403884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648320" y="2362320"/>
            <a:ext cx="4041720" cy="639720"/>
          </a:xfrm>
          <a:prstGeom prst="rect">
            <a:avLst/>
          </a:prstGeom>
          <a:noFill/>
          <a:ln cap="sq" w="9360">
            <a:solidFill>
              <a:srgbClr val="fdd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Результаты 3 «Б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48320" y="3505320"/>
          <a:ext cx="411768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505320"/>
                    <a:ext cx="4117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feec94"/>
                </a:solidFill>
                <a:latin typeface="Lucida Sans Unicode"/>
              </a:rPr>
              <a:t>Выводы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219320"/>
            <a:ext cx="82296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в интегрированном классе необходим учёт потенциальных возможностей каждого уче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понимание причин затруднений в обучени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необходимо создание благоприятных условий для успешного обучения любого ребён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оказание педагогической поддержки и своевременной коррекционной помощ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необходима коррекционная направленность образовательного процес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0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Lucida Sans Unicode"/>
              </a:rPr>
              <a:t>Цель</a:t>
            </a: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Поиск эффективных путей реализации индивидуально-дифференцированного подхода при организации совместной учебной деятельности детей с ЗПР и их нормально развивающихся сверстников в условиях интегрированного класса общеобразовательной шко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029120" cy="4114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038480" y="48769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Презентацию подготовила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Годер Анастасия  Валентин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0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Lucida Sans Unicode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изучить состояние теоретической разработанности проблемы исследования в психолого-педагогической и методической литератур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Lucida Sans Unicode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определить педагогические условия, методические приёмы, обеспечивающие эффективность индивидуализации обучения русскому языку в условиях интегрированного класс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Lucida Sans Unicode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на основе педагогической диагностики выявить причины школьных трудностей детей с ЗПР при обучении русскому язы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Lucida Sans Unicode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наметить эффективные пути реализации индивидуального подхода для включения в совместную учебную деятельность детей с ЗПР и нормально развивающихся детей при изучении правила о безударной проверяемой гласной в кор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200" y="2286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28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Объек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: учебная деятельность детей с ЗПР, обучающихся в условиях интегрированного класса начальной шко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Предме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: процесс обучения русскому языку в условиях интегрированного класса начальной шко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Гипотеза</a:t>
            </a:r>
            <a:r>
              <a:rPr b="1" lang="ru-RU" sz="2800" spc="-1" strike="noStrike">
                <a:solidFill>
                  <a:srgbClr val="ffffff"/>
                </a:solidFill>
                <a:latin typeface="Lucida Sans Unicode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обучение детей с ЗПР в общеобразовательном классе возможно при реализации индивидуально-дифференцированного подхода и проведении коррекционно-развивающей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Lucida Sans Unicode"/>
              </a:rPr>
              <a:t>Большой вклад в развитие интегрированного обучения внес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Л.С. Выгот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основоположник идеи интегрированного обучения в отечественной педагог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Н.Н. Малофе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Н.М. Назар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Е.А. Екжан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Н.Д. Шматк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Л.Е. Шевчук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Lucida Sans Unicode"/>
              </a:rPr>
              <a:t>Теоретическая часть исследов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Особенности интегрированного обучения в Ро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Характерные черты детей с ЗПР и трудности их обу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Трудности, возникающие у детей с задержкой психического развития в овладении предметом русского язы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dur="indefinite" fill="hold">
                            <p:stCondLst>
                              <p:cond delay="1950"/>
                            </p:stCondLst>
                            <p:childTnLst>
                              <p:par>
                                <p:cTn id="7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2950"/>
                            </p:stCondLst>
                            <p:childTnLst>
                              <p:par>
                                <p:cTn id="7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3950"/>
                            </p:stCondLst>
                            <p:childTnLst>
                              <p:par>
                                <p:cTn id="8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304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eec94"/>
                </a:solidFill>
                <a:latin typeface="Lucida Sans Unicode"/>
              </a:rPr>
              <a:t>экспериментальная часть исследования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Lucida Sans Unicode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eec94"/>
                </a:solidFill>
                <a:latin typeface="Lucida Sans Unicode"/>
              </a:rPr>
              <a:t>констатирующий     обучающий      контрольны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27636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0" y="2514600"/>
            <a:ext cx="40384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В эксперименте приняло участие  два класса, в которые интегрированы дети с задержкой психического развит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3 «А» класс – 23 учащихся, двое учеников с ЗПР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3 «Б» класс – 23 ученика, два из которых имеют ЗП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 flipH="1">
            <a:off x="1676160" y="1064880"/>
            <a:ext cx="457920" cy="229320"/>
          </a:xfrm>
          <a:prstGeom prst="straightConnector1">
            <a:avLst/>
          </a:prstGeom>
          <a:ln cap="sq"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4" name=""/>
          <p:cNvCxnSpPr/>
          <p:nvPr/>
        </p:nvCxnSpPr>
        <p:spPr>
          <a:xfrm flipH="1">
            <a:off x="4722480" y="1066320"/>
            <a:ext cx="2160" cy="306720"/>
          </a:xfrm>
          <a:prstGeom prst="straightConnector1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/>
          <p:nvPr/>
        </p:nvCxnSpPr>
        <p:spPr>
          <a:xfrm>
            <a:off x="6858000" y="1066320"/>
            <a:ext cx="457920" cy="229320"/>
          </a:xfrm>
          <a:prstGeom prst="straightConnector1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</p:cxn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0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304920"/>
            <a:ext cx="8229600" cy="58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Янв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Наступил январь. Стоят сильные морозы. Резкий ветер щиплет лицо и уши. Снег пушистым ковром лежит на полях и холмах. В лесу замело все дорожки. По лесу можно ходить только на лыжах. На реке блестит гладкий лёд. Там ребята сделали большой каток. На катке всегда весел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Грамматическое зад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Подчеркнуть орфограммы в корне слов: </a:t>
            </a: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тоят, пушистым, холмах, блести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</a:t>
            </a: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Для сильных учащихся – выписать эти слова и через тире написать проверочные сл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0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7920"/>
          <a:ext cx="8230680" cy="7341840"/>
        </p:xfrm>
        <a:graphic>
          <a:graphicData uri="http://schemas.openxmlformats.org/drawingml/2006/table">
            <a:tbl>
              <a:tblPr/>
              <a:tblGrid>
                <a:gridCol w="685800"/>
                <a:gridCol w="2591280"/>
                <a:gridCol w="1219320"/>
                <a:gridCol w="1295640"/>
                <a:gridCol w="1219320"/>
                <a:gridCol w="1219320"/>
              </a:tblGrid>
              <a:tr h="54360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орф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Кол-во ошиб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Ср. арифметиче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Нор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Нор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11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Безударные гласные в корне, проверяемые ударени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Непроверяемые написания в корне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Парные согласные на конце и в середине с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Гласные после шипящ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Мягкий знак показатель мягк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Приставки и предло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Перенос с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Окончания имён прилагатель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Оформление предлож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Пропуск, замена, перестановка бук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8-16T19:40:07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