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637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637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6858000" cy="96375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37560"/>
              <a:gd name="textAreaBottom" fmla="*/ 9637200 h 9637560"/>
            </a:gdLst>
            <a:ahLst/>
            <a:rect l="textAreaLeft" t="textAreaTop" r="textAreaRight" b="textAreaBottom"/>
            <a:pathLst>
              <a:path w="21600" h="30354">
                <a:moveTo>
                  <a:pt x="5" y="0"/>
                </a:moveTo>
                <a:arcTo wR="5" hR="5" stAng="16200000" swAng="-5400000"/>
                <a:lnTo>
                  <a:pt x="0" y="30349"/>
                </a:lnTo>
                <a:arcTo wR="5" hR="5" stAng="10800000" swAng="-5400000"/>
                <a:lnTo>
                  <a:pt x="21595" y="303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6858000" cy="96375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637560"/>
              <a:gd name="textAreaBottom" fmla="*/ 9637200 h 9637560"/>
            </a:gdLst>
            <a:ahLst/>
            <a:rect l="textAreaLeft" t="textAreaTop" r="textAreaRight" b="textAreaBottom"/>
            <a:pathLst>
              <a:path w="21600" h="30354">
                <a:moveTo>
                  <a:pt x="5" y="0"/>
                </a:moveTo>
                <a:arcTo wR="5" hR="5" stAng="16200000" swAng="-5400000"/>
                <a:lnTo>
                  <a:pt x="0" y="30349"/>
                </a:lnTo>
                <a:arcTo wR="5" hR="5" stAng="10800000" swAng="-5400000"/>
                <a:lnTo>
                  <a:pt x="21595" y="3035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4760" y="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020600" y="721800"/>
            <a:ext cx="4816800" cy="36118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Lucida Sans Unicode"/>
              </a:rPr>
              <a:t>Click to move the slide</a:t>
            </a: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440" y="4578480"/>
            <a:ext cx="5483160" cy="43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3"/>
          </p:nvPr>
        </p:nvSpPr>
        <p:spPr>
          <a:xfrm>
            <a:off x="3884760" y="9153360"/>
            <a:ext cx="29685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D5A072-FD01-4ADD-BE24-BC6DA63559C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E7806-E2BB-4989-90F9-F537B72909B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2060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020600" y="722160"/>
            <a:ext cx="4819680" cy="361476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578120"/>
            <a:ext cx="5486400" cy="433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84760" y="9153360"/>
            <a:ext cx="29718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25A16-3035-46D7-8D07-2B12B809229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747AF-CC5D-41A8-AE4B-80450FC78C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39E50-1010-4BB0-8758-D891C84D2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69B7-7361-49B8-8D3C-22321ED6C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9FF04-6DFB-416C-A55D-08E6D55B2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4325-35AE-4620-88C2-94C25543A7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99F127-AB99-469F-8D81-CE8DAA25BD9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83009-1939-4118-9977-AB4AD4D414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3FB8-7049-420A-978C-1ECE4D7A005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82EFF-3E1A-476A-BD50-B3791D5A17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F9A57-8F59-445A-887A-2A40DE6B034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CB05B-E166-4CC8-85F3-06135F4564E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32F03-5952-409D-8CF9-A7B3C4D29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5B0D1-3BD7-451B-BB65-85F46AEF26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B115-D02A-4666-81DA-7DA3B8E44E5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1A6CE-FF47-4205-9BE7-BB96E0FB57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E285-5A58-466A-AA2D-764427F173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ECC73-8A57-4918-87D7-9F8C1E0738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2F756-68FE-48BA-9F62-43052FE45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3DF3A-86A5-4030-81E7-BED2476CEA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3A606-1147-434C-A587-EFFAEA0F4B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4DE13-A311-43B8-8B9A-FF505D2EF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D114-80EE-4BFA-844F-0C44C595A5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ABAB-4660-43B3-A036-F7A2527DC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031B-6631-4E82-8EDA-C77A3396D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89520" cy="31240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49800" cy="25430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19760" cy="14936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1520" cy="1893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6640" cy="35942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5720" cy="23907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2400" cy="1276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6360" cy="1666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48280" cy="11793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0760" cy="4539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0760" cy="5302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0760" cy="45396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57640" cy="32097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0200" cy="28335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6320" cy="375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29000" cy="3067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A05C7-042B-4D7C-8833-38934CA17FB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0760" cy="6931080"/>
            <a:chOff x="0" y="0"/>
            <a:chExt cx="9140760" cy="693108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89520" cy="312408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49800" cy="254304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19760" cy="14936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1520" cy="18936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6640" cy="359424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5720" cy="23907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2400" cy="1276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6360" cy="16668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48280" cy="11793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360" cy="36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0760" cy="45396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0760" cy="530280"/>
            </a:xfrm>
            <a:prstGeom prst="pie">
              <a:avLst/>
            </a:prstGeom>
            <a:gradFill rotWithShape="0">
              <a:gsLst>
                <a:gs pos="0">
                  <a:srgbClr val="993300"/>
                </a:gs>
                <a:gs pos="100000">
                  <a:srgbClr val="4718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0760" cy="453960"/>
            </a:xfrm>
            <a:prstGeom prst="pie">
              <a:avLst/>
            </a:prstGeom>
            <a:gradFill rotWithShape="0">
              <a:gsLst>
                <a:gs pos="0">
                  <a:srgbClr val="693502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57640" cy="320976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0200" cy="283356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6320" cy="3753000"/>
            </a:xfrm>
            <a:prstGeom prst="pie">
              <a:avLst/>
            </a:pr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29000" cy="3067200"/>
            </a:xfrm>
            <a:prstGeom prst="pie">
              <a:avLst/>
            </a:pr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Lucida Sans Unicode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4D4A6-3B66-4F40-A22D-6DA5D22C057A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57200" y="274680"/>
            <a:ext cx="8458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feec94"/>
                </a:solidFill>
                <a:latin typeface="Lucida Sans Unicode"/>
              </a:rPr>
              <a:t> </a:t>
            </a:r>
            <a:r>
              <a:rPr b="1" lang="ru-RU" sz="4000" spc="-1" strike="noStrike">
                <a:solidFill>
                  <a:srgbClr val="feec94"/>
                </a:solidFill>
                <a:latin typeface="Lucida Sans Unicode"/>
              </a:rPr>
              <a:t>Квалификационная работа</a:t>
            </a:r>
            <a:br>
              <a:rPr sz="4000"/>
            </a:br>
            <a:br>
              <a:rPr sz="4000"/>
            </a:br>
            <a:r>
              <a:rPr b="1" lang="ru-RU" sz="4000" spc="-1" strike="noStrike">
                <a:solidFill>
                  <a:srgbClr val="feec94"/>
                </a:solidFill>
                <a:latin typeface="Lucida Sans Unicode"/>
              </a:rPr>
              <a:t> Тема: «Специфика работы в интегрированном классе на уроках русского языка»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Lucida Sans Unicode"/>
              </a:rPr>
              <a:t>Структура ошибок стартового уровн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1504800" y="1600200"/>
          <a:ext cx="61344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4800" y="1600200"/>
                    <a:ext cx="6134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dur="indefinite" fill="hold">
                      <p:stCondLst>
                        <p:cond delay="0"/>
                      </p:stCondLst>
                      <p:childTnLst>
                        <p:par>
                          <p:cTn id="1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304920"/>
            <a:ext cx="8229600" cy="57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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группа – дети с высоким уровнем усвоения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учебного материала (без ошибок)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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I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группа – дети, показавшие средний уровен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усвоения учебного материала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(1-2 ошибки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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II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группа – ниже среднего уровня (3-5 ошибо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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IV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группа – дети с низким уровнем, показавш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низкие орфографически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способности (более 6 ошибок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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Lucida Sans Unicode"/>
              </a:rPr>
              <a:t>V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группа – дети с ЗПР, показавшие низкий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уровень усвоения учебного материал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dur="indefinite" fill="hold">
                      <p:stCondLst>
                        <p:cond delay="0"/>
                      </p:stCondLst>
                      <p:childTnLst>
                        <p:par>
                          <p:cTn id="1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2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04920" y="609480"/>
            <a:ext cx="4039920" cy="685800"/>
          </a:xfrm>
          <a:prstGeom prst="rect">
            <a:avLst/>
          </a:prstGeom>
          <a:noFill/>
          <a:ln cap="sq" w="9360">
            <a:solidFill>
              <a:srgbClr val="fdd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Диаграмма 3 «А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00600" y="1981080"/>
            <a:ext cx="4041720" cy="762120"/>
          </a:xfrm>
          <a:prstGeom prst="rect">
            <a:avLst/>
          </a:prstGeom>
          <a:noFill/>
          <a:ln cap="sq" w="9360">
            <a:solidFill>
              <a:srgbClr val="ffc2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Диаграмма 3 «Б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228600" y="1523880"/>
          <a:ext cx="4267080" cy="266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4267080" cy="266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4800600" y="3395520"/>
          <a:ext cx="4114800" cy="247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395520"/>
                    <a:ext cx="4114800" cy="247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Lucida Sans Unicode"/>
              </a:rPr>
              <a:t>Обучающий этап эксперимент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57200" y="2209680"/>
            <a:ext cx="373392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4d1900"/>
                </a:solidFill>
                <a:latin typeface="Lucida Sans Unicode"/>
              </a:rPr>
              <a:t> </a:t>
            </a:r>
            <a:r>
              <a:rPr b="0" lang="ru-RU" sz="3200" spc="-1" strike="noStrike">
                <a:solidFill>
                  <a:srgbClr val="4d1900"/>
                </a:solidFill>
                <a:latin typeface="Lucida Sans Unicode"/>
              </a:rPr>
              <a:t>3 </a:t>
            </a:r>
            <a:r>
              <a:rPr b="0" lang="ru-RU" sz="3200" spc="-1" strike="noStrike">
                <a:solidFill>
                  <a:srgbClr val="993300"/>
                </a:solidFill>
                <a:latin typeface="Lucida Sans Unicode"/>
              </a:rPr>
              <a:t>«А» класс – эксперимен-тальная груп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2209680"/>
            <a:ext cx="388620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Lucida Sans Unicode"/>
              </a:rPr>
              <a:t>3 «Б» класс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993300"/>
                </a:solidFill>
                <a:latin typeface="Lucida Sans Unicode"/>
              </a:rPr>
              <a:t>контрольная групп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133720" y="1143000"/>
            <a:ext cx="484200" cy="749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9900"/>
          </a:solidFill>
          <a:ln cap="sq"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477120" y="1143000"/>
            <a:ext cx="484200" cy="7491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ff9900"/>
          </a:solidFill>
          <a:ln cap="sq" w="25560">
            <a:solidFill>
              <a:srgbClr val="bc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0" y="0"/>
          <a:ext cx="9524880" cy="686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524880" cy="686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57200" y="380880"/>
            <a:ext cx="8229600" cy="585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а) упражнения с отдельными слов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пишите слова, поставьте ударение, вставьте пропущенную       букву. Какие слова будут проверочными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Шаг, шаговый – ш…ги; мостик, мост – м…сты; дом, домик – д…ма; поле, полюшко – п…л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пиши, вставляя пропущенные буквы. Припишите из скобок нужное проверочное слово.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М…рщина (морщины, сморщенный); зв…зда (звёздный, звёзды); п..тёрки (пятёрочка, пять, пятый)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Выберите из слов проверочные и запишите их к данному корню (слова диктует учитель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- мест-  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Местечко, местный, место, вместить, разместил, вместительный, предместь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1371600"/>
            <a:ext cx="228600" cy="228600"/>
          </a:xfrm>
          <a:prstGeom prst="ellipse">
            <a:avLst/>
          </a:prstGeom>
          <a:solidFill>
            <a:srgbClr val="92d050"/>
          </a:solidFill>
          <a:ln cap="sq"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2743200"/>
            <a:ext cx="228600" cy="228600"/>
          </a:xfrm>
          <a:prstGeom prst="ellipse">
            <a:avLst/>
          </a:prstGeom>
          <a:solidFill>
            <a:srgbClr val="0070c0"/>
          </a:solidFill>
          <a:ln cap="sq"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4114800"/>
            <a:ext cx="228600" cy="228600"/>
          </a:xfrm>
          <a:prstGeom prst="ellipse">
            <a:avLst/>
          </a:prstGeom>
          <a:solidFill>
            <a:srgbClr val="ff0000"/>
          </a:solidFill>
          <a:ln cap="sq"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б) упражнения с предложения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Вставь пропущенную букву, поставь ударение. Подчеркни проверочные слова. 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Варят в…ренье в тазах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                                     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ад   осмотрел с…довник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К выделенным словам подберите однокоренные. Выделите корень. Какой является в корне гласная? Подчеркни её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Часики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чинит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…                        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часовщик, сторож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Лес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охраняет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…                          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адовник, мастер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За садом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ухаживает…                    лес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 </a:t>
            </a: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о словосочетаниями составьте предложения. Подчеркните из родственных слов – проверочны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Лесная дорога; лес расположилс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   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Хитрая лиса; лисья нор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219320"/>
            <a:ext cx="228600" cy="2286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2286000"/>
            <a:ext cx="228600" cy="2286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4038480"/>
            <a:ext cx="228600" cy="2286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457200" y="277920"/>
            <a:ext cx="8229600" cy="58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Осень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Осень. Над лесом взошло солнце. Лучи осветили вершины деревьев. Кругом тишина и прохлада. Только птицы хлопочут около ягод рябин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По полю по узкой дорожке идёт группа детей с Верой Ивановной. Это ребята из села Дубки. Они спешат на поезд в город. Там дети пойдут в кукольный театр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Грамматическое зад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Подчеркнуть орфограммы в корне слов: </a:t>
            </a:r>
            <a:r>
              <a:rPr b="1" i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вершины, тишина, поезд, дорожк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Для сильных учащихся  – выписать из текста 3 слова с проверяемой безударной гласной, через тире написать проверочные слова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533520"/>
            <a:ext cx="4040280" cy="639720"/>
          </a:xfrm>
          <a:prstGeom prst="rect">
            <a:avLst/>
          </a:prstGeom>
          <a:noFill/>
          <a:ln cap="sq" w="9360">
            <a:solidFill>
              <a:srgbClr val="fdd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Результаты 3 «А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380880" y="1600200"/>
          <a:ext cx="4038840" cy="256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4038840" cy="25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4648320" y="2362320"/>
            <a:ext cx="4041720" cy="639720"/>
          </a:xfrm>
          <a:prstGeom prst="rect">
            <a:avLst/>
          </a:prstGeom>
          <a:noFill/>
          <a:ln cap="sq" w="9360">
            <a:solidFill>
              <a:srgbClr val="fdda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Lucida Sans Unicode"/>
              </a:rPr>
              <a:t>Результаты 3 «Б» класс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4648320" y="3505320"/>
          <a:ext cx="4117680" cy="266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505320"/>
                    <a:ext cx="41176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277920"/>
            <a:ext cx="8229600" cy="7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Lucida Sans Unicode"/>
              </a:rPr>
              <a:t> </a:t>
            </a:r>
            <a:r>
              <a:rPr b="1" lang="ru-RU" sz="3600" spc="-1" strike="noStrike">
                <a:solidFill>
                  <a:srgbClr val="feec94"/>
                </a:solidFill>
                <a:latin typeface="Lucida Sans Unicode"/>
              </a:rPr>
              <a:t>Выводы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1219320"/>
            <a:ext cx="822960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в интегрированном классе необходим учёт потенциальных возможностей каждого учени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понимание причин затруднений в обучени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необходимо создание благоприятных условий для успешного обучения любого ребёнка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оказание педагогической поддержки и своевременной коррекционной помощи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необходима коррекционная направленность образовательного процесса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dur="indefinite" fill="hold">
                      <p:stCondLst>
                        <p:cond delay="0"/>
                      </p:stCondLst>
                      <p:childTnLst>
                        <p:par>
                          <p:cTn id="20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20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0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dur="indefinite" fill="hold">
                      <p:stCondLst>
                        <p:cond delay="indefinite"/>
                      </p:stCondLst>
                      <p:childTnLst>
                        <p:par>
                          <p:cTn id="2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dur="indefinite" fill="hold">
                      <p:stCondLst>
                        <p:cond delay="indefinite"/>
                      </p:stCondLst>
                      <p:childTnLst>
                        <p:par>
                          <p:cTn id="2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0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dur="indefinite" fill="hold">
                      <p:stCondLst>
                        <p:cond delay="indefinite"/>
                      </p:stCondLst>
                      <p:childTnLst>
                        <p:par>
                          <p:cTn id="2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25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dur="indefinite" fill="hold">
                      <p:stCondLst>
                        <p:cond delay="indefinite"/>
                      </p:stCondLst>
                      <p:childTnLst>
                        <p:par>
                          <p:cTn id="2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Lucida Sans Unicode"/>
              </a:rPr>
              <a:t>Цель</a:t>
            </a: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: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Поиск эффективных путей реализации индивидуально-дифференцированного подхода при организации совместной учебной деятельности детей с ЗПР и их нормально развивающихся сверстников в условиях интегрированного класса общеобразовательной школ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0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029120" cy="41148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4038480" y="4876920"/>
            <a:ext cx="4800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eec94"/>
                </a:solidFill>
                <a:uFillTx/>
                <a:latin typeface="Times New Roman"/>
              </a:rPr>
              <a:t>Презентацию подготовила</a:t>
            </a: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eec94"/>
                </a:solidFill>
                <a:latin typeface="Times New Roman"/>
              </a:rPr>
              <a:t>Годер Анастасия  Валентин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dur="indefinite" fill="hold">
                      <p:stCondLst>
                        <p:cond delay="0"/>
                      </p:stCondLst>
                      <p:childTnLst>
                        <p:par>
                          <p:cTn id="2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dur="indefinite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533520" y="838080"/>
            <a:ext cx="82296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Lucida Sans Unicode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изучить состояние теоретической разработанности проблемы исследования в психолого-педагогической и методической литератур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Lucida Sans Unicode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определить педагогические условия, методические приёмы, обеспечивающие эффективность индивидуализации обучения русскому языку в условиях интегрированного класс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Lucida Sans Unicode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на основе педагогической диагностики выявить причины школьных трудностей детей с ЗПР при обучении русскому языку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Lucida Sans Unicode"/>
              <a:buAutoNum type="arabicPeriod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Lucida Sans Unicode"/>
              </a:rPr>
              <a:t>наметить эффективные пути реализации индивидуального подхода для включения в совместную учебную деятельность детей с ЗПР и нормально развивающихся детей при изучении правила о безударной проверяемой гласной в корн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44200" y="228600"/>
            <a:ext cx="148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Times New Roman"/>
              </a:rPr>
              <a:t>Задач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0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" y="228600"/>
            <a:ext cx="82296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Объек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: учебная деятельность детей с ЗПР, обучающихся в условиях интегрированного класса начальной шко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Предмет исследования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: процесс обучения русскому языку в условиях интегрированного класса начальной школ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Lucida Sans Unicode"/>
              </a:rPr>
              <a:t>Гипотеза</a:t>
            </a:r>
            <a:r>
              <a:rPr b="1" lang="ru-RU" sz="2800" spc="-1" strike="noStrike">
                <a:solidFill>
                  <a:srgbClr val="ffffff"/>
                </a:solidFill>
                <a:latin typeface="Lucida Sans Unicode"/>
              </a:rPr>
              <a:t>: 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обучение детей с ЗПР в общеобразовательном классе возможно при реализации индивидуально-дифференцированного подхода и проведении коррекционно-развивающей работ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fill="hold">
                      <p:stCondLst>
                        <p:cond delay="0"/>
                      </p:stCondLst>
                      <p:childTnLst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10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10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feec94"/>
                </a:solidFill>
                <a:latin typeface="Lucida Sans Unicode"/>
              </a:rPr>
              <a:t>Большой вклад в развитие интегрированного обучения внесли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ctr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Л.С. Выготски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1280" indent="-339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основоположник идеи интегрированного обучения в отечественной педагогик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48320" y="1600200"/>
            <a:ext cx="40384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Н.Н. Малофеев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Н.М. Назар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Е.А. Екжанов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Н.Д. Шматко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Lucida Sans Unicode"/>
              </a:rPr>
              <a:t>Л.Е. Шевчук и др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dur="indefinite" fill="hold">
                      <p:stCondLst>
                        <p:cond delay="0"/>
                      </p:stCondLst>
                      <p:childTnLst>
                        <p:par>
                          <p:cTn id="5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57200" y="277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feec94"/>
                </a:solidFill>
                <a:latin typeface="Lucida Sans Unicode"/>
              </a:rPr>
              <a:t>Теоретическая часть исследова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Особенности интегрированного обучения в Росси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Характерные черты детей с ЗПР и трудности их обучени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Lucida Sans Unicode"/>
              </a:rPr>
              <a:t>Трудности, возникающие у детей с задержкой психического развития в овладении предметом русского язы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dur="indefinite" fill="hold">
                      <p:stCondLst>
                        <p:cond delay="0"/>
                      </p:stCondLst>
                      <p:childTnLst>
                        <p:par>
                          <p:cTn id="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dur="indefinite" fill="hold">
                            <p:stCondLst>
                              <p:cond delay="1950"/>
                            </p:stCondLst>
                            <p:childTnLst>
                              <p:par>
                                <p:cTn id="73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dur="indefinite" fill="hold">
                            <p:stCondLst>
                              <p:cond delay="2950"/>
                            </p:stCondLst>
                            <p:childTnLst>
                              <p:par>
                                <p:cTn id="77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dur="indefinite" fill="hold">
                            <p:stCondLst>
                              <p:cond delay="3950"/>
                            </p:stCondLst>
                            <p:childTnLst>
                              <p:par>
                                <p:cTn id="81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57200" y="304920"/>
            <a:ext cx="82296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feec94"/>
                </a:solidFill>
                <a:latin typeface="Lucida Sans Unicode"/>
              </a:rPr>
              <a:t>экспериментальная часть исследования</a:t>
            </a:r>
            <a:br>
              <a:rPr sz="2800"/>
            </a:br>
            <a:r>
              <a:rPr b="1" lang="ru-RU" sz="2800" spc="-1" strike="noStrike">
                <a:solidFill>
                  <a:srgbClr val="feec94"/>
                </a:solidFill>
                <a:latin typeface="Lucida Sans Unicode"/>
              </a:rPr>
              <a:t> </a:t>
            </a:r>
            <a:br>
              <a:rPr sz="2800"/>
            </a:br>
            <a:r>
              <a:rPr b="1" lang="ru-RU" sz="2400" spc="-1" strike="noStrike">
                <a:solidFill>
                  <a:srgbClr val="feec94"/>
                </a:solidFill>
                <a:latin typeface="Lucida Sans Unicode"/>
              </a:rPr>
              <a:t>констатирующий     обучающий      контрольны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62120" y="2971800"/>
            <a:ext cx="3276360" cy="27432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572000" y="2514600"/>
            <a:ext cx="4038480" cy="35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В эксперименте приняло участие  два класса, в которые интегрированы дети с задержкой психического развития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3 «А» класс – 23 учащихся, двое учеников с ЗПР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 algn="just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3 «Б» класс – 23 ученика, два из которых имеют ЗПР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3" name=""/>
          <p:cNvCxnSpPr/>
          <p:nvPr/>
        </p:nvCxnSpPr>
        <p:spPr>
          <a:xfrm flipH="1">
            <a:off x="1676160" y="1064880"/>
            <a:ext cx="457920" cy="229320"/>
          </a:xfrm>
          <a:prstGeom prst="straightConnector1">
            <a:avLst/>
          </a:prstGeom>
          <a:ln cap="sq" w="1908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44" name=""/>
          <p:cNvCxnSpPr/>
          <p:nvPr/>
        </p:nvCxnSpPr>
        <p:spPr>
          <a:xfrm flipH="1">
            <a:off x="4722480" y="1066320"/>
            <a:ext cx="2160" cy="306720"/>
          </a:xfrm>
          <a:prstGeom prst="straightConnector1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5" name=""/>
          <p:cNvCxnSpPr/>
          <p:nvPr/>
        </p:nvCxnSpPr>
        <p:spPr>
          <a:xfrm>
            <a:off x="6858000" y="1066320"/>
            <a:ext cx="457920" cy="229320"/>
          </a:xfrm>
          <a:prstGeom prst="straightConnector1">
            <a:avLst/>
          </a:prstGeom>
          <a:ln cap="sq" w="28440">
            <a:solidFill>
              <a:srgbClr val="ffffff"/>
            </a:solidFill>
            <a:miter/>
            <a:tailEnd len="med" type="triangle" w="med"/>
          </a:ln>
        </p:spPr>
      </p:cxn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dur="indefinite" fill="hold">
                      <p:stCondLst>
                        <p:cond delay="0"/>
                      </p:stCondLst>
                      <p:childTnLst>
                        <p:par>
                          <p:cTn id="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304920"/>
            <a:ext cx="8229600" cy="58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Январ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Наступил январь. Стоят сильные морозы. Резкий ветер щиплет лицо и уши. Снег пушистым ковром лежит на полях и холмах. В лесу замело все дорожки. По лесу можно ходить только на лыжах. На реке блестит гладкий лёд. Там ребята сделали большой каток. На катке всегда весело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Грамматическое задани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Подчеркнуть орфограммы в корне слов: </a:t>
            </a:r>
            <a:r>
              <a:rPr b="1" i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стоят, пушистым, холмах, блестит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39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 </a:t>
            </a:r>
            <a:r>
              <a:rPr b="1" lang="ru-RU" sz="2400" spc="-1" strike="noStrike">
                <a:solidFill>
                  <a:srgbClr val="732600"/>
                </a:solidFill>
                <a:latin typeface="Times New Roman"/>
                <a:ea typeface="Times New Roman PraetoriansRus"/>
              </a:rPr>
              <a:t>Для сильных учащихся – выписать эти слова и через тире написать проверочные сло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dur="indefinite" fill="hold">
                      <p:stCondLst>
                        <p:cond delay="0"/>
                      </p:stCondLst>
                      <p:childTnLst>
                        <p:par>
                          <p:cTn id="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dur="indefinite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dur="indefinite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dur="indefinite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457200" y="277920"/>
          <a:ext cx="8230680" cy="7341840"/>
        </p:xfrm>
        <a:graphic>
          <a:graphicData uri="http://schemas.openxmlformats.org/drawingml/2006/table">
            <a:tbl>
              <a:tblPr/>
              <a:tblGrid>
                <a:gridCol w="685800"/>
                <a:gridCol w="2591280"/>
                <a:gridCol w="1219320"/>
                <a:gridCol w="1295640"/>
                <a:gridCol w="1219320"/>
                <a:gridCol w="1219320"/>
              </a:tblGrid>
              <a:tr h="54360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орфограммы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43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Кол-во ошибок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Lucida Sans Unicode"/>
                        </a:rPr>
                        <a:t>Ср. арифметичес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3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Нор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ЗП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Нор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114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Безударные гласные в корне, проверяемые ударением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432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Непроверяемые написания в корне слов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Парные согласные на конце и в середине с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Гласные после шипящи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Мягкий знак показатель мягкост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Приставки и предло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54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Перенос сл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8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Окончания имён прилагательны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9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Оформление предложений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ru-RU" sz="1400" spc="-1" strike="noStrike">
                          <a:solidFill>
                            <a:srgbClr val="bb5f03"/>
                          </a:solidFill>
                          <a:latin typeface="Lucida Sans Unicode"/>
                        </a:rPr>
                        <a:t>Пропуск, замена, перестановка бук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64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440">
                      <a:solidFill>
                        <a:srgbClr val="ffffff"/>
                      </a:solidFill>
                    </a:lnL>
                    <a:lnR w="1440">
                      <a:solidFill>
                        <a:srgbClr val="ffffff"/>
                      </a:solidFill>
                    </a:lnR>
                    <a:lnT w="1440">
                      <a:solidFill>
                        <a:srgbClr val="ffffff"/>
                      </a:solidFill>
                    </a:lnT>
                    <a:lnB w="144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8-16T19:40:07Z</dcterms:modified>
  <cp:revision>1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