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83F7D-F4C3-4A37-B647-B123D2FFCC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D6E61-6DF0-4277-9832-5602E48BCE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4E3D6-1845-4942-BB68-0D38965697F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B535C8-0B08-4A3B-A7B8-8755CB2352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29384-9A7F-4341-BB05-52426E8441F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FF2E9-964A-4D75-8B3F-08972DE9E4A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0A453-46FF-4266-854C-566C6CD4C8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E434A-BAAC-4D18-8334-4EC766E64B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C1AF2-F0D0-4821-90B0-8DBAE984DC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382-5EE5-483E-9F58-C64DD1CA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95A-AF83-4501-87EC-D1BF8A61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C56A-88D1-4039-9797-AAB498337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1A4D-585B-46D9-878F-531F851EB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A5C9-4FC7-4331-BBA3-A800EC7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7ADA-9FB8-4700-A015-EBA8204D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74D-04F2-4AC8-A60D-B32D7518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1959-817E-4C5E-94E9-B9460489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592-D046-4C7D-AB8E-4F2C52DD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387-D981-459F-AD53-205188E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B25-5953-46D2-8D6B-6FF77481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E947-D9BE-4757-824B-82FB8783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6DC4EC-6CF7-4738-AC4D-2DBD11CC3CB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С. Пушкин и классическая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95480" y="1655640"/>
            <a:ext cx="7977240" cy="4500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808280" y="6248520"/>
            <a:ext cx="65516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Презентацию подготовила: муз.рук. Вдовина А.А.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ГБДОУ №67 “Волшебник”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Красносельского района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040360" y="900000"/>
            <a:ext cx="489276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60360" y="900000"/>
            <a:ext cx="4282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звестно, что хотя сам поэт не играл ни на одном музыкальном инструменте и не пел, он был большим любителем музыки, и многие герои его произведений поют и музицируют. Все знают когда-то написанные А.С. Пушкиным ст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701640" y="4500720"/>
            <a:ext cx="4140360" cy="23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24000" y="2700360"/>
            <a:ext cx="8075520" cy="485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08000" y="179280"/>
            <a:ext cx="9893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узыкальность пушкинского слога всегда была очевидна. На сегодняшний день по произведениям А.С. Пушкина написано больше 1000 романсов и песен, около 100 опер, десятки балетов и симфонических произведений. В этом огромном музыкальном собрании блистают шедевры, вошедшие в сокровищницу мировой музыки. Достаточно назвать такие громкие имена как М.И. Глинка, А.С. Даргомыжский, М.П. Мусоргский, П.И. Чайковский и Н.А. Римский-Корс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184720" y="2627280"/>
            <a:ext cx="4692600" cy="41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44360" y="2627280"/>
            <a:ext cx="4896000" cy="4162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03280" y="611280"/>
            <a:ext cx="89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основе пушкинских творений в русской музыке второй половины ХIХ века создавался национальный стиль, писались эпические, народно-поэтические произведения. Всем знакомы знаменитые балеты: «Бахчисарайский фонтан» Б.В. Асафьева и “Медный всадник” Р.М. Глиэ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745080" y="1763640"/>
            <a:ext cx="2995560" cy="273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032600" y="1763640"/>
            <a:ext cx="2903400" cy="273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44360" y="1763640"/>
            <a:ext cx="3306960" cy="2737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7480" y="5144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еры: “Евгений Онегин”, “Пиковая дама”, “Мазепа” П.И. Чайковского, “Каменный гость” А.С. Даргомыжского, “Борис Годунов” М.П. Мусорг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1266840" y="4716360"/>
            <a:ext cx="397044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5616720" y="4716360"/>
            <a:ext cx="358128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7240680" y="826920"/>
            <a:ext cx="2552760" cy="304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392720" y="4140360"/>
            <a:ext cx="5381640" cy="27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392720" y="826920"/>
            <a:ext cx="2674800" cy="3024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87280" y="324000"/>
            <a:ext cx="3930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собое же место в русском оперном репертуаре занимают оперы-сказки, впервые сложившиеся как жанр именно на пушкинские сюжеты: “Руслан и Людмила” М.И. Глинки, “Золотой петушок” и “Сказка о царе Салтане” Н.А. Римского-Корсакова. И хотя сам поэт писал свои сказки для взрослых - они сразу и навечно стали любимы детьми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последней сказке мы и остановимся подроб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«Сказка о Царе Салтане» в стихах была создана Пушкиным в 1831 году, впервые издана в 183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76360" y="2411280"/>
            <a:ext cx="9286920" cy="4942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95440" y="179280"/>
            <a:ext cx="92678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 100-летнему юбилею А. С. Пушкина композитором Римским-Корсаковым была создана опера, премьера которой состоялась в 1900 году. Сам композитор эту оперу особенно любил, музыка её озарена безоблачной радостью и мягким юмо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оснемся же и мы к волшебным поэтическим строкам и чудесным музыкальным звукам. В волшебном городе Леденец, в котором правил князь Гвидон, было три ч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56000" y="103320"/>
            <a:ext cx="2620800" cy="3601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216000" y="103320"/>
            <a:ext cx="367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ерво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Ель растет перед дворц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А под ней хрустальн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Белка там живёт руч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а затейница как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Белка песенки по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а орешки всё гры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456000" y="3811680"/>
            <a:ext cx="2620800" cy="361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396720" y="3705120"/>
            <a:ext cx="287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торо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ридцать три богатыр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чешуе, как жар го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дут витязи чет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, блистая седи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ядька впереди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 ко граду их ве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3"/>
          <a:stretch/>
        </p:blipFill>
        <p:spPr>
          <a:xfrm>
            <a:off x="6781680" y="3798720"/>
            <a:ext cx="2737080" cy="3589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6624720" y="289080"/>
            <a:ext cx="330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реть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Говорят, царевна е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Что не можно глаз отв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нём свет божий затмев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очью землю освещ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есяц под косой блес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А во лбу звезда го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21:25:36Z</dcterms:created>
  <dc:creator/>
  <dc:description/>
  <dc:language>en-US</dc:language>
  <cp:lastModifiedBy>Anna</cp:lastModifiedBy>
  <dcterms:modified xsi:type="dcterms:W3CDTF">2018-08-16T03:07:19Z</dcterms:modified>
  <cp:revision>25</cp:revision>
  <dc:subject/>
  <dc:title>А. С. Пушкин и классическая музыка</dc:title>
</cp:coreProperties>
</file>