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94A120-DD96-4AB1-91A1-AB5D8C8C90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219587-4FBE-429F-B8E4-F9199BB938A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55E613-D8E7-428F-85F2-7174D2B0D84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240F6A-A5EB-45B0-85A9-319F30F966F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F15E4C-9FF8-49A3-80F8-A64C365765F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028D0-B9DE-4A2C-9713-C4B88F528E3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DDE70-E67F-4F70-BEE6-8DA092B3450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2787F-D8CF-41C1-89FB-70466D36D56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911414-920A-43DC-9B03-E63CFCCF08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359B-DA08-41F8-98F7-DC7E026C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B2AF-5B42-406D-A227-C27A834C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2570-7373-4B72-AC09-7B0AF65DC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17CF-9E40-491E-9417-9B3F57C8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7381-CCFE-49B3-9751-BFA2E2D49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ECB-84C5-4584-AB4A-82C9D058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27C-6420-4205-9552-E57CD722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DD8D-1AC4-41E6-97D2-CD28F3CF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B8C8-26EC-4F39-B68A-A7873972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2BB-E8F0-4C86-AB79-8AF142A3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39A6-6390-4175-93D7-88F5F71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1CB-B820-4265-87F7-1DCBD26D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A7BCD2-5077-4CBE-A078-BB574CE1C3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solidFill>
            <a:srgbClr val="e6e6ff"/>
          </a:solidFill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А. С. Пушкин и классическая музы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095480" y="1655640"/>
            <a:ext cx="7977240" cy="4500720"/>
          </a:xfrm>
          <a:prstGeom prst="rect">
            <a:avLst/>
          </a:prstGeom>
          <a:ln w="0">
            <a:noFill/>
          </a:ln>
        </p:spPr>
      </p:pic>
      <p:sp>
        <p:nvSpPr>
          <p:cNvPr id="50" name="Прямоугольник 1"/>
          <p:cNvSpPr/>
          <p:nvPr/>
        </p:nvSpPr>
        <p:spPr>
          <a:xfrm>
            <a:off x="1808280" y="6248520"/>
            <a:ext cx="655164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7e0021"/>
                </a:solidFill>
                <a:latin typeface="Arial"/>
              </a:rPr>
              <a:t>Презентацию подготовила: муз.рук. Вдовина А.А.</a:t>
            </a:r>
            <a:br>
              <a:rPr sz="2000"/>
            </a:br>
            <a:r>
              <a:rPr b="0" lang="en-US" sz="2000" spc="-1" strike="noStrike">
                <a:solidFill>
                  <a:srgbClr val="7e0021"/>
                </a:solidFill>
                <a:latin typeface="Arial"/>
              </a:rPr>
              <a:t>ГБДОУ №67 “Волшебник”</a:t>
            </a:r>
            <a:br>
              <a:rPr sz="2000"/>
            </a:br>
            <a:r>
              <a:rPr b="0" lang="en-US" sz="2000" spc="-1" strike="noStrike">
                <a:solidFill>
                  <a:srgbClr val="7e0021"/>
                </a:solidFill>
                <a:latin typeface="Arial"/>
              </a:rPr>
              <a:t>Красносельского района</a:t>
            </a:r>
            <a:br>
              <a:rPr sz="2000"/>
            </a:br>
            <a:r>
              <a:rPr b="0" lang="en-US" sz="2000" spc="-1" strike="noStrike">
                <a:solidFill>
                  <a:srgbClr val="7e0021"/>
                </a:solidFill>
                <a:latin typeface="Arial"/>
              </a:rPr>
              <a:t>г. Санкт-Петербур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"/>
          <p:cNvPicPr/>
          <p:nvPr/>
        </p:nvPicPr>
        <p:blipFill>
          <a:blip r:embed="rId1"/>
          <a:stretch/>
        </p:blipFill>
        <p:spPr>
          <a:xfrm>
            <a:off x="5040360" y="900000"/>
            <a:ext cx="4892760" cy="568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"/>
          <p:cNvSpPr/>
          <p:nvPr/>
        </p:nvSpPr>
        <p:spPr>
          <a:xfrm>
            <a:off x="360360" y="900000"/>
            <a:ext cx="42829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звестно, что хотя сам поэт не играл ни на одном музыкальном инструменте и не пел, он был большим любителем музыки, и многие герои его произведений поют и музицируют. Все знают когда-то написанные А.С. Пушкиным стро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" descr=""/>
          <p:cNvPicPr/>
          <p:nvPr/>
        </p:nvPicPr>
        <p:blipFill>
          <a:blip r:embed="rId2"/>
          <a:stretch/>
        </p:blipFill>
        <p:spPr>
          <a:xfrm>
            <a:off x="701640" y="4500720"/>
            <a:ext cx="4140360" cy="235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224000" y="2700360"/>
            <a:ext cx="8075520" cy="4859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1"/>
          <p:cNvSpPr/>
          <p:nvPr/>
        </p:nvSpPr>
        <p:spPr>
          <a:xfrm>
            <a:off x="108000" y="179280"/>
            <a:ext cx="989316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узыкальность пушкинского слога всегда была очевидна. На сегодняшний день по произведениям А.С. Пушкина написано больше 1000 романсов и песен, около 100 опер, десятки балетов и симфонических произведений. В этом огромном музыкальном собрании блистают шедевры, вошедшие в сокровищницу мировой музыки. Достаточно назвать такие громкие имена как М.И. Глинка, А.С. Даргомыжский, М.П. Мусоргский, П.И. Чайковский и Н.А. Римский-Корса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5184720" y="2627280"/>
            <a:ext cx="4692600" cy="416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44360" y="2627280"/>
            <a:ext cx="4896000" cy="416232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1"/>
          <p:cNvSpPr/>
          <p:nvPr/>
        </p:nvSpPr>
        <p:spPr>
          <a:xfrm>
            <a:off x="503280" y="611280"/>
            <a:ext cx="8966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а основе пушкинских творений в русской музыке второй половины ХIХ века создавался национальный стиль, писались эпические, народно-поэтические произведения. Всем знакомы знаменитые балеты: «Бахчисарайский фонтан» Б.В. Асафьева и “Медный всадник” Р.М. Глиэ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3745080" y="1763640"/>
            <a:ext cx="2995560" cy="2737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7032600" y="1763640"/>
            <a:ext cx="2903400" cy="27370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3"/>
          <a:stretch/>
        </p:blipFill>
        <p:spPr>
          <a:xfrm>
            <a:off x="144360" y="1763640"/>
            <a:ext cx="3306960" cy="273708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257480" y="514440"/>
            <a:ext cx="82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перы: “Евгений Онегин”, “Пиковая дама”, “Мазепа” П.И. Чайковского, “Каменный гость” А.С. Даргомыжского, “Борис Годунов” М.П. Мусоргско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4"/>
          <a:stretch/>
        </p:blipFill>
        <p:spPr>
          <a:xfrm>
            <a:off x="1266840" y="4716360"/>
            <a:ext cx="397044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" descr=""/>
          <p:cNvPicPr/>
          <p:nvPr/>
        </p:nvPicPr>
        <p:blipFill>
          <a:blip r:embed="rId5"/>
          <a:stretch/>
        </p:blipFill>
        <p:spPr>
          <a:xfrm>
            <a:off x="5616720" y="4716360"/>
            <a:ext cx="3581280" cy="25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7240680" y="826920"/>
            <a:ext cx="2552760" cy="3041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4392720" y="4140360"/>
            <a:ext cx="5381640" cy="2709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3"/>
          <a:stretch/>
        </p:blipFill>
        <p:spPr>
          <a:xfrm>
            <a:off x="4392720" y="826920"/>
            <a:ext cx="2674800" cy="302436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"/>
          <p:cNvSpPr/>
          <p:nvPr/>
        </p:nvSpPr>
        <p:spPr>
          <a:xfrm>
            <a:off x="287280" y="324000"/>
            <a:ext cx="3930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Особое же место в русском оперном репертуаре занимают оперы-сказки, впервые сложившиеся как жанр именно на пушкинские сюжеты: “Руслан и Людмила” М.И. Глинки, “Золотой петушок” и “Сказка о царе Салтане” Н.А. Римского-Корсакова. И хотя сам поэт писал свои сказки для взрослых - они сразу и навечно стали любимы детьми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а последней сказке мы и остановимся подроб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«Сказка о Царе Салтане» в стихах была создана Пушкиным в 1831 году, впервые издана в 1832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576360" y="2411280"/>
            <a:ext cx="9286920" cy="494208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1"/>
          <p:cNvSpPr/>
          <p:nvPr/>
        </p:nvSpPr>
        <p:spPr>
          <a:xfrm>
            <a:off x="595440" y="179280"/>
            <a:ext cx="9267840" cy="22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К 100-летнему юбилею А. С. Пушкина композитором Римским-Корсаковым была создана опера, премьера которой состоялась в 1900 году. Сам композитор эту оперу особенно любил, музыка её озарена безоблачной радостью и мягким юмором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коснемся же и мы к волшебным поэтическим строкам и чудесным музыкальным звукам. В волшебном городе Леденец, в котором правил князь Гвидон, было три ч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3456000" y="103320"/>
            <a:ext cx="2620800" cy="36018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216000" y="103320"/>
            <a:ext cx="367164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Первое чу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Ель растет перед дворц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А под ней хрустальный д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Белка там живёт ручн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а затейница как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Белка песенки поё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а орешки всё грыз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2"/>
          <a:stretch/>
        </p:blipFill>
        <p:spPr>
          <a:xfrm>
            <a:off x="3456000" y="3811680"/>
            <a:ext cx="2620800" cy="361800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4"/>
          <p:cNvSpPr/>
          <p:nvPr/>
        </p:nvSpPr>
        <p:spPr>
          <a:xfrm>
            <a:off x="396720" y="3705120"/>
            <a:ext cx="287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торое чу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Тридцать три богатыр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В чешуе, как жар гор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дут витязи чет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, блистая сединам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ядька впереди идё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И ко граду их ведё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" descr=""/>
          <p:cNvPicPr/>
          <p:nvPr/>
        </p:nvPicPr>
        <p:blipFill>
          <a:blip r:embed="rId3"/>
          <a:stretch/>
        </p:blipFill>
        <p:spPr>
          <a:xfrm>
            <a:off x="6781680" y="3798720"/>
            <a:ext cx="2737080" cy="358956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6624720" y="289080"/>
            <a:ext cx="3300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Третье чуд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Говорят, царевна ес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Что не можно глаз отве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Днём свет божий затмева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Ночью землю освеща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Месяц под косой блест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, serif"/>
              </a:rPr>
              <a:t>А во лбу звезда гор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4T21:25:36Z</dcterms:created>
  <dc:creator/>
  <dc:description/>
  <dc:language>en-US</dc:language>
  <cp:lastModifiedBy>Anna</cp:lastModifiedBy>
  <dcterms:modified xsi:type="dcterms:W3CDTF">2018-08-16T03:07:19Z</dcterms:modified>
  <cp:revision>25</cp:revision>
  <dc:subject/>
  <dc:title>А. С. Пушкин и классическая музыка</dc:title>
</cp:coreProperties>
</file>