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8467-265E-42D7-9B2E-88504EA695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DAB1-8A75-4237-B0CA-50F29AF662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446-B1A6-4630-BA32-5D0A50C7A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19FE-5E1B-4074-909D-7170D3C5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4116-42AD-43DA-A2CC-791B802B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E0F-07E5-4374-9A5F-A5735D89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8A9-6B91-4567-97BC-0DE7A879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D3F6-46BA-44F0-9820-CE7BCF76B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C6CD-958B-47BD-AF99-C106DBDF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E58-23B7-4F83-83EF-A472A259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FBF0-C35C-44F8-93B0-6DE6BE649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8A4-41EB-4911-A2CF-502ECD54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27A9-F22A-4106-97E9-977E6BFC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EB0B-9D09-42BD-A526-7FAC6BE5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CD20-2DC5-45A2-A1DE-BABE08E397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IMG_1597.PNG"/>
          <p:cNvPicPr/>
          <p:nvPr/>
        </p:nvPicPr>
        <p:blipFill>
          <a:blip r:embed="rId1"/>
          <a:stretch/>
        </p:blipFill>
        <p:spPr>
          <a:xfrm>
            <a:off x="380880" y="533520"/>
            <a:ext cx="8415360" cy="5856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590920" y="1905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066680" y="49528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00000"/>
                </a:solidFill>
                <a:latin typeface="Arial"/>
              </a:rPr>
              <a:t>ЗОЛОТАЯ ОС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1066680" y="41148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</a:rPr>
              <a:t>ПРЕЗЕН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IMG_1605.JPG"/>
          <p:cNvPicPr/>
          <p:nvPr/>
        </p:nvPicPr>
        <p:blipFill>
          <a:blip r:embed="rId1"/>
          <a:stretch/>
        </p:blipFill>
        <p:spPr>
          <a:xfrm>
            <a:off x="304920" y="3808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IMG_1606.JPG"/>
          <p:cNvPicPr/>
          <p:nvPr/>
        </p:nvPicPr>
        <p:blipFill>
          <a:blip r:embed="rId2"/>
          <a:stretch/>
        </p:blipFill>
        <p:spPr>
          <a:xfrm>
            <a:off x="5562720" y="3276720"/>
            <a:ext cx="3174840" cy="3174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IMG_1607.JPG"/>
          <p:cNvPicPr/>
          <p:nvPr/>
        </p:nvPicPr>
        <p:blipFill>
          <a:blip r:embed="rId3"/>
          <a:stretch/>
        </p:blipFill>
        <p:spPr>
          <a:xfrm>
            <a:off x="3429000" y="1676520"/>
            <a:ext cx="353052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533520" y="3962520"/>
            <a:ext cx="4190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Стройную рябину вижу во дворе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Изумруд на ветках утром на заре.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Много ягод красных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Спелых и прекрасных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Гроздьями висят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Их красив наряд.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Собери на нитку ягод- для души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Из рябины бусы очень хорош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4114800" y="38088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У забора облепиха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Выросла по случаю.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Соберешь немало лиха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С ягодой колюче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33520" y="4572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т мы и побывали с вами в гостях  у красавицы Осе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609480" y="1219320"/>
            <a:ext cx="8077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Унылая пора! Очей очарованье!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риятна мне твоя прощальная краса —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Люблю я пышное природы увяданье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В багрец и в золото одетые леса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В их сенях ветра шум и свежее дыханье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И мглой волнистою покрыты небеса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И редкий солнца луч, и первые морозы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И отдаленные седой зимы у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IMG_1602.JPG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121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676520" y="22860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«ЗОЛОТАЯ ОСЕ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(подготовительная 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209680" y="1981080"/>
            <a:ext cx="662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граммное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Закрепить знания детей о ранней осен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ервом осеннем месяце – сентябрь.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 Развивать умение обобщать полученные знания, делать вы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Расширять словарный запас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 Воспитывать интерес к окружающему миру,любовь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getImage2.jpg"/>
          <p:cNvPicPr/>
          <p:nvPr/>
        </p:nvPicPr>
        <p:blipFill>
          <a:blip r:embed="rId1"/>
          <a:stretch/>
        </p:blipFill>
        <p:spPr>
          <a:xfrm>
            <a:off x="3124080" y="304920"/>
            <a:ext cx="5715000" cy="6248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80880" y="1523880"/>
            <a:ext cx="2667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ебят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егодня мы с вами пойдем в гости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к красавице Осен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Лес, точно терем распис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Лиловый, золотой, багря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тоит над солнечной поля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авороженный тишино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IMG_1571.JPG"/>
          <p:cNvPicPr/>
          <p:nvPr/>
        </p:nvPicPr>
        <p:blipFill>
          <a:blip r:embed="rId1"/>
          <a:stretch/>
        </p:blipFill>
        <p:spPr>
          <a:xfrm>
            <a:off x="380880" y="380880"/>
            <a:ext cx="5105520" cy="609624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5562720" y="304920"/>
            <a:ext cx="3200400" cy="65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для того, чтобы Осень впустила нас в сказочный лес, нам нужно отгадать загадки про осень. Вы готов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ни стали короч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линнее стали но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то скажет, кто зн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огда это бы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Пришла без красок и без ки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И перекрасила все листь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зовите первый месяц Осе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лодцы ребя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е путешествие продолжае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5"/>
          <p:cNvSpPr/>
          <p:nvPr/>
        </p:nvSpPr>
        <p:spPr>
          <a:xfrm>
            <a:off x="457200" y="380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от мы и пришли в осенний лес, Скажите, что собирают в сентябре в лесу? Правильно. Ягоды  и грибы. Давайте с вами вспомним какие бывают  грибы? А теперь возьмем корзинки и отправимс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да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6" descr="SAM_0398.JPG"/>
          <p:cNvPicPr/>
          <p:nvPr/>
        </p:nvPicPr>
        <p:blipFill>
          <a:blip r:embed="rId1"/>
          <a:stretch/>
        </p:blipFill>
        <p:spPr>
          <a:xfrm>
            <a:off x="685800" y="1523880"/>
            <a:ext cx="79246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IMG_1591.JPG"/>
          <p:cNvPicPr/>
          <p:nvPr/>
        </p:nvPicPr>
        <p:blipFill>
          <a:blip r:embed="rId1"/>
          <a:stretch/>
        </p:blipFill>
        <p:spPr>
          <a:xfrm>
            <a:off x="380880" y="304920"/>
            <a:ext cx="388620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IMG_1592.JPG"/>
          <p:cNvPicPr/>
          <p:nvPr/>
        </p:nvPicPr>
        <p:blipFill>
          <a:blip r:embed="rId2"/>
          <a:stretch/>
        </p:blipFill>
        <p:spPr>
          <a:xfrm>
            <a:off x="4876920" y="2209680"/>
            <a:ext cx="3911400" cy="4292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419720" y="60948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ренастый, в шляпе 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иб растет в лесу сосно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й, схватили белки вм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тот белый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80880" y="5029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ял на крепкой нож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перь лежит в луко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IMG_1598.JPG"/>
          <p:cNvPicPr/>
          <p:nvPr/>
        </p:nvPicPr>
        <p:blipFill>
          <a:blip r:embed="rId1"/>
          <a:stretch/>
        </p:blipFill>
        <p:spPr>
          <a:xfrm>
            <a:off x="4952880" y="380880"/>
            <a:ext cx="383544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IMG_1593.JPG"/>
          <p:cNvPicPr/>
          <p:nvPr/>
        </p:nvPicPr>
        <p:blipFill>
          <a:blip r:embed="rId2"/>
          <a:stretch/>
        </p:blipFill>
        <p:spPr>
          <a:xfrm>
            <a:off x="380880" y="3124080"/>
            <a:ext cx="4064040" cy="3353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33520" y="9144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аленький, удален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квозь землю прош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расную шапочку наш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724280" y="472428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то стоит на крепкой нож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 бурых листьях у дорож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IMG_1599.JPG"/>
          <p:cNvPicPr/>
          <p:nvPr/>
        </p:nvPicPr>
        <p:blipFill>
          <a:blip r:embed="rId1"/>
          <a:stretch/>
        </p:blipFill>
        <p:spPr>
          <a:xfrm>
            <a:off x="4724280" y="3505320"/>
            <a:ext cx="406404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IMG_1600.JPG"/>
          <p:cNvPicPr/>
          <p:nvPr/>
        </p:nvPicPr>
        <p:blipFill>
          <a:blip r:embed="rId2"/>
          <a:stretch/>
        </p:blipFill>
        <p:spPr>
          <a:xfrm>
            <a:off x="380880" y="304920"/>
            <a:ext cx="4064040" cy="2844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4724280" y="533520"/>
            <a:ext cx="3962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сичка лисичке сказала в лесу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"Не даром лисичкой зовут и лису!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са на лисичку похожа была б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гда бы не зубы, ни шерсть и не лапы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533520" y="350532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гда увидите опят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х собирайте всех подряд: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ве сотни - там, три сотни - тут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пята семьями растут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IMG_1603.PNG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248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457200" y="2514600"/>
            <a:ext cx="5791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ы  с вами набрали полные корзинки грибов. Давайте вспомним, какие грибы мы собирали? Молодцы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 теперь идем за ягода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6-10-28T18:00:03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