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2CE0-814F-4C3D-B10E-BC7C826E58C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F6B48-800A-4AAC-ACB0-224B75329D7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15B-1652-4A12-BAB9-37F3783A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0F36-FB7F-4DE7-BDCD-20DF02BA8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FB42-211C-4490-95A9-6927BF88F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E86F-13C2-48C2-AF5E-DD22E8769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8333-44BC-4F71-85EA-8BFD0CB6C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EB1B-14B6-4035-A0E6-B1CFEFBC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C38C-3086-4134-B9A0-40426998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66F4A-23B6-49A2-9902-43A08D5D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5E5-C6D9-4681-B776-55D0C71A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274A-0E6A-47C7-A8B7-02660365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48D-CDE6-4210-A5C3-A4052347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59FE-AF91-496B-9AB0-EE544AC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15D59-65FE-4928-B214-D10DC3638D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2" descr="IMG_1597.PNG"/>
          <p:cNvPicPr/>
          <p:nvPr/>
        </p:nvPicPr>
        <p:blipFill>
          <a:blip r:embed="rId1"/>
          <a:stretch/>
        </p:blipFill>
        <p:spPr>
          <a:xfrm>
            <a:off x="380880" y="533520"/>
            <a:ext cx="8415360" cy="58561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2590920" y="19051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1066680" y="495288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800000"/>
                </a:solidFill>
                <a:latin typeface="Arial"/>
              </a:rPr>
              <a:t>ЗОЛОТАЯ ОСЕН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7"/>
          <p:cNvSpPr/>
          <p:nvPr/>
        </p:nvSpPr>
        <p:spPr>
          <a:xfrm>
            <a:off x="1066680" y="41148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ПРЕЗЕН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IMG_1605.JPG"/>
          <p:cNvPicPr/>
          <p:nvPr/>
        </p:nvPicPr>
        <p:blipFill>
          <a:blip r:embed="rId1"/>
          <a:stretch/>
        </p:blipFill>
        <p:spPr>
          <a:xfrm>
            <a:off x="304920" y="380880"/>
            <a:ext cx="3581280" cy="26863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IMG_1606.JPG"/>
          <p:cNvPicPr/>
          <p:nvPr/>
        </p:nvPicPr>
        <p:blipFill>
          <a:blip r:embed="rId2"/>
          <a:stretch/>
        </p:blipFill>
        <p:spPr>
          <a:xfrm>
            <a:off x="5562720" y="3276720"/>
            <a:ext cx="3174840" cy="3174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3" descr="IMG_1607.JPG"/>
          <p:cNvPicPr/>
          <p:nvPr/>
        </p:nvPicPr>
        <p:blipFill>
          <a:blip r:embed="rId3"/>
          <a:stretch/>
        </p:blipFill>
        <p:spPr>
          <a:xfrm>
            <a:off x="3429000" y="1676520"/>
            <a:ext cx="3530520" cy="228600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533520" y="3962520"/>
            <a:ext cx="41907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тройную рябину вижу во дворе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зумруд на ветках утром на заре.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Много ягод красных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пелых и прекрасных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Гроздьями висят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х красив наряд.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Собери на нитку ягод- для души, </a:t>
            </a:r>
            <a:br>
              <a:rPr sz="1800"/>
            </a:br>
            <a:r>
              <a:rPr b="1" lang="ru-RU" sz="1800" spc="-1" strike="noStrike">
                <a:solidFill>
                  <a:srgbClr val="00b0f0"/>
                </a:solidFill>
                <a:latin typeface="Arial"/>
              </a:rPr>
              <a:t>Из рябины бусы очень хорош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5"/>
          <p:cNvSpPr/>
          <p:nvPr/>
        </p:nvSpPr>
        <p:spPr>
          <a:xfrm>
            <a:off x="4114800" y="380880"/>
            <a:ext cx="4495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У забора облепиха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Выросла по случаю.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Соберешь немало лиха</a:t>
            </a:r>
            <a:br>
              <a:rPr sz="2000"/>
            </a:b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С ягодой колюче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IMG_1601.JPG"/>
          <p:cNvPicPr/>
          <p:nvPr/>
        </p:nvPicPr>
        <p:blipFill>
          <a:blip r:embed="rId1"/>
          <a:stretch/>
        </p:blipFill>
        <p:spPr>
          <a:xfrm>
            <a:off x="380880" y="3962520"/>
            <a:ext cx="8458200" cy="2527200"/>
          </a:xfrm>
          <a:prstGeom prst="rect">
            <a:avLst/>
          </a:prstGeom>
          <a:ln w="0">
            <a:noFill/>
          </a:ln>
        </p:spPr>
      </p:pic>
      <p:sp>
        <p:nvSpPr>
          <p:cNvPr id="81" name="TextBox 3"/>
          <p:cNvSpPr/>
          <p:nvPr/>
        </p:nvSpPr>
        <p:spPr>
          <a:xfrm>
            <a:off x="533520" y="45720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от мы и побывали с вами в гостях  у красавицы Осен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609480" y="1219320"/>
            <a:ext cx="8077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Унылая пора! Очей очарованье!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Приятна мне твоя прощальная краса —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Люблю я пышное природы увяданье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багрец и в золото одетые леса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В их сенях ветра шум и свежее дыханье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мглой волнистою покрыты небеса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редкий солнца луч, и первые морозы,</a:t>
            </a: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И отдаленные седой зимы угроз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IMG_1602.JPG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12144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1676520" y="22860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6600"/>
                </a:solidFill>
                <a:latin typeface="Arial"/>
              </a:rPr>
              <a:t>През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«ЗОЛОТАЯ ОСЕНЬ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6600"/>
                </a:solidFill>
                <a:latin typeface="Arial"/>
              </a:rPr>
              <a:t>(подготовительная групп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3"/>
          <p:cNvSpPr/>
          <p:nvPr/>
        </p:nvSpPr>
        <p:spPr>
          <a:xfrm>
            <a:off x="2209680" y="1981080"/>
            <a:ext cx="6629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граммное 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Закрепить знания детей о ранней осен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ервом осеннем месяце – сентябрь.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 Развивать умение обобщать полученные знания, делать выво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Расширять словарный запас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-  Воспитывать интерес к окружающему миру,любовь к приро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getImage2.jpg"/>
          <p:cNvPicPr/>
          <p:nvPr/>
        </p:nvPicPr>
        <p:blipFill>
          <a:blip r:embed="rId1"/>
          <a:stretch/>
        </p:blipFill>
        <p:spPr>
          <a:xfrm>
            <a:off x="3124080" y="304920"/>
            <a:ext cx="5715000" cy="62481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380880" y="1523880"/>
            <a:ext cx="2667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я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егодня мы с вами пойдем в гости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к красавице Осени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ес, точно терем распис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Лиловый, золотой, багря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Стоит над солнечной полян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Завороженный тишино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Рисунок 1" descr="IMG_1571.JPG"/>
          <p:cNvPicPr/>
          <p:nvPr/>
        </p:nvPicPr>
        <p:blipFill>
          <a:blip r:embed="rId1"/>
          <a:stretch/>
        </p:blipFill>
        <p:spPr>
          <a:xfrm>
            <a:off x="380880" y="380880"/>
            <a:ext cx="5105520" cy="609624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5562720" y="304920"/>
            <a:ext cx="3200400" cy="65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о для того, чтобы Осень впустила нас в сказочный лес, нам нужно отгадать загадки про осень. Вы готов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ни стали короч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Длиннее стали но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то скажет, кто зн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Когда это быв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Пришла без красок и без ки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b050"/>
                </a:solidFill>
                <a:latin typeface="Arial"/>
              </a:rPr>
              <a:t>И перекрасила все листь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206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Назовите первый месяц Осен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олодцы ребят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ше путешествие продолжае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/>
          <p:cNvSpPr/>
          <p:nvPr/>
        </p:nvSpPr>
        <p:spPr>
          <a:xfrm>
            <a:off x="457200" y="380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Вот мы и пришли в осенний лес, Скажите, что собирают в сентябре в лесу? Правильно. Ягоды  и грибы. Давайте с вами вспомним какие бывают  грибы? А теперь возьмем корзинки и отправимс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                                  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дал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6" descr="SAM_0398.JPG"/>
          <p:cNvPicPr/>
          <p:nvPr/>
        </p:nvPicPr>
        <p:blipFill>
          <a:blip r:embed="rId1"/>
          <a:stretch/>
        </p:blipFill>
        <p:spPr>
          <a:xfrm>
            <a:off x="685800" y="1523880"/>
            <a:ext cx="792468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IMG_1591.JPG"/>
          <p:cNvPicPr/>
          <p:nvPr/>
        </p:nvPicPr>
        <p:blipFill>
          <a:blip r:embed="rId1"/>
          <a:stretch/>
        </p:blipFill>
        <p:spPr>
          <a:xfrm>
            <a:off x="380880" y="304920"/>
            <a:ext cx="3886200" cy="43434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2" descr="IMG_1592.JPG"/>
          <p:cNvPicPr/>
          <p:nvPr/>
        </p:nvPicPr>
        <p:blipFill>
          <a:blip r:embed="rId2"/>
          <a:stretch/>
        </p:blipFill>
        <p:spPr>
          <a:xfrm>
            <a:off x="4876920" y="2209680"/>
            <a:ext cx="3911400" cy="429264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4419720" y="609480"/>
            <a:ext cx="4267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ренастый, в шляпе 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иб растет в лесу соснов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й, схватили белки вми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тот белый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380880" y="502920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оял на крепкой нож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 лежит в лукошк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IMG_1598.JPG"/>
          <p:cNvPicPr/>
          <p:nvPr/>
        </p:nvPicPr>
        <p:blipFill>
          <a:blip r:embed="rId1"/>
          <a:stretch/>
        </p:blipFill>
        <p:spPr>
          <a:xfrm>
            <a:off x="4952880" y="380880"/>
            <a:ext cx="3835440" cy="342900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IMG_1593.JPG"/>
          <p:cNvPicPr/>
          <p:nvPr/>
        </p:nvPicPr>
        <p:blipFill>
          <a:blip r:embed="rId2"/>
          <a:stretch/>
        </p:blipFill>
        <p:spPr>
          <a:xfrm>
            <a:off x="380880" y="3124080"/>
            <a:ext cx="4064040" cy="3353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4"/>
          <p:cNvSpPr/>
          <p:nvPr/>
        </p:nvSpPr>
        <p:spPr>
          <a:xfrm>
            <a:off x="533520" y="91440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Маленький, удаленьк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Сквозь землю прош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Красную шапочку наше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724280" y="4724280"/>
            <a:ext cx="403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то стоит на крепкой нож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В бурых листьях у дорожк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IMG_1599.JPG"/>
          <p:cNvPicPr/>
          <p:nvPr/>
        </p:nvPicPr>
        <p:blipFill>
          <a:blip r:embed="rId1"/>
          <a:stretch/>
        </p:blipFill>
        <p:spPr>
          <a:xfrm>
            <a:off x="4724280" y="3505320"/>
            <a:ext cx="4064040" cy="2857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" descr="IMG_1600.JPG"/>
          <p:cNvPicPr/>
          <p:nvPr/>
        </p:nvPicPr>
        <p:blipFill>
          <a:blip r:embed="rId2"/>
          <a:stretch/>
        </p:blipFill>
        <p:spPr>
          <a:xfrm>
            <a:off x="380880" y="304920"/>
            <a:ext cx="4064040" cy="284472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4724280" y="533520"/>
            <a:ext cx="3962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сичка лисичке сказала в лесу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"Не даром лисичкой зовут и лису!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са на лисичку похожа была б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гда бы не зубы, ни шерсть и не лапы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4"/>
          <p:cNvSpPr/>
          <p:nvPr/>
        </p:nvSpPr>
        <p:spPr>
          <a:xfrm>
            <a:off x="533520" y="350532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Когда увидите опят,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их собирайте всех подряд: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ве сотни - там, три сотни - тут.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пята семьями растут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IMG_1603.PNG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24852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457200" y="2514600"/>
            <a:ext cx="57913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Мы  с вами набрали полные корзинки грибов. Давайте вспомним, какие грибы мы собирали? Молодцы ребят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А теперь идем за ягодам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6-10-28T18:00:03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