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CBF3-9C31-4ED6-B4E7-47C7FF806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5F40-FCB0-499B-A6B9-12473A26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7F8-8B9E-43B9-951F-56D19BA2F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9B33-ECD5-4F05-B716-82BF56DBF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F62FF-75F8-4998-89CD-1F6E97B3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D9614-1C76-4C3B-AA60-B18A639CB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0D246A-0877-4D40-9C38-C2EE9FFA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9D16F2-7D20-4831-94C2-DBA3A3D1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F7B6D2-EBCC-4FD2-B24C-159B203B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222B1E-6D92-41EB-9073-0773F9F0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C882D-9C98-4F24-B558-FB342E1D8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F51E-AFC0-46A1-B3A1-D8810F585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60B77D-136E-4420-BDDB-29059194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EDEB0C-D015-4E5E-A4C0-2E48F700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356B1C-D51B-45FA-802F-F7B549C4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2C67D7-F665-47EF-96FA-14615BD96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A73530-8083-430A-861F-B9779FC9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060-6B74-4683-B223-7983C8BA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91C-3A82-4B01-9F3B-9D03CF64A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763-C27D-414C-87A6-987D866B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46ED-BFC3-448B-9B61-6069F97B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9B1-47E7-4187-9E5E-58BAB521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5FD2-CDBB-49A1-B979-A9B6281B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4753-D701-4DF0-918B-74B09F561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9D620-B486-4F32-9894-B48F6E1FD9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EA82-8400-48CC-AC9B-795D0308AC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«Сбережём Волгу - богатство России!»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поляна с цветами"/>
          <p:cNvPicPr/>
          <p:nvPr/>
        </p:nvPicPr>
        <p:blipFill>
          <a:blip r:embed="rId2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103" name="Звуки природы - насекомые" descr=""/>
          <p:cNvPicPr/>
          <p:nvPr/>
        </p:nvPicPr>
        <p:blipFill>
          <a:blip r:embed="rId3"/>
          <a:stretch/>
        </p:blipFill>
        <p:spPr>
          <a:xfrm>
            <a:off x="8388360" y="616572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0344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земля радуется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101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земля плачет2"/>
          <p:cNvPicPr/>
          <p:nvPr/>
        </p:nvPicPr>
        <p:blipFill>
          <a:blip r:embed="rId1"/>
          <a:stretch/>
        </p:blipFill>
        <p:spPr>
          <a:xfrm>
            <a:off x="468360" y="1440"/>
            <a:ext cx="8280360" cy="6856560"/>
          </a:xfrm>
          <a:prstGeom prst="rect">
            <a:avLst/>
          </a:prstGeom>
          <a:ln w="0">
            <a:noFill/>
          </a:ln>
        </p:spPr>
      </p:pic>
      <p:pic>
        <p:nvPicPr>
          <p:cNvPr id="92" name="11 Б SOS - Сигнал общей тревоги в случае Менингита" descr=""/>
          <p:cNvPicPr/>
          <p:nvPr/>
        </p:nvPicPr>
        <p:blipFill>
          <a:blip r:embed="rId2"/>
          <a:stretch/>
        </p:blipFill>
        <p:spPr>
          <a:xfrm>
            <a:off x="8420040" y="6308640"/>
            <a:ext cx="473040" cy="473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54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лес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Объект 3" descr=""/>
          <p:cNvPicPr/>
          <p:nvPr/>
        </p:nvPicPr>
        <p:blipFill>
          <a:blip r:embed="rId2"/>
          <a:stretch/>
        </p:blipFill>
        <p:spPr>
          <a:xfrm>
            <a:off x="0" y="-14400"/>
            <a:ext cx="9169560" cy="6872400"/>
          </a:xfrm>
          <a:prstGeom prst="rect">
            <a:avLst/>
          </a:prstGeom>
          <a:ln w="0">
            <a:noFill/>
          </a:ln>
        </p:spPr>
      </p:pic>
      <p:pic>
        <p:nvPicPr>
          <p:cNvPr id="96" name="Птицы - Пение птиц" descr=""/>
          <p:cNvPicPr/>
          <p:nvPr/>
        </p:nvPicPr>
        <p:blipFill>
          <a:blip r:embed="rId3"/>
          <a:stretch/>
        </p:blipFill>
        <p:spPr>
          <a:xfrm>
            <a:off x="8596440" y="6237360"/>
            <a:ext cx="520560" cy="52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39415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Объект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река"/>
          <p:cNvPicPr/>
          <p:nvPr/>
        </p:nvPicPr>
        <p:blipFill>
          <a:blip r:embed="rId2"/>
          <a:stretch/>
        </p:blipFill>
        <p:spPr>
          <a:xfrm>
            <a:off x="3636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Звуки природы 3Д - Птицы у реки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449280" cy="44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599373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поляна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8T17:00:49Z</dcterms:created>
  <dc:creator>Alex</dc:creator>
  <dc:description/>
  <dc:language>en-US</dc:language>
  <cp:lastModifiedBy>Ученик</cp:lastModifiedBy>
  <dcterms:modified xsi:type="dcterms:W3CDTF">2017-02-23T19:10:32Z</dcterms:modified>
  <cp:revision>18</cp:revision>
  <dc:subject/>
  <dc:title>Слайд 1</dc:title>
</cp:coreProperties>
</file>