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9335-B442-4562-96D1-5E0976A98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02A6-1B2D-4D11-A07A-A42939E92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DF68-73D5-416C-A7AE-574B5F9A6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BB10-6739-4114-9B71-AF72860EE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0590AE-A08B-43C6-9D6F-F5684105A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AF9B31-F0DF-4ECB-AE3A-40400D436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5BA469-AD89-44AB-B157-14638C66F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810EC2-B24D-4C6F-9EF6-E85512F4A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BDF13D-FCF0-4C83-9B9D-A86877AC2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88BFDD-B3C8-46F1-8F79-74F4CA3DC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9ABC4E-9145-4264-BD47-C56D593E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0DE8-3ACC-4637-AD08-87BD742F1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B8FEA5-BF25-41E4-8A24-512D6AD8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D685BF-4C01-40EC-AC1A-EEDA6180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DEE274-24C4-44CF-8AA3-94AAB2DB9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CB6413-7FBE-41F7-BB23-FB3CDF4B4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D6F54A-0C4C-4160-AEBF-7D1E0800F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3277-0275-45F0-BF55-5B12608FB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0198-4026-4100-98A2-7A98E0115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5EF7-00C0-4F11-BE1C-33C8C74D4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E3D6-7055-452C-B044-3DE0E00F2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DB91-075E-4A19-92C5-F6445205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5025-8991-4FA9-9882-BC7340A5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99F6-137B-4344-8437-7C9F90EE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DA4FA-0EEC-48C9-A0F8-E6EDE6183E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62B3B-0BFD-4A08-82AE-909A2C47A8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«Сбережём Волгу - богатство России!»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поляна с цветами"/>
          <p:cNvPicPr/>
          <p:nvPr/>
        </p:nvPicPr>
        <p:blipFill>
          <a:blip r:embed="rId2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pic>
        <p:nvPicPr>
          <p:cNvPr id="103" name="Звуки природы - насекомые" descr=""/>
          <p:cNvPicPr/>
          <p:nvPr/>
        </p:nvPicPr>
        <p:blipFill>
          <a:blip r:embed="rId3"/>
          <a:stretch/>
        </p:blipFill>
        <p:spPr>
          <a:xfrm>
            <a:off x="8388360" y="616572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70344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земля радуется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земля плачет2"/>
          <p:cNvPicPr/>
          <p:nvPr/>
        </p:nvPicPr>
        <p:blipFill>
          <a:blip r:embed="rId1"/>
          <a:stretch/>
        </p:blipFill>
        <p:spPr>
          <a:xfrm>
            <a:off x="468360" y="1440"/>
            <a:ext cx="8280360" cy="6856560"/>
          </a:xfrm>
          <a:prstGeom prst="rect">
            <a:avLst/>
          </a:prstGeom>
          <a:ln w="0">
            <a:noFill/>
          </a:ln>
        </p:spPr>
      </p:pic>
      <p:pic>
        <p:nvPicPr>
          <p:cNvPr id="92" name="11 Б SOS - Сигнал общей тревоги в случае Менингита" descr=""/>
          <p:cNvPicPr/>
          <p:nvPr/>
        </p:nvPicPr>
        <p:blipFill>
          <a:blip r:embed="rId2"/>
          <a:stretch/>
        </p:blipFill>
        <p:spPr>
          <a:xfrm>
            <a:off x="8420040" y="6308640"/>
            <a:ext cx="473040" cy="47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5400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лес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Объект 3" descr=""/>
          <p:cNvPicPr/>
          <p:nvPr/>
        </p:nvPicPr>
        <p:blipFill>
          <a:blip r:embed="rId2"/>
          <a:stretch/>
        </p:blipFill>
        <p:spPr>
          <a:xfrm>
            <a:off x="0" y="-14400"/>
            <a:ext cx="9169560" cy="6872400"/>
          </a:xfrm>
          <a:prstGeom prst="rect">
            <a:avLst/>
          </a:prstGeom>
          <a:ln w="0">
            <a:noFill/>
          </a:ln>
        </p:spPr>
      </p:pic>
      <p:pic>
        <p:nvPicPr>
          <p:cNvPr id="96" name="Птицы - Пение птиц" descr=""/>
          <p:cNvPicPr/>
          <p:nvPr/>
        </p:nvPicPr>
        <p:blipFill>
          <a:blip r:embed="rId3"/>
          <a:stretch/>
        </p:blipFill>
        <p:spPr>
          <a:xfrm>
            <a:off x="8596440" y="6237360"/>
            <a:ext cx="520560" cy="52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39415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Объект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река"/>
          <p:cNvPicPr/>
          <p:nvPr/>
        </p:nvPicPr>
        <p:blipFill>
          <a:blip r:embed="rId2"/>
          <a:stretch/>
        </p:blipFill>
        <p:spPr>
          <a:xfrm>
            <a:off x="3636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Звуки природы 3Д - Птицы у реки" descr=""/>
          <p:cNvPicPr/>
          <p:nvPr/>
        </p:nvPicPr>
        <p:blipFill>
          <a:blip r:embed="rId3"/>
          <a:stretch/>
        </p:blipFill>
        <p:spPr>
          <a:xfrm>
            <a:off x="8604360" y="6308640"/>
            <a:ext cx="449280" cy="44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599373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поляна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8T17:00:49Z</dcterms:created>
  <dc:creator>Alex</dc:creator>
  <dc:description/>
  <dc:language>en-US</dc:language>
  <cp:lastModifiedBy>Ученик</cp:lastModifiedBy>
  <dcterms:modified xsi:type="dcterms:W3CDTF">2017-02-23T19:10:32Z</dcterms:modified>
  <cp:revision>18</cp:revision>
  <dc:subject/>
  <dc:title>Слайд 1</dc:title>
</cp:coreProperties>
</file>