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5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9A3E7-B18B-45D1-9120-4630491873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155AB-497E-4ED6-B592-87929E851C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6F4C2-B1A5-47C3-8670-76DBD79527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8925E-F905-40FA-83B5-B0022881B0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C074F-99C0-4579-9B05-BA373AB82B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FF27E-7372-4E06-BD60-B24176E62F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D3D59-A826-4A2A-95F7-E2C0BA40E2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CFBEF-0E5D-409B-B0E1-053A37C324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0BC01-3A7C-449F-8F3B-587D1C151E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9291F-1D76-4574-AAED-DFA9F6371F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F60A5-7042-4C42-BACC-1BE04C0D72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A3A3C-2C69-4CCF-A58D-77D88EA15B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1854D-D516-4C78-B22E-13B9B069BF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1E70A-E60A-4644-A0D4-64B6990902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E42BB-F943-4FB3-B04F-0D9F0FB7D6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4758E-6D89-4149-80DF-94FBE37D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ED97B-CFF5-4000-8A5C-CF714427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48027-D682-4EB1-8A4F-B155E659B7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177D9-FD37-49DA-BDE9-6B00286B68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358B7-E51E-4B81-B683-CB5071AE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DC1E6-B2C1-4386-A41E-63998208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19064-3564-4F36-B141-E246EFB0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28C1F-30A7-420F-A29F-8C85D9B1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C5B41-F6F0-4F7B-BA68-5ED493F6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53416-EA3A-4E3C-89E6-A4471617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E76FD-EDB9-4537-A1D0-F834E1F9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91E10-B8C2-4291-846F-9849E009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604A1-E195-42D0-B717-0FC4FE68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876B1-303D-4105-BD3D-1257D930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CD171-491A-4972-9675-99484ECE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CAEFA-2971-49BD-8872-0D6686FE93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D22E5-F07C-4218-92E3-AE65CBFB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7EFB5-2D17-4501-AFCB-8A7135A6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7FB06-9BB2-4C7D-843A-60AFB380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7C4F0-1DE7-437D-8799-FA1A30DC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19038-6F8B-45D6-81D1-9A3F9DE5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47FBF-D43D-43E3-A14D-5F095564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D4C12-DD98-4D5B-8A7F-8ABD1B0E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6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7B5AD-38C8-4169-AFE2-0F291DF773A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3.6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52DBF38-B274-4E8C-B499-822628DFF189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hyperlink" Target="http://elenaranko.ucoz.ru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95640" y="576000"/>
            <a:ext cx="4896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казки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А.С.Пушкин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624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2127240" y="765000"/>
            <a:ext cx="6765840" cy="8416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2381400" y="306360"/>
            <a:ext cx="611496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marL="216000" indent="-21456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казка о мёртвой царевне и семи богатыря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5616720" y="1663560"/>
            <a:ext cx="3238200" cy="4600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355680" y="3887640"/>
            <a:ext cx="540360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240" bIns="45000" anchor="t">
            <a:noAutofit/>
          </a:bodyPr>
          <a:p>
            <a:pPr>
              <a:lnSpc>
                <a:spcPct val="84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з наиболее известных поэм А.С.Пушкина. Написана осенью 1833 года в Болдине. В основу положена русская сказка, записанная в Михайловском. Также сюжет сказки сильно перекликается с сюжетом сказки «Белоснежка и семь гномов» Братьев Грим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624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2127240" y="765000"/>
            <a:ext cx="6765840" cy="841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3"/>
          <a:stretch/>
        </p:blipFill>
        <p:spPr>
          <a:xfrm>
            <a:off x="5354640" y="160488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1736640" y="503280"/>
            <a:ext cx="77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marL="216000" indent="-21456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казка о золотом петушк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20760" y="3887640"/>
            <a:ext cx="5294160" cy="33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а последняя сказка была написана в 1834 г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основе сюжета новел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Легенда об арабском  звездочёте "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252360" y="260280"/>
            <a:ext cx="8569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1119240" y="836640"/>
            <a:ext cx="6765840" cy="841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144360" y="142920"/>
            <a:ext cx="8996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мы читаем  сказки Пушкина, то попадаем в удивительный ми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326880" y="1407960"/>
            <a:ext cx="1905120" cy="2695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4"/>
          <a:stretch/>
        </p:blipFill>
        <p:spPr>
          <a:xfrm>
            <a:off x="2703600" y="1440000"/>
            <a:ext cx="1904760" cy="2552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5"/>
          <a:stretch/>
        </p:blipFill>
        <p:spPr>
          <a:xfrm>
            <a:off x="4967280" y="1616040"/>
            <a:ext cx="1905120" cy="2343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6"/>
          <a:stretch/>
        </p:blipFill>
        <p:spPr>
          <a:xfrm>
            <a:off x="7023240" y="1465200"/>
            <a:ext cx="1904760" cy="2495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7"/>
          <a:stretch/>
        </p:blipFill>
        <p:spPr>
          <a:xfrm>
            <a:off x="1670040" y="4464000"/>
            <a:ext cx="1533600" cy="2008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8"/>
          <a:stretch/>
        </p:blipFill>
        <p:spPr>
          <a:xfrm>
            <a:off x="3711600" y="4103640"/>
            <a:ext cx="1905120" cy="2514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9"/>
          <a:stretch/>
        </p:blipFill>
        <p:spPr>
          <a:xfrm>
            <a:off x="5904000" y="4176720"/>
            <a:ext cx="1531800" cy="23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324000" y="476280"/>
            <a:ext cx="8496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 можете использовать данное оформл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оздания своих презентаций, но данный слайд с указанием авторства в своей работ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удалять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втор шабло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ОУ лицея №21 г. Иван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2195640" y="4076640"/>
            <a:ext cx="6081480" cy="7556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3132000" y="5661000"/>
            <a:ext cx="55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айт: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elenaranko.ucoz.ru/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2016000" y="274680"/>
            <a:ext cx="6840720" cy="36464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2735280" y="4464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сем известно об интересе Пушкина к русским народным сказкам, песням, к истории родной страны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2808360" y="1882800"/>
            <a:ext cx="597528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144360" y="647640"/>
            <a:ext cx="9153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Что за прелесть эти сказки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ждая есть поэма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411280" y="1628640"/>
            <a:ext cx="6408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стоящим кладом была для Пушкина каждая сказка его доброй няни Арины Родионовны. Многие ее сказки Пушкин использовал впоследствии как сюжеты собственных сказок (в стихах). Пушкин слушал певцов и сказателей на базарах и ярмарках, и в его бумагах сохранился ряд записей выслушанных им сказ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624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2127240" y="765000"/>
            <a:ext cx="6765840" cy="8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624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2127240" y="765000"/>
            <a:ext cx="6765840" cy="841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232000" y="2016000"/>
            <a:ext cx="67676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marL="214200" indent="-2142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казка о попе и о работнике его Балде (1830-183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казка о царе Салтане, о сыне его славном и могучем богатыре князе Гвидоне Салтановиче и о прекрасной царевне Лебеди (183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казка о рыбаке и рыбке (183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казка о мёртвой царевне и семи богатырях (183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казка о золотом петушке (183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083040" y="149400"/>
            <a:ext cx="49003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знаешь ли ты сказк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С. Пушки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624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2127240" y="765000"/>
            <a:ext cx="6765840" cy="841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3"/>
          <a:stretch/>
        </p:blipFill>
        <p:spPr>
          <a:xfrm>
            <a:off x="144360" y="3657600"/>
            <a:ext cx="9144000" cy="2895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057400" y="122400"/>
            <a:ext cx="698328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азка о попе и ег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нике Бал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879640" y="1417680"/>
            <a:ext cx="621504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на в Болдино 13 сентября 1830 года. Основой послужила русская народная сказка, записанная Пушкиным в Михайловск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624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2127240" y="765000"/>
            <a:ext cx="6765840" cy="8416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2592360" y="30240"/>
            <a:ext cx="6408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азка о медведих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664000" y="1368360"/>
            <a:ext cx="4032000" cy="55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конченная сказка, написанная осенью 1830 г. в Болдине. Сюжет  ее целиком  принадлежит Пушкину.  По  стилю  и  стиху  сказка  приближается  к  народной  пес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6418440" y="3672000"/>
            <a:ext cx="24382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624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2127240" y="765000"/>
            <a:ext cx="6765840" cy="841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548080" y="366840"/>
            <a:ext cx="67672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marL="216000" indent="-21456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азка о царе Салтане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152360" y="3894120"/>
            <a:ext cx="415296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казка о царе Салтане» —обработка народной сказки. Создана в 1831 го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5327640" y="1728720"/>
            <a:ext cx="32432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624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2127240" y="765000"/>
            <a:ext cx="6765840" cy="841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2548080" y="366840"/>
            <a:ext cx="67672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marL="216000" indent="-214560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казка о рыбаке и рыб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39720" y="3816360"/>
            <a:ext cx="490392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писана осенью 1833 года. Пушкин воспользовался немецкой  сказкой.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роли исполнителя всех желаний выступает рыба камбал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ушкин заменил этот образ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3"/>
          <a:stretch/>
        </p:blipFill>
        <p:spPr>
          <a:xfrm>
            <a:off x="5472000" y="1676520"/>
            <a:ext cx="3229200" cy="4371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кольник</dc:creator>
  <dc:description/>
  <dc:language>en-US</dc:language>
  <cp:lastModifiedBy>Школьник</cp:lastModifiedBy>
  <dcterms:modified xsi:type="dcterms:W3CDTF">2017-06-14T11:16:33Z</dcterms:modified>
  <cp:revision>1</cp:revision>
  <dc:subject/>
  <dc:title>Сказки А.С.Пушкина</dc:title>
</cp:coreProperties>
</file>