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4D38A-2821-4EE5-98CC-E205236D4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764D6-C10C-4B95-BE32-4D192CD8E3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AECE-1F71-48DF-BB89-E07A6858F8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7F38A-5445-4C3C-A8F7-BD25D978C1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7A93B-F4A6-495C-AB80-40D5792273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2589-1929-43C2-9279-8A7A3CFEF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9A51A-0B6A-47F4-AC04-E7B25C9926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807A8-05C6-4CBA-8EC8-39B83FD2A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4D1ED-8B11-4AFB-9177-15273DD79E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33EA-44F5-43C6-B489-71E77D9DD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C186F-5C06-4B47-9732-996088E8E9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3D2ED-476C-4427-9215-F1AD9F790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6FD8-6BD5-4A98-9B49-C63CFD9543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6590-8BC6-4AE5-A286-2535CF748D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6789-4285-4F42-A370-A9674633A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0934-733C-4592-AD64-651C18B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3B33-73A7-418A-AE73-136C8C8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359E-96E3-4B42-A100-121753228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38F4B-EF16-4758-A524-E0A277ECF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D795C-E2E9-41B8-B519-13D8B5CF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E8E97-7F4E-43B0-BE43-DA4D7C6E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3B7A2-C02C-482E-9D1F-858E9CC4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5C8E9-992A-4724-B7CD-9707D763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C8569-D858-40D8-BC15-7A2718D8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3DE35-22F2-410E-85B9-7BF41CA2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9BAC-021E-4C40-85AF-231FAE0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C48ED-5F4A-451E-AC12-580D3B8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0E973-09B3-4D53-A3DC-22B0CD8C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F2746-0AF8-40B0-A742-46D16D58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BEB49-8465-4758-8D90-33BF328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0FED3-6BA5-42CA-A567-DA335CC95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BE94-E6E3-40B7-B464-2A38B053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8A22-4DA7-476B-80FC-938F1FBF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B8C6-BE74-43D9-BC60-D3B78A6E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563A-9915-4591-80B4-B7936A7D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AD3E-F774-4A6D-BF6E-E712F62B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1667-C03A-4100-95CA-9CD4B373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5B40-159E-461B-BC26-A124B68B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A7CEE-2AEC-4832-B23E-B0F14E2773D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.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280B4C-0C20-4732-9F54-551819C6E49E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hyperlink" Target="http://elenaranko.ucoz.ru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95640" y="576000"/>
            <a:ext cx="489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казки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.С.Пушк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381400" y="306360"/>
            <a:ext cx="61149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marL="216000" indent="-21456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казка о мёртвой царевне и семи богатыря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5616720" y="1663560"/>
            <a:ext cx="3238200" cy="4600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55680" y="3887640"/>
            <a:ext cx="540360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наиболее известных поэм А.С.Пушкина. Написана осенью 1833 года в Болдине. В основу положена русская сказка, записанная в Михайловском. Также сюжет сказки сильно перекликается с сюжетом сказки «Белоснежка и семь гномов» Братьев Гри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5354640" y="16048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1736640" y="503280"/>
            <a:ext cx="77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marL="216000" indent="-21456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казка о золотом петушк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0760" y="3887640"/>
            <a:ext cx="529416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последняя сказка была написана в 1834 г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основе сюжета новел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Легенда об арабском  звездочёте "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52360" y="260280"/>
            <a:ext cx="8569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119240" y="836640"/>
            <a:ext cx="6765840" cy="841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44360" y="142920"/>
            <a:ext cx="8996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мы читаем  сказки Пушкина, то попадаем в удивитель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326880" y="140796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2703600" y="1440000"/>
            <a:ext cx="1904760" cy="2552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4967280" y="1616040"/>
            <a:ext cx="1905120" cy="2343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6"/>
          <a:stretch/>
        </p:blipFill>
        <p:spPr>
          <a:xfrm>
            <a:off x="7023240" y="1465200"/>
            <a:ext cx="1904760" cy="249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7"/>
          <a:stretch/>
        </p:blipFill>
        <p:spPr>
          <a:xfrm>
            <a:off x="1670040" y="4464000"/>
            <a:ext cx="1533600" cy="200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8"/>
          <a:stretch/>
        </p:blipFill>
        <p:spPr>
          <a:xfrm>
            <a:off x="3711600" y="41036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9"/>
          <a:stretch/>
        </p:blipFill>
        <p:spPr>
          <a:xfrm>
            <a:off x="5904000" y="4176720"/>
            <a:ext cx="153180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24000" y="476280"/>
            <a:ext cx="849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можете использовать данное оформл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но данный слайд с указанием авторства в своей рабо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далят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шабло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я №21 г. Ива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6081480" cy="755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3132000" y="5661000"/>
            <a:ext cx="55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elenaranko.ucoz.ru/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016000" y="274680"/>
            <a:ext cx="6840720" cy="3646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735280" y="4464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м известно об интересе Пушкина к русским народным сказкам, песням, к истории родной страны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2808360" y="1882800"/>
            <a:ext cx="597528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44360" y="647640"/>
            <a:ext cx="9153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Что за прелесть эти сказки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ждая есть поэм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411280" y="1628640"/>
            <a:ext cx="640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стоящим кладом была для Пушкина каждая сказка его доброй няни Арины Родионовны. Многие ее сказки Пушкин использовал впоследствии как сюжеты собственных сказок (в стихах). Пушкин слушал певцов и сказателей на базарах и ярмарках, и в его бумагах сохранился ряд записей выслушанных им сказ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32000" y="2016000"/>
            <a:ext cx="67676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попе и о работнике его Балде (1830-183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царе Салтане, о сыне его славном и могучем богатыре князе Гвидоне Салтановиче и о прекрасной царевне Лебеди (18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рыбаке и рыбке (18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мёртвой царевне и семи богатырях (18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золотом петушке (18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83040" y="149400"/>
            <a:ext cx="49003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наешь ли ты сказ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С. Пушк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144360" y="365760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57400" y="122400"/>
            <a:ext cx="6983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зка о попе и ег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нике Бал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79640" y="1417680"/>
            <a:ext cx="621504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Болдино 13 сентября 1830 года. Основой послужила русская народная сказка, записанная Пушкиным в Михайловс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592360" y="30240"/>
            <a:ext cx="6408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азка о медведих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64000" y="1368360"/>
            <a:ext cx="403200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ченная сказка, написанная осенью 1830 г. в Болдине. Сюжет  ее целиком  принадлежит Пушкину.  По  стилю  и  стиху  сказка  приближается  к  народной  пес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6418440" y="367200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548080" y="366840"/>
            <a:ext cx="67672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456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ка о царе Салтане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52360" y="3894120"/>
            <a:ext cx="415296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казка о царе Салтане» —обработка народной сказки. Создана в 1831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5327640" y="1728720"/>
            <a:ext cx="32432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548080" y="366840"/>
            <a:ext cx="67672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456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39720" y="3816360"/>
            <a:ext cx="490392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исана осенью 1833 года. Пушкин воспользовался немецкой  сказкой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роли исполнителя всех желаний выступает рыба камба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шкин заменил этот образ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5472000" y="1676520"/>
            <a:ext cx="3229200" cy="437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ьник</dc:creator>
  <dc:description/>
  <dc:language>en-US</dc:language>
  <cp:lastModifiedBy>Школьник</cp:lastModifiedBy>
  <dcterms:modified xsi:type="dcterms:W3CDTF">2017-06-14T11:16:33Z</dcterms:modified>
  <cp:revision>1</cp:revision>
  <dc:subject/>
  <dc:title>Сказки А.С.Пушкина</dc:title>
</cp:coreProperties>
</file>