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png" ContentType="image/png"/>
  <Override PartName="/ppt/media/image9.gif" ContentType="image/gif"/>
  <Override PartName="/ppt/media/image13.gif" ContentType="image/gif"/>
  <Override PartName="/ppt/media/image16.png" ContentType="image/png"/>
  <Override PartName="/ppt/media/image8.gif" ContentType="image/gif"/>
  <Override PartName="/ppt/media/image7.gif" ContentType="image/gif"/>
  <Override PartName="/ppt/media/image6.gif" ContentType="image/gif"/>
  <Override PartName="/ppt/media/image5.gif" ContentType="image/gif"/>
  <Override PartName="/ppt/media/image22.png" ContentType="image/png"/>
  <Override PartName="/ppt/media/image10.png" ContentType="image/png"/>
  <Override PartName="/ppt/media/image4.gif" ContentType="image/gif"/>
  <Override PartName="/ppt/media/image1.jpeg" ContentType="image/jpeg"/>
  <Override PartName="/ppt/media/image21.gif" ContentType="image/gif"/>
  <Override PartName="/ppt/media/image20.png" ContentType="image/png"/>
  <Override PartName="/ppt/media/image3.png" ContentType="image/png"/>
  <Override PartName="/ppt/media/image19.png" ContentType="image/png"/>
  <Override PartName="/ppt/media/image18.gif" ContentType="image/gif"/>
  <Override PartName="/ppt/media/image17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10288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Img"/>
          </p:nvPr>
        </p:nvSpPr>
        <p:spPr>
          <a:xfrm>
            <a:off x="863640" y="691920"/>
            <a:ext cx="5129280" cy="3414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000" spc="-1" strike="noStrike">
                <a:solidFill>
                  <a:srgbClr val="ffffff"/>
                </a:solidFill>
                <a:latin typeface="Times New Roman"/>
                <a:ea typeface="Microsoft YaHei"/>
              </a:rPr>
              <a:t>1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ldImg"/>
          </p:nvPr>
        </p:nvSpPr>
        <p:spPr>
          <a:xfrm>
            <a:off x="866880" y="692280"/>
            <a:ext cx="512424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8742240" cy="114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81200" y="2133360"/>
            <a:ext cx="8742240" cy="196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81200" y="4281840"/>
            <a:ext cx="8742240" cy="196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8742240" cy="114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81200" y="2133360"/>
            <a:ext cx="4266000" cy="196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61040" y="2133360"/>
            <a:ext cx="4266000" cy="196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81200" y="4281840"/>
            <a:ext cx="4266000" cy="196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61040" y="4281840"/>
            <a:ext cx="4266000" cy="196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8742240" cy="114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81200" y="2133360"/>
            <a:ext cx="2814840" cy="196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37160" y="2133360"/>
            <a:ext cx="2814840" cy="196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93120" y="2133360"/>
            <a:ext cx="2814840" cy="196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81200" y="4281840"/>
            <a:ext cx="2814840" cy="196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37160" y="4281840"/>
            <a:ext cx="2814840" cy="196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93120" y="4281840"/>
            <a:ext cx="2814840" cy="196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8742240" cy="114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81200" y="2133360"/>
            <a:ext cx="874224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8742240" cy="114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81200" y="2133360"/>
            <a:ext cx="8742240" cy="411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8742240" cy="114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81200" y="2133360"/>
            <a:ext cx="4266000" cy="411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61040" y="2133360"/>
            <a:ext cx="4266000" cy="411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8742240" cy="114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62120" y="533520"/>
            <a:ext cx="87422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8742240" cy="114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81200" y="2133360"/>
            <a:ext cx="4266000" cy="196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61040" y="2133360"/>
            <a:ext cx="4266000" cy="411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81200" y="4281840"/>
            <a:ext cx="4266000" cy="196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8742240" cy="114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81200" y="2133360"/>
            <a:ext cx="4266000" cy="411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61040" y="2133360"/>
            <a:ext cx="4266000" cy="196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61040" y="4281840"/>
            <a:ext cx="4266000" cy="196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8742240" cy="114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81200" y="2133360"/>
            <a:ext cx="4266000" cy="196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61040" y="2133360"/>
            <a:ext cx="4266000" cy="196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81200" y="4281840"/>
            <a:ext cx="8742240" cy="196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33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0"/>
            <a:ext cx="10285560" cy="6856560"/>
          </a:xfrm>
          <a:prstGeom prst="rect">
            <a:avLst/>
          </a:prstGeom>
          <a:gradFill rotWithShape="0">
            <a:gsLst>
              <a:gs pos="0">
                <a:srgbClr val="000029"/>
              </a:gs>
              <a:gs pos="100000">
                <a:srgbClr val="0000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8742240" cy="114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81200" y="2133360"/>
            <a:ext cx="8742240" cy="411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AutoShape 4"/>
          <p:cNvSpPr/>
          <p:nvPr/>
        </p:nvSpPr>
        <p:spPr>
          <a:xfrm>
            <a:off x="7238880" y="5181480"/>
            <a:ext cx="1559160" cy="1055880"/>
          </a:xfrm>
          <a:custGeom>
            <a:avLst/>
            <a:gdLst>
              <a:gd name="textAreaLeft" fmla="*/ 0 w 1559160"/>
              <a:gd name="textAreaRight" fmla="*/ 1559520 w 1559160"/>
              <a:gd name="textAreaTop" fmla="*/ 0 h 1055880"/>
              <a:gd name="textAreaBottom" fmla="*/ 1056240 h 1055880"/>
            </a:gdLst>
            <a:ahLst/>
            <a:rect l="textAreaLeft" t="textAreaTop" r="textAreaRight" b="textAreaBottom"/>
            <a:pathLst>
              <a:path w="982" h="665">
                <a:moveTo>
                  <a:pt x="0" y="332"/>
                </a:moveTo>
                <a:lnTo>
                  <a:pt x="187" y="332"/>
                </a:lnTo>
                <a:lnTo>
                  <a:pt x="244" y="140"/>
                </a:lnTo>
                <a:lnTo>
                  <a:pt x="324" y="461"/>
                </a:lnTo>
                <a:lnTo>
                  <a:pt x="443" y="0"/>
                </a:lnTo>
                <a:lnTo>
                  <a:pt x="561" y="664"/>
                </a:lnTo>
                <a:lnTo>
                  <a:pt x="697" y="114"/>
                </a:lnTo>
                <a:lnTo>
                  <a:pt x="742" y="294"/>
                </a:lnTo>
                <a:lnTo>
                  <a:pt x="981" y="294"/>
                </a:lnTo>
              </a:path>
            </a:pathLst>
          </a:custGeom>
          <a:noFill/>
          <a:ln cap="rnd" w="25560">
            <a:solidFill>
              <a:srgbClr val="e500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5"/>
          <p:cNvGrpSpPr/>
          <p:nvPr/>
        </p:nvGrpSpPr>
        <p:grpSpPr>
          <a:xfrm>
            <a:off x="8153280" y="4799160"/>
            <a:ext cx="1828800" cy="1828800"/>
            <a:chOff x="8153280" y="4799160"/>
            <a:chExt cx="1828800" cy="1828800"/>
          </a:xfrm>
        </p:grpSpPr>
        <p:sp>
          <p:nvSpPr>
            <p:cNvPr id="5" name="Rectangle 6"/>
            <p:cNvSpPr/>
            <p:nvPr/>
          </p:nvSpPr>
          <p:spPr>
            <a:xfrm>
              <a:off x="8928000" y="5316480"/>
              <a:ext cx="260280" cy="63648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7"/>
            <p:cNvSpPr/>
            <p:nvPr/>
          </p:nvSpPr>
          <p:spPr>
            <a:xfrm>
              <a:off x="8737560" y="5506920"/>
              <a:ext cx="647640" cy="2588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8153280" y="4799160"/>
              <a:ext cx="1828800" cy="1828800"/>
            </a:xfrm>
            <a:custGeom>
              <a:avLst/>
              <a:gdLst>
                <a:gd name="textAreaLeft" fmla="*/ 0 w 1828800"/>
                <a:gd name="textAreaRight" fmla="*/ 1829160 w 182880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1153" h="1153">
                  <a:moveTo>
                    <a:pt x="211" y="654"/>
                  </a:moveTo>
                  <a:lnTo>
                    <a:pt x="310" y="793"/>
                  </a:lnTo>
                  <a:lnTo>
                    <a:pt x="423" y="914"/>
                  </a:lnTo>
                  <a:lnTo>
                    <a:pt x="557" y="1042"/>
                  </a:lnTo>
                  <a:lnTo>
                    <a:pt x="701" y="914"/>
                  </a:lnTo>
                  <a:lnTo>
                    <a:pt x="818" y="793"/>
                  </a:lnTo>
                  <a:lnTo>
                    <a:pt x="928" y="643"/>
                  </a:lnTo>
                  <a:lnTo>
                    <a:pt x="979" y="549"/>
                  </a:lnTo>
                  <a:lnTo>
                    <a:pt x="1014" y="456"/>
                  </a:lnTo>
                  <a:lnTo>
                    <a:pt x="1021" y="399"/>
                  </a:lnTo>
                  <a:lnTo>
                    <a:pt x="1015" y="332"/>
                  </a:lnTo>
                  <a:lnTo>
                    <a:pt x="998" y="270"/>
                  </a:lnTo>
                  <a:lnTo>
                    <a:pt x="972" y="219"/>
                  </a:lnTo>
                  <a:lnTo>
                    <a:pt x="938" y="187"/>
                  </a:lnTo>
                  <a:lnTo>
                    <a:pt x="888" y="159"/>
                  </a:lnTo>
                  <a:lnTo>
                    <a:pt x="830" y="142"/>
                  </a:lnTo>
                  <a:lnTo>
                    <a:pt x="766" y="137"/>
                  </a:lnTo>
                  <a:lnTo>
                    <a:pt x="710" y="148"/>
                  </a:lnTo>
                  <a:lnTo>
                    <a:pt x="657" y="170"/>
                  </a:lnTo>
                  <a:lnTo>
                    <a:pt x="566" y="242"/>
                  </a:lnTo>
                  <a:lnTo>
                    <a:pt x="476" y="170"/>
                  </a:lnTo>
                  <a:lnTo>
                    <a:pt x="423" y="148"/>
                  </a:lnTo>
                  <a:lnTo>
                    <a:pt x="364" y="137"/>
                  </a:lnTo>
                  <a:lnTo>
                    <a:pt x="301" y="142"/>
                  </a:lnTo>
                  <a:lnTo>
                    <a:pt x="245" y="161"/>
                  </a:lnTo>
                  <a:lnTo>
                    <a:pt x="199" y="189"/>
                  </a:lnTo>
                  <a:lnTo>
                    <a:pt x="169" y="225"/>
                  </a:lnTo>
                  <a:lnTo>
                    <a:pt x="146" y="264"/>
                  </a:lnTo>
                  <a:lnTo>
                    <a:pt x="0" y="266"/>
                  </a:lnTo>
                  <a:lnTo>
                    <a:pt x="27" y="178"/>
                  </a:lnTo>
                  <a:lnTo>
                    <a:pt x="67" y="113"/>
                  </a:lnTo>
                  <a:lnTo>
                    <a:pt x="110" y="72"/>
                  </a:lnTo>
                  <a:lnTo>
                    <a:pt x="169" y="34"/>
                  </a:lnTo>
                  <a:lnTo>
                    <a:pt x="237" y="8"/>
                  </a:lnTo>
                  <a:lnTo>
                    <a:pt x="316" y="0"/>
                  </a:lnTo>
                  <a:lnTo>
                    <a:pt x="388" y="13"/>
                  </a:lnTo>
                  <a:lnTo>
                    <a:pt x="457" y="43"/>
                  </a:lnTo>
                  <a:lnTo>
                    <a:pt x="572" y="135"/>
                  </a:lnTo>
                  <a:lnTo>
                    <a:pt x="688" y="43"/>
                  </a:lnTo>
                  <a:lnTo>
                    <a:pt x="754" y="13"/>
                  </a:lnTo>
                  <a:lnTo>
                    <a:pt x="824" y="0"/>
                  </a:lnTo>
                  <a:lnTo>
                    <a:pt x="905" y="8"/>
                  </a:lnTo>
                  <a:lnTo>
                    <a:pt x="978" y="32"/>
                  </a:lnTo>
                  <a:lnTo>
                    <a:pt x="1032" y="69"/>
                  </a:lnTo>
                  <a:lnTo>
                    <a:pt x="1076" y="113"/>
                  </a:lnTo>
                  <a:lnTo>
                    <a:pt x="1110" y="163"/>
                  </a:lnTo>
                  <a:lnTo>
                    <a:pt x="1138" y="225"/>
                  </a:lnTo>
                  <a:lnTo>
                    <a:pt x="1152" y="304"/>
                  </a:lnTo>
                  <a:lnTo>
                    <a:pt x="1144" y="405"/>
                  </a:lnTo>
                  <a:lnTo>
                    <a:pt x="1107" y="525"/>
                  </a:lnTo>
                  <a:lnTo>
                    <a:pt x="1040" y="647"/>
                  </a:lnTo>
                  <a:lnTo>
                    <a:pt x="964" y="753"/>
                  </a:lnTo>
                  <a:lnTo>
                    <a:pt x="892" y="834"/>
                  </a:lnTo>
                  <a:lnTo>
                    <a:pt x="563" y="1152"/>
                  </a:lnTo>
                  <a:lnTo>
                    <a:pt x="388" y="990"/>
                  </a:lnTo>
                  <a:lnTo>
                    <a:pt x="248" y="834"/>
                  </a:lnTo>
                  <a:lnTo>
                    <a:pt x="119" y="654"/>
                  </a:lnTo>
                  <a:lnTo>
                    <a:pt x="211" y="654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Line 9"/>
          <p:cNvSpPr/>
          <p:nvPr/>
        </p:nvSpPr>
        <p:spPr>
          <a:xfrm>
            <a:off x="687240" y="1905120"/>
            <a:ext cx="8913960" cy="1440"/>
          </a:xfrm>
          <a:prstGeom prst="line">
            <a:avLst/>
          </a:prstGeom>
          <a:ln cap="sq"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0" y="692280"/>
            <a:ext cx="1011240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895320" y="2492280"/>
            <a:ext cx="619272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Times New Roman"/>
              </a:rPr>
              <a:t>«Берегите чистоту языка, как святыню!»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Times New Roman"/>
              </a:rPr>
              <a:t>И.С. Тургене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1"/>
          <p:cNvSpPr/>
          <p:nvPr/>
        </p:nvSpPr>
        <p:spPr>
          <a:xfrm>
            <a:off x="762120" y="533520"/>
            <a:ext cx="8743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 fontScale="8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Times New Roman"/>
              </a:rPr>
              <a:t>Каково воздействие скверных слов </a:t>
            </a:r>
            <a:br>
              <a:rPr sz="4000"/>
            </a:br>
            <a:r>
              <a:rPr b="1" i="1" lang="ru-RU" sz="4000" spc="-1" strike="noStrike">
                <a:solidFill>
                  <a:srgbClr val="ffff00"/>
                </a:solidFill>
                <a:latin typeface="Times New Roman"/>
              </a:rPr>
              <a:t>на человека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2"/>
          <p:cNvSpPr/>
          <p:nvPr/>
        </p:nvSpPr>
        <p:spPr>
          <a:xfrm>
            <a:off x="781200" y="2133720"/>
            <a:ext cx="8743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Мат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опасен для здоровь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пособствует снижению интеллек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овоцирует преступ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бворовывает духовн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нижа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скорбля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"/>
          <p:cNvSpPr/>
          <p:nvPr/>
        </p:nvSpPr>
        <p:spPr>
          <a:xfrm>
            <a:off x="762120" y="533520"/>
            <a:ext cx="8743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Times New Roman"/>
              </a:rPr>
              <a:t>Слово человека - энерг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318960" y="2133720"/>
            <a:ext cx="92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Если слово хорошее – добрыми энергиями насыщается пространство, и оно кому-то помогает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Если слово нецензурное, грязное, оно засоряет пространство. Человек может заболеть, соприкоснувшись с этой энергие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0" y="189000"/>
            <a:ext cx="2119320" cy="166032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1"/>
          <p:cNvSpPr/>
          <p:nvPr/>
        </p:nvSpPr>
        <p:spPr>
          <a:xfrm>
            <a:off x="762120" y="533520"/>
            <a:ext cx="8743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 fontScale="8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Times New Roman"/>
              </a:rPr>
              <a:t>Эксперимент</a:t>
            </a:r>
            <a:br>
              <a:rPr sz="4000"/>
            </a:br>
            <a:r>
              <a:rPr b="1" i="1" lang="ru-RU" sz="4000" spc="-1" strike="noStrike">
                <a:solidFill>
                  <a:srgbClr val="ffff00"/>
                </a:solidFill>
                <a:latin typeface="Times New Roman"/>
              </a:rPr>
              <a:t> Масару Эмот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2"/>
          <p:cNvSpPr/>
          <p:nvPr/>
        </p:nvSpPr>
        <p:spPr>
          <a:xfrm>
            <a:off x="247680" y="2852640"/>
            <a:ext cx="36417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1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ода не только воспринимает информацию, но может меняться под воздействием слова и даже мысл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4065480" y="2205000"/>
            <a:ext cx="6221520" cy="46688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"/>
          <p:cNvPicPr/>
          <p:nvPr/>
        </p:nvPicPr>
        <p:blipFill>
          <a:blip r:embed="rId2"/>
          <a:stretch/>
        </p:blipFill>
        <p:spPr>
          <a:xfrm>
            <a:off x="608040" y="0"/>
            <a:ext cx="2357280" cy="16272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1"/>
          <p:cNvSpPr/>
          <p:nvPr/>
        </p:nvSpPr>
        <p:spPr>
          <a:xfrm>
            <a:off x="1903320" y="549360"/>
            <a:ext cx="8744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Times New Roman"/>
              </a:rPr>
              <a:t>Эксперимент Г. Чеурин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2"/>
          <p:cNvSpPr/>
          <p:nvPr/>
        </p:nvSpPr>
        <p:spPr>
          <a:xfrm>
            <a:off x="960480" y="2778120"/>
            <a:ext cx="8493120" cy="13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пыт с ростками пшеницы, которые обрабатывались разной вод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750960" y="4365720"/>
            <a:ext cx="53290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ВЫВОД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9900"/>
                </a:solidFill>
                <a:latin typeface="Times New Roman"/>
              </a:rPr>
              <a:t>Мат является разрушительным для человеческого организ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679320" y="0"/>
            <a:ext cx="1793880" cy="18604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762120" y="533520"/>
            <a:ext cx="8743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Times New Roman"/>
              </a:rPr>
              <a:t>Учёные медики пришли к выводу, чт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781200" y="2133720"/>
            <a:ext cx="8743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16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Бездуховность – основная причина, как психической, так и физической патолог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Только духовное совершенствование человека может явиться защитой от различных заболевани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7230960" y="4365720"/>
            <a:ext cx="2809800" cy="2305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"/>
          <p:cNvPicPr/>
          <p:nvPr/>
        </p:nvPicPr>
        <p:blipFill>
          <a:blip r:embed="rId2"/>
          <a:stretch/>
        </p:blipFill>
        <p:spPr>
          <a:xfrm>
            <a:off x="2982960" y="4869000"/>
            <a:ext cx="1603440" cy="169992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1"/>
          <p:cNvSpPr/>
          <p:nvPr/>
        </p:nvSpPr>
        <p:spPr>
          <a:xfrm>
            <a:off x="1542960" y="333360"/>
            <a:ext cx="8744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 fontScale="8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Times New Roman"/>
              </a:rPr>
              <a:t>Что такое духовность?</a:t>
            </a:r>
            <a:br>
              <a:rPr sz="4000"/>
            </a:br>
            <a:r>
              <a:rPr b="1" i="1" lang="ru-RU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00"/>
                </a:solidFill>
                <a:latin typeface="Times New Roman"/>
              </a:rPr>
              <a:t>Какие качества нужно развивать в себе?</a:t>
            </a: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781200" y="2133720"/>
            <a:ext cx="8743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16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Нужно развивать в себе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любовь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доброту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онимание красоты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стремиться к знаниям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развивать чувст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ответственности за свои мысл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и поступк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465120" y="476280"/>
            <a:ext cx="1438200" cy="1152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"/>
          <p:cNvPicPr/>
          <p:nvPr/>
        </p:nvPicPr>
        <p:blipFill>
          <a:blip r:embed="rId2"/>
          <a:stretch/>
        </p:blipFill>
        <p:spPr>
          <a:xfrm>
            <a:off x="7015320" y="2205000"/>
            <a:ext cx="3062160" cy="44370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1"/>
          <p:cNvSpPr/>
          <p:nvPr/>
        </p:nvSpPr>
        <p:spPr>
          <a:xfrm>
            <a:off x="247680" y="533520"/>
            <a:ext cx="9791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Times New Roman"/>
              </a:rPr>
              <a:t>Путь к здоровью –</a:t>
            </a:r>
            <a:br>
              <a:rPr sz="4000"/>
            </a:br>
            <a:r>
              <a:rPr b="1" i="1" lang="ru-RU" sz="3600" spc="-1" strike="noStrike">
                <a:solidFill>
                  <a:srgbClr val="ffff00"/>
                </a:solidFill>
                <a:latin typeface="Times New Roman"/>
              </a:rPr>
              <a:t>изменение отношения человека к самому себ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2"/>
          <p:cNvSpPr/>
          <p:nvPr/>
        </p:nvSpPr>
        <p:spPr>
          <a:xfrm>
            <a:off x="781200" y="2133720"/>
            <a:ext cx="8743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16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У того, кто сквернословит, есть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2 пут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ервый  – зная, что это плохо, продолжать нецензурно выражаться, тем самым включить программу самоуничтожен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Второй  путь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уть духовного роста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самосовершенствования, путь красот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1"/>
          <p:cNvSpPr/>
          <p:nvPr/>
        </p:nvSpPr>
        <p:spPr>
          <a:xfrm>
            <a:off x="762120" y="533520"/>
            <a:ext cx="8743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Times New Roman"/>
              </a:rPr>
              <a:t>Вывод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781200" y="2133720"/>
            <a:ext cx="8743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16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Отказавшись  от уродливого матерного языка, вы обретёт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здоровье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счастье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везение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ясность мыслей, поступков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just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любовь ваших близких.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1"/>
          <a:stretch/>
        </p:blipFill>
        <p:spPr>
          <a:xfrm>
            <a:off x="822240" y="0"/>
            <a:ext cx="2448000" cy="18874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"/>
          <p:cNvPicPr/>
          <p:nvPr/>
        </p:nvPicPr>
        <p:blipFill>
          <a:blip r:embed="rId2"/>
          <a:stretch/>
        </p:blipFill>
        <p:spPr>
          <a:xfrm>
            <a:off x="7737480" y="260280"/>
            <a:ext cx="1268280" cy="15130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1"/>
          <p:cNvSpPr/>
          <p:nvPr/>
        </p:nvSpPr>
        <p:spPr>
          <a:xfrm>
            <a:off x="762120" y="533520"/>
            <a:ext cx="8743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 fontScale="8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Times New Roman"/>
              </a:rPr>
              <a:t>Памятка </a:t>
            </a:r>
            <a:br>
              <a:rPr sz="4000"/>
            </a:br>
            <a:r>
              <a:rPr b="1" i="1" lang="ru-RU" sz="4000" spc="-1" strike="noStrike">
                <a:solidFill>
                  <a:srgbClr val="ffff00"/>
                </a:solidFill>
                <a:latin typeface="Times New Roman"/>
              </a:rPr>
              <a:t>«Как избавиться от сквернословия»</a:t>
            </a:r>
            <a:r>
              <a:rPr b="1" i="1" lang="ru-RU" sz="40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390600" y="2133720"/>
            <a:ext cx="9648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608040" indent="-608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Перестать ругаться самому, выработать у себя брезгливость и отвращение к бранным слова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Избегать общения с людьми, употребляющими бранные сло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Читать русскую классическу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литератур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 startAt="4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Произносить больше добрых сл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1"/>
          <p:cNvSpPr/>
          <p:nvPr/>
        </p:nvSpPr>
        <p:spPr>
          <a:xfrm>
            <a:off x="762120" y="533520"/>
            <a:ext cx="8743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Times New Roman"/>
              </a:rPr>
              <a:t>Вспомнить всё!!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2"/>
          <p:cNvSpPr/>
          <p:nvPr/>
        </p:nvSpPr>
        <p:spPr>
          <a:xfrm>
            <a:off x="318960" y="2133720"/>
            <a:ext cx="943308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1280" indent="-3412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Я сегодня задумался о 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Сквернословие – это 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Как избавиться от сквернословия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Какие качества нужно развивать в себе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Мне сегодня понравилось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800280" y="62485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35434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7714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28440" y="2382840"/>
            <a:ext cx="7056720" cy="38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imes New Roman"/>
              </a:rPr>
              <a:t>Трудно ли говорить правильно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imes New Roman"/>
              </a:rPr>
              <a:t>или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imes New Roman"/>
              </a:rPr>
              <a:t>сквернословие и здоровье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6943680" y="2133720"/>
            <a:ext cx="3130560" cy="439092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318960" y="533520"/>
            <a:ext cx="9968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 fontScale="8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Times New Roman"/>
              </a:rPr>
              <a:t>Спасибо за внимание!</a:t>
            </a:r>
            <a:br>
              <a:rPr sz="4000"/>
            </a:br>
            <a:r>
              <a:rPr b="1" i="1" lang="ru-RU" sz="4000" spc="-1" strike="noStrike">
                <a:solidFill>
                  <a:srgbClr val="ffff00"/>
                </a:solidFill>
                <a:latin typeface="Times New Roman"/>
              </a:rPr>
              <a:t> Сегодня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174600" y="1844640"/>
            <a:ext cx="9350280" cy="44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16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142920" y="1928880"/>
            <a:ext cx="9929880" cy="476892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1"/>
          <p:cNvSpPr/>
          <p:nvPr/>
        </p:nvSpPr>
        <p:spPr>
          <a:xfrm>
            <a:off x="762120" y="533520"/>
            <a:ext cx="8743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Times New Roman"/>
              </a:rPr>
              <a:t>Что такое сквернословие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0" y="2133720"/>
            <a:ext cx="87440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квернословие - это речь, наполненная неприличными выражениями, непристойными словами, брань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6872400" y="3141720"/>
            <a:ext cx="3193920" cy="35290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"/>
          <p:cNvPicPr/>
          <p:nvPr/>
        </p:nvPicPr>
        <p:blipFill>
          <a:blip r:embed="rId2"/>
          <a:stretch/>
        </p:blipFill>
        <p:spPr>
          <a:xfrm>
            <a:off x="2190600" y="4005360"/>
            <a:ext cx="2519640" cy="23860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1"/>
          <p:cNvSpPr/>
          <p:nvPr/>
        </p:nvSpPr>
        <p:spPr>
          <a:xfrm>
            <a:off x="762120" y="533520"/>
            <a:ext cx="8743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Times New Roman"/>
              </a:rPr>
              <a:t>Немного истор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2"/>
          <p:cNvSpPr/>
          <p:nvPr/>
        </p:nvSpPr>
        <p:spPr>
          <a:xfrm>
            <a:off x="781200" y="2133720"/>
            <a:ext cx="8743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16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Матерные  имеют исконно русские корн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В древней Руси мат являлся ни чем иным, как заклинанием, формулой против нечистой сил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318960" y="260280"/>
            <a:ext cx="1460520" cy="15429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"/>
          <p:cNvPicPr/>
          <p:nvPr/>
        </p:nvPicPr>
        <p:blipFill>
          <a:blip r:embed="rId2"/>
          <a:stretch/>
        </p:blipFill>
        <p:spPr>
          <a:xfrm>
            <a:off x="7951680" y="260280"/>
            <a:ext cx="1871640" cy="170676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1"/>
          <p:cNvSpPr/>
          <p:nvPr/>
        </p:nvSpPr>
        <p:spPr>
          <a:xfrm>
            <a:off x="762120" y="533520"/>
            <a:ext cx="8743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Times New Roman"/>
              </a:rPr>
              <a:t>Все знали, чт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781200" y="2133720"/>
            <a:ext cx="8743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Нельзя было ругаться в лесу: леший может обидеть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На  берегу реки или озера – оскорбится водяно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Бранить  детей нельзя матом, они будут мучимы бесам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Материться в доме нельзя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бесы будут жить в этом жилищ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0" y="260280"/>
            <a:ext cx="1398600" cy="1590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"/>
          <p:cNvPicPr/>
          <p:nvPr/>
        </p:nvPicPr>
        <p:blipFill>
          <a:blip r:embed="rId2"/>
          <a:stretch/>
        </p:blipFill>
        <p:spPr>
          <a:xfrm>
            <a:off x="1687680" y="620640"/>
            <a:ext cx="1368360" cy="1084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"/>
          <p:cNvPicPr/>
          <p:nvPr/>
        </p:nvPicPr>
        <p:blipFill>
          <a:blip r:embed="rId3"/>
          <a:stretch/>
        </p:blipFill>
        <p:spPr>
          <a:xfrm>
            <a:off x="7666200" y="260280"/>
            <a:ext cx="2046240" cy="1575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"/>
          <p:cNvPicPr/>
          <p:nvPr/>
        </p:nvPicPr>
        <p:blipFill>
          <a:blip r:embed="rId4"/>
          <a:stretch/>
        </p:blipFill>
        <p:spPr>
          <a:xfrm>
            <a:off x="6222960" y="4437000"/>
            <a:ext cx="936720" cy="93672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1"/>
          <p:cNvSpPr/>
          <p:nvPr/>
        </p:nvSpPr>
        <p:spPr>
          <a:xfrm>
            <a:off x="762120" y="533520"/>
            <a:ext cx="870408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 fontScale="7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Times New Roman"/>
              </a:rPr>
              <a:t>Где же человеку можно было выругаться, выплеснуть из себя всю злость?</a:t>
            </a: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WordArt 2"/>
          <p:cNvSpPr txBox="1"/>
          <p:nvPr/>
        </p:nvSpPr>
        <p:spPr>
          <a:xfrm>
            <a:off x="966960" y="2637000"/>
            <a:ext cx="835308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00"/>
                    </a:gs>
                    <a:gs pos="50000">
                      <a:srgbClr val="ffff00"/>
                    </a:gs>
                    <a:gs pos="100000">
                      <a:srgbClr val="ffcc00"/>
                    </a:gs>
                  </a:gsLst>
                  <a:lin ang="5400000"/>
                </a:gradFill>
                <a:latin typeface="Times New Roman"/>
              </a:rPr>
              <a:t>             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00"/>
                  </a:gs>
                  <a:gs pos="50000">
                    <a:srgbClr val="ffff00"/>
                  </a:gs>
                  <a:gs pos="100000">
                    <a:srgbClr val="ffcc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strips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1"/>
          <p:cNvSpPr/>
          <p:nvPr/>
        </p:nvSpPr>
        <p:spPr>
          <a:xfrm>
            <a:off x="762120" y="533520"/>
            <a:ext cx="8743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Times New Roman"/>
              </a:rPr>
              <a:t>Только человек наделен словом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2"/>
          <p:cNvSpPr/>
          <p:nvPr/>
        </p:nvSpPr>
        <p:spPr>
          <a:xfrm>
            <a:off x="781200" y="2133720"/>
            <a:ext cx="8743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лово должно нести благодать – благие дары, добро, служить назиданием в вер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ганые слова никогда не считались норм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квернословие становится началом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ути к еще большему зл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7448400" y="4581360"/>
            <a:ext cx="2838600" cy="20718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1"/>
          <p:cNvSpPr/>
          <p:nvPr/>
        </p:nvSpPr>
        <p:spPr>
          <a:xfrm>
            <a:off x="762120" y="533520"/>
            <a:ext cx="8743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 fontScale="8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Times New Roman"/>
              </a:rPr>
              <a:t>В наше время бранные слова используются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2"/>
          <p:cNvSpPr/>
          <p:nvPr/>
        </p:nvSpPr>
        <p:spPr>
          <a:xfrm>
            <a:off x="781200" y="2133720"/>
            <a:ext cx="8743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7680" indent="-3376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ля повышения эмоциональности речи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эмоциональной разрядки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скорбления, унижения адресата речи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емонстрации агрессии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емонстрации отсутствия страха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емонстрации раскованности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емонстрации принадлежност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 «своим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7680" indent="-3376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1"/>
          <a:stretch/>
        </p:blipFill>
        <p:spPr>
          <a:xfrm>
            <a:off x="7304040" y="3429000"/>
            <a:ext cx="2982960" cy="32400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1"/>
          <p:cNvSpPr/>
          <p:nvPr/>
        </p:nvSpPr>
        <p:spPr>
          <a:xfrm>
            <a:off x="679320" y="333360"/>
            <a:ext cx="874404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16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На самом деле </a:t>
            </a:r>
            <a:r>
              <a:rPr b="1" lang="ru-RU" sz="3600" spc="-1" strike="noStrike" u="sng">
                <a:solidFill>
                  <a:srgbClr val="ffffff"/>
                </a:solidFill>
                <a:uFillTx/>
                <a:latin typeface="Times New Roman"/>
              </a:rPr>
              <a:t>сквернословие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отражает скудность лексического запаса говорящего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неумение ориентироваться в ситуации наивысшего эмоционального подъем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2048040" y="3141720"/>
            <a:ext cx="3203280" cy="34290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0T15:19:28Z</dcterms:created>
  <dc:creator>Маруся</dc:creator>
  <dc:description/>
  <dc:language>en-US</dc:language>
  <cp:lastModifiedBy>User</cp:lastModifiedBy>
  <dcterms:modified xsi:type="dcterms:W3CDTF">2015-11-26T16:14:54Z</dcterms:modified>
  <cp:revision>57</cp:revision>
  <dc:subject/>
  <dc:title>Классный час</dc:title>
</cp:coreProperties>
</file>