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C0287-12E1-4289-BB4F-745A50506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75207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822960" y="2970360"/>
            <a:ext cx="75207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28ADC-7E93-4B18-80CF-AB7FE5857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6760" y="110052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822960" y="297036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9A937-3BB2-4F6E-B271-B111B1F66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24213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65640" y="1100520"/>
            <a:ext cx="24213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08680" y="1100520"/>
            <a:ext cx="24213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822960" y="2970360"/>
            <a:ext cx="24213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65640" y="2970360"/>
            <a:ext cx="24213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3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CD42F-504B-4CED-BA5E-0A298BD6B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F3695-9B6B-4E3F-8C08-96EE3AAA6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822960" y="1100520"/>
            <a:ext cx="7520760" cy="35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9B19A-377D-49CC-96FB-3E78E136E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7520760" cy="35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9FD7D-15BB-4C92-9E1F-BDDD2536D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3669840" cy="35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6760" y="1100520"/>
            <a:ext cx="3669840" cy="35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23A60-BD9B-47E5-BEB2-0F309DC24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AE39D-D568-430E-8BEB-0EA8A601C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822960" y="365760"/>
            <a:ext cx="7520760" cy="254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72AAC-24AE-4FC4-935D-F0B231982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6760" y="1100520"/>
            <a:ext cx="3669840" cy="35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822960" y="297036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355F2-A8B8-4E8C-8D1B-43A397B3F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822960" y="1100520"/>
            <a:ext cx="7520760" cy="35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B394F-2B9E-42E0-974D-AD8CC79B5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3669840" cy="35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6760" y="110052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68F2F-7F64-403D-923F-197FA4B5F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6760" y="110052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22960" y="2970360"/>
            <a:ext cx="75207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238E3-76F2-48AD-A44E-FE64B51F1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75207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822960" y="2970360"/>
            <a:ext cx="75207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D9F60-6DE0-40A4-95FB-A9A012B7E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6760" y="110052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22960" y="297036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C9EA5-190A-4DDF-82D2-6582C5F8B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24213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5640" y="1100520"/>
            <a:ext cx="24213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08680" y="1100520"/>
            <a:ext cx="24213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822960" y="2970360"/>
            <a:ext cx="24213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5640" y="2970360"/>
            <a:ext cx="24213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3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0250F-CC8F-40E1-8724-DB41136E3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EF5F79-42E4-49BE-94F8-D27F8A861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822960" y="1100520"/>
            <a:ext cx="7520760" cy="35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293590-8799-4380-B65E-782C9186E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7520760" cy="35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FBC8A3-CC55-4536-BD2C-5E7EFA05E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3669840" cy="35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6760" y="1100520"/>
            <a:ext cx="3669840" cy="35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B0CC76-52D6-4A5F-9173-4398A9DD6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050BAE-3732-4960-9D49-A00611407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7520760" cy="35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13FFA-B005-4435-86FD-2966B72B5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822960" y="365760"/>
            <a:ext cx="7520760" cy="254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B43026-1A89-47F8-ADC0-0D2E64A31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6760" y="1100520"/>
            <a:ext cx="3669840" cy="35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822960" y="297036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E3D9C7-CB31-46E9-8688-A80118F57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3669840" cy="35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6760" y="110052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2EDCB7-EC82-4F63-8DED-7581B5394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6760" y="110052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822960" y="2970360"/>
            <a:ext cx="75207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4EFADB-9415-4F2D-8012-FBCF8788B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75207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822960" y="2970360"/>
            <a:ext cx="75207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0E8DA2-4EE5-4C58-9723-5E35A61CA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6760" y="110052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822960" y="297036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5F4901-D479-4CE1-9E6A-E7082A2E9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24213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365640" y="1100520"/>
            <a:ext cx="24213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908680" y="1100520"/>
            <a:ext cx="24213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822960" y="2970360"/>
            <a:ext cx="24213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365640" y="2970360"/>
            <a:ext cx="24213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3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1279B7-FCEB-4FDF-8AB4-0808465B0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3669840" cy="35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6760" y="1100520"/>
            <a:ext cx="3669840" cy="35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700BC-39C8-492F-9155-153C45387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89B1D-7046-436D-B3C0-D46E4A0CF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22960" y="365760"/>
            <a:ext cx="7520760" cy="254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A6764-5E76-4880-9B23-953D5DADB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760" y="1100520"/>
            <a:ext cx="3669840" cy="35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822960" y="297036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04D34-D26A-4C88-9287-86D0E1B47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3669840" cy="35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760" y="110052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C81B9-BA79-43AC-99E5-B3129011C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6760" y="110052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822960" y="2970360"/>
            <a:ext cx="75207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5071B-29AC-4679-8148-5CEC46D37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 hidden="1"/>
          <p:cNvSpPr/>
          <p:nvPr/>
        </p:nvSpPr>
        <p:spPr>
          <a:xfrm>
            <a:off x="-2520" y="5050800"/>
            <a:ext cx="3573720" cy="1806840"/>
          </a:xfrm>
          <a:custGeom>
            <a:avLst/>
            <a:gdLst>
              <a:gd name="textAreaLeft" fmla="*/ 0 w 3573720"/>
              <a:gd name="textAreaRight" fmla="*/ 3574080 w 3573720"/>
              <a:gd name="textAreaTop" fmla="*/ 0 h 1806840"/>
              <a:gd name="textAreaBottom" fmla="*/ 1807200 h 1806840"/>
            </a:gdLst>
            <a:ahLst/>
            <a:rect l="textAreaLeft" t="textAreaTop" r="textAreaRight" b="textAreaBottom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chemeClr val="accent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Franklin Gothic Book"/>
            </a:endParaRPr>
          </a:p>
        </p:txBody>
      </p:sp>
      <p:sp>
        <p:nvSpPr>
          <p:cNvPr id="1" name="Freeform 7" hidden="1"/>
          <p:cNvSpPr/>
          <p:nvPr/>
        </p:nvSpPr>
        <p:spPr>
          <a:xfrm>
            <a:off x="-2520" y="5051160"/>
            <a:ext cx="9146160" cy="180648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1806480"/>
              <a:gd name="textAreaBottom" fmla="*/ 1806840 h 1806480"/>
            </a:gdLst>
            <a:ahLst/>
            <a:rect l="textAreaLeft" t="textAreaTop" r="textAreaRight" b="textAreaBottom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chemeClr val="accent3">
              <a:alpha val="8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Franklin Gothic Book"/>
            </a:endParaRPr>
          </a:p>
        </p:txBody>
      </p:sp>
      <p:sp>
        <p:nvSpPr>
          <p:cNvPr id="2" name="Right Triangle 6"/>
          <p:cNvSpPr/>
          <p:nvPr/>
        </p:nvSpPr>
        <p:spPr>
          <a:xfrm>
            <a:off x="0" y="2647800"/>
            <a:ext cx="3571560" cy="4209840"/>
          </a:xfrm>
          <a:prstGeom prst="rtTriangle">
            <a:avLst/>
          </a:prstGeom>
          <a:solidFill>
            <a:schemeClr val="accent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Franklin Gothic Book"/>
            </a:endParaRPr>
          </a:p>
        </p:txBody>
      </p:sp>
      <p:sp>
        <p:nvSpPr>
          <p:cNvPr id="3" name="Freeform 7"/>
          <p:cNvSpPr/>
          <p:nvPr/>
        </p:nvSpPr>
        <p:spPr>
          <a:xfrm>
            <a:off x="-2520" y="-1080"/>
            <a:ext cx="9146160" cy="685872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6858720"/>
              <a:gd name="textAreaBottom" fmla="*/ 6859080 h 6858720"/>
            </a:gdLst>
            <a:ahLst/>
            <a:rect l="textAreaLeft" t="textAreaTop" r="textAreaRight" b="textAreaBottom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chemeClr val="accent3">
              <a:alpha val="8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Franklin Gothic Book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 rot="19140000">
            <a:off x="816840" y="1730520"/>
            <a:ext cx="5648400" cy="1203840"/>
          </a:xfrm>
          <a:prstGeom prst="rect">
            <a:avLst/>
          </a:prstGeom>
          <a:noFill/>
          <a:ln w="0">
            <a:noFill/>
          </a:ln>
        </p:spPr>
        <p:txBody>
          <a:bodyPr bIns="9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200" spc="-1" strike="noStrike" cap="all">
                <a:solidFill>
                  <a:srgbClr val="000000"/>
                </a:solidFill>
                <a:latin typeface="Franklin Gothic Medium"/>
              </a:rPr>
              <a:t>Образец заголовка</a:t>
            </a:r>
            <a:endParaRPr b="0" lang="ru-RU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 rot="19140000">
            <a:off x="200880" y="5870160"/>
            <a:ext cx="2175840" cy="20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ffffff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517560" y="6285240"/>
            <a:ext cx="4723920" cy="27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3"/>
          </p:nvPr>
        </p:nvSpPr>
        <p:spPr>
          <a:xfrm>
            <a:off x="8400960" y="6170760"/>
            <a:ext cx="502560" cy="502560"/>
          </a:xfrm>
          <a:prstGeom prst="rect">
            <a:avLst/>
          </a:prstGeom>
          <a:noFill/>
          <a:ln w="19080">
            <a:solidFill>
              <a:srgbClr val="ffffff"/>
            </a:solidFill>
            <a:round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ru-RU" sz="165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56FA02B9-584C-439B-B4DE-825E843EE3B3}" type="slidenum">
              <a:rPr b="0" lang="ru-RU" sz="165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65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ru-RU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ru-RU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ru-RU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ru-RU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Freeform 6"/>
          <p:cNvSpPr/>
          <p:nvPr/>
        </p:nvSpPr>
        <p:spPr>
          <a:xfrm>
            <a:off x="-2520" y="5050800"/>
            <a:ext cx="3573720" cy="1806840"/>
          </a:xfrm>
          <a:custGeom>
            <a:avLst/>
            <a:gdLst>
              <a:gd name="textAreaLeft" fmla="*/ 0 w 3573720"/>
              <a:gd name="textAreaRight" fmla="*/ 3574080 w 3573720"/>
              <a:gd name="textAreaTop" fmla="*/ 0 h 1806840"/>
              <a:gd name="textAreaBottom" fmla="*/ 1807200 h 1806840"/>
            </a:gdLst>
            <a:ahLst/>
            <a:rect l="textAreaLeft" t="textAreaTop" r="textAreaRight" b="textAreaBottom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chemeClr val="accent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Franklin Gothic Book"/>
            </a:endParaRPr>
          </a:p>
        </p:txBody>
      </p:sp>
      <p:sp>
        <p:nvSpPr>
          <p:cNvPr id="46" name="Freeform 7"/>
          <p:cNvSpPr/>
          <p:nvPr/>
        </p:nvSpPr>
        <p:spPr>
          <a:xfrm>
            <a:off x="-2520" y="5051160"/>
            <a:ext cx="9146160" cy="180648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1806480"/>
              <a:gd name="textAreaBottom" fmla="*/ 1806840 h 1806480"/>
            </a:gdLst>
            <a:ahLst/>
            <a:rect l="textAreaLeft" t="textAreaTop" r="textAreaRight" b="textAreaBottom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chemeClr val="accent3">
              <a:alpha val="8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Franklin Gothic Book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2800" spc="-1" strike="noStrike" cap="all">
                <a:solidFill>
                  <a:srgbClr val="000000"/>
                </a:solidFill>
                <a:latin typeface="Franklin Gothic Medium"/>
              </a:rPr>
              <a:t>Образец заголовка</a:t>
            </a:r>
            <a:endParaRPr b="0" lang="ru-RU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822960" y="1100520"/>
            <a:ext cx="7520760" cy="357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Franklin Gothic Book"/>
              </a:rPr>
              <a:t>Образец текста</a:t>
            </a: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173880" indent="-17388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Franklin Gothic Book"/>
              </a:rPr>
              <a:t>Второй уровень</a:t>
            </a:r>
            <a:endParaRPr b="0" lang="ru-RU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402480" indent="-16452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Franklin Gothic Book"/>
              </a:rPr>
              <a:t>Третий уровень</a:t>
            </a:r>
            <a:endParaRPr b="0" lang="ru-RU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631080" indent="-16452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Franklin Gothic Book"/>
              </a:rPr>
              <a:t>Четвертый уровень</a:t>
            </a:r>
            <a:endParaRPr b="0" lang="ru-RU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859680" indent="-17388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Franklin Gothic Book"/>
              </a:rPr>
              <a:t>Пятый уровень</a:t>
            </a:r>
            <a:endParaRPr b="0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 rot="19140000">
            <a:off x="200880" y="5870160"/>
            <a:ext cx="2175840" cy="20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ffffff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517560" y="6285240"/>
            <a:ext cx="4723920" cy="27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400960" y="6170760"/>
            <a:ext cx="502560" cy="502560"/>
          </a:xfrm>
          <a:prstGeom prst="rect">
            <a:avLst/>
          </a:prstGeom>
          <a:noFill/>
          <a:ln w="19080">
            <a:solidFill>
              <a:srgbClr val="ffffff"/>
            </a:solidFill>
            <a:round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ru-RU" sz="165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F551ADB9-AB1C-4DA1-A424-0FE4E9D81582}" type="slidenum">
              <a:rPr b="0" lang="ru-RU" sz="165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65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Freeform 6" hidden="1"/>
          <p:cNvSpPr/>
          <p:nvPr/>
        </p:nvSpPr>
        <p:spPr>
          <a:xfrm>
            <a:off x="-2520" y="5050800"/>
            <a:ext cx="3573720" cy="1806840"/>
          </a:xfrm>
          <a:custGeom>
            <a:avLst/>
            <a:gdLst>
              <a:gd name="textAreaLeft" fmla="*/ 0 w 3573720"/>
              <a:gd name="textAreaRight" fmla="*/ 3574080 w 3573720"/>
              <a:gd name="textAreaTop" fmla="*/ 0 h 1806840"/>
              <a:gd name="textAreaBottom" fmla="*/ 1807200 h 1806840"/>
            </a:gdLst>
            <a:ahLst/>
            <a:rect l="textAreaLeft" t="textAreaTop" r="textAreaRight" b="textAreaBottom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chemeClr val="accent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Franklin Gothic Book"/>
            </a:endParaRPr>
          </a:p>
        </p:txBody>
      </p:sp>
      <p:sp>
        <p:nvSpPr>
          <p:cNvPr id="89" name="Freeform 7" hidden="1"/>
          <p:cNvSpPr/>
          <p:nvPr/>
        </p:nvSpPr>
        <p:spPr>
          <a:xfrm>
            <a:off x="-2520" y="5051160"/>
            <a:ext cx="9146160" cy="180648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1806480"/>
              <a:gd name="textAreaBottom" fmla="*/ 1806840 h 1806480"/>
            </a:gdLst>
            <a:ahLst/>
            <a:rect l="textAreaLeft" t="textAreaTop" r="textAreaRight" b="textAreaBottom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chemeClr val="accent3">
              <a:alpha val="8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Franklin Gothic Book"/>
            </a:endParaRPr>
          </a:p>
        </p:txBody>
      </p:sp>
      <p:sp>
        <p:nvSpPr>
          <p:cNvPr id="90" name="Freeform 7"/>
          <p:cNvSpPr/>
          <p:nvPr/>
        </p:nvSpPr>
        <p:spPr>
          <a:xfrm>
            <a:off x="-2520" y="-1080"/>
            <a:ext cx="9146160" cy="685872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6858720"/>
              <a:gd name="textAreaBottom" fmla="*/ 6859080 h 6858720"/>
            </a:gdLst>
            <a:ahLst/>
            <a:rect l="textAreaLeft" t="textAreaTop" r="textAreaRight" b="textAreaBottom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chemeClr val="accent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Franklin Gothic Book"/>
            </a:endParaRPr>
          </a:p>
        </p:txBody>
      </p:sp>
      <p:sp>
        <p:nvSpPr>
          <p:cNvPr id="91" name="Right Triangle 6"/>
          <p:cNvSpPr/>
          <p:nvPr/>
        </p:nvSpPr>
        <p:spPr>
          <a:xfrm>
            <a:off x="0" y="2647800"/>
            <a:ext cx="3571560" cy="4209840"/>
          </a:xfrm>
          <a:prstGeom prst="rtTriangle">
            <a:avLst/>
          </a:prstGeom>
          <a:solidFill>
            <a:schemeClr val="accent3">
              <a:alpha val="8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Franklin Gothic Book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 rot="19140000">
            <a:off x="819000" y="1726920"/>
            <a:ext cx="5650560" cy="1207080"/>
          </a:xfrm>
          <a:prstGeom prst="rect">
            <a:avLst/>
          </a:prstGeom>
          <a:noFill/>
          <a:ln w="0">
            <a:noFill/>
          </a:ln>
        </p:spPr>
        <p:txBody>
          <a:bodyPr bIns="90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3200" spc="-1" strike="noStrike" cap="all">
                <a:solidFill>
                  <a:srgbClr val="000000"/>
                </a:solidFill>
                <a:latin typeface="Franklin Gothic Medium"/>
              </a:rPr>
              <a:t>Образец заголовка</a:t>
            </a:r>
            <a:endParaRPr b="0" lang="ru-RU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 rot="19140000">
            <a:off x="1215720" y="2468160"/>
            <a:ext cx="6510240" cy="32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1400" spc="398" strike="noStrike" cap="all">
                <a:solidFill>
                  <a:srgbClr val="000000"/>
                </a:solidFill>
                <a:latin typeface="Franklin Gothic Book"/>
              </a:rPr>
              <a:t>Образец текста</a:t>
            </a:r>
            <a:endParaRPr b="1" lang="ru-RU" sz="1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 rot="19140000">
            <a:off x="200880" y="5870160"/>
            <a:ext cx="2175840" cy="20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ffffff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3517560" y="6285240"/>
            <a:ext cx="4723920" cy="27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8400960" y="6170760"/>
            <a:ext cx="502560" cy="502560"/>
          </a:xfrm>
          <a:prstGeom prst="rect">
            <a:avLst/>
          </a:prstGeom>
          <a:noFill/>
          <a:ln w="19080">
            <a:solidFill>
              <a:srgbClr val="ffffff"/>
            </a:solidFill>
            <a:round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ru-RU" sz="165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E5C9B0CA-5DFC-41FB-9AD9-1E7F68E622D5}" type="slidenum">
              <a:rPr b="0" lang="ru-RU" sz="165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65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 rot="19140000">
            <a:off x="816840" y="1730520"/>
            <a:ext cx="5648400" cy="1203840"/>
          </a:xfrm>
          <a:prstGeom prst="rect">
            <a:avLst/>
          </a:prstGeom>
          <a:noFill/>
          <a:ln w="0">
            <a:noFill/>
          </a:ln>
        </p:spPr>
        <p:txBody>
          <a:bodyPr bIns="9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3200" spc="-1" strike="noStrike" cap="all">
                <a:solidFill>
                  <a:srgbClr val="000000"/>
                </a:solidFill>
                <a:latin typeface="Franklin Gothic Medium"/>
              </a:rPr>
              <a:t>Создание социальной ситуации развития детей в детском саду</a:t>
            </a:r>
            <a:endParaRPr b="0" lang="ru-RU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2800" spc="-1" strike="noStrike" cap="all">
                <a:solidFill>
                  <a:srgbClr val="000000"/>
                </a:solidFill>
                <a:latin typeface="Franklin Gothic Medium"/>
              </a:rPr>
              <a:t>Эмоциональная устойчивость педагога</a:t>
            </a:r>
            <a:endParaRPr b="0" lang="ru-RU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7520760" cy="357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i="1" lang="ru-RU" sz="1600" spc="-1" strike="noStrike" u="sng">
                <a:solidFill>
                  <a:srgbClr val="000000"/>
                </a:solidFill>
                <a:uFillTx/>
                <a:latin typeface="Franklin Gothic Book"/>
              </a:rPr>
              <a:t>Причины проявления эмоциональной неустойчивости </a:t>
            </a:r>
            <a:r>
              <a:rPr b="1" lang="ru-RU" sz="1600" spc="-1" strike="noStrike">
                <a:solidFill>
                  <a:srgbClr val="000000"/>
                </a:solidFill>
                <a:latin typeface="Franklin Gothic Book"/>
              </a:rPr>
              <a:t>(по результатам анкетирования педагогов; Семёнова Е.М., Минск):</a:t>
            </a: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0852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Franklin Gothic Book"/>
              </a:rPr>
              <a:t>1 место - материально-бытовые условия; повышенная ответственность за жизнь, благополучие и здоровье ребёнка; низкая престижность профессии воспитателя.</a:t>
            </a: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0852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Franklin Gothic Book"/>
              </a:rPr>
              <a:t>2 место – субъективные факторы (что свидетельствует о недооценке педагогами собственных личностных особенностей для проявления эмоциональной устойчивости): индивидуально-типологические особенности (не зависящие от человека); эмоциональная неуравновешенность и возбудимость; неумение управлять проявлениями эмоционального состояния. На 12 место в ранговом ряду педагоги  поставили  поведенческую гибкость (шаблонность, ригидность мышления и поведения), что свидетельствует о невнимательном отношении педагогов к данным особенностям профессионального поведения.</a:t>
            </a: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08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2800" spc="-1" strike="noStrike" cap="all">
                <a:solidFill>
                  <a:srgbClr val="000000"/>
                </a:solidFill>
                <a:latin typeface="Franklin Gothic Medium"/>
              </a:rPr>
              <a:t>Эмоциональная устойчивость педагога</a:t>
            </a:r>
            <a:endParaRPr b="0" lang="ru-RU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7520760" cy="357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Franklin Gothic Book"/>
              </a:rPr>
              <a:t>В процессе исследования выяснилось, что на самом деле проявление эмоциональной устойчивости в профессиональной деятельности педагога определяется психологическими характеристиками личности:</a:t>
            </a: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590760" indent="-26856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Franklin Gothic Book"/>
              </a:rPr>
              <a:t>Профессиональное самосознание (мотивация к педагогической деятельности, гуманистические мотивы личности, позитивность самовосприятия, стремление к самосовершенствованию)</a:t>
            </a: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590760" indent="-26856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Franklin Gothic Book"/>
              </a:rPr>
              <a:t>Эмоциональная отзывчивость (способность понимать, искренне принимать переживания детей, проявлять к ним теплоту и участие)</a:t>
            </a: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590760" indent="-26856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Franklin Gothic Book"/>
              </a:rPr>
              <a:t>Волевая саморегуляция</a:t>
            </a: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590760" indent="-26856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Franklin Gothic Book"/>
              </a:rPr>
              <a:t>Поведенческая гибкость (лёгкость перестройки поведения, оперативное реагирование на изменение ситуации, умение адаптироваться к изменениям, которые могут произойти неожиданно)</a:t>
            </a: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2400" spc="-1" strike="noStrike" cap="all">
                <a:solidFill>
                  <a:srgbClr val="000000"/>
                </a:solidFill>
                <a:latin typeface="Franklin Gothic Medium"/>
              </a:rPr>
              <a:t>как повысить эмоциональную устойчивость</a:t>
            </a: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7520760" cy="357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 algn="just">
              <a:lnSpc>
                <a:spcPct val="115000"/>
              </a:lnSpc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Безопасная эмоциональная разрядка (назвать, признать и безопасно разрядить чувства)</a:t>
            </a:r>
            <a:endParaRPr b="1" lang="ru-RU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 algn="just">
              <a:lnSpc>
                <a:spcPct val="115000"/>
              </a:lnSpc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Значение безопасной эмоциональной разрядки.</a:t>
            </a:r>
            <a:endParaRPr b="1" lang="ru-RU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 algn="just">
              <a:lnSpc>
                <a:spcPct val="115000"/>
              </a:lnSpc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филактика (игры и упражнения на разрядку)</a:t>
            </a:r>
            <a:endParaRPr b="1" lang="ru-RU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 algn="just">
              <a:lnSpc>
                <a:spcPct val="115000"/>
              </a:lnSpc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авила.</a:t>
            </a:r>
            <a:endParaRPr b="1" lang="ru-RU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 algn="just">
              <a:lnSpc>
                <a:spcPct val="115000"/>
              </a:lnSpc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вышение профессиональной самооценки. Одна из главных причин низкой самооценки – критика. Внутренний критик.</a:t>
            </a:r>
            <a:endParaRPr b="1" lang="ru-RU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 algn="just">
              <a:lnSpc>
                <a:spcPct val="115000"/>
              </a:lnSpc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ддержка.</a:t>
            </a:r>
            <a:endParaRPr b="1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2400" spc="-1" strike="noStrike" cap="all">
                <a:solidFill>
                  <a:srgbClr val="000000"/>
                </a:solidFill>
                <a:latin typeface="Franklin Gothic Medium"/>
              </a:rPr>
              <a:t>Умение создавать близкие отношения</a:t>
            </a:r>
            <a:br>
              <a:rPr sz="2400"/>
            </a:br>
            <a:r>
              <a:rPr b="0" lang="ru-RU" sz="2400" spc="-1" strike="noStrike" cap="all">
                <a:solidFill>
                  <a:srgbClr val="000000"/>
                </a:solidFill>
                <a:latin typeface="Franklin Gothic Medium"/>
              </a:rPr>
              <a:t>Размышляем:</a:t>
            </a: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752076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4092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Как вы понимаете честные, доверительные отношения с другими людьми (детьми)? </a:t>
            </a:r>
            <a:endParaRPr b="1" lang="ru-RU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092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Что мешает установить такие  отношения с близкими людьми, с собственными детьми, детьми группы? (записать) </a:t>
            </a:r>
            <a:endParaRPr b="1" lang="ru-RU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092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Что хорошего в установлении таких отношений?</a:t>
            </a:r>
            <a:endParaRPr b="1" lang="ru-RU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09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822960" y="260640"/>
            <a:ext cx="75207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338760" indent="0" algn="just">
              <a:lnSpc>
                <a:spcPct val="115000"/>
              </a:lnSpc>
              <a:spcBef>
                <a:spcPts val="799"/>
              </a:spcBef>
              <a:spcAft>
                <a:spcPts val="1001"/>
              </a:spcAft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изкие отношения определяются доверительностью, внима­нием, заботой друг о друге и 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озволяют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1" lang="ru-RU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38760" indent="0" algn="just">
              <a:lnSpc>
                <a:spcPct val="115000"/>
              </a:lnSpc>
              <a:spcBef>
                <a:spcPts val="799"/>
              </a:spcBef>
              <a:spcAft>
                <a:spcPts val="1001"/>
              </a:spcAft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вободно высказывать свои сокровенные мысли и чаяния и при этом не бояться быть неправильно понятыми и непринятыми;</a:t>
            </a:r>
            <a:endParaRPr b="1" lang="ru-RU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38760" indent="0" algn="just">
              <a:lnSpc>
                <a:spcPct val="115000"/>
              </a:lnSpc>
              <a:spcBef>
                <a:spcPts val="799"/>
              </a:spcBef>
              <a:spcAft>
                <a:spcPts val="1001"/>
              </a:spcAft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чувствовать себя комфортно и свободно, расслабиться, снять внутреннее напряжение;</a:t>
            </a:r>
            <a:endParaRPr b="1" lang="ru-RU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677520" indent="-338760" algn="just">
              <a:lnSpc>
                <a:spcPct val="115000"/>
              </a:lnSpc>
              <a:spcBef>
                <a:spcPts val="799"/>
              </a:spcBef>
              <a:spcAft>
                <a:spcPts val="1001"/>
              </a:spcAft>
              <a:buClr>
                <a:srgbClr val="000000"/>
              </a:buClr>
              <a:buFont typeface="Arial"/>
              <a:buChar char="-"/>
              <a:tabLst>
                <a:tab algn="l" pos="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ышать самооценку и развивать чувство собственного дос­тоинства.</a:t>
            </a:r>
            <a:endParaRPr b="1" lang="ru-RU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38760" indent="0" algn="just">
              <a:lnSpc>
                <a:spcPct val="115000"/>
              </a:lnSpc>
              <a:spcBef>
                <a:spcPts val="799"/>
              </a:spcBef>
              <a:spcAft>
                <a:spcPts val="1001"/>
              </a:spcAft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лаживание близких отношений проходит через ряд 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условий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способность раскрыться (довериться); принять другого таким, ка­ков он есть, без желания его переделать; оказывать поддержку и помощь друг другу и на словах, и на деле.</a:t>
            </a:r>
            <a:endParaRPr b="1" lang="ru-RU" sz="2000" spc="-1" strike="noStrike">
              <a:solidFill>
                <a:srgbClr val="000000"/>
              </a:solidFill>
              <a:latin typeface="Franklin Gothic Book"/>
            </a:endParaRPr>
          </a:p>
          <a:p>
            <a:pPr indent="0" algn="just">
              <a:lnSpc>
                <a:spcPct val="115000"/>
              </a:lnSpc>
              <a:spcBef>
                <a:spcPts val="799"/>
              </a:spcBef>
              <a:spcAft>
                <a:spcPts val="1001"/>
              </a:spcAft>
              <a:buNone/>
              <a:tabLst>
                <a:tab algn="l" pos="0"/>
              </a:tabLst>
            </a:pPr>
            <a:endParaRPr b="1" lang="ru-RU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387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822960" y="332640"/>
            <a:ext cx="7520760" cy="434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 algn="just">
              <a:lnSpc>
                <a:spcPct val="115000"/>
              </a:lnSpc>
              <a:spcBef>
                <a:spcPts val="799"/>
              </a:spcBef>
              <a:spcAft>
                <a:spcPts val="1001"/>
              </a:spcAft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обое место в эмоциональном благополучии занимает 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­требность быть любимым и способность человека любить других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Однако прежде чем человек научится любить других, он должен научиться уважать и любить себя. Неспособность к этому - пока­затель неуважения к самому себе </a:t>
            </a:r>
            <a:endParaRPr b="1" lang="ru-RU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 algn="just">
              <a:lnSpc>
                <a:spcPct val="115000"/>
              </a:lnSpc>
              <a:spcBef>
                <a:spcPts val="799"/>
              </a:spcBef>
              <a:spcAft>
                <a:spcPts val="1001"/>
              </a:spcAft>
              <a:buNone/>
              <a:tabLst>
                <a:tab algn="l" pos="0"/>
              </a:tabLst>
            </a:pPr>
            <a:r>
              <a:rPr b="1" i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(Дистресс «Я недостаточно хорош»)</a:t>
            </a:r>
            <a:endParaRPr b="1" lang="ru-RU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endParaRPr b="1" lang="ru-RU" sz="2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 rot="19140000">
            <a:off x="819000" y="1726920"/>
            <a:ext cx="5650560" cy="1207080"/>
          </a:xfrm>
          <a:prstGeom prst="rect">
            <a:avLst/>
          </a:prstGeom>
          <a:noFill/>
          <a:ln w="0">
            <a:noFill/>
          </a:ln>
        </p:spPr>
        <p:txBody>
          <a:bodyPr bIns="9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200" spc="-1" strike="noStrike" cap="all">
                <a:solidFill>
                  <a:srgbClr val="000000"/>
                </a:solidFill>
                <a:latin typeface="Franklin Gothic Medium"/>
              </a:rPr>
              <a:t>Поддержка индивидуальности и инициативы</a:t>
            </a:r>
            <a:endParaRPr b="0" lang="ru-RU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2400" spc="-1" strike="noStrike" cap="all">
                <a:solidFill>
                  <a:srgbClr val="000000"/>
                </a:solidFill>
                <a:latin typeface="Franklin Gothic Medium"/>
              </a:rPr>
              <a:t>Развитие чувства индивидуальности</a:t>
            </a: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7520760" cy="405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15000"/>
              </a:lnSpc>
              <a:spcBef>
                <a:spcPts val="799"/>
              </a:spcBef>
              <a:spcAft>
                <a:spcPts val="1001"/>
              </a:spcAft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и становление 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увства индивидуально­сти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исходит к юношескому возрасту. Однако у многих людей становле­ние индивидуальности идет всю жизнь. Процесс ощущения са­мого себя (самопознание) изменяется по мере роста и взросле­ния. </a:t>
            </a:r>
            <a:endParaRPr b="1" lang="ru-RU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 algn="just">
              <a:lnSpc>
                <a:spcPct val="115000"/>
              </a:lnSpc>
              <a:spcBef>
                <a:spcPts val="799"/>
              </a:spcBef>
              <a:spcAft>
                <a:spcPts val="1001"/>
              </a:spcAft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дивидуальность человека включает в себя целый комплекс элементов: возраст, пол, этническая принадлежность, вероиспо­ведание, профессия, способности, увлечения, взаимоотношения с другими людьми, особенности осознания себя как личности.</a:t>
            </a:r>
            <a:endParaRPr b="1" lang="ru-RU" sz="20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2400" spc="-1" strike="noStrike" cap="all">
                <a:solidFill>
                  <a:srgbClr val="000000"/>
                </a:solidFill>
                <a:latin typeface="Franklin Gothic Medium"/>
              </a:rPr>
              <a:t>Развитие индивидуальности у дошкольников</a:t>
            </a: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7520760" cy="357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Franklin Gothic Book"/>
              </a:rPr>
              <a:t>У маленького ребёнка выражается в действии, в первом непослушании, первом упрямстве, а затем в словах: «Я сам».</a:t>
            </a: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</a:tabLst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Franklin Gothic Book"/>
              </a:rPr>
              <a:t>Развитию индивидуальности способствуют:</a:t>
            </a: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Franklin Gothic Book"/>
              </a:rPr>
              <a:t>1) способность человека взаимодействовать с другими – формируется по подражанию так называемым «значимым другим» (в дошкольном возрасте это родители);</a:t>
            </a: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Franklin Gothic Book"/>
              </a:rPr>
              <a:t>2) способность понимать неоднозначность действия (замахиваться на маму нельзя, а отмахиваться от мухи можно); неоднозначность свойств вещей (палочку можно использовать в игре как ложку и как градусник);</a:t>
            </a: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Franklin Gothic Book"/>
              </a:rPr>
              <a:t>3) способность противостоять шаблону, стереотипу поведения (разный стиль поведения в конфликте);</a:t>
            </a: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Franklin Gothic Book"/>
              </a:rPr>
              <a:t>4) способность вставать на точку зрения другого человека (в сюжетно-ролевой игре; </a:t>
            </a: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</a:tabLst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</a:tabLst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2400" spc="-1" strike="noStrike" cap="all">
                <a:solidFill>
                  <a:srgbClr val="000000"/>
                </a:solidFill>
                <a:latin typeface="Franklin Gothic Medium"/>
              </a:rPr>
              <a:t>Активность личности</a:t>
            </a: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7520760" cy="357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 algn="just">
              <a:lnSpc>
                <a:spcPct val="115000"/>
              </a:lnSpc>
              <a:spcBef>
                <a:spcPts val="799"/>
              </a:spcBef>
              <a:spcAft>
                <a:spcPts val="1001"/>
              </a:spcAft>
              <a:buNone/>
              <a:tabLst>
                <a:tab algn="l" pos="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ивность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(поведение, деятельность) - способность производить преобразования материальной и духовной среды. </a:t>
            </a:r>
            <a:endParaRPr b="1" lang="ru-RU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 algn="just">
              <a:lnSpc>
                <a:spcPct val="115000"/>
              </a:lnSpc>
              <a:spcBef>
                <a:spcPts val="799"/>
              </a:spcBef>
              <a:spcAft>
                <a:spcPts val="1001"/>
              </a:spcAft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ивность личности проявляется в творческой деятельности, воле, общении. </a:t>
            </a:r>
            <a:endParaRPr b="1" lang="ru-RU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 algn="just">
              <a:lnSpc>
                <a:spcPct val="115000"/>
              </a:lnSpc>
              <a:spcBef>
                <a:spcPts val="799"/>
              </a:spcBef>
              <a:spcAft>
                <a:spcPts val="1001"/>
              </a:spcAft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ивные действия могут преследовать гуманистические и антигуманистические цели, иметь как общественно полезную, так и антисоциальную на­правленность.</a:t>
            </a:r>
            <a:endParaRPr b="1" lang="ru-RU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2000" spc="-1" strike="noStrike" cap="all">
                <a:solidFill>
                  <a:srgbClr val="000000"/>
                </a:solidFill>
                <a:latin typeface="Franklin Gothic Medium"/>
              </a:rPr>
              <a:t>Понятие социальной ситуации развития</a:t>
            </a:r>
            <a:endParaRPr b="0" lang="ru-RU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7520760" cy="48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Л.С. Выготский ввел понятие социальной ситуации развития как важнейшей характеристики возраста, раскрывающей отношения ребенка и его социального окружения. </a:t>
            </a:r>
            <a:endParaRPr b="1" lang="ru-RU" sz="1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Если социальная ситуация психического развития ребенка младенческого возраста -- ситуация неразрывного единства ребенка и взрослого, социальная ситуация «МЫ», то в дошкольном возрасте интересы ребенка перемещаются от мира предметов к миру взрослых людей. Ребенок впервые психологически выходит за рамки семьи, за пределы окружения близких людей. Взрослый начинает выступать не только как конкретное лицо, но и как образ. Социальная ситуация развития в дошкольном детстве - «ребенок - взрослый (обобщенный, общественный). Обобщенный взрослый - это носитель общественных функций, т. е. водитель, милиционер, продавец, воспитатель, мама вообще.</a:t>
            </a:r>
            <a:endParaRPr b="1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2400" spc="-1" strike="noStrike" cap="all">
                <a:solidFill>
                  <a:srgbClr val="000000"/>
                </a:solidFill>
                <a:latin typeface="Franklin Gothic Medium"/>
              </a:rPr>
              <a:t>Три типа поведения</a:t>
            </a: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7520760" cy="405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 algn="just">
              <a:lnSpc>
                <a:spcPct val="115000"/>
              </a:lnSpc>
              <a:spcBef>
                <a:spcPts val="799"/>
              </a:spcBef>
              <a:spcAft>
                <a:spcPts val="1001"/>
              </a:spcAft>
              <a:buNone/>
              <a:tabLst>
                <a:tab algn="l" pos="0"/>
              </a:tabLst>
            </a:pPr>
            <a:r>
              <a:rPr b="1" i="1" lang="ru-RU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ассивное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поведение выражается в том, что чело­век перекладывает решение своих проблем на других. Он плывет по течению, скрывает от себя и от других свои истинные мысли, чувства и желания. Заканчивается это тем, что человек, как правило, об­виняет в своих неудачах кого угодно, но только не себя. К тому же и отношения с другими людьми не складываются или разрушают­ся, если они были.</a:t>
            </a:r>
            <a:endParaRPr b="1" lang="ru-RU" sz="1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 algn="just">
              <a:lnSpc>
                <a:spcPct val="115000"/>
              </a:lnSpc>
              <a:spcBef>
                <a:spcPts val="799"/>
              </a:spcBef>
              <a:spcAft>
                <a:spcPts val="1001"/>
              </a:spcAft>
              <a:buNone/>
              <a:tabLst>
                <a:tab algn="l" pos="0"/>
              </a:tabLst>
            </a:pPr>
            <a:r>
              <a:rPr b="1" i="1" lang="ru-RU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Активное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едение выража­ется в том, что человек открыто заявляет о своих потребностях, же­ланиях и о своем стремлении удовлетворить их всеми дозволенны­ми методами. Его отношение к другим людям доброжелательное, уважительное, и они платят ему тем же. Обозначив свою цель, человек стремится достичь ее. Неза­висимость и чувство собственного достоинства присущи таким лю­дям, активная жизненная позиция создает нормальные, здоровые отношения между людьми (или здоровую конкуренцию). Такие лю­ди, как правило, достигают больших успехов.</a:t>
            </a:r>
            <a:endParaRPr b="1" lang="ru-RU" sz="1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 algn="just">
              <a:lnSpc>
                <a:spcPct val="115000"/>
              </a:lnSpc>
              <a:spcBef>
                <a:spcPts val="799"/>
              </a:spcBef>
              <a:spcAft>
                <a:spcPts val="1001"/>
              </a:spcAft>
              <a:buNone/>
              <a:tabLst>
                <a:tab algn="l" pos="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месте с тем активное поведение бывает и </a:t>
            </a:r>
            <a:r>
              <a:rPr b="1" i="1" lang="ru-RU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агрессивным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В этом случае достижение цели происходит за счет ущемления или притя­заний на права других людей. Естественно, это вызывает их от­ветную реакцию, которая, в конечном счете, заканчивается полной изоляцией человека и неприятием со стороны окружающих. Аг­рессивное поведение оскорбляет окружающих, задевает их чувст­во собственного достоинства, заставляет принимать ответные ме­ры.</a:t>
            </a:r>
            <a:endParaRPr b="1" lang="ru-RU" sz="1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endParaRPr b="1" lang="ru-RU" sz="1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2400" spc="-1" strike="noStrike" cap="all">
                <a:solidFill>
                  <a:srgbClr val="000000"/>
                </a:solidFill>
                <a:latin typeface="Franklin Gothic Medium"/>
              </a:rPr>
              <a:t>Потребность – причина активности личности</a:t>
            </a: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7520760" cy="391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48480" indent="0">
              <a:lnSpc>
                <a:spcPct val="124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ребность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(существует объективно) - причина активности личности, это нужда (необходимость) человека в чем-то, то к чему он стремится. Она может быть 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осознанной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и 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ознанной.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ru-RU" sz="1800" spc="-1" strike="noStrike">
              <a:solidFill>
                <a:srgbClr val="000000"/>
              </a:solidFill>
              <a:latin typeface="Franklin Gothic Book"/>
            </a:endParaRPr>
          </a:p>
          <a:p>
            <a:pPr marL="348480" indent="0" algn="just">
              <a:lnSpc>
                <a:spcPct val="124000"/>
              </a:lnSpc>
              <a:spcBef>
                <a:spcPts val="799"/>
              </a:spcBef>
              <a:spcAft>
                <a:spcPts val="1001"/>
              </a:spcAft>
              <a:buNone/>
              <a:tabLst>
                <a:tab algn="l" pos="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еннее осознание потребности (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тив – 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ществует субъективно в сознании, всегда осознаваем) побуждает человека к активному поиску путей её удовлетворения и становятся побуждающей причиной к деятельности.</a:t>
            </a:r>
            <a:endParaRPr b="1" lang="ru-RU" sz="1800" spc="-1" strike="noStrike">
              <a:solidFill>
                <a:srgbClr val="000000"/>
              </a:solidFill>
              <a:latin typeface="Franklin Gothic Book"/>
            </a:endParaRPr>
          </a:p>
          <a:p>
            <a:pPr marL="348480" indent="0" algn="just">
              <a:lnSpc>
                <a:spcPct val="124000"/>
              </a:lnSpc>
              <a:spcBef>
                <a:spcPts val="799"/>
              </a:spcBef>
              <a:spcAft>
                <a:spcPts val="1001"/>
              </a:spcAft>
              <a:buNone/>
              <a:tabLst>
                <a:tab algn="l" pos="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лизация необходимых, обязательных потребностей эмоционально осознается как 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довлетворение, 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необязательных – как 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довольствие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Удовлетворение потребностей является источником созидания, а удовольствие - разрушения.</a:t>
            </a:r>
            <a:endParaRPr b="1" lang="ru-RU" sz="1800" spc="-1" strike="noStrike">
              <a:solidFill>
                <a:srgbClr val="000000"/>
              </a:solidFill>
              <a:latin typeface="Franklin Gothic Book"/>
            </a:endParaRPr>
          </a:p>
          <a:p>
            <a:pPr marL="348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822960" y="476640"/>
            <a:ext cx="7520760" cy="43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 algn="just">
              <a:lnSpc>
                <a:spcPct val="115000"/>
              </a:lnSpc>
              <a:spcBef>
                <a:spcPts val="799"/>
              </a:spcBef>
              <a:spcAft>
                <a:spcPts val="1001"/>
              </a:spcAft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ребности условно можно разделить на  биологические, личностные и социальные.</a:t>
            </a:r>
            <a:endParaRPr b="1" lang="ru-RU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 algn="just">
              <a:lnSpc>
                <a:spcPct val="115000"/>
              </a:lnSpc>
              <a:spcBef>
                <a:spcPts val="799"/>
              </a:spcBef>
              <a:spcAft>
                <a:spcPts val="1001"/>
              </a:spcAft>
              <a:buNone/>
              <a:tabLst>
                <a:tab algn="l" pos="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ологические 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равлены на обеспе­чение нужды организма в пище, тепле, безопасности, движении, размножении и т. п.</a:t>
            </a:r>
            <a:endParaRPr b="1" lang="ru-RU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 algn="just">
              <a:lnSpc>
                <a:spcPct val="115000"/>
              </a:lnSpc>
              <a:spcBef>
                <a:spcPts val="799"/>
              </a:spcBef>
              <a:spcAft>
                <a:spcPts val="1001"/>
              </a:spcAft>
              <a:buNone/>
              <a:tabLst>
                <a:tab algn="l" pos="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чностные 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ребности стимулируют под­держание человеком своей самостоятельности и индивидуально­сти: это потребности в самовыражении и самоутверждении.</a:t>
            </a:r>
            <a:endParaRPr b="1" lang="ru-RU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 algn="just">
              <a:lnSpc>
                <a:spcPct val="115000"/>
              </a:lnSpc>
              <a:spcBef>
                <a:spcPts val="799"/>
              </a:spcBef>
              <a:spcAft>
                <a:spcPts val="1001"/>
              </a:spcAft>
              <a:buNone/>
              <a:tabLst>
                <a:tab algn="l" pos="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ци­альные 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ребности направлены на деятельность и на контакты с другими людьми: это потребность в общении, включенности в ка­кую-либо группу, в деятельность.</a:t>
            </a:r>
            <a:endParaRPr b="1" lang="ru-RU" sz="20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2400" spc="-1" strike="noStrike" cap="all">
                <a:solidFill>
                  <a:srgbClr val="000000"/>
                </a:solidFill>
                <a:latin typeface="Franklin Gothic Medium"/>
              </a:rPr>
              <a:t>Концепция потребностей А. Маслоу</a:t>
            </a: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7520760" cy="357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 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зиологические потребности. </a:t>
            </a:r>
            <a:endParaRPr b="1" lang="ru-RU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Потребность в безопасности, надежности. </a:t>
            </a:r>
            <a:endParaRPr b="1" lang="ru-RU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Социальные потребности. </a:t>
            </a:r>
            <a:endParaRPr b="1" lang="ru-RU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Потребность в самоуважении и осознании чувства собственного достоинства. </a:t>
            </a:r>
            <a:endParaRPr b="1" lang="ru-RU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Потребность в самореализации и развитии личности, в само­актуализации, осмыслении своего места в мире. </a:t>
            </a:r>
            <a:endParaRPr b="1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 rot="19140000">
            <a:off x="819000" y="1726920"/>
            <a:ext cx="5650560" cy="1207080"/>
          </a:xfrm>
          <a:prstGeom prst="rect">
            <a:avLst/>
          </a:prstGeom>
          <a:noFill/>
          <a:ln w="0">
            <a:noFill/>
          </a:ln>
        </p:spPr>
        <p:txBody>
          <a:bodyPr bIns="9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2400" spc="-1" strike="noStrike" cap="all">
                <a:solidFill>
                  <a:srgbClr val="000000"/>
                </a:solidFill>
                <a:latin typeface="Franklin Gothic Medium"/>
              </a:rPr>
              <a:t>Установление правил взаимодействия в разных ситуациях</a:t>
            </a: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2400" spc="-1" strike="noStrike" cap="all">
                <a:solidFill>
                  <a:srgbClr val="000000"/>
                </a:solidFill>
                <a:latin typeface="Franklin Gothic Medium"/>
              </a:rPr>
              <a:t>Создание условий для позитивных доброжелательных отношений между детьми</a:t>
            </a: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7520760" cy="357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Работа в малых группах.</a:t>
            </a: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Задание : Перечислите условия, которые, по вашему мнению, необходимы для создания доброжелательных отношений между детьми </a:t>
            </a: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68580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Выбирают спикеров малых групп (1 минута). Участники группы  выполняют задание самостоятельно (5 минут)</a:t>
            </a: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68580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о очереди высказываются, спикер записывает (5 минут)</a:t>
            </a: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68580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Спикеры группы зачитывают ответы.</a:t>
            </a: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68580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Ведущий дополняет при необходимости: дети могут принадлежать к разным национально-культурным, религиозным общностям и социальным слоям, а также имеющими различные  ( в том числе ограниченные) возможности здоровья.</a:t>
            </a: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2400" spc="-1" strike="noStrike" cap="all">
                <a:solidFill>
                  <a:srgbClr val="000000"/>
                </a:solidFill>
                <a:latin typeface="Franklin Gothic Medium"/>
              </a:rPr>
              <a:t>Развитие коммуникативных способностей</a:t>
            </a: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7520760" cy="357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Мозговой штурм.</a:t>
            </a: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Средства развития коммуникативных способностей детей-дошкольников.</a:t>
            </a: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Выбрать  членов комиссии, которые будут обрабатывать предложенные решения.</a:t>
            </a: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1 этап – постановка проблемы.</a:t>
            </a: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2 этап – генерация идей.  Правила: нет ограничений по количеству идей; полный запрет на критику (в том числе положительную); любые, даже самые абсурдные идеи, приветствуются; комбинируйте и улучшайте любые идеи (нет авторитетов).</a:t>
            </a: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3 этап – группировка, отбор и оценка идей.  Оценка теперь не ограничивается, а приветствуется</a:t>
            </a: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Ваши чувства после мозгового штурма.</a:t>
            </a: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2400" spc="-1" strike="noStrike" cap="all">
                <a:solidFill>
                  <a:srgbClr val="000000"/>
                </a:solidFill>
                <a:latin typeface="Franklin Gothic Medium"/>
              </a:rPr>
              <a:t>Детские конфликты</a:t>
            </a: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7520760" cy="357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резентация «Как помочь детям разрешить конфликт»</a:t>
            </a: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2400" spc="-1" strike="noStrike" cap="all">
                <a:solidFill>
                  <a:srgbClr val="000000"/>
                </a:solidFill>
                <a:latin typeface="Franklin Gothic Medium"/>
              </a:rPr>
              <a:t>Какие правила, когда и Как их  вводить</a:t>
            </a: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7520760" cy="357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Работа в малых группах.</a:t>
            </a: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Задание:</a:t>
            </a: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1. С какого возраста можно вводить правила взаимодействия?</a:t>
            </a: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2. Сформулируйте правила (для разных возрастных групп)</a:t>
            </a: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 rot="19140000">
            <a:off x="819000" y="1726920"/>
            <a:ext cx="5650560" cy="1207080"/>
          </a:xfrm>
          <a:prstGeom prst="rect">
            <a:avLst/>
          </a:prstGeom>
          <a:noFill/>
          <a:ln w="0">
            <a:noFill/>
          </a:ln>
        </p:spPr>
        <p:txBody>
          <a:bodyPr bIns="9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1800" spc="-1" strike="noStrike" cap="all">
                <a:solidFill>
                  <a:srgbClr val="000000"/>
                </a:solidFill>
                <a:latin typeface="Franklin Gothic Medium"/>
              </a:rPr>
              <a:t>Построение вариативного развивающего образования, ориентированного на уровень развития, проявляющийся у ребёнка в совместной деятельности со взрослым и более опытными сверстниками, но не актуализирующийся в его индивидуальной деятельности</a:t>
            </a: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2000" spc="-1" strike="noStrike" cap="all">
                <a:solidFill>
                  <a:srgbClr val="000000"/>
                </a:solidFill>
                <a:latin typeface="Franklin Gothic Medium"/>
              </a:rPr>
              <a:t>Условия, необходимые для создания социальной ситуации развития (из ФГОС ДО)</a:t>
            </a:r>
            <a:endParaRPr b="0" lang="ru-RU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7520760" cy="492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442080" indent="-442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Franklin Gothic Medium"/>
              <a:buAutoNum type="romanUcPeriod"/>
            </a:pP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Обеспечение эмоционального благополучия.</a:t>
            </a:r>
            <a:endParaRPr b="1" lang="ru-RU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442080" indent="-442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Franklin Gothic Medium"/>
              <a:buAutoNum type="romanUcPeriod"/>
            </a:pP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Поддержка индивидуальности и инициативы.</a:t>
            </a:r>
            <a:endParaRPr b="1" lang="ru-RU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442080" indent="-442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Franklin Gothic Medium"/>
              <a:buAutoNum type="romanUcPeriod"/>
            </a:pP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Установление правил взаимодействия в разных ситуациях.</a:t>
            </a:r>
            <a:endParaRPr b="1" lang="ru-RU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442080" indent="-442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Franklin Gothic Medium"/>
              <a:buAutoNum type="romanUcPeriod"/>
            </a:pP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Построение вариативного развивающего образования, ориентированного на уровень  развития, проявляющийся у ребёнка в совместной деятельности со взрослым и более опытными сверстниками, но не актуализирующийся в его индивидуальной деятельности.</a:t>
            </a:r>
            <a:endParaRPr b="1" lang="ru-RU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442080" indent="-442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Franklin Gothic Medium"/>
              <a:buAutoNum type="romanUcPeriod"/>
            </a:pP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Взаимодействие с родителями (законными представителями)  по вопросам образования ребёнка, непосредственного вовлечения их в образовательную деятельность, в том числе посредством создания образовательных проектов совместно с семьёй на основе выявления потребностей и поддержки образовательных инициатив семьи.</a:t>
            </a:r>
            <a:endParaRPr b="1" lang="ru-RU" sz="20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2000" spc="-1" strike="noStrike" cap="all">
                <a:solidFill>
                  <a:srgbClr val="000000"/>
                </a:solidFill>
                <a:latin typeface="Franklin Gothic Medium"/>
              </a:rPr>
              <a:t>Наличие возможности использования Зоны ближайшего развития</a:t>
            </a:r>
            <a:endParaRPr b="0" lang="ru-RU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7520760" cy="357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</a:pPr>
            <a:r>
              <a:rPr b="1" lang="ru-RU" sz="1600" spc="-1" strike="noStrike">
                <a:solidFill>
                  <a:srgbClr val="000000"/>
                </a:solidFill>
                <a:latin typeface="Franklin Gothic Book"/>
              </a:rPr>
              <a:t>В организованной образовательной деятельности</a:t>
            </a: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</a:pPr>
            <a:r>
              <a:rPr b="1" lang="ru-RU" sz="1600" spc="-1" strike="noStrike">
                <a:solidFill>
                  <a:srgbClr val="000000"/>
                </a:solidFill>
                <a:latin typeface="Franklin Gothic Book"/>
              </a:rPr>
              <a:t>В самостоятельной деятельности детей</a:t>
            </a: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822960" y="1100520"/>
            <a:ext cx="7520760" cy="357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44000"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Franklin Gothic Book"/>
              </a:rPr>
              <a:t>Построение вариативного развивающего образования, ориентированного на зону ближайшего развития каждого ребёнка, через:</a:t>
            </a: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429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Franklin Gothic Book"/>
              </a:rPr>
              <a:t>Создание условий для овладения культурными средствами деятельности;</a:t>
            </a: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429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Franklin Gothic Book"/>
              </a:rPr>
              <a:t>Организацию видов деятельности, способствующих развитию мышления, речи, общения, воображения и детского творчества, личностного, физического и художественно-эстетического развития детей</a:t>
            </a: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429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Franklin Gothic Book"/>
              </a:rPr>
              <a:t>Поддержку спонтанной игры детей, её обогащение, обеспечение игрового времени и пространства</a:t>
            </a: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429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Franklin Gothic Book"/>
              </a:rPr>
              <a:t>Оценку индивидуального развития детей</a:t>
            </a: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 rot="19140000">
            <a:off x="819000" y="1726920"/>
            <a:ext cx="5650560" cy="1207080"/>
          </a:xfrm>
          <a:prstGeom prst="rect">
            <a:avLst/>
          </a:prstGeom>
          <a:noFill/>
          <a:ln w="0">
            <a:noFill/>
          </a:ln>
        </p:spPr>
        <p:txBody>
          <a:bodyPr bIns="9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3200" spc="-1" strike="noStrike" cap="all">
                <a:solidFill>
                  <a:srgbClr val="000000"/>
                </a:solidFill>
                <a:latin typeface="Franklin Gothic Medium"/>
              </a:rPr>
              <a:t>Взаимодействие с родителями</a:t>
            </a:r>
            <a:endParaRPr b="0" lang="ru-RU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822960" y="1100520"/>
            <a:ext cx="7520760" cy="357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По вопросам образования ребёнка, непосредственного вовлечения их в образовательную деятельность, в том числе посредством создания образовательных проектов совместно с семьёй на основе выявления потребностей и поддержки образовательных инициатив семьи</a:t>
            </a:r>
            <a:endParaRPr b="1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 rot="19140000">
            <a:off x="819000" y="1726920"/>
            <a:ext cx="5650560" cy="1207080"/>
          </a:xfrm>
          <a:prstGeom prst="rect">
            <a:avLst/>
          </a:prstGeom>
          <a:noFill/>
          <a:ln w="0">
            <a:noFill/>
          </a:ln>
        </p:spPr>
        <p:txBody>
          <a:bodyPr bIns="9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2400" spc="-1" strike="noStrike" cap="all">
                <a:solidFill>
                  <a:srgbClr val="000000"/>
                </a:solidFill>
                <a:latin typeface="Franklin Gothic Medium"/>
              </a:rPr>
              <a:t>Обеспечение эмоционального благополучия</a:t>
            </a: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974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2400" spc="-1" strike="noStrike" cap="all">
                <a:solidFill>
                  <a:srgbClr val="000000"/>
                </a:solidFill>
                <a:latin typeface="Franklin Gothic Medium"/>
              </a:rPr>
              <a:t>Условия, обеспечивающие эмоциональное благополучие (по э. Эриксону)</a:t>
            </a: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22960" y="1556640"/>
            <a:ext cx="752076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26160" indent="-3261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Franklin Gothic Medium"/>
              <a:buAutoNum type="arabicPeriod"/>
            </a:pPr>
            <a:r>
              <a:rPr b="1" lang="ru-RU" sz="3600" spc="-1" strike="noStrike">
                <a:solidFill>
                  <a:srgbClr val="000000"/>
                </a:solidFill>
                <a:latin typeface="Franklin Gothic Book"/>
              </a:rPr>
              <a:t>Хорошо развитое чувство индивидуальности </a:t>
            </a:r>
            <a:r>
              <a:rPr b="1" lang="ru-RU" sz="2600" spc="-1" strike="noStrike">
                <a:solidFill>
                  <a:srgbClr val="000000"/>
                </a:solidFill>
                <a:latin typeface="Franklin Gothic Book"/>
              </a:rPr>
              <a:t>(об этом – в следующем разделе).</a:t>
            </a:r>
            <a:endParaRPr b="1" lang="ru-RU" sz="2600" spc="-1" strike="noStrike">
              <a:solidFill>
                <a:srgbClr val="000000"/>
              </a:solidFill>
              <a:latin typeface="Franklin Gothic Book"/>
            </a:endParaRPr>
          </a:p>
          <a:p>
            <a:pPr marL="326160" indent="-3261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Franklin Gothic Medium"/>
              <a:buAutoNum type="arabicPeriod"/>
            </a:pPr>
            <a:r>
              <a:rPr b="1" lang="ru-RU" sz="3600" spc="-1" strike="noStrike">
                <a:solidFill>
                  <a:srgbClr val="000000"/>
                </a:solidFill>
                <a:latin typeface="Franklin Gothic Book"/>
              </a:rPr>
              <a:t>Умение общаться.</a:t>
            </a:r>
            <a:endParaRPr b="1" lang="ru-RU" sz="3600" spc="-1" strike="noStrike">
              <a:solidFill>
                <a:srgbClr val="000000"/>
              </a:solidFill>
              <a:latin typeface="Franklin Gothic Book"/>
            </a:endParaRPr>
          </a:p>
          <a:p>
            <a:pPr marL="326160" indent="-3261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Franklin Gothic Medium"/>
              <a:buAutoNum type="arabicPeriod"/>
            </a:pPr>
            <a:r>
              <a:rPr b="1" lang="ru-RU" sz="3600" spc="-1" strike="noStrike">
                <a:solidFill>
                  <a:srgbClr val="000000"/>
                </a:solidFill>
                <a:latin typeface="Franklin Gothic Book"/>
              </a:rPr>
              <a:t>Умение создавать близкие отношения.</a:t>
            </a:r>
            <a:endParaRPr b="1" lang="ru-RU" sz="3600" spc="-1" strike="noStrike">
              <a:solidFill>
                <a:srgbClr val="000000"/>
              </a:solidFill>
              <a:latin typeface="Franklin Gothic Book"/>
            </a:endParaRPr>
          </a:p>
          <a:p>
            <a:pPr marL="326160" indent="-3261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Franklin Gothic Medium"/>
              <a:buAutoNum type="arabicPeriod"/>
            </a:pPr>
            <a:r>
              <a:rPr b="1" lang="ru-RU" sz="3600" spc="-1" strike="noStrike">
                <a:solidFill>
                  <a:srgbClr val="000000"/>
                </a:solidFill>
                <a:latin typeface="Franklin Gothic Book"/>
              </a:rPr>
              <a:t>Умение проявлять активность.</a:t>
            </a:r>
            <a:endParaRPr b="1" lang="ru-RU" sz="36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2400" spc="-1" strike="noStrike" cap="all">
                <a:solidFill>
                  <a:srgbClr val="000000"/>
                </a:solidFill>
                <a:latin typeface="Franklin Gothic Medium"/>
              </a:rPr>
              <a:t>Умение общаться</a:t>
            </a: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7520760" cy="391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14000"/>
              </a:lnSpc>
              <a:spcBef>
                <a:spcPts val="799"/>
              </a:spcBef>
              <a:spcAft>
                <a:spcPts val="1001"/>
              </a:spcAft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Эмоциональное благополучие накладывает отпечаток на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уме­ние общаться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 с другими людьми. </a:t>
            </a:r>
            <a:endParaRPr b="1" lang="ru-RU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 algn="just">
              <a:lnSpc>
                <a:spcPct val="114000"/>
              </a:lnSpc>
              <a:spcBef>
                <a:spcPts val="799"/>
              </a:spcBef>
              <a:spcAft>
                <a:spcPts val="1001"/>
              </a:spcAft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Для достижения позитивного результата важно, чтобы партнеры обладали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двумя качествами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: умением ясно, прямо и доходчиво выражать свои мысли и чувства и умением понимать мысли и чув­ства противоположной стороны. Умение говорить и умение слу­шать имеют важное значение, так как определяют качество взаи­моотношений</a:t>
            </a:r>
            <a:endParaRPr b="1" lang="ru-RU" sz="20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2400" spc="-1" strike="noStrike" cap="all">
                <a:solidFill>
                  <a:srgbClr val="000000"/>
                </a:solidFill>
                <a:latin typeface="Franklin Gothic Medium"/>
              </a:rPr>
              <a:t>Правила активного слушания</a:t>
            </a: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2960" y="914400"/>
            <a:ext cx="7520760" cy="376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96640" indent="-296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</a:pP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Разговаривать лицом друг к другу. Контакт глаз.</a:t>
            </a:r>
            <a:endParaRPr b="1" lang="ru-RU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296640" indent="-296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</a:pP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Дать ребёнку обратную связь: </a:t>
            </a:r>
            <a:endParaRPr b="1" lang="ru-RU" sz="20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Задать уточняющие вопросы, например: «Ты решил…».</a:t>
            </a:r>
            <a:endParaRPr b="1" lang="ru-RU" sz="20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Назвать чувства ребёнка: «Ты рассердился?»</a:t>
            </a:r>
            <a:endParaRPr b="1" lang="ru-RU" sz="20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3. Держать паузу после каждой реплики ребёнка.</a:t>
            </a:r>
            <a:endParaRPr b="1" lang="ru-RU" sz="20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4. Повторить то, что вы услышали от ребёнка, обозначить его чувства.</a:t>
            </a:r>
            <a:endParaRPr b="1" lang="ru-RU" sz="20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Что хорошего?</a:t>
            </a:r>
            <a:endParaRPr b="1" lang="ru-RU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94920" indent="-394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Ослабнет отрицательное переживание ребёнка.</a:t>
            </a:r>
            <a:endParaRPr b="1" lang="ru-RU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94920" indent="-394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Ребёнок будет больше рассказывать о себе.</a:t>
            </a:r>
            <a:endParaRPr b="1" lang="ru-RU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94920" indent="-394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Ребёнок продвигается в самостоятельном решении своей трудности.</a:t>
            </a:r>
            <a:endParaRPr b="1" lang="ru-RU" sz="20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endParaRPr b="1" lang="ru-RU" sz="20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endParaRPr b="1" lang="ru-RU" sz="20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2400" spc="-1" strike="noStrike" cap="all">
                <a:solidFill>
                  <a:srgbClr val="000000"/>
                </a:solidFill>
                <a:latin typeface="Franklin Gothic Medium"/>
              </a:rPr>
              <a:t>Вспоминаем:</a:t>
            </a: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7520760" cy="357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8000"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i="1" lang="ru-RU" sz="3800" spc="-1" strike="noStrike">
                <a:solidFill>
                  <a:srgbClr val="000000"/>
                </a:solidFill>
                <a:latin typeface="Times New Roman"/>
              </a:rPr>
              <a:t>Что вы чувствовали в детстве, когда вступали в контакт с взрослыми?</a:t>
            </a:r>
            <a:endParaRPr b="1" lang="ru-RU" sz="38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i="1" lang="ru-RU" sz="3800" spc="-1" strike="noStrike">
                <a:solidFill>
                  <a:srgbClr val="000000"/>
                </a:solidFill>
                <a:latin typeface="Times New Roman"/>
              </a:rPr>
              <a:t>Были ли в детстве взрослые, с которыми был хороший неформальный контакт и они уделяли вам внимание (что вам нужно было для хорошего контакта с взрослыми)</a:t>
            </a:r>
            <a:endParaRPr b="1" lang="ru-RU" sz="38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i="1" lang="ru-RU" sz="3800" spc="-1" strike="noStrike">
                <a:solidFill>
                  <a:srgbClr val="000000"/>
                </a:solidFill>
                <a:latin typeface="Times New Roman"/>
              </a:rPr>
              <a:t>Как в вашей семье относились к проявлению вами ярких эмоций? Что вам говорили при этом? Как это сказалось в вашей жизни?</a:t>
            </a:r>
            <a:endParaRPr b="1" lang="ru-RU" sz="3800" spc="-1" strike="noStrike">
              <a:solidFill>
                <a:srgbClr val="000000"/>
              </a:solidFill>
              <a:latin typeface="Franklin Gothic Book"/>
            </a:endParaRPr>
          </a:p>
          <a:p>
            <a:pPr marL="317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i="1" lang="ru-RU" sz="2900" spc="-1" strike="noStrike">
                <a:solidFill>
                  <a:srgbClr val="000000"/>
                </a:solidFill>
                <a:latin typeface="Times New Roman"/>
              </a:rPr>
              <a:t>Выводы: </a:t>
            </a:r>
            <a:r>
              <a:rPr b="1" lang="ru-RU" sz="2900" spc="-1" strike="noStrike">
                <a:solidFill>
                  <a:srgbClr val="000000"/>
                </a:solidFill>
                <a:latin typeface="Times New Roman"/>
              </a:rPr>
              <a:t>Если ребёнок на «голодном пайке», он тянет «одеяло внимания» на себя, пусть это даже отрицательное внимание.</a:t>
            </a:r>
            <a:endParaRPr b="1" lang="ru-RU" sz="2900" spc="-1" strike="noStrike">
              <a:solidFill>
                <a:srgbClr val="000000"/>
              </a:solidFill>
              <a:latin typeface="Franklin Gothic Book"/>
            </a:endParaRPr>
          </a:p>
          <a:p>
            <a:pPr marL="317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822960" y="476640"/>
            <a:ext cx="7520760" cy="48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marL="327960" indent="0" algn="just">
              <a:lnSpc>
                <a:spcPct val="134000"/>
              </a:lnSpc>
              <a:spcBef>
                <a:spcPts val="799"/>
              </a:spcBef>
              <a:spcAft>
                <a:spcPts val="1001"/>
              </a:spcAft>
              <a:buNone/>
              <a:tabLst>
                <a:tab algn="l" pos="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но из основных условий сохранения эмоционального благополучия даже в сложных ситуациях - </a:t>
            </a:r>
            <a:r>
              <a:rPr b="1" i="1" lang="ru-RU" sz="3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эмоциональная устойчивость</a:t>
            </a:r>
            <a:r>
              <a:rPr b="1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- способность преодоле­вать состояние излишнего эмоционального возбуждения при вы­полнении сложной деятельности, неподверженность эмоцио­нальных состояний отрицательным влияниям (внешним и внут­ренним). Это один из пси­хологических факторов надежности, эффективности и успешности деятельности.</a:t>
            </a:r>
            <a:endParaRPr b="1" lang="ru-RU" sz="3400" spc="-1" strike="noStrike">
              <a:solidFill>
                <a:srgbClr val="000000"/>
              </a:solidFill>
              <a:latin typeface="Franklin Gothic Book"/>
            </a:endParaRPr>
          </a:p>
          <a:p>
            <a:pPr marL="327960" indent="0" algn="just">
              <a:lnSpc>
                <a:spcPct val="134000"/>
              </a:lnSpc>
              <a:spcBef>
                <a:spcPts val="799"/>
              </a:spcBef>
              <a:spcAft>
                <a:spcPts val="1001"/>
              </a:spcAft>
              <a:buNone/>
              <a:tabLst>
                <a:tab algn="l" pos="0"/>
              </a:tabLst>
            </a:pPr>
            <a:endParaRPr b="1" lang="ru-RU" sz="3400" spc="-1" strike="noStrike">
              <a:solidFill>
                <a:srgbClr val="000000"/>
              </a:solidFill>
              <a:latin typeface="Franklin Gothic Book"/>
            </a:endParaRPr>
          </a:p>
          <a:p>
            <a:pPr marL="327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Углы">
  <a:themeElements>
    <a:clrScheme name="Углы">
      <a:dk1>
        <a:srgbClr val="000000"/>
      </a:dk1>
      <a:lt1>
        <a:srgbClr val="ffffff"/>
      </a:lt1>
      <a:dk2>
        <a:srgbClr val="434342"/>
      </a:dk2>
      <a:lt2>
        <a:srgbClr val="cdd7d9"/>
      </a:lt2>
      <a:accent1>
        <a:srgbClr val="797b7e"/>
      </a:accent1>
      <a:accent2>
        <a:srgbClr val="f96a1b"/>
      </a:accent2>
      <a:accent3>
        <a:srgbClr val="08a1d9"/>
      </a:accent3>
      <a:accent4>
        <a:srgbClr val="7c984a"/>
      </a:accent4>
      <a:accent5>
        <a:srgbClr val="c2ad8d"/>
      </a:accent5>
      <a:accent6>
        <a:srgbClr val="506e94"/>
      </a:accent6>
      <a:hlink>
        <a:srgbClr val="5f5f5f"/>
      </a:hlink>
      <a:folHlink>
        <a:srgbClr val="969696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Углы">
  <a:themeElements>
    <a:clrScheme name="Углы">
      <a:dk1>
        <a:srgbClr val="000000"/>
      </a:dk1>
      <a:lt1>
        <a:srgbClr val="ffffff"/>
      </a:lt1>
      <a:dk2>
        <a:srgbClr val="434342"/>
      </a:dk2>
      <a:lt2>
        <a:srgbClr val="cdd7d9"/>
      </a:lt2>
      <a:accent1>
        <a:srgbClr val="797b7e"/>
      </a:accent1>
      <a:accent2>
        <a:srgbClr val="f96a1b"/>
      </a:accent2>
      <a:accent3>
        <a:srgbClr val="08a1d9"/>
      </a:accent3>
      <a:accent4>
        <a:srgbClr val="7c984a"/>
      </a:accent4>
      <a:accent5>
        <a:srgbClr val="c2ad8d"/>
      </a:accent5>
      <a:accent6>
        <a:srgbClr val="506e94"/>
      </a:accent6>
      <a:hlink>
        <a:srgbClr val="5f5f5f"/>
      </a:hlink>
      <a:folHlink>
        <a:srgbClr val="969696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Углы">
  <a:themeElements>
    <a:clrScheme name="Углы">
      <a:dk1>
        <a:srgbClr val="000000"/>
      </a:dk1>
      <a:lt1>
        <a:srgbClr val="ffffff"/>
      </a:lt1>
      <a:dk2>
        <a:srgbClr val="434342"/>
      </a:dk2>
      <a:lt2>
        <a:srgbClr val="cdd7d9"/>
      </a:lt2>
      <a:accent1>
        <a:srgbClr val="797b7e"/>
      </a:accent1>
      <a:accent2>
        <a:srgbClr val="f96a1b"/>
      </a:accent2>
      <a:accent3>
        <a:srgbClr val="08a1d9"/>
      </a:accent3>
      <a:accent4>
        <a:srgbClr val="7c984a"/>
      </a:accent4>
      <a:accent5>
        <a:srgbClr val="c2ad8d"/>
      </a:accent5>
      <a:accent6>
        <a:srgbClr val="506e94"/>
      </a:accent6>
      <a:hlink>
        <a:srgbClr val="5f5f5f"/>
      </a:hlink>
      <a:folHlink>
        <a:srgbClr val="969696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Angles</Template>
  <TotalTime>1026</TotalTime>
  <Application>LibreOffice/7.4.7.2$Linux_X86_64 LibreOffice_project/40$Build-2</Application>
  <AppVersion>15.0000</AppVersion>
  <Words>1285</Words>
  <Paragraphs>133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8-18T07:59:52Z</dcterms:created>
  <dc:creator>Natalya</dc:creator>
  <dc:description/>
  <dc:language>en-US</dc:language>
  <cp:lastModifiedBy>Natalya</cp:lastModifiedBy>
  <dcterms:modified xsi:type="dcterms:W3CDTF">2015-01-26T11:38:12Z</dcterms:modified>
  <cp:revision>94</cp:revision>
  <dc:subject/>
  <dc:title>Создание социальной ситуации развития детей в детском саду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33</vt:r8>
  </property>
</Properties>
</file>