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2ED3-5123-462E-90A0-5BC514D3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9C87-4045-4FDB-B388-EDB47E882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8606-467B-4631-B271-FF02CBDC3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9839-0312-485F-AC43-266776FBD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491B5-4F5C-4A6E-8D7B-11A8CC468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05B7-2D2A-482F-A1E7-D446259C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85B08-C43E-4019-BB85-754E61FB7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3691-DF30-4E19-8F68-533C84627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8FAE2-972F-43FE-A64F-416CF741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FD72F-8F0D-46B6-8350-F508A18D0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504A6-5591-40AA-8277-917004E7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9EC0-BE98-4EFC-8959-D55A65C54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05F9-3462-46E6-B629-CFB08B00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136F-B255-4F73-A64F-6137C0119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A53D6-E43E-4BD2-AC29-82D1842C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2253-8A73-486E-8E6C-18F7718F8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24F56-9C81-4191-9550-D71FAE19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11D46-1C42-4B57-A372-0FDF6395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4C5015-98F0-46A1-B228-AE33B41D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ACDE7-4A48-4FAE-A511-FCE9AEB6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D1D94-DE25-4C75-8F04-859DCAB96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AA995-1E2C-4BC2-B43C-1EA486992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57AD-59C6-4004-A44C-D4CC3A82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B43FC-0FF8-412E-8249-7F6BBFC9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0220E-77FD-4D6C-87C8-3DB1C412C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41086-6A1E-4CE1-A33E-797E822A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E1219-B381-4657-BDF5-5A4DD5D01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CBA82-EBDE-44D0-BA5E-CC52A6847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93C45-1A6E-4039-AF5A-7F040B9AB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6564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08680" y="110052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82296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6564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3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97610-BB30-4D2F-98FA-D0CFCE40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3911-8BB5-4EEE-8EA2-4FDE6108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EFE9-F21B-4517-9B9F-2D7FC504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2960" y="365760"/>
            <a:ext cx="7520760" cy="25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A29C2-30DE-43D4-8747-1343AE07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687A-3E65-46C3-9EE9-C74B571B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357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4633-3625-4AD9-BD5C-5AABCF0AE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760" y="1100520"/>
            <a:ext cx="366984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22960" y="2970360"/>
            <a:ext cx="7520760" cy="170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90FF-883C-4C22-8D42-3C012317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1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2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3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 cap="all">
                <a:solidFill>
                  <a:srgbClr val="000000"/>
                </a:solidFill>
                <a:latin typeface="Franklin Gothic Medium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5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0DA0312-6E06-44DD-AD85-F871ABEEE6B8}" type="slidenum">
              <a:rPr b="0" lang="ru-RU" sz="165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Freeform 6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6" name="Freeform 7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Образец заголовка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Образец текста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8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Второй уровень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24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Третий уровень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631080" indent="-16452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859680" indent="-173880">
              <a:lnSpc>
                <a:spcPct val="100000"/>
              </a:lnSpc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Franklin Gothic Book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5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F642DE0-1F09-4FC6-8577-2D47EAF1A0DD}" type="slidenum">
              <a:rPr b="0" lang="ru-RU" sz="165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 hidden="1"/>
          <p:cNvSpPr/>
          <p:nvPr/>
        </p:nvSpPr>
        <p:spPr>
          <a:xfrm>
            <a:off x="-2520" y="5050800"/>
            <a:ext cx="3573720" cy="1806840"/>
          </a:xfrm>
          <a:custGeom>
            <a:avLst/>
            <a:gdLst>
              <a:gd name="textAreaLeft" fmla="*/ 0 w 3573720"/>
              <a:gd name="textAreaRight" fmla="*/ 3574080 w 3573720"/>
              <a:gd name="textAreaTop" fmla="*/ 0 h 1806840"/>
              <a:gd name="textAreaBottom" fmla="*/ 1807200 h 1806840"/>
            </a:gdLst>
            <a:ahLst/>
            <a:rect l="textAreaLeft" t="textAreaTop" r="textAreaRight" b="textAreaBottom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89" name="Freeform 7" hidden="1"/>
          <p:cNvSpPr/>
          <p:nvPr/>
        </p:nvSpPr>
        <p:spPr>
          <a:xfrm>
            <a:off x="-2520" y="5051160"/>
            <a:ext cx="9146160" cy="180648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1806480"/>
              <a:gd name="textAreaBottom" fmla="*/ 1806840 h 1806480"/>
            </a:gdLst>
            <a:ahLst/>
            <a:rect l="textAreaLeft" t="textAreaTop" r="textAreaRight" b="textAreaBottom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90" name="Freeform 7"/>
          <p:cNvSpPr/>
          <p:nvPr/>
        </p:nvSpPr>
        <p:spPr>
          <a:xfrm>
            <a:off x="-2520" y="-1080"/>
            <a:ext cx="9146160" cy="6858720"/>
          </a:xfrm>
          <a:custGeom>
            <a:avLst/>
            <a:gdLst>
              <a:gd name="textAreaLeft" fmla="*/ 0 w 9146160"/>
              <a:gd name="textAreaRight" fmla="*/ 9146520 w 9146160"/>
              <a:gd name="textAreaTop" fmla="*/ 0 h 6858720"/>
              <a:gd name="textAreaBottom" fmla="*/ 6859080 h 6858720"/>
            </a:gdLst>
            <a:ahLst/>
            <a:rect l="textAreaLeft" t="textAreaTop" r="textAreaRight" b="textAreaBottom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91" name="Right Triangle 6"/>
          <p:cNvSpPr/>
          <p:nvPr/>
        </p:nvSpPr>
        <p:spPr>
          <a:xfrm>
            <a:off x="0" y="2647800"/>
            <a:ext cx="3571560" cy="4209840"/>
          </a:xfrm>
          <a:prstGeom prst="rtTriangle">
            <a:avLst/>
          </a:prstGeom>
          <a:solidFill>
            <a:schemeClr val="accent3">
              <a:alpha val="8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Franklin Gothic Book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 rot="19140000">
            <a:off x="819000" y="1726920"/>
            <a:ext cx="5650560" cy="1207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3200" spc="-1" strike="noStrike" cap="all">
                <a:solidFill>
                  <a:srgbClr val="000000"/>
                </a:solidFill>
                <a:latin typeface="Franklin Gothic Medium"/>
              </a:rPr>
              <a:t>Образец заголовка</a:t>
            </a:r>
            <a:endParaRPr b="0" lang="ru-RU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 rot="19140000">
            <a:off x="1215720" y="246816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-RU" sz="1400" spc="398" strike="noStrike" cap="all">
                <a:solidFill>
                  <a:srgbClr val="000000"/>
                </a:solidFill>
                <a:latin typeface="Franklin Gothic Book"/>
              </a:rPr>
              <a:t>Образец текста</a:t>
            </a:r>
            <a:endParaRPr b="1" lang="ru-RU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 rot="19140000">
            <a:off x="200880" y="5870160"/>
            <a:ext cx="2175840" cy="2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fffff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517560" y="6285240"/>
            <a:ext cx="4723920" cy="27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400960" y="6170760"/>
            <a:ext cx="502560" cy="502560"/>
          </a:xfrm>
          <a:prstGeom prst="rect">
            <a:avLst/>
          </a:prstGeom>
          <a:noFill/>
          <a:ln w="19080">
            <a:solidFill>
              <a:srgbClr val="ffffff"/>
            </a:solidFill>
            <a:round/>
          </a:ln>
        </p:spPr>
        <p:txBody>
          <a:bodyPr lIns="9000" rIns="9000" tIns="9000" bIns="9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5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69FD517-271E-4D5E-A8EB-E33E21CF3564}" type="slidenum">
              <a:rPr b="0" lang="ru-RU" sz="165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65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 rot="19140000">
            <a:off x="816840" y="1730520"/>
            <a:ext cx="5648400" cy="120384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 cap="all">
                <a:solidFill>
                  <a:srgbClr val="000000"/>
                </a:solidFill>
                <a:latin typeface="Franklin Gothic Medium"/>
              </a:rPr>
              <a:t>Создание социальной ситуации развития детей в детском саду</a:t>
            </a:r>
            <a:endParaRPr b="0" lang="ru-RU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Эмоциональная устойчивость педагога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1600" spc="-1" strike="noStrike" u="sng">
                <a:solidFill>
                  <a:srgbClr val="000000"/>
                </a:solidFill>
                <a:uFillTx/>
                <a:latin typeface="Franklin Gothic Book"/>
              </a:rPr>
              <a:t>Причины проявления эмоциональной неустойчивости </a:t>
            </a: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(по результатам анкетирования педагогов; Семёнова Е.М., Минск):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1 место - материально-бытовые условия; повышенная ответственность за жизнь, благополучие и здоровье ребёнка; низкая престижность профессии воспитателя.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2 место – субъективные факторы (что свидетельствует о недооценке педагогами собственных личностных особенностей для проявления эмоциональной устойчивости): индивидуально-типологические особенности (не зависящие от человека); эмоциональная неуравновешенность и возбудимость; неумение управлять проявлениями эмоционального состояния. На 12 место в ранговом ряду педагоги  поставили  поведенческую гибкость (шаблонность, ригидность мышления и поведения), что свидетельствует о невнимательном отношении педагогов к данным особенностям профессионального поведения.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2800" spc="-1" strike="noStrike" cap="all">
                <a:solidFill>
                  <a:srgbClr val="000000"/>
                </a:solidFill>
                <a:latin typeface="Franklin Gothic Medium"/>
              </a:rPr>
              <a:t>Эмоциональная устойчивость педагога</a:t>
            </a:r>
            <a:endParaRPr b="0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В процессе исследования выяснилось, что на самом деле проявление эмоциональной устойчивости в профессиональной деятельности педагога определяется психологическими характеристиками личности: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590760" indent="-2685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Профессиональное самосознание (мотивация к педагогической деятельности, гуманистические мотивы личности, позитивность самовосприятия, стремление к самосовершенствованию)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590760" indent="-2685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Эмоциональная отзывчивость (способность понимать, искренне принимать переживания детей, проявлять к ним теплоту и участие)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590760" indent="-2685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Волевая саморегуляция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590760" indent="-26856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Поведенческая гибкость (лёгкость перестройки поведения, оперативное реагирование на изменение ситуации, умение адаптироваться к изменениям, которые могут произойти неожиданно)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как повысить эмоциональную устойчивость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15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зопасная эмоциональная разрядка (назвать, признать и безопасно разрядить чувства)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15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Значение безопасной эмоциональной разрядки.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15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филактика (игры и упражнения на разрядку)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15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вила.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15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вышение профессиональной самооценки. Одна из главных причин низкой самооценки – критика. Внутренний критик.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15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ддержка.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Умение создавать близкие отношения</a:t>
            </a:r>
            <a:br>
              <a:rPr sz="2400"/>
            </a:b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Размышляем: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409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Как вы понимаете честные, доверительные отношения с другими людьми (детьми)?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09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Что мешает установить такие  отношения с близкими людьми, с собственными детьми, детьми группы? (записать)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092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Что хорошего в установлении таких отношений?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09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22960" y="260640"/>
            <a:ext cx="7520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3876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изкие отношения определяются доверительностью, внима­нием, заботой друг о друге и 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зволяю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876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ободно высказывать свои сокровенные мысли и чаяния и при этом не бояться быть неправильно понятыми и непринятыми;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876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увствовать себя комфортно и свободно, расслабиться, снять внутреннее напряжение;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677520" indent="-33876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ть самооценку и развивать чувство собственного дос­тоинства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876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живание близких отношений проходит через ряд 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слови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способность раскрыться (довериться); принять другого таким, ка­ков он есть, без желания его переделать; оказывать поддержку и помощь друг другу и на словах, и на деле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387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22960" y="332640"/>
            <a:ext cx="7520760" cy="434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ое место в эмоциональном благополучии занимает 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­требность быть любимым и способность человека любить других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днако прежде чем человек научится любить других, он должен научиться уважать и любить себя. Неспособность к этому - пока­затель неуважения к самому себе 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Дистресс «Я недостаточно хорош»)</a:t>
            </a: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 rot="19140000">
            <a:off x="819000" y="1726920"/>
            <a:ext cx="5650560" cy="1207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200" spc="-1" strike="noStrike" cap="all">
                <a:solidFill>
                  <a:srgbClr val="000000"/>
                </a:solidFill>
                <a:latin typeface="Franklin Gothic Medium"/>
              </a:rPr>
              <a:t>Поддержка индивидуальности и инициативы</a:t>
            </a:r>
            <a:endParaRPr b="0" lang="ru-RU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Развитие чувства индивидуальности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и становление 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увства индивидуально­сти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сходит к юношескому возрасту. Однако у многих людей становле­ние индивидуальности идет всю жизнь. Процесс ощущения са­мого себя (самопознание) изменяется по мере роста и взросле­ния. 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ость человека включает в себя целый комплекс элементов: возраст, пол, этническая принадлежность, вероиспо­ведание, профессия, способности, увлечения, взаимоотношения с другими людьми, особенности осознания себя как личности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cap="all">
                <a:solidFill>
                  <a:srgbClr val="000000"/>
                </a:solidFill>
                <a:latin typeface="Franklin Gothic Medium"/>
              </a:rPr>
              <a:t>Развитие индивидуальности у дошкольников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У маленького ребёнка выражается в действии, в первом непослушании, первом упрямстве, а затем в словах: «Я сам».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Развитию индивидуальности способствуют: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1) способность человека взаимодействовать с другими – формируется по подражанию так называемым «значимым другим» (в дошкольном возрасте это родители);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2) способность понимать неоднозначность действия (замахиваться на маму нельзя, а отмахиваться от мухи можно); неоднозначность свойств вещей (палочку можно использовать в игре как ложку и как градусник);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3) способность противостоять шаблону, стереотипу поведения (разный стиль поведения в конфликте);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4) способность вставать на точку зрения другого человека (в сюжетно-ролевой игре; 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Активность личности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поведение, деятельность) - способность производить преобразования материальной и духовной среды. 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ь личности проявляется в творческой деятельности, воле, общении. 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ые действия могут преследовать гуманистические и антигуманистические цели, иметь как общественно полезную, так и антисоциальную на­правленность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 cap="all">
                <a:solidFill>
                  <a:srgbClr val="000000"/>
                </a:solidFill>
                <a:latin typeface="Franklin Gothic Medium"/>
              </a:rPr>
              <a:t>Понятие социальной ситуации развития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Л.С. Выготский ввел понятие социальной ситуации развития как важнейшей характеристики возраста, раскрывающей отношения ребенка и его социального окружения. </a:t>
            </a:r>
            <a:endParaRPr b="1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Если социальная ситуация психического развития ребенка младенческого возраста -- ситуация неразрывного единства ребенка и взрослого, социальная ситуация «МЫ», то в дошкольном возрасте интересы ребенка перемещаются от мира предметов к миру взрослых людей. Ребенок впервые психологически выходит за рамки семьи, за пределы окружения близких людей. Взрослый начинает выступать не только как конкретное лицо, но и как образ. Социальная ситуация развития в дошкольном детстве - «ребенок - взрослый (обобщенный, общественный). Обобщенный взрослый - это носитель общественных функций, т. е. водитель, милиционер, продавец, воспитатель, мама вообще.</a:t>
            </a:r>
            <a:endParaRPr b="1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Три типа поведения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ассивное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поведение выражается в том, что чело­век перекладывает решение своих проблем на других. Он плывет по течению, скрывает от себя и от других свои истинные мысли, чувства и желания. Заканчивается это тем, что человек, как правило, об­виняет в своих неудачах кого угодно, но только не себя. К тому же и отношения с другими людьми не складываются или разрушают­ся, если они были.</a:t>
            </a:r>
            <a:endParaRPr b="1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ктивное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дение выража­ется в том, что человек открыто заявляет о своих потребностях, же­ланиях и о своем стремлении удовлетворить их всеми дозволенны­ми методами. Его отношение к другим людям доброжелательное, уважительное, и они платят ему тем же. Обозначив свою цель, человек стремится достичь ее. Неза­висимость и чувство собственного достоинства присущи таким лю­дям, активная жизненная позиция создает нормальные, здоровые отношения между людьми (или здоровую конкуренцию). Такие лю­ди, как правило, достигают больших успехов.</a:t>
            </a:r>
            <a:endParaRPr b="1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месте с тем активное поведение бывает и </a:t>
            </a: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грессивным</a:t>
            </a: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В этом случае достижение цели происходит за счет ущемления или притя­заний на права других людей. Естественно, это вызывает их от­ветную реакцию, которая, в конечном счете, заканчивается полной изоляцией человека и неприятием со стороны окружающих. Аг­рессивное поведение оскорбляет окружающих, задевает их чувст­во собственного достоинства, заставляет принимать ответные ме­ры.</a:t>
            </a:r>
            <a:endParaRPr b="1" lang="ru-RU" sz="1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Потребность – причина активности личности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91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8480" indent="0">
              <a:lnSpc>
                <a:spcPct val="124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(существует объективно) - причина активности личности, это нужда (необходимость) человека в чем-то, то к чему он стремится. Она может быть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сознанно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нной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1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8480" indent="0" algn="just">
              <a:lnSpc>
                <a:spcPct val="124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ее осознание потребности (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тив –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ществует субъективно в сознании, всегда осознаваем) побуждает человека к активному поиску путей её удовлетворения и становятся побуждающей причиной к деятельности.</a:t>
            </a:r>
            <a:endParaRPr b="1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8480" indent="0" algn="just">
              <a:lnSpc>
                <a:spcPct val="124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необходимых, обязательных потребностей эмоционально осознается как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летворение,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еобязательных – как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вольств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Удовлетворение потребностей является источником созидания, а удовольствие - разрушения.</a:t>
            </a:r>
            <a:endParaRPr b="1" lang="ru-RU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348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822960" y="476640"/>
            <a:ext cx="7520760" cy="43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 условно можно разделить на  биологические, личностные и социальные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е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ы на обеспе­чение нужды организма в пище, тепле, безопасности, движении, размножении и т. п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е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 стимулируют под­держание человеком своей самостоятельности и индивидуально­сти: это потребности в самовыражении и самоутверждении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­альные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 направлены на деятельность и на контакты с другими людьми: это потребность в общении, включенности в ка­кую-либо группу, в деятельность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Концепция потребностей А. Маслоу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 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гические потребности. 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Потребность в безопасности, надежности. 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Социальные потребности. 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Потребность в самоуважении и осознании чувства собственного достоинства. 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Потребность в самореализации и развитии личности, в само­актуализации, осмыслении своего места в мире. 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 rot="19140000">
            <a:off x="819000" y="1726920"/>
            <a:ext cx="5650560" cy="1207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Установление правил взаимодействия в разных ситуациях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Создание условий для позитивных доброжелательных отношений между детьми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бота в малых группах.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дание : Перечислите условия, которые, по вашему мнению, необходимы для создания доброжелательных отношений между детьми 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8580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бирают спикеров малых групп (1 минута). Участники группы  выполняют задание самостоятельно (5 минут)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8580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очереди высказываются, спикер записывает (5 минут)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8580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пикеры группы зачитывают ответы.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68580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едущий дополняет при необходимости: дети могут принадлежать к разным национально-культурным, религиозным общностям и социальным слоям, а также имеющими различные  ( в том числе ограниченные) возможности здоровья.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Развитие коммуникативных способностей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озговой штурм.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редства развития коммуникативных способностей детей-дошкольников.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ыбрать  членов комиссии, которые будут обрабатывать предложенные решения.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 этап – постановка проблемы.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 этап – генерация идей.  Правила: нет ограничений по количеству идей; полный запрет на критику (в том числе положительную); любые, даже самые абсурдные идеи, приветствуются; комбинируйте и улучшайте любые идеи (нет авторитетов).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 этап – группировка, отбор и оценка идей.  Оценка теперь не ограничивается, а приветствуется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аши чувства после мозгового штурма.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Детские конфликты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езентация «Как помочь детям разрешить конфликт»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Какие правила, когда и Как их  вводить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бота в малых группах.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адание: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С какого возраста можно вводить правила взаимодействия?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 Сформулируйте правила (для разных возрастных групп)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 rot="19140000">
            <a:off x="819000" y="1726920"/>
            <a:ext cx="5650560" cy="1207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1800" spc="-1" strike="noStrike" cap="all">
                <a:solidFill>
                  <a:srgbClr val="000000"/>
                </a:solidFill>
                <a:latin typeface="Franklin Gothic Medium"/>
              </a:rPr>
              <a:t>Построение вариативного развивающего образования, ориентированного на уровень развития, проявляющийся у ребёнка в совместной деятельности со взрослым и более опытными сверстниками, но не актуализирующийся в его индивидуальной деятельности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000" spc="-1" strike="noStrike" cap="all">
                <a:solidFill>
                  <a:srgbClr val="000000"/>
                </a:solidFill>
                <a:latin typeface="Franklin Gothic Medium"/>
              </a:rPr>
              <a:t>Условия, необходимые для создания социальной ситуации развития (из ФГОС ДО)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49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42080" indent="-442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Medium"/>
              <a:buAutoNum type="romanUcPeriod"/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Обеспечение эмоционального благополучия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442080" indent="-442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Medium"/>
              <a:buAutoNum type="romanUcPeriod"/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оддержка индивидуальности и инициативы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442080" indent="-442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Medium"/>
              <a:buAutoNum type="romanUcPeriod"/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Установление правил взаимодействия в разных ситуациях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442080" indent="-442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Medium"/>
              <a:buAutoNum type="romanUcPeriod"/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Построение вариативного развивающего образования, ориентированного на уровень  развития, проявляющийся у ребёнка в совместной деятельности со взрослым и более опытными сверстниками, но не актуализирующийся в его индивидуальной деятельности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442080" indent="-442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Medium"/>
              <a:buAutoNum type="romanUcPeriod"/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Взаимодействие с родителями (законными представителями)  по вопросам образования ребёнка, непосредственного вовлечения их в образовательную деятельность, в том числе посредством создания образовательных проектов совместно с семьёй на основе выявления потребностей и поддержки образовательных инициатив семьи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000" spc="-1" strike="noStrike" cap="all">
                <a:solidFill>
                  <a:srgbClr val="000000"/>
                </a:solidFill>
                <a:latin typeface="Franklin Gothic Medium"/>
              </a:rPr>
              <a:t>Наличие возможности использования Зоны ближайшего развития</a:t>
            </a:r>
            <a:endParaRPr b="0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В организованной образовательной деятельности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В самостоятельной деятельности детей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4400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Построение вариативного развивающего образования, ориентированного на зону ближайшего развития каждого ребёнка, через: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429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Создание условий для овладения культурными средствами деятельности;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429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Организацию видов деятельности, способствующих развитию мышления, речи, общения, воображения и детского творчества, личностного, физического и художественно-эстетического развития детей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429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Поддержку спонтанной игры детей, её обогащение, обеспечение игрового времени и пространства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429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Оценку индивидуального развития детей</a:t>
            </a: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 rot="19140000">
            <a:off x="819000" y="1726920"/>
            <a:ext cx="5650560" cy="1207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 cap="all">
                <a:solidFill>
                  <a:srgbClr val="000000"/>
                </a:solidFill>
                <a:latin typeface="Franklin Gothic Medium"/>
              </a:rPr>
              <a:t>Взаимодействие с родителями</a:t>
            </a:r>
            <a:endParaRPr b="0" lang="ru-RU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о вопросам образования ребёнка, непосредственного вовлечения их в образовательную деятельность, в том числе посредством создания образовательных проектов совместно с семьёй на основе выявления потребностей и поддержки образовательных инициатив семьи</a:t>
            </a:r>
            <a:endParaRPr b="1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 rot="19140000">
            <a:off x="819000" y="1726920"/>
            <a:ext cx="5650560" cy="120708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 cap="all">
                <a:solidFill>
                  <a:srgbClr val="000000"/>
                </a:solidFill>
                <a:latin typeface="Franklin Gothic Medium"/>
              </a:rPr>
              <a:t>Обеспечение эмоционального благополучия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Условия, обеспечивающие эмоциональное благополучие (по э. Эриксону)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22960" y="1556640"/>
            <a:ext cx="75207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6160" indent="-326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Medium"/>
              <a:buAutoNum type="arabicPeriod"/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Хорошо развитое чувство индивидуальности </a:t>
            </a:r>
            <a:r>
              <a:rPr b="1" lang="ru-RU" sz="2600" spc="-1" strike="noStrike">
                <a:solidFill>
                  <a:srgbClr val="000000"/>
                </a:solidFill>
                <a:latin typeface="Franklin Gothic Book"/>
              </a:rPr>
              <a:t>(об этом – в следующем разделе).</a:t>
            </a:r>
            <a:endParaRPr b="1" lang="ru-RU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26160" indent="-326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Medium"/>
              <a:buAutoNum type="arabicPeriod"/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Умение общаться.</a:t>
            </a:r>
            <a:endParaRPr b="1" lang="ru-RU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26160" indent="-326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Medium"/>
              <a:buAutoNum type="arabicPeriod"/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Умение создавать близкие отношения.</a:t>
            </a:r>
            <a:endParaRPr b="1" lang="ru-RU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26160" indent="-3261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Medium"/>
              <a:buAutoNum type="arabicPeriod"/>
            </a:pPr>
            <a:r>
              <a:rPr b="1" lang="ru-RU" sz="3600" spc="-1" strike="noStrike">
                <a:solidFill>
                  <a:srgbClr val="000000"/>
                </a:solidFill>
                <a:latin typeface="Franklin Gothic Book"/>
              </a:rPr>
              <a:t>Умение проявлять активность.</a:t>
            </a:r>
            <a:endParaRPr b="1" lang="ru-RU" sz="36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Умение общаться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91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14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моциональное благополучие накладывает отпечаток на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ме­ние общатьс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 с другими людьми. 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0" algn="just">
              <a:lnSpc>
                <a:spcPct val="114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ля достижения позитивного результата важно, чтобы партнеры обладали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двумя качествами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: умением ясно, прямо и доходчиво выражать свои мысли и чувства и умением понимать мысли и чув­ства противоположной стороны. Умение говорить и умение слу­шать имеют важное значение, так как определяют качество взаи­моотношений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Правила активного слушания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2960" y="914400"/>
            <a:ext cx="7520760" cy="376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96640" indent="-296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Разговаривать лицом друг к другу. Контакт глаз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96640" indent="-296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Дать ребёнку обратную связь: 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Задать уточняющие вопросы, например: «Ты решил…»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Назвать чувства ребёнка: «Ты рассердился?»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3. Держать паузу после каждой реплики ребёнка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4. Повторить то, что вы услышали от ребёнка, обозначить его чувства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Что хорошего?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94920" indent="-394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Ослабнет отрицательное переживание ребёнка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94920" indent="-394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Ребёнок будет больше рассказывать о себе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94920" indent="-394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Ребёнок продвигается в самостоятельном решении своей трудности.</a:t>
            </a: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20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960" y="365760"/>
            <a:ext cx="7520760" cy="54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 cap="all">
                <a:solidFill>
                  <a:srgbClr val="000000"/>
                </a:solidFill>
                <a:latin typeface="Franklin Gothic Medium"/>
              </a:rPr>
              <a:t>Вспоминаем:</a:t>
            </a:r>
            <a:endParaRPr b="0" lang="ru-RU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960" y="1100520"/>
            <a:ext cx="752076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Times New Roman"/>
              </a:rPr>
              <a:t>Что вы чувствовали в детстве, когда вступали в контакт с взрослыми?</a:t>
            </a:r>
            <a:endParaRPr b="1" lang="ru-RU" sz="3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Times New Roman"/>
              </a:rPr>
              <a:t>Были ли в детстве взрослые, с которыми был хороший неформальный контакт и они уделяли вам внимание (что вам нужно было для хорошего контакта с взрослыми)</a:t>
            </a:r>
            <a:endParaRPr b="1" lang="ru-RU" sz="38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3800" spc="-1" strike="noStrike">
                <a:solidFill>
                  <a:srgbClr val="000000"/>
                </a:solidFill>
                <a:latin typeface="Times New Roman"/>
              </a:rPr>
              <a:t>Как в вашей семье относились к проявлению вами ярких эмоций? Что вам говорили при этом? Как это сказалось в вашей жизни?</a:t>
            </a:r>
            <a:endParaRPr b="1" lang="ru-RU" sz="3800" spc="-1" strike="noStrike">
              <a:solidFill>
                <a:srgbClr val="000000"/>
              </a:solidFill>
              <a:latin typeface="Franklin Gothic Book"/>
            </a:endParaRPr>
          </a:p>
          <a:p>
            <a:pPr marL="317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Times New Roman"/>
              </a:rPr>
              <a:t>Выводы: </a:t>
            </a: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Если ребёнок на «голодном пайке», он тянет «одеяло внимания» на себя, пусть это даже отрицательное внимание.</a:t>
            </a:r>
            <a:endParaRPr b="1" lang="ru-RU" sz="2900" spc="-1" strike="noStrike">
              <a:solidFill>
                <a:srgbClr val="000000"/>
              </a:solidFill>
              <a:latin typeface="Franklin Gothic Book"/>
            </a:endParaRPr>
          </a:p>
          <a:p>
            <a:pPr marL="317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22960" y="476640"/>
            <a:ext cx="7520760" cy="48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327960" indent="0" algn="just">
              <a:lnSpc>
                <a:spcPct val="134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 из основных условий сохранения эмоционального благополучия даже в сложных ситуациях - </a:t>
            </a:r>
            <a:r>
              <a:rPr b="1" i="1" lang="ru-RU" sz="3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моциональная устойчивость</a:t>
            </a: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способность преодоле­вать состояние излишнего эмоционального возбуждения при вы­полнении сложной деятельности, неподверженность эмоцио­нальных состояний отрицательным влияниям (внешним и внут­ренним). Это один из пси­хологических факторов надежности, эффективности и успешности деятельности.</a:t>
            </a:r>
            <a:endParaRPr b="1" lang="ru-RU" sz="3400" spc="-1" strike="noStrike">
              <a:solidFill>
                <a:srgbClr val="000000"/>
              </a:solidFill>
              <a:latin typeface="Franklin Gothic Book"/>
            </a:endParaRPr>
          </a:p>
          <a:p>
            <a:pPr marL="327960" indent="0" algn="just">
              <a:lnSpc>
                <a:spcPct val="134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</a:tabLst>
            </a:pPr>
            <a:endParaRPr b="1" lang="ru-RU" sz="3400" spc="-1" strike="noStrike">
              <a:solidFill>
                <a:srgbClr val="000000"/>
              </a:solidFill>
              <a:latin typeface="Franklin Gothic Book"/>
            </a:endParaRPr>
          </a:p>
          <a:p>
            <a:pPr marL="327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1" lang="ru-RU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Углы">
  <a:themeElements>
    <a:clrScheme name="Углы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Углы">
  <a:themeElements>
    <a:clrScheme name="Углы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Углы">
  <a:themeElements>
    <a:clrScheme name="Углы">
      <a:dk1>
        <a:srgbClr val="000000"/>
      </a:dk1>
      <a:lt1>
        <a:srgbClr val="ffffff"/>
      </a:lt1>
      <a:dk2>
        <a:srgbClr val="434342"/>
      </a:dk2>
      <a:lt2>
        <a:srgbClr val="cdd7d9"/>
      </a:lt2>
      <a:accent1>
        <a:srgbClr val="797b7e"/>
      </a:accent1>
      <a:accent2>
        <a:srgbClr val="f96a1b"/>
      </a:accent2>
      <a:accent3>
        <a:srgbClr val="08a1d9"/>
      </a:accent3>
      <a:accent4>
        <a:srgbClr val="7c984a"/>
      </a:accent4>
      <a:accent5>
        <a:srgbClr val="c2ad8d"/>
      </a:accent5>
      <a:accent6>
        <a:srgbClr val="506e94"/>
      </a:accent6>
      <a:hlink>
        <a:srgbClr val="5f5f5f"/>
      </a:hlink>
      <a:folHlink>
        <a:srgbClr val="96969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ngles</Template>
  <TotalTime>1026</TotalTime>
  <Application>LibreOffice/7.4.7.2$Linux_X86_64 LibreOffice_project/40$Build-2</Application>
  <AppVersion>15.0000</AppVersion>
  <Words>1285</Words>
  <Paragraphs>1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8T07:59:52Z</dcterms:created>
  <dc:creator>Natalya</dc:creator>
  <dc:description/>
  <dc:language>en-US</dc:language>
  <cp:lastModifiedBy>Natalya</cp:lastModifiedBy>
  <dcterms:modified xsi:type="dcterms:W3CDTF">2015-01-26T11:38:12Z</dcterms:modified>
  <cp:revision>94</cp:revision>
  <dc:subject/>
  <dc:title>Создание социальной ситуации развития детей в детском сад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3</vt:r8>
  </property>
</Properties>
</file>