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9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72CB-F03A-4E2D-A26D-5282BE5568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1451-0937-481C-BE31-66246194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8410-962B-4168-8D5C-4299AF28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7200-50DB-4378-A86E-9C152139BC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F8E5C-4A57-427C-AB93-65BB7B71AD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75981-71FD-4CD3-8E00-D726082F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C7DC0-45E7-421F-B9D0-0AE5CCAE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154BB-6AAD-4580-98DC-C90C4859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FAE86-D0A5-480F-95F9-18E2AF9B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01880-E341-4EB4-9029-2B725B57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2CAA2-AF27-44BD-A3E7-19A5D859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A985-3C76-4025-BBAC-DEDB985A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97D79-E704-4439-B115-61F67D1C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346DE-1F20-44CC-9CF1-DB3EDC17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32120-23E3-46C2-8D99-9EC9DA00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AE7D-EF60-4813-ADDD-D082B3A8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E28BA-F2CA-41F1-8751-610D48DE81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1284B-E8CD-4B93-BC5C-C9C1B803BC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4A3D0-9C6D-4885-A576-FFB87CBAFB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15D61-2603-4362-A738-9E912B6E08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874DC-A20A-41A8-ACCF-2BCEFC7CE9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3015F-FA28-4DA1-93A2-5291F32DB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39DA-74E1-4D95-B966-A1FF8CC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17963-BCA5-4314-85E7-20D4C07A72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ADD61-8CE2-4173-9E63-15038FE9CC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99F68-01EC-48C7-BC13-D86100D539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6A1D4-2878-493B-887A-41A81BE7A8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E94D0-37EE-412A-A906-072C57F7C0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60A56-A64C-47BA-8FAB-455166F45D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6BD55-112F-4916-9935-61C1A204F4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7199-0FB0-42E5-B416-6698CCB983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3D8D-5363-41DC-AD4C-BE8314F51C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1068-FCF0-4794-BA64-5138A261C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044A-A095-4323-AA34-519213AF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E080-5445-4C0F-AE86-8002F0F275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0927-A03C-4302-8E41-8F3DC8BC0E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A984-DE2E-477E-B900-1B076180EA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DAC9-AC1D-4FDC-96DF-CB37B36715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4175-90F5-4356-B23A-3B7ED29313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5B6A-0A3F-4728-BBE6-316F75AA65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9436-2966-496D-BFD2-47DA15FBBF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CC33-F2F6-4DD8-BB17-7C9D23B5D6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B1D2-7FAA-466D-A949-5CD51E1D3C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D07072-B558-4B76-B6C8-DB6F7E4F8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EC99-3FCF-4F8E-B461-2773A8C2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0A6F8C-7563-444E-BAA6-F9E047D6A35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56576-51B7-4152-A0AF-9B7217CB31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E818AA-30F1-4378-BECC-98A8F38CF2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7DDA9-9189-4F04-82F2-D1E929B6249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0F1B8-AB50-428C-B869-C7046EC0EFE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81F43-0E4A-4592-8E82-C808DBC3129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B0AED2-196B-4264-A7C6-9AC488E2CB4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C61BF-BE08-430C-BD96-80DA95C30E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C3FD8-C1DE-40B9-80F6-2C5A9B4ED21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91C04D-9EA7-4361-B49B-34AECB5CD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2576-7DB5-435F-8238-31CBD4D7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3D7602-D9C6-4C2D-AFB4-9A3ED2365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322F-4F7B-4E92-B18C-63079641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819F-2EAD-4E9F-B77A-7C8D78A2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3E50-BF94-444D-A6C5-055C255C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63FAC-BDA3-4337-9054-C53BD0F050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3249E-8196-456B-BDA1-E9F33EB354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AAC7C-1260-4D4D-8024-6F16965EC3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CF4B7-5AC0-4409-ADB6-496A2890FA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F54EF-8305-44F3-A48F-EC398AF5F6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0c83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79840" y="2967120"/>
            <a:ext cx="1843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26920" y="512640"/>
            <a:ext cx="749016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25560" y="3435480"/>
            <a:ext cx="633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клянная бутылка – 1000 л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езная банка – 100 л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стиковая бутылка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8000" y="162000"/>
            <a:ext cx="4248000" cy="29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7480" y="5013360"/>
            <a:ext cx="5238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622760" y="122400"/>
            <a:ext cx="4451400" cy="2990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17360" y="4468680"/>
            <a:ext cx="808380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 rot="3000000">
            <a:off x="4471920" y="-198360"/>
            <a:ext cx="2111400" cy="6734160"/>
          </a:xfrm>
          <a:prstGeom prst="ellipse">
            <a:avLst/>
          </a:prstGeom>
          <a:solidFill>
            <a:srgbClr val="333399"/>
          </a:solidFill>
          <a:ln cap="sq"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66ff33"/>
                </a:solidFill>
                <a:uFillTx/>
                <a:latin typeface="Arial"/>
                <a:ea typeface="Arial"/>
              </a:rPr>
              <a:t>Лесные секр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5543640" cy="424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708360" y="2852640"/>
            <a:ext cx="5435640" cy="39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85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 rot="3000000">
            <a:off x="4460400" y="142560"/>
            <a:ext cx="2111400" cy="6080040"/>
          </a:xfrm>
          <a:prstGeom prst="ellipse">
            <a:avLst/>
          </a:prstGeom>
          <a:solidFill>
            <a:srgbClr val="ffcc00"/>
          </a:solidFill>
          <a:ln cap="sq"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Лесные тай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 rot="20760000">
            <a:off x="374400" y="574560"/>
            <a:ext cx="5241960" cy="3765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419640" y="3019320"/>
            <a:ext cx="562752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rot="3000000">
            <a:off x="4129560" y="-15120"/>
            <a:ext cx="2111400" cy="6939000"/>
          </a:xfrm>
          <a:prstGeom prst="ellipse">
            <a:avLst/>
          </a:prstGeom>
          <a:solidFill>
            <a:srgbClr val="33ccff"/>
          </a:solidFill>
          <a:ln cap="sq"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«Польза и вред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6360" cy="3429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348000" y="3424320"/>
            <a:ext cx="5796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rot="21000000">
            <a:off x="247680" y="345960"/>
            <a:ext cx="4176720" cy="324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 rot="660000">
            <a:off x="4570200" y="402840"/>
            <a:ext cx="4287600" cy="3313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40" y="4102200"/>
            <a:ext cx="4141800" cy="2735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748040" y="3813120"/>
            <a:ext cx="43624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 rot="20880000">
            <a:off x="491760" y="720720"/>
            <a:ext cx="5400720" cy="3527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503520" y="3537000"/>
            <a:ext cx="5640480" cy="33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rot="3000000">
            <a:off x="3946320" y="-78120"/>
            <a:ext cx="2111400" cy="6537600"/>
          </a:xfrm>
          <a:prstGeom prst="ellipse">
            <a:avLst/>
          </a:prstGeom>
          <a:solidFill>
            <a:srgbClr val="cc00cc"/>
          </a:solidFill>
          <a:ln cap="sq"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66ff33"/>
                </a:solidFill>
                <a:uFillTx/>
                <a:latin typeface="Arial"/>
                <a:ea typeface="Arial"/>
              </a:rPr>
              <a:t>Охрана приро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274680"/>
            <a:ext cx="843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4000" spc="-1" strike="noStrike" u="sng">
                <a:solidFill>
                  <a:srgbClr val="cc0000"/>
                </a:solidFill>
                <a:uFillTx/>
                <a:latin typeface="Arial"/>
              </a:rPr>
              <a:t>Разгадайте  кроссвор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3280" y="981000"/>
            <a:ext cx="63374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Животное – национальная гордость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16360" y="198900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48000" y="638172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Растения нижнего яр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160020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51280" y="2421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Растения среднего яруса с несколькими ствол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167148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2852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Длинное ухо, комочек пух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Прыгает ловко, грызёт морк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08560" y="1989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65640" y="2873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851280" y="33577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Как называется лес, в котором растут дуб, берёза, клён, ли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47640" y="3789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05280" y="244008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Растения верхнего яр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47640" y="4292640"/>
            <a:ext cx="432000" cy="40320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3141" h="21600">
                <a:moveTo>
                  <a:pt x="0" y="0"/>
                </a:moveTo>
                <a:lnTo>
                  <a:pt x="23141" y="0"/>
                </a:lnTo>
                <a:lnTo>
                  <a:pt x="23141" y="21600"/>
                </a:lnTo>
                <a:lnTo>
                  <a:pt x="0" y="21600"/>
                </a:lnTo>
                <a:close/>
              </a:path>
              <a:path fill="lightenLess" w="23141" h="21600">
                <a:moveTo>
                  <a:pt x="0" y="0"/>
                </a:moveTo>
                <a:lnTo>
                  <a:pt x="23141" y="0"/>
                </a:lnTo>
                <a:lnTo>
                  <a:pt x="21742" y="1400"/>
                </a:lnTo>
                <a:lnTo>
                  <a:pt x="1400" y="1400"/>
                </a:lnTo>
                <a:close/>
              </a:path>
              <a:path fill="darken" w="23141" h="21600">
                <a:moveTo>
                  <a:pt x="23141" y="0"/>
                </a:moveTo>
                <a:lnTo>
                  <a:pt x="23141" y="21600"/>
                </a:lnTo>
                <a:lnTo>
                  <a:pt x="21742" y="20200"/>
                </a:lnTo>
                <a:lnTo>
                  <a:pt x="21742" y="1400"/>
                </a:lnTo>
                <a:close/>
              </a:path>
              <a:path fill="darkenLess" w="23141" h="21600">
                <a:moveTo>
                  <a:pt x="23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2" y="20200"/>
                </a:lnTo>
                <a:close/>
              </a:path>
              <a:path fill="lighten" w="23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33640" y="28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Как называется лес, в котором растут ель, сос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512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16360" y="472428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Какую птицу называют лесным докто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68360" y="1700280"/>
            <a:ext cx="88772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365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484360" y="5373720"/>
            <a:ext cx="432000" cy="4334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72">
                <a:moveTo>
                  <a:pt x="0" y="0"/>
                </a:moveTo>
                <a:lnTo>
                  <a:pt x="21600" y="0"/>
                </a:lnTo>
                <a:lnTo>
                  <a:pt x="21600" y="21672"/>
                </a:lnTo>
                <a:lnTo>
                  <a:pt x="0" y="21672"/>
                </a:lnTo>
                <a:close/>
              </a:path>
              <a:path fill="lightenLess" w="21600" h="21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2">
                <a:moveTo>
                  <a:pt x="21600" y="0"/>
                </a:moveTo>
                <a:lnTo>
                  <a:pt x="21600" y="21672"/>
                </a:lnTo>
                <a:lnTo>
                  <a:pt x="20200" y="20272"/>
                </a:lnTo>
                <a:lnTo>
                  <a:pt x="20200" y="1400"/>
                </a:lnTo>
                <a:close/>
              </a:path>
              <a:path fill="darkenLess" w="21600" h="21672">
                <a:moveTo>
                  <a:pt x="21600" y="21672"/>
                </a:moveTo>
                <a:lnTo>
                  <a:pt x="0" y="21672"/>
                </a:lnTo>
                <a:lnTo>
                  <a:pt x="1400" y="20272"/>
                </a:lnTo>
                <a:lnTo>
                  <a:pt x="20200" y="20272"/>
                </a:lnTo>
                <a:close/>
              </a:path>
              <a:path fill="lighten" w="21600" h="21672">
                <a:moveTo>
                  <a:pt x="0" y="21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115920"/>
            <a:ext cx="8785440" cy="6481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35040" y="3030480"/>
            <a:ext cx="8298000" cy="3827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20840" y="487440"/>
            <a:ext cx="8235720" cy="1931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Как называется лес, в котором растут лиственные и хвойные дерев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656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84360" y="5373720"/>
            <a:ext cx="4320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419640" y="5877000"/>
            <a:ext cx="433080" cy="43344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В птичник повадится – жди бед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Рыжим хвостом заметает сл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194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7372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2800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8242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3656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084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7372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242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2800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280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280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2800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0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00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242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6516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1944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7372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8242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99548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451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944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37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9084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365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242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365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8242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908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6516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536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99548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451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94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737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9084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365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8242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6516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194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737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536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9548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51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8242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2800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280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2800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9084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3656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372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242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084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365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566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1088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651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194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737240" y="63216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242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023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84360" y="5373720"/>
            <a:ext cx="4320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419640" y="58770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419640" y="630864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гадай кроссвор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95280" y="692280"/>
            <a:ext cx="73454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230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65840" y="1976400"/>
            <a:ext cx="43164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508640" y="19764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52880" y="19764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594240" y="1976400"/>
            <a:ext cx="433080" cy="4320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137040" y="19764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965840" y="2435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52880" y="2435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508640" y="47214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086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508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508640" y="33498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508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08640" y="2435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052880" y="38052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802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4230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965840" y="33498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052880" y="33498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2226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6798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4230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965840" y="28908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1370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594240" y="28908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052880" y="2890800"/>
            <a:ext cx="43020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942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052880" y="4264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1370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8802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7654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2226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79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230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65840" y="3805200"/>
            <a:ext cx="43164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370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594240" y="3805200"/>
            <a:ext cx="433080" cy="4334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052880" y="4721400"/>
            <a:ext cx="4302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8802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4230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658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7654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22640" y="4264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679840" y="4264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52880" y="54072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508640" y="63216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508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5086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4721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594240" y="4721400"/>
            <a:ext cx="43308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965840" y="5864400"/>
            <a:ext cx="43164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594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052880" y="58644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6798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137040" y="54072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594240" y="5407200"/>
            <a:ext cx="43308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946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3374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8802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423040" y="58644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6321600"/>
            <a:ext cx="4698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594240" y="6321600"/>
            <a:ext cx="43164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052880" y="6321600"/>
            <a:ext cx="430200" cy="4316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36000" y="5877000"/>
            <a:ext cx="469800" cy="430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 txBox="1"/>
          <p:nvPr/>
        </p:nvSpPr>
        <p:spPr>
          <a:xfrm>
            <a:off x="1187280" y="5661000"/>
            <a:ext cx="748836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храняй  лес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1349"/>
              </a:spcBef>
              <a:buClr>
                <a:srgbClr val="66ff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Arial"/>
                <a:ea typeface="Arial"/>
              </a:rPr>
              <a:t>              </a:t>
            </a:r>
            <a:r>
              <a:rPr b="1" lang="ru-RU" sz="5400" spc="-1" strike="noStrike">
                <a:solidFill>
                  <a:srgbClr val="339933"/>
                </a:solidFill>
                <a:latin typeface="Arial"/>
                <a:ea typeface="Arial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492360" y="3068640"/>
            <a:ext cx="45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39933"/>
                </a:solidFill>
                <a:latin typeface="Arial"/>
                <a:ea typeface="Arial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339933"/>
                </a:solidFill>
                <a:latin typeface="Arial"/>
                <a:ea typeface="Arial"/>
              </a:rPr>
              <a:t>за работу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31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33280" y="5732640"/>
            <a:ext cx="8677440" cy="64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глашаю на лесную тропинку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648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642520" cy="5527440"/>
          </a:xfrm>
          <a:prstGeom prst="rect">
            <a:avLst/>
          </a:prstGeom>
          <a:ln cap="sq" w="76320">
            <a:solidFill>
              <a:srgbClr val="66ff33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6804000" y="5734080"/>
            <a:ext cx="1944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Franklin Gothic Heavy"/>
                <a:ea typeface="Malgun Gothic"/>
              </a:rPr>
              <a:t>Разми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70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 rot="3000000">
            <a:off x="4460400" y="142560"/>
            <a:ext cx="2111400" cy="6080040"/>
          </a:xfrm>
          <a:prstGeom prst="ellipse">
            <a:avLst/>
          </a:prstGeom>
          <a:solidFill>
            <a:srgbClr val="cc0000"/>
          </a:solidFill>
          <a:ln cap="sq"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66ff33"/>
                </a:solidFill>
                <a:uFillTx/>
                <a:latin typeface="Arial"/>
                <a:ea typeface="Arial"/>
              </a:rPr>
              <a:t>Лесная апт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5:02:05Z</dcterms:created>
  <dc:creator>ннн</dc:creator>
  <dc:description/>
  <dc:language>en-US</dc:language>
  <cp:lastModifiedBy/>
  <dcterms:modified xsi:type="dcterms:W3CDTF">2018-08-16T14:49:12Z</dcterms:modified>
  <cp:revision>97</cp:revision>
  <dc:subject/>
  <dc:title>Мир вокруг нас 1 класс</dc:title>
</cp:coreProperties>
</file>