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8F1B-74FC-4CBE-864C-D85597B89F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A107-B12D-4C0A-8A1F-AEDBCAE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5111-DAF9-40D6-B1E5-9A24021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9785-FA06-4646-B65B-8918FA8BC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859DB-7D95-4208-9251-C52F17EF3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63FD0-E2BB-49B7-9C7F-D084508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9A598-6002-40A0-BFAF-C28615AB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7CB09-5E44-41D6-8EF7-AA3D5184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682B4-818C-4C5A-817B-97C1244D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FEDBD-56EB-459E-833B-9FBA6991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401E6-D7E2-4945-9381-857CFD23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4D0F-898C-4312-A7EB-D7976192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A170B-644E-430A-9651-1938B21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278FD-86F6-4AB3-ACCD-EA909362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553AA-04BC-4363-ABCD-DA85B44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EFD7A-C965-4E73-9B4F-C511AED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51357-CE6E-434E-936C-E4DEC99842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9609D-86D0-4512-B38D-E23940D815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82C0B-B63E-45F5-9674-14042E5605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38194-57AE-4023-80F5-F9237FE485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7B001-E4D3-412F-AC69-9274E0CC96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9A5F1-8B59-4084-A61C-7628DEE22B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1C9E-77CB-4840-A0F1-9A719844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66A4A-68F9-4E68-9CF9-6F5208883D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C55A5-0CC4-4A70-9057-880EB03467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27BF7-CCB9-4C52-8824-3D698D0E84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F5C45-C36A-44F3-8AC3-A0A910D964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E53D5-40D4-424C-9651-AFDDA58BD8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AF304-3ED2-4732-A17F-535F40EC72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CA6AF-43AD-4EC6-82D1-00207EE5B6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45DE-2D2B-493D-B28D-939F6E2CAF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8F25-FC48-4426-B251-DC3969FA27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5D20-1B3C-490D-A0D2-4A666D68E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5E0C-8743-4F60-A548-89A46F9D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5D34-96E5-43A7-87D1-B466C27D5F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F14B-B36A-42E6-A977-7B7ECA2EC7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EDE8-A733-4AD4-81D7-5D74206853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8445-39D8-4D94-ADFD-415E1C0D54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1ED7-147F-484C-9B3C-8F2607112C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657A-BACC-4160-B565-B9E203CC14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31BE-3A27-42BF-BE50-8BB03F9FCF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7C49-FB54-4719-8741-71D5D18A8A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30E-821E-42EF-AD36-D19DE638D18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2C9C7-700C-4720-AB24-53F866A55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F0CE-1EB6-411D-9FAE-EDB198EA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C87C1-4AE5-4C94-A395-0AA0F4F5BE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F9811-DB73-4082-869F-4C66BD3D1EB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77F5A-5FFA-4EBB-B173-B94CB39E3B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F46DB-2084-47F7-BF49-BBE5276D4E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4F729-406A-4275-893F-2B40A35FFA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B4AF9-46E6-4A5B-8354-38A0B7E2A9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57483-F2E2-443B-B16D-EFD877802F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10663-49B6-420D-8DF9-B747A922DD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3825E-93A0-4BA5-BC01-CD577B50BC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2EA5C-73DA-4312-87CA-86D6D5A3C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E90E-18DE-457C-B1DA-F5C44B27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B2EE9-6688-40AF-AF7B-647871D12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CB30-898E-4573-8C96-67D380D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49A1-2427-44DC-BE65-61B1B73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176B-361B-4A58-921D-848896D0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628BC-B7C9-4BD2-9C23-EF1C0E4CD2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111CD-9FB6-4333-BC53-1FFBE2AF8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6912-BEE7-43F8-BBD8-ABEA5065F1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C0372-429F-4A7E-B003-2189F4980D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D240C-8CE9-440E-999D-7725942B60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0c83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79840" y="2967120"/>
            <a:ext cx="184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26920" y="512640"/>
            <a:ext cx="749016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25560" y="3435480"/>
            <a:ext cx="633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клянная бутылка – 1000 л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езная банка – 100 л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стиковая бутылка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8000" y="162000"/>
            <a:ext cx="4248000" cy="29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7480" y="5013360"/>
            <a:ext cx="5238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22760" y="122400"/>
            <a:ext cx="4451400" cy="2990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17360" y="4468680"/>
            <a:ext cx="80838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rot="3000000">
            <a:off x="4471920" y="-198360"/>
            <a:ext cx="2111400" cy="673416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66ff33"/>
                </a:solidFill>
                <a:uFillTx/>
                <a:latin typeface="Arial"/>
                <a:ea typeface="Arial"/>
              </a:rPr>
              <a:t>Лесные секр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5543640" cy="424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5435640" cy="39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85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rot="3000000">
            <a:off x="4460400" y="142560"/>
            <a:ext cx="2111400" cy="6080040"/>
          </a:xfrm>
          <a:prstGeom prst="ellipse">
            <a:avLst/>
          </a:prstGeom>
          <a:solidFill>
            <a:srgbClr val="ffcc00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Лесные та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rot="20760000">
            <a:off x="374400" y="574560"/>
            <a:ext cx="5241960" cy="3765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419640" y="3019320"/>
            <a:ext cx="562752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rot="3000000">
            <a:off x="4129560" y="-15120"/>
            <a:ext cx="2111400" cy="6939000"/>
          </a:xfrm>
          <a:prstGeom prst="ellipse">
            <a:avLst/>
          </a:prstGeom>
          <a:solidFill>
            <a:srgbClr val="33ccff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«Польза и вред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6360" cy="3429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348000" y="3424320"/>
            <a:ext cx="5796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21000000">
            <a:off x="247680" y="345960"/>
            <a:ext cx="4176720" cy="324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 rot="660000">
            <a:off x="4570200" y="402840"/>
            <a:ext cx="4287600" cy="331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40" y="4102200"/>
            <a:ext cx="4141800" cy="2735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748040" y="3813120"/>
            <a:ext cx="43624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 rot="20880000">
            <a:off x="491760" y="720720"/>
            <a:ext cx="5400720" cy="35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503520" y="3537000"/>
            <a:ext cx="5640480" cy="33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rot="3000000">
            <a:off x="3946320" y="-78120"/>
            <a:ext cx="2111400" cy="6537600"/>
          </a:xfrm>
          <a:prstGeom prst="ellipse">
            <a:avLst/>
          </a:prstGeom>
          <a:solidFill>
            <a:srgbClr val="cc00cc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66ff33"/>
                </a:solidFill>
                <a:uFillTx/>
                <a:latin typeface="Arial"/>
                <a:ea typeface="Arial"/>
              </a:rPr>
              <a:t>Охрана прир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274680"/>
            <a:ext cx="843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4000" spc="-1" strike="noStrike" u="sng">
                <a:solidFill>
                  <a:srgbClr val="cc0000"/>
                </a:solidFill>
                <a:uFillTx/>
                <a:latin typeface="Arial"/>
              </a:rPr>
              <a:t>Разгадайте 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981000"/>
            <a:ext cx="6337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Животное – национальная гордость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16360" y="198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48000" y="638172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Растения нижнего яр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60020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1280" y="2421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стения среднего яруса с несколькими ствол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16714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2852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Длинное ухо, комочек пух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Прыгает ловко, грызёт морк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08560" y="198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65640" y="2873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51280" y="3357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Как называется лес, в котором растут дуб, берёза, клён, ли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47640" y="3789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05280" y="244008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Растения верхнего яр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47640" y="4292640"/>
            <a:ext cx="432000" cy="4032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3141" h="21600">
                <a:moveTo>
                  <a:pt x="0" y="0"/>
                </a:moveTo>
                <a:lnTo>
                  <a:pt x="23141" y="0"/>
                </a:lnTo>
                <a:lnTo>
                  <a:pt x="23141" y="21600"/>
                </a:lnTo>
                <a:lnTo>
                  <a:pt x="0" y="21600"/>
                </a:lnTo>
                <a:close/>
              </a:path>
              <a:path fill="lightenLess" w="23141" h="21600">
                <a:moveTo>
                  <a:pt x="0" y="0"/>
                </a:moveTo>
                <a:lnTo>
                  <a:pt x="23141" y="0"/>
                </a:lnTo>
                <a:lnTo>
                  <a:pt x="21742" y="1400"/>
                </a:lnTo>
                <a:lnTo>
                  <a:pt x="1400" y="1400"/>
                </a:lnTo>
                <a:close/>
              </a:path>
              <a:path fill="darken" w="23141" h="21600">
                <a:moveTo>
                  <a:pt x="23141" y="0"/>
                </a:moveTo>
                <a:lnTo>
                  <a:pt x="23141" y="21600"/>
                </a:lnTo>
                <a:lnTo>
                  <a:pt x="21742" y="20200"/>
                </a:lnTo>
                <a:lnTo>
                  <a:pt x="21742" y="1400"/>
                </a:lnTo>
                <a:close/>
              </a:path>
              <a:path fill="darkenLess" w="23141" h="21600">
                <a:moveTo>
                  <a:pt x="23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2" y="20200"/>
                </a:lnTo>
                <a:close/>
              </a:path>
              <a:path fill="lighten" w="23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3364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Как называется лес, в котором растут ель, со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16360" y="472428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Какую птицу называют лесным докт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8360" y="1700280"/>
            <a:ext cx="8877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84360" y="53737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115920"/>
            <a:ext cx="8785440" cy="6481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5040" y="3030480"/>
            <a:ext cx="8298000" cy="3827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20840" y="487440"/>
            <a:ext cx="8235720" cy="1931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Как называется лес, в котором растут лиственные и хвойные дерев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84360" y="5373720"/>
            <a:ext cx="4320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19640" y="5877000"/>
            <a:ext cx="433080" cy="43344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В птичник повадится – жди бед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Рыжим хвостом заметает сл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84360" y="5373720"/>
            <a:ext cx="4320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19640" y="58770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419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адай кроссвор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692280"/>
            <a:ext cx="73454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30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658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5086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528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5942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1370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9658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528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086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08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508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086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508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086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528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80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9658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0528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222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6798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4230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9658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137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5942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0528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94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0528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137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880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765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222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79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230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65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37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5942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0528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880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4230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658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765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22640" y="4264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679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528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5086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508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508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5942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658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594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0528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6798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1370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5942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94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337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880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23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6321600"/>
            <a:ext cx="4698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5942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0528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36000" y="5877000"/>
            <a:ext cx="4698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 txBox="1"/>
          <p:nvPr/>
        </p:nvSpPr>
        <p:spPr>
          <a:xfrm>
            <a:off x="1187280" y="5661000"/>
            <a:ext cx="74883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раняй  лес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1349"/>
              </a:spcBef>
              <a:buClr>
                <a:srgbClr val="66ff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  <a:ea typeface="Arial"/>
              </a:rPr>
              <a:t>              </a:t>
            </a:r>
            <a:r>
              <a:rPr b="1" lang="ru-RU" sz="5400" spc="-1" strike="noStrike">
                <a:solidFill>
                  <a:srgbClr val="339933"/>
                </a:solidFill>
                <a:latin typeface="Arial"/>
                <a:ea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492360" y="3068640"/>
            <a:ext cx="45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9933"/>
                </a:solidFill>
                <a:latin typeface="Arial"/>
                <a:ea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9933"/>
                </a:solidFill>
                <a:latin typeface="Arial"/>
                <a:ea typeface="Arial"/>
              </a:rPr>
              <a:t>за работу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33280" y="5732640"/>
            <a:ext cx="8677440" cy="64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ю на лесную тропинку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648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642520" cy="5527440"/>
          </a:xfrm>
          <a:prstGeom prst="rect">
            <a:avLst/>
          </a:prstGeom>
          <a:ln cap="sq" w="76320">
            <a:solidFill>
              <a:srgbClr val="66ff33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6804000" y="5734080"/>
            <a:ext cx="1944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Franklin Gothic Heavy"/>
                <a:ea typeface="Malgun Gothic"/>
              </a:rPr>
              <a:t>Разми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70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rot="3000000">
            <a:off x="4460400" y="142560"/>
            <a:ext cx="2111400" cy="6080040"/>
          </a:xfrm>
          <a:prstGeom prst="ellipse">
            <a:avLst/>
          </a:prstGeom>
          <a:solidFill>
            <a:srgbClr val="cc0000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66ff33"/>
                </a:solidFill>
                <a:uFillTx/>
                <a:latin typeface="Arial"/>
                <a:ea typeface="Arial"/>
              </a:rPr>
              <a:t>Лесная апт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5:02:05Z</dcterms:created>
  <dc:creator>ннн</dc:creator>
  <dc:description/>
  <dc:language>en-US</dc:language>
  <cp:lastModifiedBy/>
  <dcterms:modified xsi:type="dcterms:W3CDTF">2018-08-16T14:49:12Z</dcterms:modified>
  <cp:revision>97</cp:revision>
  <dc:subject/>
  <dc:title>Мир вокруг нас 1 класс</dc:title>
</cp:coreProperties>
</file>