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0EA-C64F-4289-B974-06F0268D8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B1D7-BC65-4045-8956-18E801B02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0623-5296-44F8-9978-63E135EAC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11B8-1033-49DE-8BC2-AC5BC3C3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8F32E-A048-49C0-A235-6F2B157A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8365-185A-4E8A-812C-BD3BCF8F9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CC599-F2CA-40FD-89DC-9C4891224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50AE0-7364-4035-8466-3E939C19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A1420-3253-4C73-B682-5E0A5028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F7F9-CA52-422C-BAD9-E2DBC61C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BA28-F921-46A4-B056-C259771F0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9AF5-8CFD-4936-AC30-666B0A11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3E9E5-65E1-43D2-9AE9-98025C29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2846-815E-4A7B-8207-9CCFCAA2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4408C-57A2-43EE-B314-0FD251F2B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2C4E-70D1-4F66-BFD1-28E046172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BF95C-D703-48DE-ABAF-8DB20572A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8D4-AFE3-4FF7-BCFC-7B35E9B3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8C98-0594-4090-9A6A-8EDCBD28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616A-791A-4750-A310-2B8D885F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2904-8838-4DC1-931C-D073A053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5B6-9E8D-4C45-81ED-8BD772C2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B4C-4D8B-4BB9-90C5-8A7152F7F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0D1-BDDE-4A8A-8C74-BF3827F5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6439EB-67E7-4BC5-9759-0F1B17CAF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5CC2A2-7A3D-4543-9B77-CDB33ABE0D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5;&#1103;&#1079;&#1100;_&#1057;&#1077;&#1088;&#1077;&#1073;&#1088;&#1103;&#1085;&#1099;&#1081;_(&#1088;&#1086;&#1084;&#1072;&#1085;)" TargetMode="External"/><Relationship Id="rId2" Type="http://schemas.openxmlformats.org/officeDocument/2006/relationships/hyperlink" Target="http://ru.wikipedia.org/wiki/1863_&#1075;&#1086;&#1076;" TargetMode="External"/><Relationship Id="rId3" Type="http://schemas.openxmlformats.org/officeDocument/2006/relationships/hyperlink" Target="http://ru.wikipedia.org/wiki/&#1057;&#1084;&#1077;&#1088;&#1090;&#1100;_&#1048;&#1086;&#1072;&#1085;&#1085;&#1072;_&#1043;&#1088;&#1086;&#1079;&#1085;&#1086;&#1075;&#1086;_(&#1087;&#1100;&#1077;&#1089;&#1072;)" TargetMode="External"/><Relationship Id="rId4" Type="http://schemas.openxmlformats.org/officeDocument/2006/relationships/hyperlink" Target="http://ru.wikipedia.org/wiki/1866" TargetMode="External"/><Relationship Id="rId5" Type="http://schemas.openxmlformats.org/officeDocument/2006/relationships/hyperlink" Target="http://ru.wikipedia.org/wiki/&#1062;&#1072;&#1088;&#1100;_&#1060;&#1105;&#1076;&#1086;&#1088;_&#1048;&#1086;&#1072;&#1085;&#1085;&#1086;&#1074;&#1080;&#1095;_(&#1087;&#1100;&#1077;&#1089;&#1072;)" TargetMode="External"/><Relationship Id="rId6" Type="http://schemas.openxmlformats.org/officeDocument/2006/relationships/hyperlink" Target="http://ru.wikipedia.org/wiki/1868" TargetMode="External"/><Relationship Id="rId7" Type="http://schemas.openxmlformats.org/officeDocument/2006/relationships/hyperlink" Target="http://ru.wikipedia.org/wiki/&#1062;&#1072;&#1088;&#1100;_&#1041;&#1086;&#1088;&#1080;&#1089;_(&#1087;&#1100;&#1077;&#1089;&#1072;)" TargetMode="External"/><Relationship Id="rId8" Type="http://schemas.openxmlformats.org/officeDocument/2006/relationships/hyperlink" Target="http://ru.wikipedia.org/wiki/1870" TargetMode="External"/><Relationship Id="rId9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640" y="476640"/>
            <a:ext cx="8305560" cy="2342880"/>
          </a:xfrm>
          <a:prstGeom prst="rect">
            <a:avLst/>
          </a:prstGeom>
          <a:noFill/>
          <a:ln w="9360">
            <a:noFill/>
          </a:ln>
          <a:effectLst>
            <a:outerShdw dist="28080" dir="5400000" blurRad="44280" rotWithShape="0">
              <a:srgbClr val="000000">
                <a:alpha val="32000"/>
              </a:srgbClr>
            </a:outerShdw>
          </a:effectLst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Алексей Константинович </a:t>
            </a:r>
            <a:br>
              <a:rPr sz="4400"/>
            </a:b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Толстой </a:t>
            </a:r>
            <a:br>
              <a:rPr sz="4400"/>
            </a:br>
            <a:r>
              <a:rPr b="1" lang="ru-RU" sz="4400" spc="-1" strike="noStrike">
                <a:solidFill>
                  <a:schemeClr val="accent6">
                    <a:lumMod val="75000"/>
                  </a:schemeClr>
                </a:solidFill>
                <a:latin typeface="Times New Roman"/>
              </a:rPr>
              <a:t>(1817-1875)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428000" y="4365000"/>
            <a:ext cx="3682800" cy="1968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 algn="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«Я не чиновник, а художни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icture 2"/>
          <p:cNvSpPr/>
          <p:nvPr/>
        </p:nvSpPr>
        <p:spPr>
          <a:xfrm>
            <a:off x="1274040" y="2637000"/>
            <a:ext cx="2785680" cy="3776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77600" y="816120"/>
            <a:ext cx="424800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3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 хотел всецело отдаться творчеству, но не мог – «как работать для искусства, когда слышишь со всех сторон слова: служба, чин, вицмундир, начальство и тому подобное». Несколько раз Толстой пытался получить отставку, но безрезультатн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http://siver.com.ua/_pu/2/63967397.jpg"/>
          <p:cNvPicPr/>
          <p:nvPr/>
        </p:nvPicPr>
        <p:blipFill>
          <a:blip r:embed="rId1"/>
          <a:stretch/>
        </p:blipFill>
        <p:spPr>
          <a:xfrm>
            <a:off x="5057640" y="548640"/>
            <a:ext cx="3835080" cy="5060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icture 2"/>
          <p:cNvSpPr/>
          <p:nvPr/>
        </p:nvSpPr>
        <p:spPr>
          <a:xfrm>
            <a:off x="4635720" y="260640"/>
            <a:ext cx="4403520" cy="58770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Содержимое 2"/>
          <p:cNvSpPr/>
          <p:nvPr/>
        </p:nvSpPr>
        <p:spPr>
          <a:xfrm>
            <a:off x="899640" y="548640"/>
            <a:ext cx="3744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нна Алексеевна весьма строго контролировала жизнь Алексея, старалась , чтобы он всегда был при ней (Алексей Константинович возил ее в театры и на концерты, они вместе посещали ее подруг), а если он уезжал куда-то без нее, она не ложилась  спать, пока он не верне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506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офья Андреевна Миллер</a:t>
            </a: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5508000" y="2349000"/>
            <a:ext cx="323964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имой 1850/1851 года Толстой влюбился в жену конногвардейского полковника Софью Андреевну Милл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6" descr="http://img1.liveinternet.ru/images/attach/c/2/71/801/71801823_Bahmeteva_Sofia.jpg"/>
          <p:cNvPicPr/>
          <p:nvPr/>
        </p:nvPicPr>
        <p:blipFill>
          <a:blip r:embed="rId1"/>
          <a:stretch/>
        </p:blipFill>
        <p:spPr>
          <a:xfrm>
            <a:off x="1259640" y="1125360"/>
            <a:ext cx="3960000" cy="5113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00720" y="260640"/>
            <a:ext cx="4642920" cy="4004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Жизнь была к ней неласкова, да и сама она, не считавшаяся с предрассудками своей среды, была слишком смела для той церемонной эпохи. Трагически завершилась любовная связь юной Софи Бахметевой с князем Вяземским, который соблазнил её, но женился на другой. Брат покинутой девушки Пётр Бахметев вызвал обидчика на дуэль и был убит. Всю жизнь Софья Андреевна считала себя виноватой в несчастьях и бесчестии своей семь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icture 2"/>
          <p:cNvSpPr/>
          <p:nvPr/>
        </p:nvSpPr>
        <p:spPr>
          <a:xfrm>
            <a:off x="611640" y="260640"/>
            <a:ext cx="3944880" cy="55443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115640" y="266040"/>
            <a:ext cx="7581960" cy="3978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Толстой и  Софья  повстречались на бале-маскараде в Петербургском Большом театре. Он сопровождал туда наследника престола, будущего царя Александр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"/>
          <p:cNvPicPr/>
          <p:nvPr/>
        </p:nvPicPr>
        <p:blipFill>
          <a:blip r:embed="rId1"/>
          <a:stretch/>
        </p:blipFill>
        <p:spPr>
          <a:xfrm>
            <a:off x="1187640" y="1895040"/>
            <a:ext cx="3762000" cy="3160440"/>
          </a:xfrm>
          <a:prstGeom prst="rect">
            <a:avLst/>
          </a:prstGeom>
          <a:ln w="9525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2"/>
          <a:stretch/>
        </p:blipFill>
        <p:spPr>
          <a:xfrm>
            <a:off x="5489640" y="1895040"/>
            <a:ext cx="3328560" cy="4508280"/>
          </a:xfrm>
          <a:prstGeom prst="rect">
            <a:avLst/>
          </a:prstGeom>
          <a:ln w="9525">
            <a:noFill/>
          </a:ln>
        </p:spPr>
      </p:pic>
      <p:sp>
        <p:nvSpPr>
          <p:cNvPr id="115" name="Прямоугольник 6"/>
          <p:cNvSpPr/>
          <p:nvPr/>
        </p:nvSpPr>
        <p:spPr>
          <a:xfrm>
            <a:off x="917640" y="5229360"/>
            <a:ext cx="4571640" cy="9126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появилась на маскараде потому, что после разрыва с мужем искала случая забыться и рассеятьс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3"/>
          <p:cNvSpPr/>
          <p:nvPr/>
        </p:nvSpPr>
        <p:spPr>
          <a:xfrm>
            <a:off x="2771640" y="332640"/>
            <a:ext cx="4571640" cy="61880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редь шумного бала, случай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тревоге мирской сует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ебя я увидел, но тай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Твои покрывала че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ишь очи печально гляд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голос так дивно звуч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 звон отдаленной свире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ак моря играющий 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не стан твой понравился тон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весь твой задумчивый ви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А смех твой, и грустный и звонки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С тех пор в моем сердце звуч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В часы одинокие но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юблю я. усталый, прилечь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вижу печальные оч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Я слышу веселую реч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грустно я так засып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в грезах неведомых сплю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Люблю ли тебя — я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Но кажется мне, что любл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55640" y="404640"/>
            <a:ext cx="5328720" cy="6022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6000"/>
          </a:bodyPr>
          <a:p>
            <a:pPr marL="31860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рак их был официально оформлен только в 1863 году, так как ему препятствовали, с одной стороны, муж Софьи Андреевны, не дававший ей развода, а с другой — мать Толстого, недоброжелательно относившаяся к ней. После отставки со службы в 1861 году Толстой только изредка наезжал в столицу. Жил в усадьбе Пустынька на берегу реки Тосны под Санкт-Петербурго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sun-soft.ru/uploads/posts/2012-03/1331652166_hpqopbjerkmwam7.jpeg"/>
          <p:cNvPicPr/>
          <p:nvPr/>
        </p:nvPicPr>
        <p:blipFill>
          <a:blip r:embed="rId1"/>
          <a:stretch/>
        </p:blipFill>
        <p:spPr>
          <a:xfrm>
            <a:off x="6300360" y="404640"/>
            <a:ext cx="2447640" cy="3095280"/>
          </a:xfrm>
          <a:prstGeom prst="rect">
            <a:avLst/>
          </a:prstGeom>
          <a:ln w="9525">
            <a:noFill/>
          </a:ln>
        </p:spPr>
      </p:pic>
      <p:pic>
        <p:nvPicPr>
          <p:cNvPr id="119" name="Picture 2" descr="http://shot.photo.qip.ru/small/3048zDN.jpg"/>
          <p:cNvPicPr/>
          <p:nvPr/>
        </p:nvPicPr>
        <p:blipFill>
          <a:blip r:embed="rId2"/>
          <a:stretch/>
        </p:blipFill>
        <p:spPr>
          <a:xfrm>
            <a:off x="6311160" y="3722760"/>
            <a:ext cx="2436480" cy="28742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613040" y="908640"/>
            <a:ext cx="4546080" cy="5184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73000"/>
          </a:bodyPr>
          <a:p>
            <a:pPr marL="3229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ледние годы жизни матери Алексей Константинович разрывался между ней и Софией. Когда в 1857 году Анна Александровна умерла, Алексей был безутешен. Но ее смерть наконец позволила соединиться влюбленным – они стали жить вместе. Однако муж дал Софии развод только спустя несколько лет – они обвенчались в 1863 году. Своих детей у влюбленных не было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icture 5"/>
          <p:cNvSpPr/>
          <p:nvPr/>
        </p:nvSpPr>
        <p:spPr>
          <a:xfrm>
            <a:off x="734760" y="764640"/>
            <a:ext cx="4248000" cy="50724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ТВОРЧЕСТВО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3640" y="1556640"/>
            <a:ext cx="78595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ихи Толстой начал сочинять очень рано. Мастерством стиха Толстой дорожил всегда, хотя критики иногда и упрекали его то  за «плохую» (неточную) рифму, то за неудачный, слишком прозаический, на их взгляд, оборот речи. Между тем именно благодаря этим «недочетам» и создается впечатление импровизации, поэзия Толстого приобретает особую живость и задушевность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42920" y="260640"/>
            <a:ext cx="810072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публикацией своих стихов Толстой не спешил. Первая крупная подборка его стихотворений появилась только в 1854 г на страницах некрасовского «Современника», а единственный прижизненный сборник вышел в 1867г. В него вошли многие теперь широко известные стихи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Прямоугольник 3"/>
          <p:cNvSpPr/>
          <p:nvPr/>
        </p:nvSpPr>
        <p:spPr>
          <a:xfrm>
            <a:off x="3276720" y="2781000"/>
            <a:ext cx="3816000" cy="2284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Колокольчики мо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Цветики степны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Что глядите на мен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Темно-голубы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И о чем звените 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В день веселый м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Средь некошеной тра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Головой кача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s.rimg.info/7636a9d6a164e25768d20619aaf47871.gif"/>
          <p:cNvPicPr/>
          <p:nvPr/>
        </p:nvPicPr>
        <p:blipFill>
          <a:blip r:embed="rId1"/>
          <a:stretch/>
        </p:blipFill>
        <p:spPr>
          <a:xfrm>
            <a:off x="7846200" y="4411080"/>
            <a:ext cx="942480" cy="1190160"/>
          </a:xfrm>
          <a:prstGeom prst="rect">
            <a:avLst/>
          </a:prstGeom>
          <a:ln w="9525">
            <a:noFill/>
          </a:ln>
        </p:spPr>
      </p:pic>
      <p:pic>
        <p:nvPicPr>
          <p:cNvPr id="127" name="Picture 4" descr="http://s.rimg.info/7636a9d6a164e25768d20619aaf47871.gif"/>
          <p:cNvPicPr/>
          <p:nvPr/>
        </p:nvPicPr>
        <p:blipFill>
          <a:blip r:embed="rId2"/>
          <a:stretch/>
        </p:blipFill>
        <p:spPr>
          <a:xfrm>
            <a:off x="6300360" y="3220560"/>
            <a:ext cx="942480" cy="1190160"/>
          </a:xfrm>
          <a:prstGeom prst="rect">
            <a:avLst/>
          </a:prstGeom>
          <a:ln w="9525">
            <a:noFill/>
          </a:ln>
        </p:spPr>
      </p:pic>
      <p:pic>
        <p:nvPicPr>
          <p:cNvPr id="128" name="Picture 6" descr="http://s.rimg.info/7636a9d6a164e25768d20619aaf47871.gif"/>
          <p:cNvPicPr/>
          <p:nvPr/>
        </p:nvPicPr>
        <p:blipFill>
          <a:blip r:embed="rId3"/>
          <a:stretch/>
        </p:blipFill>
        <p:spPr>
          <a:xfrm>
            <a:off x="7812000" y="2349360"/>
            <a:ext cx="942480" cy="1190160"/>
          </a:xfrm>
          <a:prstGeom prst="rect">
            <a:avLst/>
          </a:prstGeom>
          <a:ln w="9525">
            <a:noFill/>
          </a:ln>
        </p:spPr>
      </p:pic>
      <p:sp>
        <p:nvSpPr>
          <p:cNvPr id="129" name="Picture 8"/>
          <p:cNvSpPr/>
          <p:nvPr/>
        </p:nvSpPr>
        <p:spPr>
          <a:xfrm>
            <a:off x="827640" y="2349360"/>
            <a:ext cx="2252160" cy="2932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5473800" y="692640"/>
            <a:ext cx="3347640" cy="299700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одился 5 сентября 1817 г. в Санкт-Петербурге с. Красный Рог Черниговской губернии в знатной дворянской семь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I:\Documents and Settings\Alex\Рабочий стол\Анастасия\m20.jpg"/>
          <p:cNvPicPr/>
          <p:nvPr/>
        </p:nvPicPr>
        <p:blipFill>
          <a:blip r:embed="rId1"/>
          <a:stretch/>
        </p:blipFill>
        <p:spPr>
          <a:xfrm>
            <a:off x="1187640" y="404640"/>
            <a:ext cx="4285800" cy="58417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I:\Documents and Settings\Alex\Рабочий стол\Анастасия\860.JPG"/>
          <p:cNvPicPr/>
          <p:nvPr/>
        </p:nvPicPr>
        <p:blipFill>
          <a:blip r:embed="rId1"/>
          <a:stretch/>
        </p:blipFill>
        <p:spPr>
          <a:xfrm>
            <a:off x="3924000" y="980640"/>
            <a:ext cx="2160000" cy="3645000"/>
          </a:xfrm>
          <a:prstGeom prst="rect">
            <a:avLst/>
          </a:prstGeom>
          <a:ln w="9525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1" name="Picture 2" descr="I:\Documents and Settings\Alex\Рабочий стол\Анастасия\img_437973.jpg"/>
          <p:cNvPicPr/>
          <p:nvPr/>
        </p:nvPicPr>
        <p:blipFill>
          <a:blip r:embed="rId2"/>
          <a:stretch/>
        </p:blipFill>
        <p:spPr>
          <a:xfrm>
            <a:off x="6445800" y="129600"/>
            <a:ext cx="2009520" cy="30240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2" name="Рисунок 4" descr="1231950270_kurgan.jpg"/>
          <p:cNvPicPr/>
          <p:nvPr/>
        </p:nvPicPr>
        <p:blipFill>
          <a:blip r:embed="rId3"/>
          <a:stretch/>
        </p:blipFill>
        <p:spPr>
          <a:xfrm>
            <a:off x="1091160" y="3369600"/>
            <a:ext cx="2411280" cy="308556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3" name="Рисунок 5" descr="1000542381.jpg"/>
          <p:cNvPicPr/>
          <p:nvPr/>
        </p:nvPicPr>
        <p:blipFill>
          <a:blip r:embed="rId4"/>
          <a:stretch/>
        </p:blipFill>
        <p:spPr>
          <a:xfrm>
            <a:off x="971640" y="260640"/>
            <a:ext cx="1904760" cy="276192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  <p:pic>
        <p:nvPicPr>
          <p:cNvPr id="134" name="Picture 8" descr="http://static.ozone.ru/multimedia/books_covers/1003174961.jpg"/>
          <p:cNvPicPr/>
          <p:nvPr/>
        </p:nvPicPr>
        <p:blipFill>
          <a:blip r:embed="rId5"/>
          <a:stretch/>
        </p:blipFill>
        <p:spPr>
          <a:xfrm>
            <a:off x="6421320" y="3383640"/>
            <a:ext cx="2063160" cy="314640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86680" y="98064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0000"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тель баллад, сатирических стихотворений, исторического романа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Князь Серебря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опубликован в 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1863 год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драматической трилогии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Смерть Иоанна Грозног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1866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Царь Фёдор Иоаннович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186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и «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Царь Борис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» (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18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Автор проникновенной лирики, с ярко выраженным музыкальным началом, психологических новелл в стихах («Средь шумного бала, случайно…», «То было раннею весной»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27640" y="1268640"/>
            <a:ext cx="8507160" cy="47080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юбовь для Толстого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тихое безмятежное чувство. Она приносит влюбленным не только радости, но и горькие переживания, заставляя их тосковать в разлуке, мучиться от напрасной ревности. Страшиться людского осуждения любовь, несмотря на все сопутствующие ей горечи и терзания, - главный источник творческого вдохновения и единственное спасение от «пошлой жизни» с ее «житейским вихрем»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28720" y="476280"/>
            <a:ext cx="453528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ращение поэта к былине, к излюбленному романтиками жанру баллады также во многом объясняется его вниманием к русской народной поэзии, к ее древним корням. В былине «Илья Муромец» (1871г) Толстой воскрешает образ знаменитого богатыря, «дедушки Ильи», жаждущего даже в старости свободы и независимости и поэтому покидающего княжеский двор Владимира Красное Солнышк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http://www.wwww4.com/w4442/1466210.jpg"/>
          <p:cNvPicPr/>
          <p:nvPr/>
        </p:nvPicPr>
        <p:blipFill>
          <a:blip r:embed="rId1"/>
          <a:stretch/>
        </p:blipFill>
        <p:spPr>
          <a:xfrm>
            <a:off x="5364000" y="476280"/>
            <a:ext cx="3528720" cy="5310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27640" y="1052640"/>
            <a:ext cx="451116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лексей Константинович Толстой пробовал свое перо не только в жанре поэзии. Образ Козьмы Пруткова и его знаменитых афоризмов – это Толстой с двоюродными братьями Алексеем, Александром и Владимиром Жемчужниковыми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http://upload.wikimedia.org/wikipedia/commons/thumb/d/db/Kozma_Prutkov_by_L_M_Zhemchuzhnikov.jpg/513px-Kozma_Prutkov_by_L_M_Zhemchuzhnikov.jpg"/>
          <p:cNvPicPr/>
          <p:nvPr/>
        </p:nvPicPr>
        <p:blipFill>
          <a:blip r:embed="rId1"/>
          <a:stretch/>
        </p:blipFill>
        <p:spPr>
          <a:xfrm>
            <a:off x="5065560" y="981000"/>
            <a:ext cx="3823920" cy="4463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95640" y="806040"/>
            <a:ext cx="4105080" cy="550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6000"/>
          </a:bodyPr>
          <a:p>
            <a:pPr marL="5266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узей-усадьба Алексея Толстого расположена в Красном Роге (ныне Почепский район Брянской области). Здесь граф провёл детские годы, неоднократно возвращался в эти места в зрелом возрасте, здесь же и был похоронен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I:\Documents and Settings\Alex\Рабочий стол\Анастасия\tolstoi-alexey-pamyatnik.jpeg"/>
          <p:cNvPicPr/>
          <p:nvPr/>
        </p:nvPicPr>
        <p:blipFill>
          <a:blip r:embed="rId1"/>
          <a:stretch/>
        </p:blipFill>
        <p:spPr>
          <a:xfrm>
            <a:off x="4358160" y="476640"/>
            <a:ext cx="4618800" cy="61588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143" name="Picture 2" descr="I:\Documents and Settings\Alex\Рабочий стол\Анастасия\220px-MonumentTolstoy.JPG"/>
          <p:cNvPicPr/>
          <p:nvPr/>
        </p:nvPicPr>
        <p:blipFill>
          <a:blip r:embed="rId2"/>
          <a:stretch/>
        </p:blipFill>
        <p:spPr>
          <a:xfrm>
            <a:off x="4356000" y="206280"/>
            <a:ext cx="4608000" cy="64180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4603320" cy="64288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98000"/>
          </a:bodyPr>
          <a:p>
            <a:pPr marL="335880"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8 сентября (10 октября) 1875 г. Толстой скончался на 58-м году жизни в Красном Роге от передозировки морфия, который употреблял для облегчения страданий от астмы, грудной жабы и невралгии с тяжелыми головными болями. Похоронен он там же, вместе с ненадолго пережившей его Софьей Андреевной, в склепе у Успенской церкв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I:\Documents and Settings\Alex\Рабочий стол\Анастасия\aktolstoy27.JPG"/>
          <p:cNvPicPr/>
          <p:nvPr/>
        </p:nvPicPr>
        <p:blipFill>
          <a:blip r:embed="rId1"/>
          <a:stretch/>
        </p:blipFill>
        <p:spPr>
          <a:xfrm>
            <a:off x="5429160" y="259560"/>
            <a:ext cx="3318840" cy="3526200"/>
          </a:xfrm>
          <a:prstGeom prst="rect">
            <a:avLst/>
          </a:prstGeom>
          <a:ln w="9525">
            <a:noFill/>
          </a:ln>
        </p:spPr>
      </p:pic>
      <p:pic>
        <p:nvPicPr>
          <p:cNvPr id="146" name="Рисунок 3" descr="лит-муз.jpeg"/>
          <p:cNvPicPr/>
          <p:nvPr/>
        </p:nvPicPr>
        <p:blipFill>
          <a:blip r:embed="rId2"/>
          <a:stretch/>
        </p:blipFill>
        <p:spPr>
          <a:xfrm>
            <a:off x="5429160" y="4071960"/>
            <a:ext cx="3318840" cy="2453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57280" y="188640"/>
            <a:ext cx="8229240" cy="2285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утешествие по музею-усадьбе</a:t>
            </a:r>
            <a:endParaRPr b="0" lang="ru-RU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3" descr="музей-усадьба.jpeg"/>
          <p:cNvPicPr/>
          <p:nvPr/>
        </p:nvPicPr>
        <p:blipFill>
          <a:blip r:embed="rId1"/>
          <a:stretch/>
        </p:blipFill>
        <p:spPr>
          <a:xfrm>
            <a:off x="1187640" y="2205000"/>
            <a:ext cx="7654680" cy="36936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7640" y="33264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узей-усадьба А.К.Толстого в селе Красный Рог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I:\Documents and Settings\Alex\Рабочий стол\Анастасия\0_1bdf6_f7b63237_XL.jpg"/>
          <p:cNvPicPr/>
          <p:nvPr/>
        </p:nvPicPr>
        <p:blipFill>
          <a:blip r:embed="rId1"/>
          <a:stretch/>
        </p:blipFill>
        <p:spPr>
          <a:xfrm>
            <a:off x="971640" y="1917000"/>
            <a:ext cx="3507840" cy="4203360"/>
          </a:xfrm>
          <a:prstGeom prst="rect">
            <a:avLst/>
          </a:prstGeom>
          <a:ln w="9525">
            <a:noFill/>
          </a:ln>
        </p:spPr>
      </p:pic>
      <p:pic>
        <p:nvPicPr>
          <p:cNvPr id="151" name="Рисунок 3" descr="photo_46_4496_big.gif"/>
          <p:cNvPicPr/>
          <p:nvPr/>
        </p:nvPicPr>
        <p:blipFill>
          <a:blip r:embed="rId2"/>
          <a:stretch/>
        </p:blipFill>
        <p:spPr>
          <a:xfrm>
            <a:off x="4788000" y="1917000"/>
            <a:ext cx="3960360" cy="42033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I:\Documents and Settings\Alex\Рабочий стол\Анастасия\0000036578-preview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5589360"/>
            <a:ext cx="91436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ец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граф Константин Петрович Толстой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I:\Documents and Settings\Alex\Рабочий стол\Анастасия\Отец - граф Константин Петрович Толстой.jpg"/>
          <p:cNvPicPr/>
          <p:nvPr/>
        </p:nvPicPr>
        <p:blipFill>
          <a:blip r:embed="rId1"/>
          <a:stretch/>
        </p:blipFill>
        <p:spPr>
          <a:xfrm>
            <a:off x="2555640" y="188640"/>
            <a:ext cx="4392720" cy="55148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" descr="I:\Documents and Settings\Alex\Рабочий стол\Анастасия\worktbl_b.jpg"/>
          <p:cNvPicPr/>
          <p:nvPr/>
        </p:nvPicPr>
        <p:blipFill>
          <a:blip r:embed="rId1"/>
          <a:stretch/>
        </p:blipFill>
        <p:spPr>
          <a:xfrm>
            <a:off x="0" y="0"/>
            <a:ext cx="918000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cs552.userapi.com/u19273840/56798106/x_dcd5448f.jpg"/>
          <p:cNvPicPr/>
          <p:nvPr/>
        </p:nvPicPr>
        <p:blipFill>
          <a:blip r:embed="rId1"/>
          <a:stretch/>
        </p:blipFill>
        <p:spPr>
          <a:xfrm>
            <a:off x="900000" y="154080"/>
            <a:ext cx="3958920" cy="2752200"/>
          </a:xfrm>
          <a:prstGeom prst="rect">
            <a:avLst/>
          </a:prstGeom>
          <a:ln w="9525">
            <a:noFill/>
          </a:ln>
        </p:spPr>
      </p:pic>
      <p:pic>
        <p:nvPicPr>
          <p:cNvPr id="157" name="Picture 4" descr="http://cs378.userapi.com/v378260/15/Pr35rKv_qS0.jpg"/>
          <p:cNvPicPr/>
          <p:nvPr/>
        </p:nvPicPr>
        <p:blipFill>
          <a:blip r:embed="rId2"/>
          <a:stretch/>
        </p:blipFill>
        <p:spPr>
          <a:xfrm>
            <a:off x="4500000" y="3321360"/>
            <a:ext cx="4319640" cy="3239280"/>
          </a:xfrm>
          <a:prstGeom prst="rect">
            <a:avLst/>
          </a:prstGeom>
          <a:ln w="9525">
            <a:noFill/>
          </a:ln>
        </p:spPr>
      </p:pic>
      <p:sp>
        <p:nvSpPr>
          <p:cNvPr id="158" name="Прямоугольник 5"/>
          <p:cNvSpPr/>
          <p:nvPr/>
        </p:nvSpPr>
        <p:spPr>
          <a:xfrm>
            <a:off x="2160000" y="4213440"/>
            <a:ext cx="2304720" cy="2009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рам в Красном Рогу, возле которого расположена усыпальница Адексея Константиновича и его супруг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916200" y="2924280"/>
            <a:ext cx="3341880" cy="363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углый зал в Охотничьем до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I:\Documents and Settings\Alex\Рабочий стол\Анастасия\442-1121621658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26920" y="5300640"/>
            <a:ext cx="831672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ть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нна Алексеевна Перовская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icture 2"/>
          <p:cNvSpPr/>
          <p:nvPr/>
        </p:nvSpPr>
        <p:spPr>
          <a:xfrm>
            <a:off x="2843640" y="0"/>
            <a:ext cx="4144320" cy="526752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525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259640" y="1772640"/>
            <a:ext cx="7426800" cy="43531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ть Толстого сразу же после рождения ребенка оставила мужа и с шестинедельным младенцем уехала из Петербурга в Черниговскую губернию, в имение своего брата А.А.Перовского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03280" y="357120"/>
            <a:ext cx="7311600" cy="5951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место отца Алексея воспитывал дядя по матери А. А. Перовский, известный писатель, печатавшийся под псевдонимом Антоний Погорельский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voplosheniya.narod.ru/briullov22.jpg"/>
          <p:cNvPicPr/>
          <p:nvPr/>
        </p:nvPicPr>
        <p:blipFill>
          <a:blip r:embed="rId1"/>
          <a:stretch/>
        </p:blipFill>
        <p:spPr>
          <a:xfrm>
            <a:off x="4428000" y="1845000"/>
            <a:ext cx="3960000" cy="483768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pic>
        <p:nvPicPr>
          <p:cNvPr id="94" name="Picture 6" descr="http://jili-bili.ru/files/labirint/medium/91023.jpg"/>
          <p:cNvPicPr/>
          <p:nvPr/>
        </p:nvPicPr>
        <p:blipFill>
          <a:blip r:embed="rId2"/>
          <a:stretch/>
        </p:blipFill>
        <p:spPr>
          <a:xfrm>
            <a:off x="1547640" y="2350440"/>
            <a:ext cx="2880000" cy="3538440"/>
          </a:xfrm>
          <a:prstGeom prst="rect">
            <a:avLst/>
          </a:prstGeom>
          <a:ln w="0">
            <a:noFill/>
          </a:ln>
          <a:effectLst>
            <a:reflection algn="bl" blurRad="12700" dir="5400000" dist="5000" endPos="30000" rotWithShape="0" stA="30000" sy="-100000"/>
          </a:effectLst>
          <a:scene3d>
            <a:camera prst="perspectiveContrastingLeftFacing">
              <a:rot lat="300000" lon="19800000" rev="0"/>
            </a:camera>
            <a:lightRig dir="t" rig="threePt">
              <a:rot lat="0" lon="0" rev="2700000"/>
            </a:lightRig>
          </a:scene3d>
          <a:sp3d>
            <a:bevelT w="635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00000" y="0"/>
            <a:ext cx="7786440" cy="2636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нее детство Алексей провёл на Украине, в имении дяди. С 10-летнего возраста мальчика возили за границу. Путешествие по Итали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831 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он описал в дневнике. Толстой принадлежал к детскому окружению наследника престола, будущего Александра II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7" descr="http://cs1427.userapi.com/u5438260/28589215/x_c7dac2dc.jpg"/>
          <p:cNvPicPr/>
          <p:nvPr/>
        </p:nvPicPr>
        <p:blipFill>
          <a:blip r:embed="rId1"/>
          <a:stretch/>
        </p:blipFill>
        <p:spPr>
          <a:xfrm>
            <a:off x="1763640" y="2421000"/>
            <a:ext cx="5758920" cy="3539880"/>
          </a:xfrm>
          <a:prstGeom prst="rect">
            <a:avLst/>
          </a:prstGeom>
          <a:ln w="9525">
            <a:noFill/>
          </a:ln>
        </p:spPr>
      </p:pic>
      <p:sp>
        <p:nvSpPr>
          <p:cNvPr id="97" name="Прямоугольник 5"/>
          <p:cNvSpPr/>
          <p:nvPr/>
        </p:nvSpPr>
        <p:spPr>
          <a:xfrm>
            <a:off x="1791000" y="6165360"/>
            <a:ext cx="6119280" cy="515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рузья детства - граф Алексей Константинович Толстой и государь-император Александр II Николаевич Рома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01640" y="836640"/>
            <a:ext cx="4173120" cy="45291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chemeClr val="accent1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841- издание фантастической повести "Упырь" под псевдонимом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Краснорогский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сть заслужила благожелательный отзыв Белинского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I:\Documents and Settings\Alex\Рабочий стол\Анастасия\i4750afbf5a780.jpg"/>
          <p:cNvPicPr/>
          <p:nvPr/>
        </p:nvPicPr>
        <p:blipFill>
          <a:blip r:embed="rId1"/>
          <a:stretch/>
        </p:blipFill>
        <p:spPr>
          <a:xfrm>
            <a:off x="4644000" y="908640"/>
            <a:ext cx="4268520" cy="409680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99640" y="404640"/>
            <a:ext cx="4400280" cy="5665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rmAutofit fontScale="86000"/>
          </a:bodyPr>
          <a:p>
            <a:pPr marL="50976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1834 году Толстого определили «студентом»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осковский архив Министерства иностранных дел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С 1837 года он служил в русской миссии в Германии, в 1840 году получил службу в Петербурге при царском дворе. В 1843 году — придворное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вание камер-юнкер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I:\Documents and Settings\Alex\Рабочий стол\Анастасия\index.php.jpg"/>
          <p:cNvPicPr/>
          <p:nvPr/>
        </p:nvPicPr>
        <p:blipFill>
          <a:blip r:embed="rId1"/>
          <a:stretch/>
        </p:blipFill>
        <p:spPr>
          <a:xfrm>
            <a:off x="5868000" y="131760"/>
            <a:ext cx="3048480" cy="3332160"/>
          </a:xfrm>
          <a:prstGeom prst="rect">
            <a:avLst/>
          </a:prstGeom>
          <a:ln cap="sq" w="88900">
            <a:solidFill>
              <a:srgbClr val="ffffff"/>
            </a:solidFill>
            <a:miter/>
          </a:ln>
          <a:effectLst>
            <a:outerShdw algn="tl" blurRad="55080" dir="5400000" dist="18000" rotWithShape="0">
              <a:srgbClr val="000000">
                <a:alpha val="40000"/>
              </a:srgbClr>
            </a:outerShdw>
          </a:effectLst>
          <a:scene3d>
            <a:camera prst="orthographicFront"/>
            <a:lightRig dir="t" rig="twoPt">
              <a:rot lat="0" lon="0" rev="7200000"/>
            </a:lightRig>
          </a:scene3d>
          <a:sp3d>
            <a:bevelT w="25400" h="19050"/>
            <a:contourClr>
              <a:srgbClr val="ffffff"/>
            </a:contourClr>
          </a:sp3d>
        </p:spPr>
      </p:pic>
      <p:sp>
        <p:nvSpPr>
          <p:cNvPr id="102" name="Picture 5"/>
          <p:cNvSpPr/>
          <p:nvPr/>
        </p:nvSpPr>
        <p:spPr>
          <a:xfrm>
            <a:off x="6382800" y="3861000"/>
            <a:ext cx="2018880" cy="2666520"/>
          </a:xfrm>
          <a:prstGeom prst="ellipse">
            <a:avLst/>
          </a:prstGeom>
          <a:blipFill rotWithShape="0">
            <a:blip r:embed="rId2"/>
            <a:srcRect/>
            <a:stretch/>
          </a:blipFill>
          <a:ln cap="rnd" w="63500">
            <a:solidFill>
              <a:srgbClr val="333333"/>
            </a:solidFill>
            <a:round/>
          </a:ln>
          <a:effectLst>
            <a:outerShdw blurRad="380880" dir="5400000" dist="291960" rotWithShape="0" sx="-80000" sy="-18000">
              <a:srgbClr val="000000">
                <a:alpha val="22000"/>
              </a:srgbClr>
            </a:outerShdw>
          </a:effectLst>
          <a:scene3d>
            <a:camera prst="orthographicFront"/>
            <a:lightRig dir="t" rig="contrasting">
              <a:rot lat="0" lon="0" rev="3000000"/>
            </a:lightRig>
          </a:scene3d>
          <a:sp3d contourW="7620">
            <a:bevelT w="95250" h="31750"/>
            <a:contourClr>
              <a:srgbClr val="333333"/>
            </a:contourClr>
          </a:sp3d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Оформление по умолчанию">
  <a:themeElements>
    <a:clrScheme name="Оформление по умолчанию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  <Words>1083</Words>
  <Paragraphs>6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лег</cp:lastModifiedBy>
  <dcterms:modified xsi:type="dcterms:W3CDTF">2017-09-04T20:53:46Z</dcterms:modified>
  <cp:revision>69</cp:revision>
  <dc:subject/>
  <dc:title>Алексей Константинович Толстой  (1817-1875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2</vt:r8>
  </property>
</Properties>
</file>