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4DCD-E6C8-44AE-A3FE-7A126C69D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AE9-525D-4D7D-9DBD-90161908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0578-E0FB-43F6-9C95-F98F2906A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132-3A13-4E3D-A605-9C882D4FE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9254-FABE-475C-BECC-A8755175B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CD4D-F463-462D-A2B8-7495BC24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CD89-D48E-4642-8235-146D7E3C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4159-68EE-4F87-AE15-73AA0CAC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5B2A-839F-414E-87A6-625BF3B4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6C8B6-049A-4597-81A7-ADDEE827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DF5F-4344-4B56-A0C5-3B463449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9D36-F0D1-4205-BDCF-E9C196485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BE380-9EE5-4835-AEEF-B19537D0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960E-2E77-44EB-91BF-E95784ED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0026-CCA6-46E7-8020-D99297AC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2DE3B-4ACF-4816-B3DA-5985920B8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8BE6-85D1-4371-B7C2-D1F5FB4E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218-B33D-4A28-85F8-10D54BA27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96B5-9F25-4606-8BDF-96938BC0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38E1-C159-410D-85CC-3EE80180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9EDD-4521-4508-865F-D7181E3B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D855-AAB9-41EF-AABB-89A49C5E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9A8-E6FE-4CB3-9461-8AD61F3D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713-63C6-406F-8E21-0BA3D25C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6C6651-1897-4C77-AFC2-292A69CAB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EBC31E-C9DD-43F4-9EF4-2D206A60B4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5;&#1103;&#1079;&#1100;_&#1057;&#1077;&#1088;&#1077;&#1073;&#1088;&#1103;&#1085;&#1099;&#1081;_(&#1088;&#1086;&#1084;&#1072;&#1085;)" TargetMode="External"/><Relationship Id="rId2" Type="http://schemas.openxmlformats.org/officeDocument/2006/relationships/hyperlink" Target="http://ru.wikipedia.org/wiki/1863_&#1075;&#1086;&#1076;" TargetMode="External"/><Relationship Id="rId3" Type="http://schemas.openxmlformats.org/officeDocument/2006/relationships/hyperlink" Target="http://ru.wikipedia.org/wiki/&#1057;&#1084;&#1077;&#1088;&#1090;&#1100;_&#1048;&#1086;&#1072;&#1085;&#1085;&#1072;_&#1043;&#1088;&#1086;&#1079;&#1085;&#1086;&#1075;&#1086;_(&#1087;&#1100;&#1077;&#1089;&#1072;)" TargetMode="External"/><Relationship Id="rId4" Type="http://schemas.openxmlformats.org/officeDocument/2006/relationships/hyperlink" Target="http://ru.wikipedia.org/wiki/1866" TargetMode="External"/><Relationship Id="rId5" Type="http://schemas.openxmlformats.org/officeDocument/2006/relationships/hyperlink" Target="http://ru.wikipedia.org/wiki/&#1062;&#1072;&#1088;&#1100;_&#1060;&#1105;&#1076;&#1086;&#1088;_&#1048;&#1086;&#1072;&#1085;&#1085;&#1086;&#1074;&#1080;&#1095;_(&#1087;&#1100;&#1077;&#1089;&#1072;)" TargetMode="External"/><Relationship Id="rId6" Type="http://schemas.openxmlformats.org/officeDocument/2006/relationships/hyperlink" Target="http://ru.wikipedia.org/wiki/1868" TargetMode="External"/><Relationship Id="rId7" Type="http://schemas.openxmlformats.org/officeDocument/2006/relationships/hyperlink" Target="http://ru.wikipedia.org/wiki/&#1062;&#1072;&#1088;&#1100;_&#1041;&#1086;&#1088;&#1080;&#1089;_(&#1087;&#1100;&#1077;&#1089;&#1072;)" TargetMode="External"/><Relationship Id="rId8" Type="http://schemas.openxmlformats.org/officeDocument/2006/relationships/hyperlink" Target="http://ru.wikipedia.org/wiki/1870" TargetMode="External"/><Relationship Id="rId9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640" y="476640"/>
            <a:ext cx="8305560" cy="2342880"/>
          </a:xfrm>
          <a:prstGeom prst="rect">
            <a:avLst/>
          </a:prstGeom>
          <a:noFill/>
          <a:ln w="9360">
            <a:noFill/>
          </a:ln>
          <a:effectLst>
            <a:outerShdw dist="28080" dir="5400000" blurRad="44280" rotWithShape="0">
              <a:srgbClr val="000000">
                <a:alpha val="32000"/>
              </a:srgbClr>
            </a:outerShdw>
          </a:effectLst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Алексей Константинович </a:t>
            </a:r>
            <a:br>
              <a:rPr sz="4400"/>
            </a:b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Толстой </a:t>
            </a:r>
            <a:br>
              <a:rPr sz="4400"/>
            </a:b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(1817-1875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28000" y="4365000"/>
            <a:ext cx="3682800" cy="196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Я не чиновник, а худож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icture 2"/>
          <p:cNvSpPr/>
          <p:nvPr/>
        </p:nvSpPr>
        <p:spPr>
          <a:xfrm>
            <a:off x="1274040" y="2637000"/>
            <a:ext cx="2785680" cy="3776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77600" y="816120"/>
            <a:ext cx="424800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3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хотел всецело отдаться творчеству, но не мог – «как работать для искусства, когда слышишь со всех сторон слова: служба, чин, вицмундир, начальство и тому подобное». Несколько раз Толстой пытался получить отставку, но безрезультатно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siver.com.ua/_pu/2/63967397.jpg"/>
          <p:cNvPicPr/>
          <p:nvPr/>
        </p:nvPicPr>
        <p:blipFill>
          <a:blip r:embed="rId1"/>
          <a:stretch/>
        </p:blipFill>
        <p:spPr>
          <a:xfrm>
            <a:off x="5057640" y="548640"/>
            <a:ext cx="3835080" cy="5060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icture 2"/>
          <p:cNvSpPr/>
          <p:nvPr/>
        </p:nvSpPr>
        <p:spPr>
          <a:xfrm>
            <a:off x="4635720" y="260640"/>
            <a:ext cx="4403520" cy="5877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899640" y="548640"/>
            <a:ext cx="374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на Алексеевна весьма строго контролировала жизнь Алексея, старалась , чтобы он всегда был при ней (Алексей Константинович возил ее в театры и на концерты, они вместе посещали ее подруг), а если он уезжал куда-то без нее, она не ложилась  спать, пока он не верн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фья Андреевна Миллер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5508000" y="2349000"/>
            <a:ext cx="323964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имой 1850/1851 года Толстой влюбился в жену конногвардейского полковника Софью Андреевну Милл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img1.liveinternet.ru/images/attach/c/2/71/801/71801823_Bahmeteva_Sofia.jpg"/>
          <p:cNvPicPr/>
          <p:nvPr/>
        </p:nvPicPr>
        <p:blipFill>
          <a:blip r:embed="rId1"/>
          <a:stretch/>
        </p:blipFill>
        <p:spPr>
          <a:xfrm>
            <a:off x="1259640" y="1125360"/>
            <a:ext cx="3960000" cy="5113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260640"/>
            <a:ext cx="4642920" cy="400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ь была к ней неласкова, да и сама она, не считавшаяся с предрассудками своей среды, была слишком смела для той церемонной эпохи. Трагически завершилась любовная связь юной Софи Бахметевой с князем Вяземским, который соблазнил её, но женился на другой. Брат покинутой девушки Пётр Бахметев вызвал обидчика на дуэль и был убит. Всю жизнь Софья Андреевна считала себя виноватой в несчастьях и бесчестии своей семь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icture 2"/>
          <p:cNvSpPr/>
          <p:nvPr/>
        </p:nvSpPr>
        <p:spPr>
          <a:xfrm>
            <a:off x="611640" y="260640"/>
            <a:ext cx="3944880" cy="5544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15640" y="266040"/>
            <a:ext cx="758196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Толстой и  Софья  повстречались на бале-маскараде в Петербургском Большом театре. Он сопровождал туда наследника престола, будущего царя Александ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187640" y="1895040"/>
            <a:ext cx="3762000" cy="3160440"/>
          </a:xfrm>
          <a:prstGeom prst="rect">
            <a:avLst/>
          </a:prstGeom>
          <a:ln w="9525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5489640" y="1895040"/>
            <a:ext cx="3328560" cy="4508280"/>
          </a:xfrm>
          <a:prstGeom prst="rect">
            <a:avLst/>
          </a:prstGeom>
          <a:ln w="9525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917640" y="5229360"/>
            <a:ext cx="4571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а появилась на маскараде потому, что после разрыва с мужем искала случая забыться и рассея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2771640" y="332640"/>
            <a:ext cx="4571640" cy="618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редь шумного бала, случай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тревоге мирской су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бя я увидел, но та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вои покрывала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шь очи печально гляд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 голос так дивно звуч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к звон отдаленной свир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к моря играющий 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не стан твой понравился тон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весь твой задумчивый ви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 смех твой, и грустный и звон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 тех пор в моем сердце зву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часы одинокие н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юблю я. усталый, прилечь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 вижу печальные о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 слышу веселую реч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грустно я так засып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в грезах неведомых сплю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юблю ли тебя — я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о кажется мне, что любл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640" y="404640"/>
            <a:ext cx="5328720" cy="6022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6000"/>
          </a:bodyPr>
          <a:p>
            <a:pPr marL="3186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ак их был официально оформлен только в 1863 году, так как ему препятствовали, с одной стороны, муж Софьи Андреевны, не дававший ей развода, а с другой — мать Толстого, недоброжелательно относившаяся к ней. После отставки со службы в 1861 году Толстой только изредка наезжал в столицу. Жил в усадьбе Пустынька на берегу реки Тосны под Санкт-Петербургом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sun-soft.ru/uploads/posts/2012-03/1331652166_hpqopbjerkmwam7.jpeg"/>
          <p:cNvPicPr/>
          <p:nvPr/>
        </p:nvPicPr>
        <p:blipFill>
          <a:blip r:embed="rId1"/>
          <a:stretch/>
        </p:blipFill>
        <p:spPr>
          <a:xfrm>
            <a:off x="6300360" y="404640"/>
            <a:ext cx="2447640" cy="309528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2" descr="http://shot.photo.qip.ru/small/3048zDN.jpg"/>
          <p:cNvPicPr/>
          <p:nvPr/>
        </p:nvPicPr>
        <p:blipFill>
          <a:blip r:embed="rId2"/>
          <a:stretch/>
        </p:blipFill>
        <p:spPr>
          <a:xfrm>
            <a:off x="6311160" y="3722760"/>
            <a:ext cx="2436480" cy="2874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13040" y="908640"/>
            <a:ext cx="4546080" cy="518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3000"/>
          </a:bodyPr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дние годы жизни матери Алексей Константинович разрывался между ней и Софией. Когда в 1857 году Анна Александровна умерла, Алексей был безутешен. Но ее смерть наконец позволила соединиться влюбленным – они стали жить вместе. Однако муж дал Софии развод только спустя несколько лет – они обвенчались в 1863 году. Своих детей у влюбленных не был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icture 5"/>
          <p:cNvSpPr/>
          <p:nvPr/>
        </p:nvSpPr>
        <p:spPr>
          <a:xfrm>
            <a:off x="734760" y="764640"/>
            <a:ext cx="4248000" cy="5072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ВОРЧЕСТВО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3640" y="1556640"/>
            <a:ext cx="78595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ихи Толстой начал сочинять очень рано. Мастерством стиха Толстой дорожил всегда, хотя критики иногда и упрекали его то  за «плохую» (неточную) рифму, то за неудачный, слишком прозаический, на их взгляд, оборот речи. Между тем именно благодаря этим «недочетам» и создается впечатление импровизации, поэзия Толстого приобретает особую живость и задушевност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42920" y="260640"/>
            <a:ext cx="81007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убликацией своих стихов Толстой не спешил. Первая крупная подборка его стихотворений появилась только в 1854 г на страницах некрасовского «Современника», а единственный прижизненный сборник вышел в 1867г. В него вошли многие теперь широко известные стихи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3276720" y="2781000"/>
            <a:ext cx="381600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локольчики мо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Цветики степны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то глядите на ме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емно-голуб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 о чем звените 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день веселый м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редь некошеной тр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ловой кач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s.rimg.info/7636a9d6a164e25768d20619aaf47871.gif"/>
          <p:cNvPicPr/>
          <p:nvPr/>
        </p:nvPicPr>
        <p:blipFill>
          <a:blip r:embed="rId1"/>
          <a:stretch/>
        </p:blipFill>
        <p:spPr>
          <a:xfrm>
            <a:off x="7846200" y="4411080"/>
            <a:ext cx="942480" cy="1190160"/>
          </a:xfrm>
          <a:prstGeom prst="rect">
            <a:avLst/>
          </a:prstGeom>
          <a:ln w="9525">
            <a:noFill/>
          </a:ln>
        </p:spPr>
      </p:pic>
      <p:pic>
        <p:nvPicPr>
          <p:cNvPr id="127" name="Picture 4" descr="http://s.rimg.info/7636a9d6a164e25768d20619aaf47871.gif"/>
          <p:cNvPicPr/>
          <p:nvPr/>
        </p:nvPicPr>
        <p:blipFill>
          <a:blip r:embed="rId2"/>
          <a:stretch/>
        </p:blipFill>
        <p:spPr>
          <a:xfrm>
            <a:off x="6300360" y="3220560"/>
            <a:ext cx="942480" cy="119016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6" descr="http://s.rimg.info/7636a9d6a164e25768d20619aaf47871.gif"/>
          <p:cNvPicPr/>
          <p:nvPr/>
        </p:nvPicPr>
        <p:blipFill>
          <a:blip r:embed="rId3"/>
          <a:stretch/>
        </p:blipFill>
        <p:spPr>
          <a:xfrm>
            <a:off x="7812000" y="2349360"/>
            <a:ext cx="942480" cy="1190160"/>
          </a:xfrm>
          <a:prstGeom prst="rect">
            <a:avLst/>
          </a:prstGeom>
          <a:ln w="9525">
            <a:noFill/>
          </a:ln>
        </p:spPr>
      </p:pic>
      <p:sp>
        <p:nvSpPr>
          <p:cNvPr id="129" name="Picture 8"/>
          <p:cNvSpPr/>
          <p:nvPr/>
        </p:nvSpPr>
        <p:spPr>
          <a:xfrm>
            <a:off x="827640" y="2349360"/>
            <a:ext cx="2252160" cy="2932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473800" y="692640"/>
            <a:ext cx="3347640" cy="2997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5 сентября 1817 г. в Санкт-Петербурге с. Красный Рог Черниговской губернии в знатной дворянской семь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:\Documents and Settings\Alex\Рабочий стол\Анастасия\m20.jpg"/>
          <p:cNvPicPr/>
          <p:nvPr/>
        </p:nvPicPr>
        <p:blipFill>
          <a:blip r:embed="rId1"/>
          <a:stretch/>
        </p:blipFill>
        <p:spPr>
          <a:xfrm>
            <a:off x="1187640" y="404640"/>
            <a:ext cx="4285800" cy="5841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I:\Documents and Settings\Alex\Рабочий стол\Анастасия\860.JPG"/>
          <p:cNvPicPr/>
          <p:nvPr/>
        </p:nvPicPr>
        <p:blipFill>
          <a:blip r:embed="rId1"/>
          <a:stretch/>
        </p:blipFill>
        <p:spPr>
          <a:xfrm>
            <a:off x="3924000" y="980640"/>
            <a:ext cx="2160000" cy="3645000"/>
          </a:xfrm>
          <a:prstGeom prst="rect">
            <a:avLst/>
          </a:prstGeom>
          <a:ln w="9525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pic>
        <p:nvPicPr>
          <p:cNvPr id="131" name="Picture 2" descr="I:\Documents and Settings\Alex\Рабочий стол\Анастасия\img_437973.jpg"/>
          <p:cNvPicPr/>
          <p:nvPr/>
        </p:nvPicPr>
        <p:blipFill>
          <a:blip r:embed="rId2"/>
          <a:stretch/>
        </p:blipFill>
        <p:spPr>
          <a:xfrm>
            <a:off x="6445800" y="129600"/>
            <a:ext cx="2009520" cy="302400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pic>
        <p:nvPicPr>
          <p:cNvPr id="132" name="Рисунок 4" descr="1231950270_kurgan.jpg"/>
          <p:cNvPicPr/>
          <p:nvPr/>
        </p:nvPicPr>
        <p:blipFill>
          <a:blip r:embed="rId3"/>
          <a:stretch/>
        </p:blipFill>
        <p:spPr>
          <a:xfrm>
            <a:off x="1091160" y="3369600"/>
            <a:ext cx="2411280" cy="308556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pic>
        <p:nvPicPr>
          <p:cNvPr id="133" name="Рисунок 5" descr="1000542381.jpg"/>
          <p:cNvPicPr/>
          <p:nvPr/>
        </p:nvPicPr>
        <p:blipFill>
          <a:blip r:embed="rId4"/>
          <a:stretch/>
        </p:blipFill>
        <p:spPr>
          <a:xfrm>
            <a:off x="971640" y="260640"/>
            <a:ext cx="1904760" cy="276192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pic>
        <p:nvPicPr>
          <p:cNvPr id="134" name="Picture 8" descr="http://static.ozone.ru/multimedia/books_covers/1003174961.jpg"/>
          <p:cNvPicPr/>
          <p:nvPr/>
        </p:nvPicPr>
        <p:blipFill>
          <a:blip r:embed="rId5"/>
          <a:stretch/>
        </p:blipFill>
        <p:spPr>
          <a:xfrm>
            <a:off x="6421320" y="3383640"/>
            <a:ext cx="2063160" cy="314640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86680" y="9806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ель баллад, сатирических стихотворений, исторического романа «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Князь Серебря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(опубликован в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1863 год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драматической трилогии «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Смерть Иоанна Грозн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(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186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«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Царь Фёдор Иоаннович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(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186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и «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Царь Бори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(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187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 Автор проникновенной лирики, с ярко выраженным музыкальным началом, психологических новелл в стихах («Средь шумного бала, случайно…», «То было раннею весной»)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7640" y="1268640"/>
            <a:ext cx="850716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вь для Толст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ихое безмятежное чувство. Она приносит влюбленным не только радости, но и горькие переживания, заставляя их тосковать в разлуке, мучиться от напрасной ревности. Страшиться людского осуждения любовь, несмотря на все сопутствующие ей горечи и терзания, - главный источник творческого вдохновения и единственное спасение от «пошлой жизни» с ее «житейским вихрем»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8720" y="476280"/>
            <a:ext cx="45352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щение поэта к былине, к излюбленному романтиками жанру баллады также во многом объясняется его вниманием к русской народной поэзии, к ее древним корням. В былине «Илья Муромец» (1871г) Толстой воскрешает образ знаменитого богатыря, «дедушки Ильи», жаждущего даже в старости свободы и независимости и поэтому покидающего княжеский двор Владимира Красное Солнышко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www.wwww4.com/w4442/1466210.jpg"/>
          <p:cNvPicPr/>
          <p:nvPr/>
        </p:nvPicPr>
        <p:blipFill>
          <a:blip r:embed="rId1"/>
          <a:stretch/>
        </p:blipFill>
        <p:spPr>
          <a:xfrm>
            <a:off x="5364000" y="476280"/>
            <a:ext cx="3528720" cy="531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27640" y="1052640"/>
            <a:ext cx="4511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ексей Константинович Толстой пробовал свое перо не только в жанре поэзии. Образ Козьмы Пруткова и его знаменитых афоризмов – это Толстой с двоюродными братьями Алексеем, Александром и Владимиром Жемчужниковым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upload.wikimedia.org/wikipedia/commons/thumb/d/db/Kozma_Prutkov_by_L_M_Zhemchuzhnikov.jpg/513px-Kozma_Prutkov_by_L_M_Zhemchuzhnikov.jpg"/>
          <p:cNvPicPr/>
          <p:nvPr/>
        </p:nvPicPr>
        <p:blipFill>
          <a:blip r:embed="rId1"/>
          <a:stretch/>
        </p:blipFill>
        <p:spPr>
          <a:xfrm>
            <a:off x="5065560" y="981000"/>
            <a:ext cx="3823920" cy="446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640" y="806040"/>
            <a:ext cx="4105080" cy="550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6000"/>
          </a:bodyPr>
          <a:p>
            <a:pPr marL="526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зей-усадьба Алексея Толстого расположена в Красном Роге (ныне Почепский район Брянской области). Здесь граф провёл детские годы, неоднократно возвращался в эти места в зрелом возрасте, здесь же и был похоронен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I:\Documents and Settings\Alex\Рабочий стол\Анастасия\tolstoi-alexey-pamyatnik.jpeg"/>
          <p:cNvPicPr/>
          <p:nvPr/>
        </p:nvPicPr>
        <p:blipFill>
          <a:blip r:embed="rId1"/>
          <a:stretch/>
        </p:blipFill>
        <p:spPr>
          <a:xfrm>
            <a:off x="4358160" y="476640"/>
            <a:ext cx="4618800" cy="6158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3" name="Picture 2" descr="I:\Documents and Settings\Alex\Рабочий стол\Анастасия\220px-MonumentTolstoy.JPG"/>
          <p:cNvPicPr/>
          <p:nvPr/>
        </p:nvPicPr>
        <p:blipFill>
          <a:blip r:embed="rId2"/>
          <a:stretch/>
        </p:blipFill>
        <p:spPr>
          <a:xfrm>
            <a:off x="4356000" y="206280"/>
            <a:ext cx="4608000" cy="641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603320" cy="6428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8 сентября (10 октября) 1875 г. Толстой скончался на 58-м году жизни в Красном Роге от передозировки морфия, который употреблял для облегчения страданий от астмы, грудной жабы и невралгии с тяжелыми головными болями. Похоронен он там же, вместе с ненадолго пережившей его Софьей Андреевной, в склепе у Успенской церкви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Documents and Settings\Alex\Рабочий стол\Анастасия\aktolstoy27.JPG"/>
          <p:cNvPicPr/>
          <p:nvPr/>
        </p:nvPicPr>
        <p:blipFill>
          <a:blip r:embed="rId1"/>
          <a:stretch/>
        </p:blipFill>
        <p:spPr>
          <a:xfrm>
            <a:off x="5429160" y="259560"/>
            <a:ext cx="3318840" cy="3526200"/>
          </a:xfrm>
          <a:prstGeom prst="rect">
            <a:avLst/>
          </a:prstGeom>
          <a:ln w="9525">
            <a:noFill/>
          </a:ln>
        </p:spPr>
      </p:pic>
      <p:pic>
        <p:nvPicPr>
          <p:cNvPr id="146" name="Рисунок 3" descr="лит-муз.jpeg"/>
          <p:cNvPicPr/>
          <p:nvPr/>
        </p:nvPicPr>
        <p:blipFill>
          <a:blip r:embed="rId2"/>
          <a:stretch/>
        </p:blipFill>
        <p:spPr>
          <a:xfrm>
            <a:off x="5429160" y="4071960"/>
            <a:ext cx="3318840" cy="2453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57280" y="188640"/>
            <a:ext cx="8229240" cy="228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утешествие по музею-усадьбе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3" descr="музей-усадьба.jpeg"/>
          <p:cNvPicPr/>
          <p:nvPr/>
        </p:nvPicPr>
        <p:blipFill>
          <a:blip r:embed="rId1"/>
          <a:stretch/>
        </p:blipFill>
        <p:spPr>
          <a:xfrm>
            <a:off x="1187640" y="2205000"/>
            <a:ext cx="7654680" cy="3693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ей-усадьба А.К.Толстого в селе Красный Рог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I:\Documents and Settings\Alex\Рабочий стол\Анастасия\0_1bdf6_f7b63237_XL.jpg"/>
          <p:cNvPicPr/>
          <p:nvPr/>
        </p:nvPicPr>
        <p:blipFill>
          <a:blip r:embed="rId1"/>
          <a:stretch/>
        </p:blipFill>
        <p:spPr>
          <a:xfrm>
            <a:off x="971640" y="1917000"/>
            <a:ext cx="3507840" cy="4203360"/>
          </a:xfrm>
          <a:prstGeom prst="rect">
            <a:avLst/>
          </a:prstGeom>
          <a:ln w="9525">
            <a:noFill/>
          </a:ln>
        </p:spPr>
      </p:pic>
      <p:pic>
        <p:nvPicPr>
          <p:cNvPr id="151" name="Рисунок 3" descr="photo_46_4496_big.gif"/>
          <p:cNvPicPr/>
          <p:nvPr/>
        </p:nvPicPr>
        <p:blipFill>
          <a:blip r:embed="rId2"/>
          <a:stretch/>
        </p:blipFill>
        <p:spPr>
          <a:xfrm>
            <a:off x="4788000" y="1917000"/>
            <a:ext cx="3960360" cy="4203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:\Documents and Settings\Alex\Рабочий стол\Анастасия\0000036578-preview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ец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раф Константин Петрович Толстой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I:\Documents and Settings\Alex\Рабочий стол\Анастасия\Отец - граф Константин Петрович Толстой.jpg"/>
          <p:cNvPicPr/>
          <p:nvPr/>
        </p:nvPicPr>
        <p:blipFill>
          <a:blip r:embed="rId1"/>
          <a:stretch/>
        </p:blipFill>
        <p:spPr>
          <a:xfrm>
            <a:off x="2555640" y="188640"/>
            <a:ext cx="4392720" cy="5514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I:\Documents and Settings\Alex\Рабочий стол\Анастасия\worktbl_b.jpg"/>
          <p:cNvPicPr/>
          <p:nvPr/>
        </p:nvPicPr>
        <p:blipFill>
          <a:blip r:embed="rId1"/>
          <a:stretch/>
        </p:blipFill>
        <p:spPr>
          <a:xfrm>
            <a:off x="0" y="0"/>
            <a:ext cx="918000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cs552.userapi.com/u19273840/56798106/x_dcd5448f.jpg"/>
          <p:cNvPicPr/>
          <p:nvPr/>
        </p:nvPicPr>
        <p:blipFill>
          <a:blip r:embed="rId1"/>
          <a:stretch/>
        </p:blipFill>
        <p:spPr>
          <a:xfrm>
            <a:off x="900000" y="154080"/>
            <a:ext cx="3958920" cy="2752200"/>
          </a:xfrm>
          <a:prstGeom prst="rect">
            <a:avLst/>
          </a:prstGeom>
          <a:ln w="9525">
            <a:noFill/>
          </a:ln>
        </p:spPr>
      </p:pic>
      <p:pic>
        <p:nvPicPr>
          <p:cNvPr id="157" name="Picture 4" descr="http://cs378.userapi.com/v378260/15/Pr35rKv_qS0.jpg"/>
          <p:cNvPicPr/>
          <p:nvPr/>
        </p:nvPicPr>
        <p:blipFill>
          <a:blip r:embed="rId2"/>
          <a:stretch/>
        </p:blipFill>
        <p:spPr>
          <a:xfrm>
            <a:off x="4500000" y="3321360"/>
            <a:ext cx="4319640" cy="3239280"/>
          </a:xfrm>
          <a:prstGeom prst="rect">
            <a:avLst/>
          </a:prstGeom>
          <a:ln w="9525">
            <a:noFill/>
          </a:ln>
        </p:spPr>
      </p:pic>
      <p:sp>
        <p:nvSpPr>
          <p:cNvPr id="158" name="Прямоугольник 5"/>
          <p:cNvSpPr/>
          <p:nvPr/>
        </p:nvSpPr>
        <p:spPr>
          <a:xfrm>
            <a:off x="2160000" y="4213440"/>
            <a:ext cx="230472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рам в Красном Рогу, возле которого расположена усыпальница Адексея Константиновича и его супр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916200" y="2924280"/>
            <a:ext cx="3341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глый зал в Охотничье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I:\Documents and Settings\Alex\Рабочий стол\Анастасия\442-1121621658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5300640"/>
            <a:ext cx="83167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ть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на Алексеевна Перовск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icture 2"/>
          <p:cNvSpPr/>
          <p:nvPr/>
        </p:nvSpPr>
        <p:spPr>
          <a:xfrm>
            <a:off x="2843640" y="0"/>
            <a:ext cx="4144320" cy="5267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525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59640" y="1772640"/>
            <a:ext cx="7426800" cy="4353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ь Толстого сразу же после рождения ребенка оставила мужа и с шестинедельным младенцем уехала из Петербурга в Черниговскую губернию, в имение своего брата А.А.Перовского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03280" y="357120"/>
            <a:ext cx="7311600" cy="5951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о отца Алексея воспитывал дядя по матери А. А. Перовский, известный писатель, печатавшийся под псевдонимом Антоний Погорельский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voplosheniya.narod.ru/briullov22.jpg"/>
          <p:cNvPicPr/>
          <p:nvPr/>
        </p:nvPicPr>
        <p:blipFill>
          <a:blip r:embed="rId1"/>
          <a:stretch/>
        </p:blipFill>
        <p:spPr>
          <a:xfrm>
            <a:off x="4428000" y="1845000"/>
            <a:ext cx="3960000" cy="48376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4" name="Picture 6" descr="http://jili-bili.ru/files/labirint/medium/91023.jpg"/>
          <p:cNvPicPr/>
          <p:nvPr/>
        </p:nvPicPr>
        <p:blipFill>
          <a:blip r:embed="rId2"/>
          <a:stretch/>
        </p:blipFill>
        <p:spPr>
          <a:xfrm>
            <a:off x="1547640" y="2350440"/>
            <a:ext cx="2880000" cy="353844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0"/>
            <a:ext cx="7786440" cy="263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нее детство Алексей провёл на Украине, в имении дяди. С 10-летнего возраста мальчика возили за границу. Путешествие по Итал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31 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 описал в дневнике. Толстой принадлежал к детскому окружению наследника престола, будущего Александра II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http://cs1427.userapi.com/u5438260/28589215/x_c7dac2dc.jpg"/>
          <p:cNvPicPr/>
          <p:nvPr/>
        </p:nvPicPr>
        <p:blipFill>
          <a:blip r:embed="rId1"/>
          <a:stretch/>
        </p:blipFill>
        <p:spPr>
          <a:xfrm>
            <a:off x="1763640" y="2421000"/>
            <a:ext cx="5758920" cy="3539880"/>
          </a:xfrm>
          <a:prstGeom prst="rect">
            <a:avLst/>
          </a:prstGeom>
          <a:ln w="9525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791000" y="6165360"/>
            <a:ext cx="611928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узья детства - граф Алексей Константинович Толстой и государь-император Александр II Николаевич Рома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01640" y="836640"/>
            <a:ext cx="4173120" cy="452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841- издание фантастической повести "Упырь" под псевдонимом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раснорогский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есть заслужила благожелательный отзыв Белинског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I:\Documents and Settings\Alex\Рабочий стол\Анастасия\i4750afbf5a780.jpg"/>
          <p:cNvPicPr/>
          <p:nvPr/>
        </p:nvPicPr>
        <p:blipFill>
          <a:blip r:embed="rId1"/>
          <a:stretch/>
        </p:blipFill>
        <p:spPr>
          <a:xfrm>
            <a:off x="4644000" y="908640"/>
            <a:ext cx="4268520" cy="4096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4400280" cy="566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6000"/>
          </a:bodyPr>
          <a:p>
            <a:pPr marL="509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834 году Толстого определили «студентом»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сковский архив Министерства иностранных де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С 1837 года он служил в русской миссии в Германии, в 1840 году получил службу в Петербурге при царском дворе. В 1843 году — придворно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вание камер-юнке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I:\Documents and Settings\Alex\Рабочий стол\Анастасия\index.php.jpg"/>
          <p:cNvPicPr/>
          <p:nvPr/>
        </p:nvPicPr>
        <p:blipFill>
          <a:blip r:embed="rId1"/>
          <a:stretch/>
        </p:blipFill>
        <p:spPr>
          <a:xfrm>
            <a:off x="5868000" y="131760"/>
            <a:ext cx="3048480" cy="33321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02" name="Picture 5"/>
          <p:cNvSpPr/>
          <p:nvPr/>
        </p:nvSpPr>
        <p:spPr>
          <a:xfrm>
            <a:off x="6382800" y="3861000"/>
            <a:ext cx="2018880" cy="266652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  <Words>1083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7-09-04T20:53:46Z</dcterms:modified>
  <cp:revision>69</cp:revision>
  <dc:subject/>
  <dc:title>Алексей Константинович Толстой  (1817-1875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2</vt:r8>
  </property>
</Properties>
</file>