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4CF-9063-46EC-8648-EE1C1EFF9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700C-4E9A-4C92-ACED-F8E8D300C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0BC-02C0-4AC5-981F-86C99E27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356B-98EE-4B67-8799-50C160C11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EA81-5AFD-4E41-9B1A-559143DA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7AA2-3DE9-4733-BAC6-A0FECA9D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C93AD-7EAD-4838-8369-F124BF5F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A1B1-CB50-4028-B2D6-AA57BF8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A766-9700-4FC0-900F-CCF131DF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FA7D-4129-4176-B406-E1E8D10C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6846-4B48-4491-8EBA-251BF269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959-3752-4F61-B90A-54E25CC3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5656-CB13-4790-97E7-59C7036A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7B04-5E7C-43B0-A8A9-E0C32F1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1C50-40C0-432E-BF9E-8DDEB395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7D7E-DB20-4531-8C4B-01CD80193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F7CC6-CBBF-4D04-8340-A961FEE3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7322-DDDE-42A0-B909-D6799D49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CCDA-73D2-468F-8863-52AA7E84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0E0B-78A3-4D88-BEF4-9BACC765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6BF-FB17-496B-9924-6E3E81B3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A928-0DFD-4EA5-9A5A-3306B74AB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E387-52E2-45E1-83ED-C2221ED0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0F1-69CE-43C5-A70E-A0862EEF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C90CD-C316-4990-A2E4-00B092FC16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d9efe0"/>
                </a:gs>
                <a:gs pos="100000">
                  <a:srgbClr val="15331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8aa79c"/>
                </a:gs>
                <a:gs pos="50000">
                  <a:srgbClr val="a4c6ba"/>
                </a:gs>
                <a:gs pos="100000">
                  <a:srgbClr val="8aa79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274139"/>
                </a:gs>
                <a:gs pos="50000">
                  <a:srgbClr val="558f7d"/>
                </a:gs>
                <a:gs pos="100000">
                  <a:srgbClr val="2741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a08f5e"/>
                </a:gs>
                <a:gs pos="50000">
                  <a:srgbClr val="c1c177"/>
                </a:gs>
                <a:gs pos="100000">
                  <a:srgbClr val="a08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d9efe0"/>
                </a:gs>
                <a:gs pos="50000">
                  <a:srgbClr val="a08f5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15331e"/>
                </a:gs>
                <a:gs pos="100000">
                  <a:srgbClr val="d9efe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1ED9-D00F-4F67-8FF5-938BA652431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175212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«Как ни точна архитектура в пропорциях ,как ни геометричны её формы ,всегда считалось, что окончательным судьёй гармоничности является глаз человека.»</a:t>
            </a:r>
            <a:br>
              <a:rPr sz="20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ема учебного проекта :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 Black"/>
              </a:rPr>
              <a:t>Есть ли гармония в мире?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ворческое название :</a:t>
            </a:r>
            <a:br>
              <a:rPr sz="3600"/>
            </a:br>
            <a:r>
              <a:rPr b="0" lang="ru-RU" sz="3600" spc="-1" strike="noStrike">
                <a:solidFill>
                  <a:srgbClr val="30605a"/>
                </a:solidFill>
                <a:latin typeface="Arial Black"/>
              </a:rPr>
              <a:t>Человек – мера всех                                вещей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066680" y="4952520"/>
            <a:ext cx="5615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58f7d"/>
                </a:solidFill>
                <a:latin typeface="Arial"/>
              </a:rPr>
              <a:t>Автор: Демортыно Ирина Витальевна  учитель ИЗО МОУ СОШ с.Кип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Человек-мера всех вещей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520" y="3505320"/>
            <a:ext cx="73868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 пропорции человека влияют на гармонию окружающей сред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Учебные предметы : ИЗО ,биология ,математика ,информатика ,русский язы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Участники : 7-й кла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ормационные ресурсы : Интернет-рес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819520" y="1447920"/>
            <a:ext cx="179856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Методические задачи :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знакомить учащихся с тем, как происходит поиск пропорций фигуры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формировать представление о терминах «пропорции», «канон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Дидактические цели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вать творческую и познавательную активность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оспитывать нравственно-эстетическое отношение к ми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Вопросы для самостоятельных исследований учащихся :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Как человек формирует вокруг себя среду используя законы пропорционирова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Почему пропорциональные отношения ведут к  симметрии , ритму ,гармо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Почему непропорциональное в природе ведёт к нарушению порядка ,как некрасивое ,как уродлив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57200" y="1905120"/>
            <a:ext cx="7010280" cy="1218960"/>
          </a:xfrm>
          <a:prstGeom prst="ellipse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Как человек формирует вокруг себя сред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66"/>
                </a:solidFill>
                <a:latin typeface="Arial"/>
              </a:rPr>
              <a:t>Используя законы пропорци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9480" y="3505320"/>
            <a:ext cx="7010640" cy="1218960"/>
          </a:xfrm>
          <a:prstGeom prst="ellipse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Почему пропорциональные отношения ведут к симметри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Arial"/>
              </a:rPr>
              <a:t>ритму, гармон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5257800"/>
            <a:ext cx="7010640" cy="1219320"/>
          </a:xfrm>
          <a:prstGeom prst="ellipse">
            <a:avLst/>
          </a:prstGeom>
          <a:solidFill>
            <a:srgbClr val="a4c6b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очему непропорциональное в природе ведёт к наруш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порядка и воспринимается как некрасивое и уродливо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533520"/>
            <a:ext cx="631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605a"/>
                </a:solidFill>
                <a:latin typeface="Arial"/>
              </a:rPr>
              <a:t>Вопросы для самостоятельных исследований учащихся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605a"/>
                </a:solidFill>
                <a:latin typeface="Arial"/>
              </a:rPr>
              <a:t>Подготовка к проекту</a:t>
            </a:r>
            <a:endParaRPr b="0" lang="en-US" sz="40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Формулирование тем исслед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бор творческих названий ра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тановка задач и выдвижение гипотез индивидуально или группой учащих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суждение  и уточнение источников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авление плана рабо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f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605a"/>
                </a:solidFill>
                <a:latin typeface="Arial"/>
              </a:rPr>
              <a:t>Этапы и сроки проведение   проекта:    </a:t>
            </a:r>
            <a:endParaRPr b="0" lang="en-US" sz="3600" spc="-1" strike="noStrike">
              <a:solidFill>
                <a:srgbClr val="30605a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бота учащихся по обсуждению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мостоятельный поиск учениками информации о пропорциях фигуры человека в разные периоды развития искус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ние тематических таблиц с изображе - нием канонов пропорций фигуры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иск и подбор репродукций художников с изображением людей разных пропорций, выполненые в разные исторические эпо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дготовка школьной презент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щита рабо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нек</cp:lastModifiedBy>
  <dcterms:modified xsi:type="dcterms:W3CDTF">2008-07-01T19:57:07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