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831-ED44-4A38-ACC2-68D3583B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8F8-FF22-4F71-85D1-56AD11065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A497-8317-44D2-B42E-4E415D48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07F5-ADE4-4428-96B3-DFE1FB387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AD00-A34E-4244-B558-DE7C47091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77C-7559-4622-BCBD-D3493E5C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BCB12-8952-4909-92F6-CCC5F2D4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C659-4CC7-48A3-B359-DA4A214F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C865-EA6C-4826-A924-9C347DE0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414B-408B-4E4A-B72C-B2E4AE5BF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17FC-ECDD-46CA-BE6A-BF7765D0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0844-0D1B-4DE8-8978-3AB782F7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D708-5032-4BBD-8556-AEBA992F4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77D2B-7C8D-4A86-A04B-7ECF25ED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5C506-3085-4BCC-B300-A33D492F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A31E-25FF-43F3-B96B-5E30BD6BD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6ECC-F337-48BC-87EF-B9B459A3E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C20-888E-495F-90A2-5B79FE5C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CB9C-5D4A-435B-8A26-A4A704CA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7CC4-AE39-4B0B-A673-B207D3A65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1CFC-3232-42EB-8E8D-6F089DE2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44B5-3E45-436B-9B54-793D5EBB7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FAC1-12B7-4E84-97C6-4D85E7FA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3ABA-2ECF-4075-85F0-44DB3F6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4440-30C9-4749-8105-E94BF95158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5FDEA-B89E-4425-BF09-A7E944B86CB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«Как ни точна архитектура в пропорциях ,как ни геометричны её формы ,всегда считалось, что окончательным судьёй гармоничности является глаз человека.»</a:t>
            </a:r>
            <a:br>
              <a:rPr sz="2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 учебного проекта :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 Black"/>
              </a:rPr>
              <a:t>Есть ли гармония в мире?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орческое название :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 Black"/>
              </a:rPr>
              <a:t>Человек – мера всех                                вещей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66680" y="4952520"/>
            <a:ext cx="56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f7d"/>
                </a:solidFill>
                <a:latin typeface="Arial"/>
              </a:rPr>
              <a:t>Автор: Демортыно Ирина Витальевна  учитель ИЗО МОУ СОШ с.Ки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Человек-мера всех вещей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3505320"/>
            <a:ext cx="738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опорции человека влияют на гармонию окружающей сре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Учебные предметы : ИЗО ,биология ,математика ,информатика ,русски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частники : 7-й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онные ресурсы : 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179856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Методические задачи :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 учащихся с тем, как происходит поиск пропорций фигуры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е о терминах «пропорции», «кано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Дидактические цели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ть творческую и познавательную активность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ывать нравственно-эстетическое отношение к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Вопросы для самостоятельных исследований учащихся 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ак человек формирует вокруг себя среду используя законы пропорцион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очему пропорциональные отношения ведут к  симметрии , ритму ,гарм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очему непропорциональное в природе ведёт к нарушению порядка ,как некрасивое ,как уродли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1905120"/>
            <a:ext cx="7010280" cy="1218960"/>
          </a:xfrm>
          <a:prstGeom prst="ellipse">
            <a:avLst/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ак человек формирует вокруг себя сре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Используя законы пропорционир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3505320"/>
            <a:ext cx="7010640" cy="1218960"/>
          </a:xfrm>
          <a:prstGeom prst="ellipse">
            <a:avLst/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Почему пропорциональные отношения ведут к симметр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ритму, гармо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257800"/>
            <a:ext cx="7010640" cy="1219320"/>
          </a:xfrm>
          <a:prstGeom prst="ellipse">
            <a:avLst/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очему непропорциональное в природе ведёт к наруш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орядка и воспринимается как некрасивое и уродли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33520"/>
            <a:ext cx="631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Вопросы для самостоятельных исследований учащихся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Подготовка к проекту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улирование тем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ор творческих названий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ановка задач и выдвижение гипотез индивидуально или группо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ждение  и уточнение источников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ие план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Этапы и сроки проведение   проекта:   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учащихся по обсуждению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ый поиск учениками информации о пропорциях фигуры человека в разные периоды развития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тематических таблиц с изображе - нием канонов пропорций фигуры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и подбор репродукций художников с изображением людей разных пропорций, выполненые в разные исторические эпо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школьной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ра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нек</cp:lastModifiedBy>
  <dcterms:modified xsi:type="dcterms:W3CDTF">2008-07-01T19:57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