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C19-C1A4-4C16-A068-F599F2B8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2DA-1573-4526-9C33-42367B53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336-F2CB-4FAE-9AB6-87884874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4C3-5EC9-4D0A-B355-4BACF5D1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7045-1FE4-4216-9B7A-FA7012D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A5B7-8335-4DF3-8581-125AC734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8DAD-EF1F-44D8-8781-DCE7F991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37B9-7848-4D9F-BBE6-9254685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5494-2B38-4625-95B2-85EADDB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E2C4-F8A5-42B3-A919-D41C016E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724-80CB-4557-86E2-4B44899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7C3-E753-4339-BD85-4B69CE8D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1BE2-379F-49E9-96F4-7A0C273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FB15-66AC-484A-B5A8-F315C4C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8B2D-34CF-4813-AED5-7E34BA72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AE21-766F-4585-B7D8-36B32874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B91-968F-42CA-AEAE-5E5561F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637CF-E354-4918-A420-5A35F74A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966E5-D311-498A-9852-A736F7AE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432AB-FBA3-4C1C-B226-BBCD3C46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C4BF8-6A6F-427D-A229-0EF9EC9B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6B789-1A00-4ADC-A80D-B7F964C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7B5-D3A3-48D3-800E-AA4D15B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0F6DF-0B61-4957-B31C-0FD79B96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8FD1-CCAF-40FA-9639-B551DF0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100CF-AAF4-41EA-B715-745004B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AE185-C8B2-4F24-ABF1-6594C29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BAADB-E750-4F57-8B10-7CC9B8AC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405D3-DECC-4A80-AF15-490EA178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82E9B-6152-4F8F-A417-4F35961D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19D8-545A-4641-B94E-29E26074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AC67-F8BA-4808-B6F4-F778AC2C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D3B28-2FA5-47A1-AA8F-E1FF7B4C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D7A-495C-4BE8-A14E-56E39FB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8AFA-FEDE-4CAC-9075-E1318A40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8625B-716B-4696-8655-36F1B7EF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48D72-A7BB-4B62-B874-F3F1B6B1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077CD-A5DE-4246-ADC0-8DC5410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7C1C-C1AE-480D-B9D3-0E611DD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9635-4467-4CE1-8B61-1A48954F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4260-94ED-4581-83EE-AF4EE54F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D00A-1221-416C-A2D3-27576D12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AED0D-489A-4EDE-A122-A862D663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2A40C-6E12-45A2-9E16-9E96147A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E7B-AD68-4194-8C5B-E2EEFE8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D47BA-FF1C-4566-91DE-A45532CF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D3C3E-A06F-4C2E-BAA2-4E56A9E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60D94-4061-4B60-AA4C-7D76FEB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5AAE2-443F-4776-B90C-426FA44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98E79-74F5-44A9-9821-A728C97C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2C72C-8504-4FEC-AB05-CA46775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BFC7D-9255-42CE-BDED-78AF9AC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1EAB3-9895-48A6-8233-BD68BFA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FC6C9-B83C-4CA0-932F-36119CE5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59E26-5301-4350-B76C-89483B3F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EFE-AE7C-4F25-AAAB-AB7C51EF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B7AB9-DC62-44E3-8748-32C71F41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A0FDD-086E-40EC-B2C3-9BADD534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B37F8-CC81-4709-9135-2A0B3BF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32E79-4E9D-476D-86F6-3915529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A6770-265A-4091-B2E0-D5A02180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7FC79-DE2C-4812-ABF9-0F515162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FE6A3-3615-40E0-BF06-8406B791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EE2E3-C800-458E-9BC1-5759D5E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87739-C7CE-4E98-940F-17B5169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70C0D-0084-45E8-BB6A-0086280E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3CC-7609-45D3-B23D-C8D9749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160B3-7A95-4A41-8B57-78B58A4D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7A9EC-31CD-44C8-B0DE-D9DD9EAB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C0259-3717-48CE-9551-A45FFC65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C17FE-1868-49B8-8C7B-9FDB250F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5854F-D101-4FF2-934D-BD0A212C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6E43D2-8D09-49BD-AE80-E98FE583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7F50F-0E3F-4846-B134-A3536887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F3CB7-AD90-492E-87A2-B2970904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1140B-FA79-4169-B0E3-37E90547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AFE1C-9554-432A-9062-5F5DF57D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366-5328-4AE8-A020-1235B0E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E02D7-BA3D-44AE-BD23-8E76D740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3AB23-257F-4E0E-A0F4-F02D2B78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FA473-51CE-4552-BB7A-9EED246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DDF4F-C806-4787-8D1F-4BC3AE7E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5577F-C8BB-416A-89F7-F2A19010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12E-F32F-40B9-91F8-84E4E80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4276-1D49-4AC4-8C7B-72F25C0057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19CE-1669-47F6-9363-148A7C13B3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5A5-7E46-4D2B-8F05-0D04D2775A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D02-1EC5-4AAE-81F5-F202CF5ECB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A2D-144E-4F26-9B28-C0A71BD8A4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6E9-36EA-44CF-A583-2D5BB5152D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573A-F117-475D-80C5-BA2C0197F1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В ГОСТЯХ У СКАЗКИ»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52240" y="1635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9520" y="1712880"/>
            <a:ext cx="4078440" cy="129240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8800" y="2212920"/>
            <a:ext cx="315288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52600" y="1706400"/>
            <a:ext cx="35118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12880" y="3067200"/>
            <a:ext cx="4297320" cy="115092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9680" y="2176560"/>
            <a:ext cx="3151080" cy="165240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2000160" y="2992320"/>
            <a:ext cx="3797280" cy="122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123640" y="1417680"/>
            <a:ext cx="7272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7080" y="-100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1001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94444E-006 1.38778E-017 L -1.94444E-006 -0.07222 E">
                                      <p:cBhvr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000" y="1700280"/>
            <a:ext cx="7251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570560" y="1414440"/>
            <a:ext cx="4535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0920" y="1600200"/>
            <a:ext cx="7313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708360" y="1417680"/>
            <a:ext cx="525636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User</cp:lastModifiedBy>
  <dcterms:modified xsi:type="dcterms:W3CDTF">2016-01-31T16:32:20Z</dcterms:modified>
  <cp:revision>63</cp:revision>
  <dc:subject/>
  <dc:title>Слайд 1</dc:title>
</cp:coreProperties>
</file>