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85C-93C9-423F-BEC6-34780BB0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690-C543-44B3-83F3-20384518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F00-C83C-4EE7-9DDA-4198344D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72E-1DDF-4EB8-B5DF-E6BB94F0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2C62-505B-4587-87C9-F2E8858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E3A-2E2F-4F4D-B47C-D029E9AF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3E29-C1D3-49BE-87F9-2344E70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FE6-0C92-4CA4-A970-4BED6411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2CC-C537-4A36-83C7-AB19EF9C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248-27BC-4B99-BA01-00EF33B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586-2667-471D-9D73-7F54B11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AA3-5578-4D24-AFCD-F91A62E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1DB-D9F5-483D-AF8E-A33986D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7D0-0D5F-4CB1-AD42-8BE5EE0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220A-4E06-4DAB-B869-35E4445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F3B-C3DB-436C-A6C7-09E2C57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1A8-C93E-4AD2-87AF-75CACEC1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3AA67-5A43-4BAF-A52F-D8F94D8E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30E4C-C242-4832-9662-EA8459F4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56B86-0107-4520-A15C-88765208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1029C-4D07-4DA9-AFB6-5F16746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35733-FF26-4841-A1AC-823E31F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F50-9294-4EAD-948E-E86F8206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AE907-4655-4186-A97E-8AAC86E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30F31-B1DA-4B94-91A7-07CEDD4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D9C93-138B-44B5-AA20-F9A213C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F87DF-349B-4E94-A168-524C564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1E741-978D-4B6E-8207-963C5AD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2F632-0778-4A61-82B8-7A2C1AB6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37FEC-83F5-44E3-A7EE-F28B8209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124C-B61B-4A81-A5E2-E1B2BF30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3C3B-F719-4028-B76A-E1CD5CB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0205-2D53-4EB2-A9EC-2A87E83F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278-43ED-4AA7-A9CF-52DF3B1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4083-2723-4096-8EC2-0C93CD03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FFD2-3D88-4A6E-BDC7-75B5CAA7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CCF8F-128A-4762-8BEC-F3AE5EC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5DF7-0C4B-4A94-81FC-354D1DC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D10A-EC78-479E-8D48-16AC779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79BA-B7A3-43A8-B104-4EDAB2A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210D-7C43-4400-BCCA-5407FC7C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E7E3-6D79-4F95-9D94-FC62D705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CA33-F737-4D29-B505-AB9F3D5E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D4983-40EB-422D-9F2E-971DB702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EDA-8BB3-4444-B4F5-032037C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4AA2A-CA82-4E0D-896D-C03039E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A1C74-F69B-4AC6-8F43-94AA09B9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59DAA-748C-48FF-BF52-9957697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DD2BF-FB1E-4991-9A21-A8FDEFB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D386D-FEB6-4B32-8F9A-02FB98C7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F56CF-F298-4371-A436-96F329E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C9EE3-9E5D-46BD-BA07-4822D93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7153F-C6D7-4F97-B748-E48AA46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172B7-6AC7-46C0-A0E2-976D7DD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1D164-59E4-43A6-99D3-3F9F7DDF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A3B-0707-4B46-8FB8-7F0CA0D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C54A4-E59C-4738-A865-50E391BC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51555-DD79-4675-A911-E6FE8173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B6BCF-1E4F-4873-9B05-D0226DF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2DC98-1E4F-45AA-A60C-0C9D5B2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457DD-BBD6-401C-9A27-CE4F504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7EF0F-0AA5-4010-8744-1BA2ACF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1D327-5A6F-4E30-B9D9-7AA20D0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44011-0734-42E9-9124-27E6B59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C23C7-9D0F-48D5-8801-8805521A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1E31D-4FA5-49F7-8A95-E115B5A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294-641D-4AB0-A822-1B6DECD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4297D-9246-42FF-A83F-F44C283A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AC771-D04F-4588-9AAC-A91AAEAE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0FEF9-6B06-4A86-8D03-43177C78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38A14-0A42-4EAB-B726-36060973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116F2-5A6E-43CB-9A35-58F39308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95E40-A519-4662-933D-06DEDB4D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D3864-A687-427C-A4DE-FC98529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BB673-BA3D-4D1E-92A1-FCE46BD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591FE-CAF7-4335-BFBC-471B81DC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2BD55-8913-47D3-82CB-DE451DBE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0B3-D3CA-44AF-A7F6-3BD0BE9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C711C-7BF7-4D30-9EF4-B470ED6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7FE6B-64DB-4661-B8F6-1D39848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159AB-FEFA-4C76-81DA-EB037F3A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549F5-D64B-4FFD-9769-E50BF862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50566-6390-4051-B4C8-AE8B9991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A70-697B-4B2C-9721-24A1DBF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924-5584-4688-BD1A-896CE89439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8DF4-B81E-4761-9C9A-A36AE3C719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EC4-8656-45B5-9562-C1DC2E9416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B16-78CF-4DFD-8152-FDA1D92BCB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A97-EBDB-4545-9007-3C8E8D0BD2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B2C3-6382-4315-9E5F-E685088664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DD6-D06E-49DB-81C9-C7B2D15347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В ГОСТЯХ У СКАЗКИ»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52240" y="1635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9520" y="1712880"/>
            <a:ext cx="4078440" cy="129240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8800" y="2212920"/>
            <a:ext cx="315288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52600" y="1706400"/>
            <a:ext cx="35118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12880" y="3067200"/>
            <a:ext cx="4297320" cy="115092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9680" y="2176560"/>
            <a:ext cx="3151080" cy="165240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2000160" y="2992320"/>
            <a:ext cx="3797280" cy="122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23640" y="1417680"/>
            <a:ext cx="7272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7080" y="-100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1001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94444E-006 1.38778E-017 L -1.94444E-006 -0.07222 E">
                                      <p:cBhvr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000" y="1700280"/>
            <a:ext cx="7251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570560" y="1414440"/>
            <a:ext cx="4535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0920" y="1600200"/>
            <a:ext cx="7313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708360" y="1417680"/>
            <a:ext cx="525636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User</cp:lastModifiedBy>
  <dcterms:modified xsi:type="dcterms:W3CDTF">2016-01-31T16:32:20Z</dcterms:modified>
  <cp:revision>63</cp:revision>
  <dc:subject/>
  <dc:title>Слайд 1</dc:title>
</cp:coreProperties>
</file>